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rrow.wav" ContentType="audio/x-wav"/>
  <Override PartName="/ppt/media/image12.png" ContentType="image/png"/>
  <Override PartName="/ppt/media/image2.jpeg" ContentType="image/jpe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chimes.wav" ContentType="audio/x-wav"/>
  <Override PartName="/ppt/media/image7.jpeg" ContentType="image/jpeg"/>
  <Override PartName="/ppt/media/image11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DB48-F955-4F72-BEEF-360B56C3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F77B-EB54-44F7-A5AB-369DAE75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EBA4-84B7-4C67-BCB1-BAB2B5F6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D5FA-7CE4-4AE3-8399-C959AC66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9C33-322D-4A26-AA04-90287264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37DB-BA0F-4EE5-8DDD-854FDB57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21E1-ADF0-404B-8376-32FA4931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E0B1-162E-4D55-AC73-A0448518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3F49-77FE-41E7-8B6F-3EAD2094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039C-FE61-43A1-8BEE-D043A1B9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A035-7534-4460-853F-11A4C07A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C6E4-E76B-425C-9337-D0D80A07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5946-0E66-41B3-A763-CEA56EE346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11.xml"/><Relationship Id="rId15" Type="http://schemas.openxmlformats.org/officeDocument/2006/relationships/slide" Target="slide11.xml"/><Relationship Id="rId16" Type="http://schemas.openxmlformats.org/officeDocument/2006/relationships/slide" Target="slide11.xml"/><Relationship Id="rId17" Type="http://schemas.openxmlformats.org/officeDocument/2006/relationships/slide" Target="slide11.xml"/><Relationship Id="rId18" Type="http://schemas.openxmlformats.org/officeDocument/2006/relationships/slide" Target="slide11.xml"/><Relationship Id="rId19" Type="http://schemas.openxmlformats.org/officeDocument/2006/relationships/slide" Target="slide11.xml"/><Relationship Id="rId20" Type="http://schemas.openxmlformats.org/officeDocument/2006/relationships/slide" Target="slide11.xml"/><Relationship Id="rId21" Type="http://schemas.openxmlformats.org/officeDocument/2006/relationships/slide" Target="slide11.xml"/><Relationship Id="rId22" Type="http://schemas.openxmlformats.org/officeDocument/2006/relationships/slide" Target="slide11.xml"/><Relationship Id="rId23" Type="http://schemas.openxmlformats.org/officeDocument/2006/relationships/slide" Target="slide11.xml"/><Relationship Id="rId24" Type="http://schemas.openxmlformats.org/officeDocument/2006/relationships/slide" Target="slide11.xml"/><Relationship Id="rId25" Type="http://schemas.openxmlformats.org/officeDocument/2006/relationships/slide" Target="slide11.xml"/><Relationship Id="rId26" Type="http://schemas.openxmlformats.org/officeDocument/2006/relationships/slide" Target="slide11.xml"/><Relationship Id="rId27" Type="http://schemas.openxmlformats.org/officeDocument/2006/relationships/slide" Target="slide11.xml"/><Relationship Id="rId28" Type="http://schemas.openxmlformats.org/officeDocument/2006/relationships/slide" Target="slide11.xml"/><Relationship Id="rId29" Type="http://schemas.openxmlformats.org/officeDocument/2006/relationships/slide" Target="slide11.xml"/><Relationship Id="rId30" Type="http://schemas.openxmlformats.org/officeDocument/2006/relationships/slide" Target="slide11.xml"/><Relationship Id="rId31" Type="http://schemas.openxmlformats.org/officeDocument/2006/relationships/slide" Target="slide11.xml"/><Relationship Id="rId32" Type="http://schemas.openxmlformats.org/officeDocument/2006/relationships/slide" Target="slide11.xml"/><Relationship Id="rId33" Type="http://schemas.openxmlformats.org/officeDocument/2006/relationships/slide" Target="slide11.xml"/><Relationship Id="rId34" Type="http://schemas.openxmlformats.org/officeDocument/2006/relationships/slide" Target="slide11.xml"/><Relationship Id="rId35" Type="http://schemas.openxmlformats.org/officeDocument/2006/relationships/slide" Target="slide11.xml"/><Relationship Id="rId36" Type="http://schemas.openxmlformats.org/officeDocument/2006/relationships/slide" Target="slide11.xml"/><Relationship Id="rId37" Type="http://schemas.openxmlformats.org/officeDocument/2006/relationships/slide" Target="slide11.xml"/><Relationship Id="rId38" Type="http://schemas.openxmlformats.org/officeDocument/2006/relationships/image" Target="../media/image10.png"/><Relationship Id="rId39" Type="http://schemas.openxmlformats.org/officeDocument/2006/relationships/audio" Target="../media/chimes.wav"/><Relationship Id="rId40" Type="http://schemas.openxmlformats.org/officeDocument/2006/relationships/audio" Target="../media/arrow.wav"/><Relationship Id="rId41" Type="http://schemas.openxmlformats.org/officeDocument/2006/relationships/audio" Target="../media/arrow.wav"/><Relationship Id="rId42" Type="http://schemas.openxmlformats.org/officeDocument/2006/relationships/audio" Target="../media/arrow.wav"/><Relationship Id="rId43" Type="http://schemas.openxmlformats.org/officeDocument/2006/relationships/audio" Target="../media/arrow.wav"/><Relationship Id="rId44" Type="http://schemas.openxmlformats.org/officeDocument/2006/relationships/audio" Target="../media/arrow.wav"/><Relationship Id="rId45" Type="http://schemas.openxmlformats.org/officeDocument/2006/relationships/audio" Target="../media/chimes.wav"/><Relationship Id="rId46" Type="http://schemas.openxmlformats.org/officeDocument/2006/relationships/audio" Target="../media/arrow.wav"/><Relationship Id="rId47" Type="http://schemas.openxmlformats.org/officeDocument/2006/relationships/audio" Target="../media/arrow.wav"/><Relationship Id="rId48" Type="http://schemas.openxmlformats.org/officeDocument/2006/relationships/audio" Target="../media/arrow.wav"/><Relationship Id="rId49" Type="http://schemas.openxmlformats.org/officeDocument/2006/relationships/audio" Target="../media/arrow.wav"/><Relationship Id="rId50" Type="http://schemas.openxmlformats.org/officeDocument/2006/relationships/audio" Target="../media/arrow.wav"/><Relationship Id="rId51" Type="http://schemas.openxmlformats.org/officeDocument/2006/relationships/audio" Target="../media/arrow.wav"/><Relationship Id="rId52" Type="http://schemas.openxmlformats.org/officeDocument/2006/relationships/audio" Target="../media/chimes.wav"/><Relationship Id="rId53" Type="http://schemas.openxmlformats.org/officeDocument/2006/relationships/audio" Target="../media/arrow.wav"/><Relationship Id="rId54" Type="http://schemas.openxmlformats.org/officeDocument/2006/relationships/audio" Target="../media/arrow.wav"/><Relationship Id="rId55" Type="http://schemas.openxmlformats.org/officeDocument/2006/relationships/audio" Target="../media/arrow.wav"/><Relationship Id="rId56" Type="http://schemas.openxmlformats.org/officeDocument/2006/relationships/audio" Target="../media/chimes.wav"/><Relationship Id="rId57" Type="http://schemas.openxmlformats.org/officeDocument/2006/relationships/audio" Target="../media/arrow.wav"/><Relationship Id="rId58" Type="http://schemas.openxmlformats.org/officeDocument/2006/relationships/audio" Target="../media/arrow.wav"/><Relationship Id="rId59" Type="http://schemas.openxmlformats.org/officeDocument/2006/relationships/audio" Target="../media/arrow.wav"/><Relationship Id="rId60" Type="http://schemas.openxmlformats.org/officeDocument/2006/relationships/audio" Target="../media/arrow.wav"/><Relationship Id="rId61" Type="http://schemas.openxmlformats.org/officeDocument/2006/relationships/audio" Target="../media/arrow.wav"/><Relationship Id="rId62" Type="http://schemas.openxmlformats.org/officeDocument/2006/relationships/audio" Target="../media/arrow.wav"/><Relationship Id="rId63" Type="http://schemas.openxmlformats.org/officeDocument/2006/relationships/audio" Target="../media/chimes.wav"/><Relationship Id="rId64" Type="http://schemas.openxmlformats.org/officeDocument/2006/relationships/audio" Target="../media/arrow.wav"/><Relationship Id="rId65" Type="http://schemas.openxmlformats.org/officeDocument/2006/relationships/audio" Target="../media/arrow.wav"/><Relationship Id="rId66" Type="http://schemas.openxmlformats.org/officeDocument/2006/relationships/audio" Target="../media/arrow.wav"/><Relationship Id="rId67" Type="http://schemas.openxmlformats.org/officeDocument/2006/relationships/audio" Target="../media/chimes.wav"/><Relationship Id="rId68" Type="http://schemas.openxmlformats.org/officeDocument/2006/relationships/audio" Target="../media/arrow.wav"/><Relationship Id="rId69" Type="http://schemas.openxmlformats.org/officeDocument/2006/relationships/audio" Target="../media/arrow.wav"/><Relationship Id="rId70" Type="http://schemas.openxmlformats.org/officeDocument/2006/relationships/audio" Target="../media/arrow.wav"/><Relationship Id="rId71" Type="http://schemas.openxmlformats.org/officeDocument/2006/relationships/audio" Target="../media/chimes.wav"/><Relationship Id="rId72" Type="http://schemas.openxmlformats.org/officeDocument/2006/relationships/audio" Target="../media/arrow.wav"/><Relationship Id="rId73" Type="http://schemas.openxmlformats.org/officeDocument/2006/relationships/audio" Target="../media/arrow.wav"/><Relationship Id="rId74" Type="http://schemas.openxmlformats.org/officeDocument/2006/relationships/audio" Target="../media/chimes.wav"/><Relationship Id="rId75" Type="http://schemas.openxmlformats.org/officeDocument/2006/relationships/audio" Target="../media/arrow.wav"/><Relationship Id="rId76" Type="http://schemas.openxmlformats.org/officeDocument/2006/relationships/audio" Target="../media/arrow.wav"/><Relationship Id="rId77" Type="http://schemas.openxmlformats.org/officeDocument/2006/relationships/audio" Target="../media/arrow.wav"/><Relationship Id="rId78" Type="http://schemas.openxmlformats.org/officeDocument/2006/relationships/audio" Target="../media/arrow.wav"/><Relationship Id="rId79" Type="http://schemas.openxmlformats.org/officeDocument/2006/relationships/audio" Target="../media/arrow.wav"/><Relationship Id="rId80" Type="http://schemas.openxmlformats.org/officeDocument/2006/relationships/audio" Target="../media/chimes.wav"/><Relationship Id="rId81" Type="http://schemas.openxmlformats.org/officeDocument/2006/relationships/audio" Target="../media/arrow.wav"/><Relationship Id="rId82" Type="http://schemas.openxmlformats.org/officeDocument/2006/relationships/audio" Target="../media/arrow.wav"/><Relationship Id="rId83" Type="http://schemas.openxmlformats.org/officeDocument/2006/relationships/audio" Target="../media/arrow.wav"/><Relationship Id="rId84" Type="http://schemas.openxmlformats.org/officeDocument/2006/relationships/audio" Target="../media/arrow.wav"/><Relationship Id="rId85" Type="http://schemas.openxmlformats.org/officeDocument/2006/relationships/audio" Target="../media/arrow.wav"/><Relationship Id="rId86" Type="http://schemas.openxmlformats.org/officeDocument/2006/relationships/audio" Target="../media/arrow.wav"/><Relationship Id="rId87" Type="http://schemas.openxmlformats.org/officeDocument/2006/relationships/audio" Target="../media/arrow.wav"/><Relationship Id="rId88" Type="http://schemas.openxmlformats.org/officeDocument/2006/relationships/audio" Target="../media/chimes.wav"/><Relationship Id="rId8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Минутка чистопис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3961080" cy="386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189000"/>
            <a:ext cx="6912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Вставь пропущенную безударную гласную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089840" y="333360"/>
            <a:ext cx="2054160" cy="220968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5508720" y="134136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6227640" y="1846440"/>
            <a:ext cx="792360" cy="502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134136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..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184464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...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234936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...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285444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...тнис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3357720"/>
            <a:ext cx="2305080" cy="502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...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386244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...рё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436572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...с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487044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...т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537372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..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587844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…с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981000"/>
            <a:ext cx="2305080" cy="358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981000"/>
            <a:ext cx="792000" cy="358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68720" y="981000"/>
            <a:ext cx="719280" cy="35892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4" action="ppaction://hlinksldjump"/>
          </p:cNvPr>
          <p:cNvSpPr/>
          <p:nvPr/>
        </p:nvSpPr>
        <p:spPr>
          <a:xfrm>
            <a:off x="3276720" y="134136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5" action="ppaction://hlinksldjump"/>
          </p:cNvPr>
          <p:cNvSpPr/>
          <p:nvPr/>
        </p:nvSpPr>
        <p:spPr>
          <a:xfrm>
            <a:off x="4068720" y="134136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6" action="ppaction://hlinksldjump"/>
          </p:cNvPr>
          <p:cNvSpPr/>
          <p:nvPr/>
        </p:nvSpPr>
        <p:spPr>
          <a:xfrm>
            <a:off x="3276720" y="1846440"/>
            <a:ext cx="792000" cy="502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7" action="ppaction://hlinksldjump"/>
          </p:cNvPr>
          <p:cNvSpPr/>
          <p:nvPr/>
        </p:nvSpPr>
        <p:spPr>
          <a:xfrm>
            <a:off x="3276720" y="234936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8" action="ppaction://hlinksldjump"/>
          </p:cNvPr>
          <p:cNvSpPr/>
          <p:nvPr/>
        </p:nvSpPr>
        <p:spPr>
          <a:xfrm>
            <a:off x="5508720" y="1846440"/>
            <a:ext cx="718920" cy="50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9" action="ppaction://hlinksldjump"/>
          </p:cNvPr>
          <p:cNvSpPr/>
          <p:nvPr/>
        </p:nvSpPr>
        <p:spPr>
          <a:xfrm>
            <a:off x="5508720" y="2349360"/>
            <a:ext cx="71892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10" action="ppaction://hlinksldjump"/>
          </p:cNvPr>
          <p:cNvSpPr/>
          <p:nvPr/>
        </p:nvSpPr>
        <p:spPr>
          <a:xfrm>
            <a:off x="6227640" y="3357720"/>
            <a:ext cx="792360" cy="502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11" action="ppaction://hlinksldjump"/>
          </p:cNvPr>
          <p:cNvSpPr/>
          <p:nvPr/>
        </p:nvSpPr>
        <p:spPr>
          <a:xfrm>
            <a:off x="4788000" y="3862440"/>
            <a:ext cx="7207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12" action="ppaction://hlinksldjump"/>
          </p:cNvPr>
          <p:cNvSpPr/>
          <p:nvPr/>
        </p:nvSpPr>
        <p:spPr>
          <a:xfrm>
            <a:off x="6227640" y="285444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13" action="ppaction://hlinksldjump"/>
          </p:cNvPr>
          <p:cNvSpPr/>
          <p:nvPr/>
        </p:nvSpPr>
        <p:spPr>
          <a:xfrm>
            <a:off x="5508720" y="3357720"/>
            <a:ext cx="718920" cy="50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14" action="ppaction://hlinksldjump"/>
          </p:cNvPr>
          <p:cNvSpPr/>
          <p:nvPr/>
        </p:nvSpPr>
        <p:spPr>
          <a:xfrm>
            <a:off x="4068720" y="285444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15" action="ppaction://hlinksldjump"/>
          </p:cNvPr>
          <p:cNvSpPr/>
          <p:nvPr/>
        </p:nvSpPr>
        <p:spPr>
          <a:xfrm>
            <a:off x="3276720" y="3357720"/>
            <a:ext cx="792000" cy="502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16" action="ppaction://hlinksldjump"/>
          </p:cNvPr>
          <p:cNvSpPr/>
          <p:nvPr/>
        </p:nvSpPr>
        <p:spPr>
          <a:xfrm>
            <a:off x="4788000" y="3357720"/>
            <a:ext cx="720720" cy="502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17" action="ppaction://hlinksldjump"/>
          </p:cNvPr>
          <p:cNvSpPr/>
          <p:nvPr/>
        </p:nvSpPr>
        <p:spPr>
          <a:xfrm>
            <a:off x="4788000" y="1846440"/>
            <a:ext cx="720720" cy="502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18" action="ppaction://hlinksldjump"/>
          </p:cNvPr>
          <p:cNvSpPr/>
          <p:nvPr/>
        </p:nvSpPr>
        <p:spPr>
          <a:xfrm>
            <a:off x="4788000" y="2349360"/>
            <a:ext cx="7207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19" action="ppaction://hlinksldjump"/>
          </p:cNvPr>
          <p:cNvSpPr/>
          <p:nvPr/>
        </p:nvSpPr>
        <p:spPr>
          <a:xfrm>
            <a:off x="6227640" y="234936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20" action="ppaction://hlinksldjump"/>
          </p:cNvPr>
          <p:cNvSpPr/>
          <p:nvPr/>
        </p:nvSpPr>
        <p:spPr>
          <a:xfrm>
            <a:off x="4068720" y="386244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21" action="ppaction://hlinksldjump"/>
          </p:cNvPr>
          <p:cNvSpPr/>
          <p:nvPr/>
        </p:nvSpPr>
        <p:spPr>
          <a:xfrm>
            <a:off x="3276720" y="436572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22" action="ppaction://hlinksldjump"/>
          </p:cNvPr>
          <p:cNvSpPr/>
          <p:nvPr/>
        </p:nvSpPr>
        <p:spPr>
          <a:xfrm>
            <a:off x="4788000" y="1341360"/>
            <a:ext cx="7189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3" action="ppaction://hlinksldjump"/>
          </p:cNvPr>
          <p:cNvSpPr/>
          <p:nvPr/>
        </p:nvSpPr>
        <p:spPr>
          <a:xfrm>
            <a:off x="4788000" y="2854440"/>
            <a:ext cx="72072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24" action="ppaction://hlinksldjump"/>
          </p:cNvPr>
          <p:cNvSpPr/>
          <p:nvPr/>
        </p:nvSpPr>
        <p:spPr>
          <a:xfrm>
            <a:off x="4068720" y="234936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25" action="ppaction://hlinksldjump"/>
          </p:cNvPr>
          <p:cNvSpPr/>
          <p:nvPr/>
        </p:nvSpPr>
        <p:spPr>
          <a:xfrm>
            <a:off x="3276720" y="386244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862440"/>
            <a:ext cx="71892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8720" y="1846440"/>
            <a:ext cx="719280" cy="502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26" action="ppaction://hlinksldjump"/>
          </p:cNvPr>
          <p:cNvSpPr/>
          <p:nvPr/>
        </p:nvSpPr>
        <p:spPr>
          <a:xfrm>
            <a:off x="6227640" y="134136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27" action="ppaction://hlinksldjump"/>
          </p:cNvPr>
          <p:cNvSpPr/>
          <p:nvPr/>
        </p:nvSpPr>
        <p:spPr>
          <a:xfrm>
            <a:off x="3276720" y="285444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28" action="ppaction://hlinksldjump"/>
          </p:cNvPr>
          <p:cNvSpPr/>
          <p:nvPr/>
        </p:nvSpPr>
        <p:spPr>
          <a:xfrm>
            <a:off x="5508720" y="285444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29" action="ppaction://hlinksldjump"/>
          </p:cNvPr>
          <p:cNvSpPr/>
          <p:nvPr/>
        </p:nvSpPr>
        <p:spPr>
          <a:xfrm>
            <a:off x="4068720" y="3357720"/>
            <a:ext cx="719280" cy="50292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88000" y="981000"/>
            <a:ext cx="718920" cy="358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08720" y="981000"/>
            <a:ext cx="718920" cy="35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981000"/>
            <a:ext cx="792360" cy="358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30" action="ppaction://hlinksldjump"/>
          </p:cNvPr>
          <p:cNvSpPr/>
          <p:nvPr/>
        </p:nvSpPr>
        <p:spPr>
          <a:xfrm>
            <a:off x="6227640" y="386244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68720" y="436572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88000" y="4365720"/>
            <a:ext cx="71892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31" action="ppaction://hlinksldjump"/>
          </p:cNvPr>
          <p:cNvSpPr/>
          <p:nvPr/>
        </p:nvSpPr>
        <p:spPr>
          <a:xfrm>
            <a:off x="5508720" y="436572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32" action="ppaction://hlinksldjump"/>
          </p:cNvPr>
          <p:cNvSpPr/>
          <p:nvPr/>
        </p:nvSpPr>
        <p:spPr>
          <a:xfrm>
            <a:off x="6227640" y="436572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487044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33" action="ppaction://hlinksldjump"/>
          </p:cNvPr>
          <p:cNvSpPr/>
          <p:nvPr/>
        </p:nvSpPr>
        <p:spPr>
          <a:xfrm>
            <a:off x="4068720" y="487044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88000" y="4870440"/>
            <a:ext cx="7189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34" action="ppaction://hlinksldjump"/>
          </p:cNvPr>
          <p:cNvSpPr/>
          <p:nvPr/>
        </p:nvSpPr>
        <p:spPr>
          <a:xfrm>
            <a:off x="5508720" y="487044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35" action="ppaction://hlinksldjump"/>
          </p:cNvPr>
          <p:cNvSpPr/>
          <p:nvPr/>
        </p:nvSpPr>
        <p:spPr>
          <a:xfrm>
            <a:off x="6227640" y="486900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36" action="ppaction://hlinksldjump"/>
          </p:cNvPr>
          <p:cNvSpPr/>
          <p:nvPr/>
        </p:nvSpPr>
        <p:spPr>
          <a:xfrm>
            <a:off x="3276720" y="537372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68720" y="5373720"/>
            <a:ext cx="7192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37" action="ppaction://hlinksldjump"/>
          </p:cNvPr>
          <p:cNvSpPr/>
          <p:nvPr/>
        </p:nvSpPr>
        <p:spPr>
          <a:xfrm>
            <a:off x="4788000" y="5373720"/>
            <a:ext cx="7189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08720" y="537372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537372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587844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68720" y="587844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5878440"/>
            <a:ext cx="7189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08720" y="587844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27640" y="587844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1341360"/>
            <a:ext cx="7905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1016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49440" y="1341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67280" y="1844640"/>
            <a:ext cx="71892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10160" y="234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285264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08720" y="234936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88000" y="2852640"/>
            <a:ext cx="7207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36720" y="33577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27640" y="3357720"/>
            <a:ext cx="792360" cy="502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37080" y="38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08720" y="386064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63640" y="436572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88000" y="4365720"/>
            <a:ext cx="7189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93800" y="486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486900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94160" y="537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67280" y="5373720"/>
            <a:ext cx="71892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93800" y="5877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5877000"/>
            <a:ext cx="7923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476280"/>
            <a:ext cx="684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Выбери ячейку и кликни кнопкой мыш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7020000" y="3357720"/>
            <a:ext cx="1908000" cy="1565280"/>
            <a:chOff x="7020000" y="3357720"/>
            <a:chExt cx="1908000" cy="1565280"/>
          </a:xfrm>
        </p:grpSpPr>
        <p:pic>
          <p:nvPicPr>
            <p:cNvPr id="181" name="" descr=""/>
            <p:cNvPicPr/>
            <p:nvPr/>
          </p:nvPicPr>
          <p:blipFill>
            <a:blip r:embed="rId38"/>
            <a:stretch/>
          </p:blipFill>
          <p:spPr>
            <a:xfrm>
              <a:off x="7020000" y="3357720"/>
              <a:ext cx="1908000" cy="15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 txBox="1"/>
            <p:nvPr/>
          </p:nvSpPr>
          <p:spPr>
            <a:xfrm>
              <a:off x="8099280" y="4294440"/>
              <a:ext cx="73080" cy="10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е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8602560" y="3861000"/>
              <a:ext cx="144360" cy="17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и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8388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2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2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2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3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3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3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3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3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3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3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3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3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6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8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9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3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3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0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3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2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3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3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3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4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5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4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4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6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7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4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4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8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4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4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9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1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4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4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66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2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4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4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3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4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480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4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4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4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5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6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49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4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7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5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5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умай, друж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708360" y="2852640"/>
            <a:ext cx="1568520" cy="3514680"/>
          </a:xfrm>
          <a:prstGeom prst="rect">
            <a:avLst/>
          </a:prstGeom>
          <a:ln w="0">
            <a:noFill/>
          </a:ln>
        </p:spPr>
      </p:pic>
      <p:grpSp>
        <p:nvGrpSpPr>
          <p:cNvPr id="187" name=""/>
          <p:cNvGrpSpPr/>
          <p:nvPr/>
        </p:nvGrpSpPr>
        <p:grpSpPr>
          <a:xfrm>
            <a:off x="611280" y="1628640"/>
            <a:ext cx="2592000" cy="2087280"/>
            <a:chOff x="611280" y="1628640"/>
            <a:chExt cx="2592000" cy="2087280"/>
          </a:xfrm>
        </p:grpSpPr>
        <p:sp>
          <p:nvSpPr>
            <p:cNvPr id="188" name=""/>
            <p:cNvSpPr/>
            <p:nvPr/>
          </p:nvSpPr>
          <p:spPr>
            <a:xfrm flipH="1">
              <a:off x="611280" y="1628640"/>
              <a:ext cx="2592000" cy="2087280"/>
            </a:xfrm>
            <a:prstGeom prst="cloudCallout">
              <a:avLst>
                <a:gd name="adj1" fmla="val -41851"/>
                <a:gd name="adj2" fmla="val 66453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1002600" y="2028960"/>
              <a:ext cx="438120" cy="59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1710720" y="2350800"/>
              <a:ext cx="301320" cy="59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2259360" y="2350800"/>
              <a:ext cx="457200" cy="59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651640" y="1700280"/>
            <a:ext cx="2952720" cy="1944720"/>
            <a:chOff x="5651640" y="1700280"/>
            <a:chExt cx="2952720" cy="1944720"/>
          </a:xfrm>
        </p:grpSpPr>
        <p:sp>
          <p:nvSpPr>
            <p:cNvPr id="193" name=""/>
            <p:cNvSpPr/>
            <p:nvPr/>
          </p:nvSpPr>
          <p:spPr>
            <a:xfrm>
              <a:off x="5651640" y="1700280"/>
              <a:ext cx="2952720" cy="1944720"/>
            </a:xfrm>
            <a:prstGeom prst="cloudCallout">
              <a:avLst>
                <a:gd name="adj1" fmla="val -44513"/>
                <a:gd name="adj2" fmla="val 64856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6227640" y="2349360"/>
              <a:ext cx="40176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7093080" y="2708280"/>
              <a:ext cx="27612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7524720" y="1989000"/>
              <a:ext cx="4190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о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9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028000" y="5805360"/>
            <a:ext cx="79200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89040" y="466560"/>
            <a:ext cx="3149640" cy="4640400"/>
          </a:xfrm>
          <a:custGeom>
            <a:avLst/>
            <a:gdLst/>
            <a:ahLst/>
            <a:rect l="l" t="t" r="r" b="b"/>
            <a:pathLst>
              <a:path w="1984" h="2923">
                <a:moveTo>
                  <a:pt x="553" y="2513"/>
                </a:moveTo>
                <a:cubicBezTo>
                  <a:pt x="562" y="2540"/>
                  <a:pt x="557" y="2639"/>
                  <a:pt x="608" y="2677"/>
                </a:cubicBezTo>
                <a:cubicBezTo>
                  <a:pt x="659" y="2715"/>
                  <a:pt x="766" y="2768"/>
                  <a:pt x="859" y="2742"/>
                </a:cubicBezTo>
                <a:cubicBezTo>
                  <a:pt x="952" y="2716"/>
                  <a:pt x="1066" y="2658"/>
                  <a:pt x="1165" y="2520"/>
                </a:cubicBezTo>
                <a:cubicBezTo>
                  <a:pt x="1264" y="2382"/>
                  <a:pt x="1405" y="2065"/>
                  <a:pt x="1453" y="1914"/>
                </a:cubicBezTo>
                <a:cubicBezTo>
                  <a:pt x="1501" y="1763"/>
                  <a:pt x="1473" y="1694"/>
                  <a:pt x="1453" y="1614"/>
                </a:cubicBezTo>
                <a:cubicBezTo>
                  <a:pt x="1433" y="1534"/>
                  <a:pt x="1382" y="1473"/>
                  <a:pt x="1333" y="1434"/>
                </a:cubicBezTo>
                <a:cubicBezTo>
                  <a:pt x="1284" y="1395"/>
                  <a:pt x="1216" y="1393"/>
                  <a:pt x="1159" y="1380"/>
                </a:cubicBezTo>
                <a:cubicBezTo>
                  <a:pt x="1102" y="1367"/>
                  <a:pt x="929" y="1411"/>
                  <a:pt x="991" y="1356"/>
                </a:cubicBezTo>
                <a:cubicBezTo>
                  <a:pt x="1053" y="1301"/>
                  <a:pt x="1380" y="1180"/>
                  <a:pt x="1532" y="1050"/>
                </a:cubicBezTo>
                <a:cubicBezTo>
                  <a:pt x="1684" y="920"/>
                  <a:pt x="1841" y="733"/>
                  <a:pt x="1906" y="575"/>
                </a:cubicBezTo>
                <a:cubicBezTo>
                  <a:pt x="1971" y="417"/>
                  <a:pt x="1984" y="169"/>
                  <a:pt x="1925" y="99"/>
                </a:cubicBezTo>
                <a:cubicBezTo>
                  <a:pt x="1866" y="29"/>
                  <a:pt x="1737" y="0"/>
                  <a:pt x="1550" y="154"/>
                </a:cubicBezTo>
                <a:cubicBezTo>
                  <a:pt x="1363" y="308"/>
                  <a:pt x="1022" y="718"/>
                  <a:pt x="800" y="1023"/>
                </a:cubicBezTo>
                <a:cubicBezTo>
                  <a:pt x="578" y="1328"/>
                  <a:pt x="343" y="1723"/>
                  <a:pt x="215" y="1983"/>
                </a:cubicBezTo>
                <a:cubicBezTo>
                  <a:pt x="87" y="2243"/>
                  <a:pt x="0" y="2499"/>
                  <a:pt x="32" y="2586"/>
                </a:cubicBezTo>
                <a:cubicBezTo>
                  <a:pt x="64" y="2673"/>
                  <a:pt x="169" y="2923"/>
                  <a:pt x="407" y="2504"/>
                </a:cubicBezTo>
                <a:cubicBezTo>
                  <a:pt x="645" y="2085"/>
                  <a:pt x="1239" y="579"/>
                  <a:pt x="1458" y="72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476280"/>
            <a:ext cx="85690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7280" y="2637000"/>
            <a:ext cx="8569440" cy="0"/>
          </a:xfrm>
          <a:prstGeom prst="line">
            <a:avLst/>
          </a:prstGeom>
          <a:ln w="572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4869000"/>
            <a:ext cx="85690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74960" y="546120"/>
            <a:ext cx="14472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951440" y="479520"/>
            <a:ext cx="2503440" cy="4393440"/>
            <a:chOff x="4951440" y="479520"/>
            <a:chExt cx="2503440" cy="4393440"/>
          </a:xfrm>
        </p:grpSpPr>
        <p:sp>
          <p:nvSpPr>
            <p:cNvPr id="50" name=""/>
            <p:cNvSpPr/>
            <p:nvPr/>
          </p:nvSpPr>
          <p:spPr>
            <a:xfrm>
              <a:off x="4951440" y="3352680"/>
              <a:ext cx="144360" cy="1440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367400">
              <a:off x="5384520" y="2560680"/>
              <a:ext cx="865080" cy="223164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60880" y="479520"/>
              <a:ext cx="2394000" cy="2903400"/>
            </a:xfrm>
            <a:custGeom>
              <a:avLst/>
              <a:gdLst/>
              <a:ahLst/>
              <a:rect l="l" t="t" r="r" b="b"/>
              <a:pathLst>
                <a:path w="1508" h="1829">
                  <a:moveTo>
                    <a:pt x="0" y="1829"/>
                  </a:moveTo>
                  <a:cubicBezTo>
                    <a:pt x="192" y="1653"/>
                    <a:pt x="910" y="1018"/>
                    <a:pt x="1153" y="774"/>
                  </a:cubicBezTo>
                  <a:cubicBezTo>
                    <a:pt x="1396" y="530"/>
                    <a:pt x="1410" y="486"/>
                    <a:pt x="1459" y="365"/>
                  </a:cubicBezTo>
                  <a:cubicBezTo>
                    <a:pt x="1508" y="244"/>
                    <a:pt x="1490" y="98"/>
                    <a:pt x="1450" y="49"/>
                  </a:cubicBezTo>
                  <a:cubicBezTo>
                    <a:pt x="1410" y="0"/>
                    <a:pt x="1308" y="9"/>
                    <a:pt x="1218" y="68"/>
                  </a:cubicBezTo>
                  <a:cubicBezTo>
                    <a:pt x="1128" y="127"/>
                    <a:pt x="1066" y="118"/>
                    <a:pt x="911" y="403"/>
                  </a:cubicBezTo>
                  <a:cubicBezTo>
                    <a:pt x="756" y="688"/>
                    <a:pt x="419" y="1491"/>
                    <a:pt x="289" y="1777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rot="12875400">
            <a:off x="3774960" y="690120"/>
            <a:ext cx="649440" cy="144720"/>
          </a:xfrm>
          <a:custGeom>
            <a:avLst/>
            <a:gdLst>
              <a:gd name="textAreaLeft" fmla="*/ 0 w 649440"/>
              <a:gd name="textAreaRight" fmla="*/ 649800 w 6494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C -0.06285 0.21111 -0.12552 0.42222 -0.1625 0.52222 C -0.19948 0.62222 -0.2092 0.59699 -0.22223 0.6 C -0.23525 0.60301 -0.24723 0.58148 -0.24028 0.54074 C -0.23334 0.5 -0.21962 0.44005 -0.18056 0.35556 C -0.1415 0.27107 -0.04566 0.09422 -0.00556 0.03334 C 0.03455 -0.02754 0.04444 -0.00555 0.05972 -0.00926 C 0.075 -0.01296 0.08177 -0.0081 0.08611 0.01111 C 0.09045 0.03033 0.09739 0.07107 0.08611 0.10556 C 0.07482 0.14005 0.04409 0.18797 0.01805 0.21852 C -0.00799 0.24908 -0.06111 0.27662 -0.07084 0.28889 C -0.08056 0.30116 -0.05122 0.28797 -0.04028 0.29259 C -0.02934 0.29722 -0.01389 0.3007 -0.00556 0.31667 C 0.00277 0.33218 0.01805 0.34514 0.00972 0.38889 C 0.00139 0.43264 -0.03594 0.54352 -0.05556 0.57963 C -0.07518 0.61574 -0.09427 0.60185 -0.10834 0.60556 C -0.1224 0.60926 -0.13264 0.60857 -0.14028 0.60185 C -0.14792 0.59514 -0.15104 0.57986 -0.15417 0.56482 E">
                                      <p:cBhvr>
                                        <p:cTn id="13" dur="10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056 0.40556 C 0.20348 0.32593 0.27639 0.24722 0.31945 0.18889 C 0.3625 0.13033 0.37969 0.08796 0.38889 0.05556 C 0.39809 0.02315 0.39167 -0.0081 0.375 -0.00555 C 0.35834 -0.00301 0.325 -0.00856 0.28889 0.07037 C 0.25278 0.14931 0.17709 0.37847 0.15834 0.46852 C 0.13959 0.5581 0.1632 0.5963 0.17639 0.60926 C 0.18959 0.62222 0.22136 0.57778 0.2375 0.5463 C 0.25365 0.51482 0.26754 0.45579 0.27362 0.42037 C 0.27969 0.38495 0.2783 0.35278 0.27362 0.33333 C 0.26893 0.31389 0.25834 0.30023 0.24584 0.3037 C 0.23334 0.30718 0.20851 0.34329 0.19862 0.3537 E">
                                      <p:cBhvr>
                                        <p:cTn id="16" dur="7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88000" y="2492280"/>
            <a:ext cx="43560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Если снег везде растая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И трава в лесу видна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И поёт пичужек стая,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Значи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к нам пришла весна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47656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берите пословиц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084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рачи               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а                                  вес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ор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на                             двор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284720" y="5229000"/>
            <a:ext cx="73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284720" y="5229000"/>
            <a:ext cx="73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грач"/>
          <p:cNvPicPr/>
          <p:nvPr/>
        </p:nvPicPr>
        <p:blipFill>
          <a:blip r:embed="rId1"/>
          <a:stretch/>
        </p:blipFill>
        <p:spPr>
          <a:xfrm>
            <a:off x="0" y="1557360"/>
            <a:ext cx="2332080" cy="26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2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2130480"/>
            <a:ext cx="326088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620640"/>
            <a:ext cx="882000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Гр</a:t>
            </a: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а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чи на г</a:t>
            </a: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</a:rPr>
              <a:t>о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ре - в</a:t>
            </a: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</a:rPr>
              <a:t>е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сна на дв</a:t>
            </a: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</a:rPr>
              <a:t>о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р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7956720" y="2204640"/>
            <a:ext cx="72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268360" y="2133360"/>
            <a:ext cx="73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219640" y="2204640"/>
            <a:ext cx="73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492360" y="306828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cc00"/>
                </a:solidFill>
                <a:latin typeface="Arial"/>
              </a:rPr>
              <a:t>проверяй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1700280"/>
            <a:ext cx="792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2520" y="3357720"/>
            <a:ext cx="73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7800" y="3213000"/>
            <a:ext cx="94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10880" y="1484280"/>
            <a:ext cx="698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3716280"/>
            <a:ext cx="69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25800" y="17002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86160" y="29242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98160" y="3068640"/>
            <a:ext cx="91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70160" y="1700280"/>
            <a:ext cx="74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4520" y="17002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54936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Гласн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66760" y="1268280"/>
            <a:ext cx="66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Найдите пред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Подумай, какую букву встав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Запиши и выдели орфограм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51280" cy="3597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067280" y="0"/>
            <a:ext cx="5076720" cy="3573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124000" y="3673440"/>
            <a:ext cx="547236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50272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авить текст «Письмо весн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-6 предложен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835280" y="476280"/>
            <a:ext cx="62658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cc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ее задание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cc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3313080" cy="3290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6:21:29Z</dcterms:created>
  <dc:creator>Кирилл</dc:creator>
  <dc:description/>
  <dc:language>en-US</dc:language>
  <cp:lastModifiedBy>Кислова</cp:lastModifiedBy>
  <dcterms:modified xsi:type="dcterms:W3CDTF">2012-02-24T05:04:43Z</dcterms:modified>
  <cp:revision>41</cp:revision>
  <dc:subject/>
  <dc:title>Слайд 1</dc:title>
</cp:coreProperties>
</file>