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5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26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F45-E4B1-406C-B6F4-FE9552AC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DF5-7C09-412A-8CD1-2C1C2C6E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63D-8776-4577-90AC-6AE8DA24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6EB-75BD-4B56-A1B5-07FE619C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446-C1F5-4632-9CB4-AAF97C23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E6E-E8C2-430E-88A6-686477AF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319-A1B8-4A91-B110-2A238CE7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CCA-7650-43C2-8A33-A6A207CA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032-001E-4002-BEE1-4ADB8F7B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410-0504-4946-8E05-75964EF7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FF5-25B4-4DAE-A5A0-36C87076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461-34BA-43C5-831E-CB136E52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838C-7C42-47FA-9D0E-5B5AA27F5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отохроники Великой Отечественной Вой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58120" y="0"/>
            <a:ext cx="2585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улка по освобожденному се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61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5148360" cy="364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86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427640" y="3246480"/>
            <a:ext cx="4716360" cy="3611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679840" y="59691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308640"/>
            <a:ext cx="9468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944-19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ИЙ ДЕНЬ ПОБЕДЫ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 мая 1945 год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963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408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200560" y="0"/>
            <a:ext cx="39434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3583080"/>
            <a:ext cx="5219640" cy="327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2278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333800" y="0"/>
            <a:ext cx="667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ИКТО НЕ ЗАБЫ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НИЧТО НЕ ЗАБЫТО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863640"/>
            <a:ext cx="9144000" cy="7721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5013360"/>
            <a:ext cx="914400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ъявление о начале Великой Отечественной войны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Москва, улица 25-го Октябр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4360" y="-747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0" y="5387760"/>
            <a:ext cx="91440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йцы идут на фронт с Московского ипподро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536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9664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5870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ОКОПАХ ПОД МОСК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88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695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211640" y="3251160"/>
            <a:ext cx="4932360" cy="360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4211640" cy="357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3865680"/>
            <a:ext cx="9779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6680" y="0"/>
            <a:ext cx="83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Над лесами необъятны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836640"/>
            <a:ext cx="87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Над полями перелетным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1480" y="1844640"/>
            <a:ext cx="881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Над разрывами гранатны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7760" y="2781360"/>
            <a:ext cx="702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Песни-ласточки летя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520" y="3645000"/>
            <a:ext cx="897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Пахнут рощи горьким порохо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2880" y="4487760"/>
            <a:ext cx="87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Шепчут травы тихим шорох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9720" y="515772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И о том, что сердцу дорого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9760" y="5877000"/>
            <a:ext cx="77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Русским людям говорят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 -0.33333 E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5039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врагу — огон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56000" y="3251160"/>
            <a:ext cx="4788000" cy="3606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4680" y="0"/>
            <a:ext cx="4459320" cy="332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3213000"/>
            <a:ext cx="4284720" cy="364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4489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та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1:02Z</dcterms:created>
  <dc:creator>UserXP</dc:creator>
  <dc:description/>
  <dc:language>en-US</dc:language>
  <cp:lastModifiedBy>UserXP</cp:lastModifiedBy>
  <dcterms:modified xsi:type="dcterms:W3CDTF">2012-06-23T17:40:03Z</dcterms:modified>
  <cp:revision>46</cp:revision>
  <dc:subject/>
  <dc:title>Фото хроники Великой Отечественной Войны</dc:title>
</cp:coreProperties>
</file>