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25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png" ContentType="image/png"/>
  <Override PartName="/ppt/media/image27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26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5603-4B42-4A38-B827-34436482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5401-A8FE-44DA-930F-B3B45717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E27E-9EEE-4825-90C3-87B633BE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F2B2-9632-454D-A31A-F1B77F67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4AD5-0AA9-4148-8B9E-0C1AED2F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BA46-CB41-40D9-A03B-8503FDB8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93D-E19C-4EE4-8A2F-C163E2C7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D33-80D3-4DC9-B4BD-3F4005DD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5AD8-8785-46FD-AF08-91BD9423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5876-579C-42FA-9A5C-EFAABC23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0190-044F-493A-A93D-3C5BA2F5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3F09-EF4E-4511-9919-97FE86C3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E8EE-441D-4DAB-A76B-7D0DAC413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Фотохроники Великой Отечественной Вой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58120" y="0"/>
            <a:ext cx="25858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гулка по освобожденному сел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610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5148360" cy="3645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486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427640" y="3246480"/>
            <a:ext cx="4716360" cy="3611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679840" y="5969160"/>
            <a:ext cx="246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308640"/>
            <a:ext cx="94680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944-194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ЛИКИЙ ДЕНЬ ПОБЕДЫ –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9 мая 1945 год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69632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4084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200560" y="0"/>
            <a:ext cx="394344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3583080"/>
            <a:ext cx="5219640" cy="3274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22788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333800" y="0"/>
            <a:ext cx="667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НИКТО НЕ ЗАБЫТ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НИЧТО НЕ ЗАБЫТО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863640"/>
            <a:ext cx="9144000" cy="7721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013360"/>
            <a:ext cx="9144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ъявление о начале Великой Отечественной войны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Москва, улица 25-го Октябр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4360" y="-747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5092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1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0" y="5387760"/>
            <a:ext cx="91440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ойцы идут на фронт с Московского ипподро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211640" y="0"/>
            <a:ext cx="4932360" cy="5364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29664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5870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ОКОПАХ ПОД МОСКВ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388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695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211640" y="3251160"/>
            <a:ext cx="4932360" cy="3606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0" y="3284640"/>
            <a:ext cx="4211640" cy="3573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3865680"/>
            <a:ext cx="9779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6680" y="0"/>
            <a:ext cx="835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Над лесами необъятны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836640"/>
            <a:ext cx="87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Над полями перелетным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1480" y="1844640"/>
            <a:ext cx="881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Над разрывами гранатны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7760" y="2781360"/>
            <a:ext cx="702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Песни-ласточки летя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2520" y="3645000"/>
            <a:ext cx="897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Пахнут рощи горьким порохо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2880" y="4487760"/>
            <a:ext cx="875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Шепчут травы тихим шорох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9720" y="5157720"/>
            <a:ext cx="859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И о том, что сердцу дорого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9760" y="5877000"/>
            <a:ext cx="77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Русским людям говоря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path" presetID="6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 -0.33333 E">
                                      <p:cBhvr>
                                        <p:cTn id="2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5039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 врагу — огон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356000" y="3251160"/>
            <a:ext cx="4788000" cy="3606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684680" y="0"/>
            <a:ext cx="4459320" cy="3328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0" y="3213000"/>
            <a:ext cx="4284720" cy="3645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1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44893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6165360"/>
            <a:ext cx="914400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та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6:31:02Z</dcterms:created>
  <dc:creator>UserXP</dc:creator>
  <dc:description/>
  <dc:language>en-US</dc:language>
  <cp:lastModifiedBy>UserXP</cp:lastModifiedBy>
  <dcterms:modified xsi:type="dcterms:W3CDTF">2012-06-23T17:40:03Z</dcterms:modified>
  <cp:revision>46</cp:revision>
  <dc:subject/>
  <dc:title>Фото хроники Великой Отечественной Войны</dc:title>
</cp:coreProperties>
</file>