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AA5-C6E9-433C-9257-EEE6B2E4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C77-0F5C-4625-9661-0F769778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FFB-CE4F-4A40-92BB-7EC477D9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C17-994F-4B78-9FCB-D391A70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BEAA-E52A-4A33-97CB-124F2AA6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B68D-680F-4A82-B6B0-B6ABE6FC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DB8C-D873-4A00-9FDC-0748E01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FCBF-4C72-409D-A4EA-C446FEE9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A345-C0C2-4B0A-AC14-66856BBF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4969-0FA9-46C6-A9D5-F8F5A1F9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D93D-53ED-48DF-A426-A8491FD6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44E-822A-4B89-AA17-639C2A52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AB33-B7D9-4E52-AD90-C2E439E0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DA16-2C47-4425-9F6E-BBA77DC0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7132-5357-4CEC-B587-4D3F640B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F801-8DFF-4803-BF2C-0AC778A0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ECAA-F41A-49B9-BB2A-2106DA37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ECC3-1B2E-4762-9AEA-C2FC24D2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1E47-354B-453A-B370-7CE817C6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3EC9-9CBA-4302-A85F-3C55EBA3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89EBA-6532-4313-B4BC-00445D00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49B7-DCCE-494A-96BD-DFD1248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BBB-0A27-440A-9D71-A9719FF9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8291-4BFB-44E1-A5AF-BB051B3B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E5C6-DF52-4A46-B390-695D016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E64B-BA01-493B-9C14-33672DE6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ABFC-CE8E-4CE8-9628-F6A42C2A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DE4E-1439-41BA-B596-BCBFA698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23D7-D5F2-42B4-BFE0-C2274577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75F8-FF0A-46BC-8531-7170565C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4DAC-33C3-4836-82AF-04359E91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9A0A-6CCC-4729-B86E-BA5F260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0C91-4D95-477A-945B-3C6FA608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CBE-AC9A-4B69-9EB5-FE1C70F2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A4A9-6D6A-4620-BF39-07970A0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CC8D-412E-46DF-93F7-7774750A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5823-A3ED-4FFB-ADDD-41E34123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488F-43CB-4A6E-9720-9610F4E4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F13B-3410-4BFB-95E3-C27130A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F25C-E0CE-4155-AFCF-C08DF9F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0B654-4E05-45A6-9BB5-6AB315EF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B45A-1492-44B4-9EEA-986C8CC8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B1EE-9277-493F-AE46-34EA1566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3461-AD8B-4FF6-B120-D17BB71C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CCB-77AC-4CA0-8945-4A52515A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64077-0789-4A3B-B9D8-7F4C7A61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480A2-A484-4033-A293-B22A79F6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99F3-2087-4C30-B6AE-82C8C9C1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FDD20-73A2-4E23-8A36-00CED90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3370-521A-4856-9C85-3A0DBD01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2B52-5775-4445-8857-3F05E2C8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163BB-4116-4389-8D7C-A3ACB6D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DD93-BBA7-460D-8400-74BA7AC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8ADF3-96FD-4B08-A040-E05A30F3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C54C-8FBD-48D4-AFCB-96956242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D6F-0450-47D4-A31F-DBD8CE8C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FAC2-A500-4A4F-9953-8F16A990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37A-96CF-45FA-A9F0-D5382798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E0F-3BBA-4360-ADA8-3350DC5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2DF-B195-48F1-89F2-74FFCF0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7EF-37CE-499D-85BF-1D86FC7EE4A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AF7-AE60-4EFC-B847-9AE8E403F38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47B3-21D5-43B0-8C02-E73B8E2A8EB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4D04-8214-4DE2-BA45-129D21B082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5DB-56EC-4285-B240-6F0ED455B7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Имя прилагательное.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4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класс</a:t>
            </a:r>
            <a:br>
              <a:rPr sz="4500"/>
            </a:b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58920" y="479700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Monotype Corsiva"/>
              </a:rPr>
              <a:t>Тема урока :</a:t>
            </a:r>
            <a:br>
              <a:rPr sz="3600"/>
            </a:br>
            <a:r>
              <a:rPr b="1" i="1" lang="ru-RU" sz="3600" spc="-1" strike="noStrike">
                <a:solidFill>
                  <a:srgbClr val="ff8d3e"/>
                </a:solidFill>
                <a:latin typeface="Monotype Corsiva"/>
              </a:rPr>
              <a:t> Имя прилагательное.</a:t>
            </a:r>
            <a:br>
              <a:rPr sz="29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глубить понятие о роли прилагательных в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торить орфограммы, изученные по теме « Имя прилагательное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торить выразительные средства язы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вать речь учащихся, умение использовать в письменной речи эпитеты, олицетвор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ывать любовь к природе, к литературе, внимательное отношение к поэтическому слов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a5d8"/>
                </a:solidFill>
                <a:latin typeface="Verdana"/>
              </a:rPr>
              <a:t>Укажите  падеж прилагательных,  выделите их окончания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На чудесн…й аллее, на зимн..й ели, об интересн…м гербарии, при легк…м прикосновении, безызвестн…   героя, разноцвет… знамени, заботлив..й дочери, зимн…й дорожкой, в осенн… пору, зимн… пейзажа, радостн… чувству, колоссальн… усил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cc"/>
                </a:solidFill>
                <a:uFillTx/>
                <a:latin typeface="Verdana"/>
              </a:rPr>
              <a:t>Провери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а чудесной аллее, на зимней ели, об интересном гербарии, при легком прикосновении, безызвестного   героя, разноцветного знамени, заботливой дочери, зимней дорожкой, в осеннюю пору, зимнего пейзажа, радостному чувству, колоссальные усил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Verdana"/>
              </a:rPr>
              <a:t>Правописание о -е после шипящих в окончаниях существительных и прилагательных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Определи часть речи. Если это существительное или прилагательное, то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Определи часть слова, в которой находится орфограмма. Если орфограмма в окончании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Посмотри, падает ли ударение на окончани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                                      Н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/                                            \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                                                  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a5d8"/>
                </a:solidFill>
                <a:latin typeface="Verdana"/>
              </a:rPr>
              <a:t>Суффиксы имен прилагательны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еньк-                     белень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оньк-                     легонь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ист-                       лучист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н-                           лунн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лив-                       счастлив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чив-                       удачлив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 ск-                         сибир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4:44:05Z</dcterms:created>
  <dc:creator>1</dc:creator>
  <dc:description/>
  <dc:language>en-US</dc:language>
  <cp:lastModifiedBy>Анна</cp:lastModifiedBy>
  <dcterms:modified xsi:type="dcterms:W3CDTF">2012-06-23T06:26:54Z</dcterms:modified>
  <cp:revision>17</cp:revision>
  <dc:subject/>
  <dc:title>Тема:  Имя прилагательное. Повторение изученного   в V классе </dc:title>
</cp:coreProperties>
</file>