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226-4BA2-4BA0-8B46-B7EBFEEC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E74-CAB5-4A7F-82D9-0B7E3A0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2DA-A006-41B3-9C51-45876117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E88-E295-4EF3-9BD7-A7BF94CA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A721-8B26-4242-87D5-2D695B63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CF06-A960-4818-86AF-AD0E151F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8834-1154-455F-BC92-10A25A1B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F217-5035-4053-AB95-DCD3FC4F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22E6-B1A5-46D7-83F3-F98BE6BF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0EC9-7A04-4501-B37D-39C321F9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3887-FC35-4588-B037-9643C92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EBD-7534-41E4-882D-66615BFF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A00C-9DC1-4CBC-893C-0A24693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FF03-F6F2-402E-9A80-10F0D8E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4984-D355-4448-AF82-117B21FF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59B8-3640-497F-8117-37823104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1A3A-4606-47FA-8330-149F38DB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533F-E6EB-4E72-8BCE-8EDF3167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CA5F-08E3-4C42-8B88-58C92093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08DD9-3A44-4266-8245-FDDBA49C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8156-244B-4417-A7E5-AF773CF1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020B-343A-4242-9B18-769CA8A1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8E5-EF06-4ADC-96A3-F56B19E7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7AF5-B584-497F-94AE-F87B4BA9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E99E-E725-4088-A26E-9C70973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C032-750E-4BCE-AA8C-94D8FEB6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E893-5698-426D-BE5D-8ECE792E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D438-750B-4970-B873-C1042B18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A5B1-1FEA-41AC-8E19-230B2E7D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8829-49DB-41B9-8C10-E723B38C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97D9A-8BF5-4C3C-A5DF-414BE4EE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91F8-8C81-4187-B888-B7DBCB75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580A3-2EA2-408F-82DD-E279104D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85C-27C9-4C89-B700-A23CBDC0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2E5D-E908-4119-BB95-9B5F2314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74A96-1DC1-4A07-B21D-3C72610D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97E4-9348-4084-B99F-A6E2D7F7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CB28D-6D64-4E60-9756-8A1EA96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3987-2363-419C-AD38-82A6BDA1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91B72-9097-4871-96E0-5A1487A3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743C-E74C-4B48-8EB2-64E2F305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FAC66-DDD9-4BE9-8178-5AB26CED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A286-94F3-4058-A69A-A0B7952D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D40B7-B4A3-43FA-909B-8F6F15F6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D72-A443-414C-B172-14BDC7F1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BC854-4F29-4F76-9FCE-74365C2A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85F89-3892-4CB1-ADD5-7D2D014F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A8DBB-AF99-49ED-964A-934F7773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1B51E-F6B2-485C-98BE-5E8CF8A0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3CDDF-F490-4494-9849-A2B5E11B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3D4E-827C-45CB-AC12-E634D316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30334-E268-4A0A-B5D8-69CDD528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A7F92-5397-470F-9043-3A25C57D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C6F10-3E20-4DC6-9CF9-79432A0E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F074B-333F-4767-B22C-EA52831B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D0D-1163-48FF-AA1D-C7BE75B7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8E66B-04AD-4494-BAE7-247DC299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D93-5A4F-4D15-80D3-213E1D6F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1A8-0F82-413E-B09E-FF76C17A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F1C-604F-4934-B60D-92C8051E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6801-56C7-4FB2-805C-43F3518496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4839-98A5-4946-97B1-099910AB77C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15B0-210A-433D-A92B-18932FC6815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9087-3AFE-49DE-B2DC-5FCACC85BC0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2E2C-8FA0-46BE-842F-06F2A795B3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Имя прилагательное.</a:t>
            </a:r>
            <a:br>
              <a:rPr sz="4500"/>
            </a:b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6</a:t>
            </a:r>
            <a:r>
              <a:rPr b="1" lang="en-US" sz="4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класс</a:t>
            </a:r>
            <a:br>
              <a:rPr sz="4500"/>
            </a:b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58920" y="4797000"/>
            <a:ext cx="5640120" cy="17528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Verdan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8d3e"/>
                </a:solidFill>
                <a:latin typeface="Monotype Corsiva"/>
              </a:rPr>
              <a:t>Тема урока :</a:t>
            </a:r>
            <a:br>
              <a:rPr sz="3600"/>
            </a:br>
            <a:r>
              <a:rPr b="1" i="1" lang="ru-RU" sz="3600" spc="-1" strike="noStrike">
                <a:solidFill>
                  <a:srgbClr val="ff8d3e"/>
                </a:solidFill>
                <a:latin typeface="Monotype Corsiva"/>
              </a:rPr>
              <a:t> Имя прилагательное.</a:t>
            </a:r>
            <a:br>
              <a:rPr sz="29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глубить понятие о роли прилагательных в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торить орфограммы, изученные по теме « Имя прилагательное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вторить выразительные средства язы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вать речь учащихся, умение использовать в письменной речи эпитеты, олицетворе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ывать любовь к природе, к литературе, внимательное отношение к поэтическому слов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a5d8"/>
                </a:solidFill>
                <a:latin typeface="Verdana"/>
              </a:rPr>
              <a:t>Укажите  падеж прилагательных,  выделите их окончания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На чудесн…й аллее, на зимн..й ели, об интересн…м гербарии, при легк…м прикосновении, безызвестн…   героя, разноцвет… знамени, заботлив..й дочери, зимн…й дорожкой, в осенн… пору, зимн… пейзажа, радостн… чувству, колоссальн… усил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33cc"/>
                </a:solidFill>
                <a:uFillTx/>
                <a:latin typeface="Verdana"/>
              </a:rPr>
              <a:t>Провери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а чудесной аллее, на зимней ели, об интересном гербарии, при легком прикосновении, безызвестного   героя, разноцветного знамени, заботливой дочери, зимней дорожкой, в осеннюю пору, зимнего пейзажа, радостному чувству, колоссальные усил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Verdana"/>
              </a:rPr>
              <a:t>Правописание о -е после шипящих в окончаниях существительных и прилагательных</a:t>
            </a: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лгорит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Определи часть речи. Если это существительное или прилагательное, то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Определи часть слова, в которой находится орфограмма. Если орфограмма в окончании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Посмотри, падает ли ударение на окончание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                                      Н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/                                            \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                                                  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a5d8"/>
                </a:solidFill>
                <a:latin typeface="Verdana"/>
              </a:rPr>
              <a:t>Суффиксы имен прилагательны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еньк-                     белень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оньк-                     легонь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ист-                       лучист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н-                           лунн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лив-                       счастлив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чив-                       удачлив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-  ск-                         сибирс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4:44:05Z</dcterms:created>
  <dc:creator>1</dc:creator>
  <dc:description/>
  <dc:language>en-US</dc:language>
  <cp:lastModifiedBy>Анна</cp:lastModifiedBy>
  <dcterms:modified xsi:type="dcterms:W3CDTF">2012-06-23T06:26:54Z</dcterms:modified>
  <cp:revision>17</cp:revision>
  <dc:subject/>
  <dc:title>Тема:  Имя прилагательное. Повторение изученного   в V классе </dc:title>
</cp:coreProperties>
</file>