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447-0224-4D3F-BD4E-2F403045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427-B3DF-4159-8835-01EEDE73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B0B-0B34-4E63-8C17-A49DBF35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03F-7F95-4CA3-807F-6A87D514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7780-F258-4930-B2C2-B5AD3F54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35A5-9A58-4818-959E-DC1C91A6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26B4-C9D9-494D-BAFA-EA7D8708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879D-7D60-477A-AA2F-7F50B102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F06A-857A-44C6-8436-148842BC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46F7-5C81-4480-8F34-1E50E037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7147-9AE6-4DF5-85C8-08993D06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54F-A9B1-446A-870E-FE1B1A0A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3330-0C9D-47AA-A7F5-0B584D51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FB74-F277-4B08-9AA9-BF79B35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CE3-27CE-49A4-8C98-D8A0E30A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46D9-EB96-483D-9BF5-64CB9004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4901-F580-422D-A0A8-88BF9BE0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ED77-5EC7-48C1-A8E8-1BB26E69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8333-9578-4B76-9587-98775252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35C8-8AAC-4A52-86DD-D3FB7AAB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B41D-31B7-4848-8097-69D0B0BB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DE23-8051-484D-9CCE-1552659A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F9A-309E-41EC-AD77-476777F2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9DDB-4770-455B-A13A-BA835E30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22EA-67A3-4F7F-B4D1-513D5AF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315D-5CF4-49B7-8290-61A580A0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1925-A6AF-41F0-80D8-C129A119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A091-29C3-4EB6-844D-A0C5C5E8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6EC5-560B-4076-97CF-7315F587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AFB34-E8F2-48B9-AAD8-837D8771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BF80-3E3E-4E1A-B62D-2413908E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DC37E-9AFE-47FD-AC94-CD863906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5A9D-622B-414C-8C2D-87EE9B6D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33C-825F-4A6E-B6CB-A38AEFFE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8056-65BE-4DAC-A0A0-C7A488D3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002AE-A1D4-495B-B57B-779575A1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19BA-6585-41FA-AF4E-502255A3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BFEA-9210-4076-893E-239251FA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26A6-A42E-4BE5-BD2D-5C61FD73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F594-665B-4E3F-97CC-90E09E39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1A15-AA1F-4B6D-A2DD-F7689543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2194-84AC-47EF-B5D2-A0A20C72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B146-8D79-47FC-9F87-19CF7384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AF760-CFDD-445B-9602-B14ADAEA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370-609E-4438-864A-84D6213C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0E0F0-5420-4646-A2B7-27E3AD71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D8C0-1910-42DF-B1FD-26E012F9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75B70-8A9C-40C2-B87F-5A9789ED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654EC-B288-46AE-8B0C-028E101B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8B4D-1FB5-4E1F-AE41-80FC75D0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D3006-E145-4411-8FDE-80B9FEB0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206A5-F773-4129-9080-EA83CE09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CB2A-BF57-40F5-A26B-56A4E6B0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AB64-B2D7-4D6F-AC9D-C985DE82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A9B0-8D77-4F6F-A680-2C87F863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AA0-3711-4946-8140-B89ACBE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B8DD4-F645-4917-86D6-ABC53A51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B49-8230-4D07-9B3B-54DFE23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933-7165-4C88-BE90-8E4B66C2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DA4-CA6E-49DF-8683-4C64658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13D0-DC41-46E1-AC22-5B7E2B75550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2BA-B4F6-487C-A703-3977277E44F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F77-C23B-4814-8F7D-96C959DBFC3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C0E-F471-4B86-828B-6EDDF436098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E719-D621-42DB-97D8-7E26AAF5EC8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3880" y="533520"/>
            <a:ext cx="775836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643200" y="4642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Народная мудрость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1122480" y="927000"/>
            <a:ext cx="70578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Алёша\Мои документы\Маршак\панцирь.jpg"/>
          <p:cNvPicPr/>
          <p:nvPr/>
        </p:nvPicPr>
        <p:blipFill>
          <a:blip r:embed="rId1"/>
          <a:stretch/>
        </p:blipFill>
        <p:spPr>
          <a:xfrm>
            <a:off x="35712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Алёша\Мои документы\Маршак\роет.jpg"/>
          <p:cNvPicPr/>
          <p:nvPr/>
        </p:nvPicPr>
        <p:blipFill>
          <a:blip r:embed="rId2"/>
          <a:stretch/>
        </p:blipFill>
        <p:spPr>
          <a:xfrm>
            <a:off x="4643280" y="78588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Documents and Settings\Алёша\Мои документы\Маршак\спит.jpg"/>
          <p:cNvPicPr/>
          <p:nvPr/>
        </p:nvPicPr>
        <p:blipFill>
          <a:blip r:embed="rId1"/>
          <a:stretch/>
        </p:blipFill>
        <p:spPr>
          <a:xfrm>
            <a:off x="21420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Documents and Settings\Алёша\Мои документы\Маршак\таракан.jpg"/>
          <p:cNvPicPr/>
          <p:nvPr/>
        </p:nvPicPr>
        <p:blipFill>
          <a:blip r:embed="rId2"/>
          <a:stretch/>
        </p:blipFill>
        <p:spPr>
          <a:xfrm>
            <a:off x="4357800" y="85716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Алёша\Мои документы\Маршак\ученик.jpg"/>
          <p:cNvPicPr/>
          <p:nvPr/>
        </p:nvPicPr>
        <p:blipFill>
          <a:blip r:embed="rId1"/>
          <a:stretch/>
        </p:blipFill>
        <p:spPr>
          <a:xfrm>
            <a:off x="214200" y="78588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Алёша\Мои документы\Маршак\флот.jpg"/>
          <p:cNvPicPr/>
          <p:nvPr/>
        </p:nvPicPr>
        <p:blipFill>
          <a:blip r:embed="rId2"/>
          <a:stretch/>
        </p:blipFill>
        <p:spPr>
          <a:xfrm>
            <a:off x="4357800" y="78588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Алёша\Мои документы\Маршак\хорёк.jpg"/>
          <p:cNvPicPr/>
          <p:nvPr/>
        </p:nvPicPr>
        <p:blipFill>
          <a:blip r:embed="rId1"/>
          <a:stretch/>
        </p:blipFill>
        <p:spPr>
          <a:xfrm>
            <a:off x="214200" y="92880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Алёша\Мои документы\Маршак\цапля.jpg"/>
          <p:cNvPicPr/>
          <p:nvPr/>
        </p:nvPicPr>
        <p:blipFill>
          <a:blip r:embed="rId2"/>
          <a:stretch/>
        </p:blipFill>
        <p:spPr>
          <a:xfrm>
            <a:off x="4357800" y="92880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Documents and Settings\Алёша\Мои документы\Маршак\часовщик.jpg"/>
          <p:cNvPicPr/>
          <p:nvPr/>
        </p:nvPicPr>
        <p:blipFill>
          <a:blip r:embed="rId1"/>
          <a:stretch/>
        </p:blipFill>
        <p:spPr>
          <a:xfrm>
            <a:off x="21420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Documents and Settings\Алёша\Мои документы\Маршак\школьник.jpg"/>
          <p:cNvPicPr/>
          <p:nvPr/>
        </p:nvPicPr>
        <p:blipFill>
          <a:blip r:embed="rId2"/>
          <a:stretch/>
        </p:blipFill>
        <p:spPr>
          <a:xfrm>
            <a:off x="4214880" y="78588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Documents and Settings\Алёша\Мои документы\Маршак\щётка.jpg"/>
          <p:cNvPicPr/>
          <p:nvPr/>
        </p:nvPicPr>
        <p:blipFill>
          <a:blip r:embed="rId1"/>
          <a:stretch/>
        </p:blipFill>
        <p:spPr>
          <a:xfrm>
            <a:off x="21420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Алёша\Мои документы\Маршак\электрический звонок.jpg"/>
          <p:cNvPicPr/>
          <p:nvPr/>
        </p:nvPicPr>
        <p:blipFill>
          <a:blip r:embed="rId2"/>
          <a:stretch/>
        </p:blipFill>
        <p:spPr>
          <a:xfrm>
            <a:off x="4357800" y="78588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Documents and Settings\Алёша\Мои документы\Маршак\юнга.jpg"/>
          <p:cNvPicPr/>
          <p:nvPr/>
        </p:nvPicPr>
        <p:blipFill>
          <a:blip r:embed="rId1"/>
          <a:stretch/>
        </p:blipFill>
        <p:spPr>
          <a:xfrm>
            <a:off x="35712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Documents and Settings\Алёша\Мои документы\Маршак\ягода.jpg"/>
          <p:cNvPicPr/>
          <p:nvPr/>
        </p:nvPicPr>
        <p:blipFill>
          <a:blip r:embed="rId2"/>
          <a:stretch/>
        </p:blipFill>
        <p:spPr>
          <a:xfrm>
            <a:off x="4643280" y="85716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642960" y="10000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Что просил бегемо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43000" y="1785960"/>
          <a:ext cx="6095880" cy="3967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sp>
        <p:nvSpPr>
          <p:cNvPr id="255" name="TextBox 3"/>
          <p:cNvSpPr/>
          <p:nvPr/>
        </p:nvSpPr>
        <p:spPr>
          <a:xfrm>
            <a:off x="642960" y="28576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Что находится у гриба на тонкой нож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28800" y="3857760"/>
          <a:ext cx="6095880" cy="39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sp>
        <p:nvSpPr>
          <p:cNvPr id="257" name="Прямоугольник 5"/>
          <p:cNvSpPr/>
          <p:nvPr/>
        </p:nvSpPr>
        <p:spPr>
          <a:xfrm>
            <a:off x="1643040" y="471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Важная, носатая. Кто э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28800" y="5357880"/>
          <a:ext cx="6095880" cy="3967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500040" y="500040"/>
            <a:ext cx="7358040" cy="71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rebuchet MS"/>
              </a:rPr>
              <a:t>Самуил Марш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"</a:t>
            </a:r>
            <a:r>
              <a:rPr b="1" lang="ru-RU" sz="60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6000" spc="-1" strike="noStrike">
                <a:solidFill>
                  <a:srgbClr val="00b0f0"/>
                </a:solidFill>
                <a:latin typeface="Trebuchet MS"/>
              </a:rPr>
              <a:t>р</a:t>
            </a:r>
            <a:r>
              <a:rPr b="1" lang="ru-RU" sz="6000" spc="-1" strike="noStrike">
                <a:solidFill>
                  <a:srgbClr val="008000"/>
                </a:solidFill>
                <a:latin typeface="Trebuchet MS"/>
              </a:rPr>
              <a:t>о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852f74"/>
                </a:solidFill>
                <a:latin typeface="Trebuchet MS"/>
              </a:rPr>
              <a:t>в</a:t>
            </a:r>
            <a:r>
              <a:rPr b="1" lang="ru-RU" sz="6000" spc="-1" strike="noStrike">
                <a:solidFill>
                  <a:srgbClr val="ffffff"/>
                </a:solidFill>
                <a:latin typeface="Trebuchet MS"/>
              </a:rPr>
              <a:t>с</a:t>
            </a:r>
            <a:r>
              <a:rPr b="1" lang="ru-RU" sz="6000" spc="-1" strike="noStrike">
                <a:solidFill>
                  <a:srgbClr val="3333ff"/>
                </a:solidFill>
                <a:latin typeface="Trebuchet MS"/>
              </a:rPr>
              <a:t>ё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ffc000"/>
                </a:solidFill>
                <a:latin typeface="Trebuchet MS"/>
              </a:rPr>
              <a:t>н</a:t>
            </a:r>
            <a:r>
              <a:rPr b="1" lang="ru-RU" sz="6000" spc="-1" strike="noStrike">
                <a:solidFill>
                  <a:srgbClr val="92d050"/>
                </a:solidFill>
                <a:latin typeface="Trebuchet MS"/>
              </a:rPr>
              <a:t>а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773313"/>
                </a:solidFill>
                <a:latin typeface="Trebuchet MS"/>
              </a:rPr>
              <a:t>с</a:t>
            </a:r>
            <a:r>
              <a:rPr b="1" lang="ru-RU" sz="6000" spc="-1" strike="noStrike">
                <a:solidFill>
                  <a:srgbClr val="ffccff"/>
                </a:solidFill>
                <a:latin typeface="Trebuchet MS"/>
              </a:rPr>
              <a:t>в</a:t>
            </a:r>
            <a:r>
              <a:rPr b="1" lang="ru-RU" sz="6000" spc="-1" strike="noStrike">
                <a:solidFill>
                  <a:srgbClr val="336600"/>
                </a:solidFill>
                <a:latin typeface="Trebuchet MS"/>
              </a:rPr>
              <a:t>е</a:t>
            </a:r>
            <a:r>
              <a:rPr b="1" lang="ru-RU" sz="6000" spc="-1" strike="noStrike">
                <a:solidFill>
                  <a:srgbClr val="000099"/>
                </a:solidFill>
                <a:latin typeface="Trebuchet MS"/>
              </a:rPr>
              <a:t>т</a:t>
            </a:r>
            <a:r>
              <a:rPr b="1" lang="ru-RU" sz="6000" spc="-1" strike="noStrike">
                <a:solidFill>
                  <a:srgbClr val="ff0066"/>
                </a:solidFill>
                <a:latin typeface="Trebuchet MS"/>
              </a:rPr>
              <a:t>е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"</a:t>
            </a: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C:\Documents and Settings\Алёша\Мои документы\Маршак\портрет Маршака.jpeg"/>
          <p:cNvPicPr/>
          <p:nvPr/>
        </p:nvPicPr>
        <p:blipFill>
          <a:blip r:embed="rId1"/>
          <a:stretch/>
        </p:blipFill>
        <p:spPr>
          <a:xfrm>
            <a:off x="3286080" y="2143080"/>
            <a:ext cx="18576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Documents and Settings\Алёша\Мои документы\Маршак\Аист.jpg"/>
          <p:cNvPicPr/>
          <p:nvPr/>
        </p:nvPicPr>
        <p:blipFill>
          <a:blip r:embed="rId1"/>
          <a:stretch/>
        </p:blipFill>
        <p:spPr>
          <a:xfrm>
            <a:off x="357120" y="4287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Алёша\Мои документы\Маршак\Бегемот.jpg"/>
          <p:cNvPicPr/>
          <p:nvPr/>
        </p:nvPicPr>
        <p:blipFill>
          <a:blip r:embed="rId2"/>
          <a:stretch/>
        </p:blipFill>
        <p:spPr>
          <a:xfrm>
            <a:off x="4357800" y="42876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Documents and Settings\Алёша\Мои документы\Маршак\Воробей.jpg"/>
          <p:cNvPicPr/>
          <p:nvPr/>
        </p:nvPicPr>
        <p:blipFill>
          <a:blip r:embed="rId1"/>
          <a:stretch/>
        </p:blipFill>
        <p:spPr>
          <a:xfrm>
            <a:off x="285840" y="35712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Алёша\Мои документы\Маршак\гриб.jpg"/>
          <p:cNvPicPr/>
          <p:nvPr/>
        </p:nvPicPr>
        <p:blipFill>
          <a:blip r:embed="rId2"/>
          <a:stretch/>
        </p:blipFill>
        <p:spPr>
          <a:xfrm>
            <a:off x="4929120" y="35712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Documents and Settings\Алёша\Мои документы\Маршак\Дятел.jpg"/>
          <p:cNvPicPr/>
          <p:nvPr/>
        </p:nvPicPr>
        <p:blipFill>
          <a:blip r:embed="rId1"/>
          <a:stretch/>
        </p:blipFill>
        <p:spPr>
          <a:xfrm>
            <a:off x="357120" y="714240"/>
            <a:ext cx="3257640" cy="4762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Алёша\Мои документы\Маршак\ель.jpg"/>
          <p:cNvPicPr/>
          <p:nvPr/>
        </p:nvPicPr>
        <p:blipFill>
          <a:blip r:embed="rId2"/>
          <a:stretch/>
        </p:blipFill>
        <p:spPr>
          <a:xfrm>
            <a:off x="4643280" y="714240"/>
            <a:ext cx="32576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Documents and Settings\Алёша\Мои документы\Маршак\жук.jpg"/>
          <p:cNvPicPr/>
          <p:nvPr/>
        </p:nvPicPr>
        <p:blipFill>
          <a:blip r:embed="rId1"/>
          <a:stretch/>
        </p:blipFill>
        <p:spPr>
          <a:xfrm>
            <a:off x="428760" y="928800"/>
            <a:ext cx="3257280" cy="476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Documents and Settings\Алёша\Мои документы\Маршак\звезды.jpg"/>
          <p:cNvPicPr/>
          <p:nvPr/>
        </p:nvPicPr>
        <p:blipFill>
          <a:blip r:embed="rId2"/>
          <a:stretch/>
        </p:blipFill>
        <p:spPr>
          <a:xfrm>
            <a:off x="4500720" y="85716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Алёша\Мои документы\Маршак\иней.jpg"/>
          <p:cNvPicPr/>
          <p:nvPr/>
        </p:nvPicPr>
        <p:blipFill>
          <a:blip r:embed="rId1"/>
          <a:stretch/>
        </p:blipFill>
        <p:spPr>
          <a:xfrm>
            <a:off x="357120" y="100008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Documents and Settings\Алёша\Мои документы\Маршак\кот.jpg"/>
          <p:cNvPicPr/>
          <p:nvPr/>
        </p:nvPicPr>
        <p:blipFill>
          <a:blip r:embed="rId2"/>
          <a:stretch/>
        </p:blipFill>
        <p:spPr>
          <a:xfrm>
            <a:off x="4429080" y="100008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Documents and Settings\Алёша\Мои документы\Маршак\лодка.jpg"/>
          <p:cNvPicPr/>
          <p:nvPr/>
        </p:nvPicPr>
        <p:blipFill>
          <a:blip r:embed="rId1"/>
          <a:stretch/>
        </p:blipFill>
        <p:spPr>
          <a:xfrm>
            <a:off x="428760" y="1000080"/>
            <a:ext cx="3257280" cy="4762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Documents and Settings\Алёша\Мои документы\Маршак\мёд.jpg"/>
          <p:cNvPicPr/>
          <p:nvPr/>
        </p:nvPicPr>
        <p:blipFill>
          <a:blip r:embed="rId2"/>
          <a:stretch/>
        </p:blipFill>
        <p:spPr>
          <a:xfrm>
            <a:off x="4643280" y="100008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Алёша\Мои документы\Маршак\носорог.jpg"/>
          <p:cNvPicPr/>
          <p:nvPr/>
        </p:nvPicPr>
        <p:blipFill>
          <a:blip r:embed="rId1"/>
          <a:stretch/>
        </p:blipFill>
        <p:spPr>
          <a:xfrm>
            <a:off x="428760" y="928800"/>
            <a:ext cx="3257280" cy="4762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Documents and Settings\Алёша\Мои документы\Маршак\ослик.jpg"/>
          <p:cNvPicPr/>
          <p:nvPr/>
        </p:nvPicPr>
        <p:blipFill>
          <a:blip r:embed="rId2"/>
          <a:stretch/>
        </p:blipFill>
        <p:spPr>
          <a:xfrm>
            <a:off x="4643280" y="92880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59:05Z</dcterms:created>
  <dc:creator>Катеринка</dc:creator>
  <dc:description/>
  <dc:language>en-US</dc:language>
  <cp:lastModifiedBy>1</cp:lastModifiedBy>
  <dcterms:modified xsi:type="dcterms:W3CDTF">2012-06-23T08:31:53Z</dcterms:modified>
  <cp:revision>15</cp:revision>
  <dc:subject/>
  <dc:title>Слайд 1</dc:title>
</cp:coreProperties>
</file>