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8B9-C16F-4F9A-A71A-7576D091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463-FAD1-4469-ACB2-4F98B6D6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348-2402-45B1-B24C-77A7E229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F64-C18E-41FB-B49A-D094A0CD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A35B-7380-43B1-9518-6B53096E5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3324-EAFF-4C84-BB8C-9A11516C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CA32-B1AE-48FC-B891-EDA20A4D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B730-48AE-43C9-908E-E302F069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2002-D852-4BF7-ABDD-6FB8C7CF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8760" y="284040"/>
            <a:ext cx="5819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4AA9-1A30-47AC-94DB-77AB9A54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4BE8-07AE-43CA-8EFC-68D9CAC4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97E8-614A-4357-A557-84D834C6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6B20-795C-40A9-94FD-309B052A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DA32-B5C8-4536-9301-0770CC3E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0AA1-7C75-41D9-9A8E-13E7D202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875A-E576-4A4F-84B9-8457B8BE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7210-6342-462C-9D88-2D24BDAA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026C-404B-41BD-8354-32E91E5F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2CE-36B4-467D-AC90-241E31FD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A8C5-2FCC-4977-88AD-A08D8023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28760" y="284040"/>
            <a:ext cx="5819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8D4-7671-4745-B873-920722E0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7063-1BA4-405C-9057-7A9D37DB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A7A-5D33-4094-9C24-D6C86641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7BED-F191-4074-A8E4-4B0B546D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5200" y="343080"/>
            <a:ext cx="8848800" cy="6514920"/>
          </a:xfrm>
          <a:custGeom>
            <a:avLst/>
            <a:gdLst/>
            <a:ahLst/>
            <a:rect l="l" t="t" r="r" b="b"/>
            <a:pathLst>
              <a:path w="5574" h="4104">
                <a:moveTo>
                  <a:pt x="5574" y="4104"/>
                </a:moveTo>
                <a:lnTo>
                  <a:pt x="5574" y="24"/>
                </a:lnTo>
                <a:cubicBezTo>
                  <a:pt x="4920" y="0"/>
                  <a:pt x="4738" y="24"/>
                  <a:pt x="4194" y="24"/>
                </a:cubicBezTo>
                <a:cubicBezTo>
                  <a:pt x="3650" y="24"/>
                  <a:pt x="2983" y="29"/>
                  <a:pt x="2310" y="24"/>
                </a:cubicBezTo>
                <a:cubicBezTo>
                  <a:pt x="1637" y="19"/>
                  <a:pt x="520" y="18"/>
                  <a:pt x="144" y="42"/>
                </a:cubicBezTo>
                <a:cubicBezTo>
                  <a:pt x="24" y="60"/>
                  <a:pt x="20" y="67"/>
                  <a:pt x="16" y="202"/>
                </a:cubicBezTo>
                <a:cubicBezTo>
                  <a:pt x="12" y="337"/>
                  <a:pt x="15" y="418"/>
                  <a:pt x="16" y="835"/>
                </a:cubicBezTo>
                <a:cubicBezTo>
                  <a:pt x="13" y="1258"/>
                  <a:pt x="12" y="2156"/>
                  <a:pt x="12" y="2700"/>
                </a:cubicBezTo>
                <a:cubicBezTo>
                  <a:pt x="12" y="3244"/>
                  <a:pt x="0" y="3600"/>
                  <a:pt x="6" y="4104"/>
                </a:cubicBezTo>
                <a:cubicBezTo>
                  <a:pt x="2790" y="4104"/>
                  <a:pt x="5574" y="4104"/>
                  <a:pt x="5574" y="4104"/>
                </a:cubicBez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6e6e6">
                  <a:alpha val="7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28680" y="0"/>
            <a:ext cx="8821800" cy="314280"/>
          </a:xfrm>
          <a:custGeom>
            <a:avLst/>
            <a:gdLst/>
            <a:ahLst/>
            <a:rect l="l" t="t" r="r" b="b"/>
            <a:pathLst>
              <a:path w="5557" h="198">
                <a:moveTo>
                  <a:pt x="5553" y="0"/>
                </a:moveTo>
                <a:lnTo>
                  <a:pt x="5553" y="150"/>
                </a:lnTo>
                <a:cubicBezTo>
                  <a:pt x="5557" y="144"/>
                  <a:pt x="5136" y="181"/>
                  <a:pt x="4585" y="186"/>
                </a:cubicBezTo>
                <a:cubicBezTo>
                  <a:pt x="4034" y="191"/>
                  <a:pt x="2849" y="170"/>
                  <a:pt x="2246" y="180"/>
                </a:cubicBezTo>
                <a:cubicBezTo>
                  <a:pt x="1643" y="190"/>
                  <a:pt x="1319" y="178"/>
                  <a:pt x="960" y="180"/>
                </a:cubicBezTo>
                <a:cubicBezTo>
                  <a:pt x="601" y="182"/>
                  <a:pt x="238" y="198"/>
                  <a:pt x="76" y="198"/>
                </a:cubicBezTo>
                <a:cubicBezTo>
                  <a:pt x="28" y="198"/>
                  <a:pt x="1" y="153"/>
                  <a:pt x="1" y="153"/>
                </a:cubicBezTo>
                <a:cubicBezTo>
                  <a:pt x="1" y="153"/>
                  <a:pt x="0" y="83"/>
                  <a:pt x="1" y="0"/>
                </a:cubicBezTo>
                <a:lnTo>
                  <a:pt x="5553" y="0"/>
                </a:lnTo>
                <a:close/>
              </a:path>
            </a:pathLst>
          </a:custGeom>
          <a:solidFill>
            <a:srgbClr val="feb93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440" y="393840"/>
            <a:ext cx="242640" cy="6468840"/>
          </a:xfrm>
          <a:custGeom>
            <a:avLst/>
            <a:gdLst/>
            <a:ahLst/>
            <a:rect l="l" t="t" r="r" b="b"/>
            <a:pathLst>
              <a:path w="153" h="4067">
                <a:moveTo>
                  <a:pt x="0" y="4061"/>
                </a:moveTo>
                <a:lnTo>
                  <a:pt x="145" y="4064"/>
                </a:lnTo>
                <a:cubicBezTo>
                  <a:pt x="141" y="4067"/>
                  <a:pt x="145" y="3766"/>
                  <a:pt x="149" y="3364"/>
                </a:cubicBezTo>
                <a:cubicBezTo>
                  <a:pt x="153" y="2962"/>
                  <a:pt x="143" y="2090"/>
                  <a:pt x="137" y="1651"/>
                </a:cubicBezTo>
                <a:cubicBezTo>
                  <a:pt x="131" y="1212"/>
                  <a:pt x="138" y="971"/>
                  <a:pt x="139" y="710"/>
                </a:cubicBezTo>
                <a:cubicBezTo>
                  <a:pt x="141" y="448"/>
                  <a:pt x="136" y="184"/>
                  <a:pt x="136" y="65"/>
                </a:cubicBezTo>
                <a:cubicBezTo>
                  <a:pt x="136" y="30"/>
                  <a:pt x="102" y="18"/>
                  <a:pt x="102" y="18"/>
                </a:cubicBezTo>
                <a:cubicBezTo>
                  <a:pt x="41" y="0"/>
                  <a:pt x="1" y="7"/>
                  <a:pt x="1" y="7"/>
                </a:cubicBezTo>
                <a:lnTo>
                  <a:pt x="0" y="4061"/>
                </a:lnTo>
                <a:close/>
              </a:path>
            </a:pathLst>
          </a:custGeom>
          <a:solidFill>
            <a:srgbClr val="6ed89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3240" y="0"/>
            <a:ext cx="247680" cy="326880"/>
          </a:xfrm>
          <a:custGeom>
            <a:avLst/>
            <a:gdLst/>
            <a:ahLst/>
            <a:rect l="l" t="t" r="r" b="b"/>
            <a:pathLst>
              <a:path w="156" h="206">
                <a:moveTo>
                  <a:pt x="2" y="0"/>
                </a:moveTo>
                <a:lnTo>
                  <a:pt x="150" y="0"/>
                </a:lnTo>
                <a:cubicBezTo>
                  <a:pt x="156" y="71"/>
                  <a:pt x="144" y="149"/>
                  <a:pt x="144" y="149"/>
                </a:cubicBezTo>
                <a:cubicBezTo>
                  <a:pt x="133" y="181"/>
                  <a:pt x="111" y="189"/>
                  <a:pt x="87" y="197"/>
                </a:cubicBezTo>
                <a:cubicBezTo>
                  <a:pt x="44" y="206"/>
                  <a:pt x="0" y="197"/>
                  <a:pt x="0" y="197"/>
                </a:cubicBezTo>
                <a:lnTo>
                  <a:pt x="2" y="0"/>
                </a:lnTo>
                <a:close/>
              </a:path>
            </a:pathLst>
          </a:custGeom>
          <a:solidFill>
            <a:srgbClr val="699ef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DE5E-243B-470F-9D74-FC9DC75A8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132600" y="457200"/>
            <a:ext cx="917640" cy="635040"/>
          </a:xfrm>
          <a:custGeom>
            <a:avLst/>
            <a:gdLst/>
            <a:ahLst/>
            <a:rect l="l" t="t" r="r" b="b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solidFill>
            <a:srgbClr val="e466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085240" y="457200"/>
            <a:ext cx="917640" cy="63648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6ed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113600" y="457200"/>
            <a:ext cx="917640" cy="63648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6132600" y="457200"/>
            <a:ext cx="917640" cy="635040"/>
          </a:xfrm>
          <a:custGeom>
            <a:avLst/>
            <a:gdLst/>
            <a:ahLst/>
            <a:rect l="l" t="t" r="r" b="b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7107120" y="452520"/>
            <a:ext cx="930240" cy="64440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699e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085240" y="457200"/>
            <a:ext cx="917640" cy="63648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5"/>
          <a:srcRect l="0" t="9828" r="0" b="10228"/>
          <a:stretch/>
        </p:blipFill>
        <p:spPr>
          <a:xfrm>
            <a:off x="6553080" y="0"/>
            <a:ext cx="2590920" cy="136692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35320" y="378000"/>
            <a:ext cx="2727360" cy="1800000"/>
          </a:xfrm>
          <a:custGeom>
            <a:avLst/>
            <a:gdLst/>
            <a:ahLst/>
            <a:rect l="l" t="t" r="r" b="b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56360" y="2398680"/>
            <a:ext cx="2727360" cy="1800360"/>
          </a:xfrm>
          <a:custGeom>
            <a:avLst/>
            <a:gdLst/>
            <a:ahLst/>
            <a:rect l="l" t="t" r="r" b="b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4280" y="2398680"/>
            <a:ext cx="2727360" cy="1800360"/>
          </a:xfrm>
          <a:custGeom>
            <a:avLst/>
            <a:gdLst/>
            <a:ahLst/>
            <a:rect l="l" t="t" r="r" b="b"/>
            <a:pathLst>
              <a:path w="1718" h="1134">
                <a:moveTo>
                  <a:pt x="32" y="70"/>
                </a:moveTo>
                <a:cubicBezTo>
                  <a:pt x="52" y="36"/>
                  <a:pt x="74" y="25"/>
                  <a:pt x="138" y="20"/>
                </a:cubicBezTo>
                <a:cubicBezTo>
                  <a:pt x="202" y="15"/>
                  <a:pt x="310" y="34"/>
                  <a:pt x="412" y="32"/>
                </a:cubicBezTo>
                <a:cubicBezTo>
                  <a:pt x="514" y="30"/>
                  <a:pt x="574" y="12"/>
                  <a:pt x="682" y="11"/>
                </a:cubicBezTo>
                <a:cubicBezTo>
                  <a:pt x="790" y="10"/>
                  <a:pt x="923" y="13"/>
                  <a:pt x="1010" y="17"/>
                </a:cubicBezTo>
                <a:cubicBezTo>
                  <a:pt x="1097" y="21"/>
                  <a:pt x="1206" y="33"/>
                  <a:pt x="1276" y="30"/>
                </a:cubicBezTo>
                <a:cubicBezTo>
                  <a:pt x="1346" y="27"/>
                  <a:pt x="1405" y="13"/>
                  <a:pt x="1462" y="11"/>
                </a:cubicBezTo>
                <a:cubicBezTo>
                  <a:pt x="1519" y="9"/>
                  <a:pt x="1579" y="0"/>
                  <a:pt x="1618" y="18"/>
                </a:cubicBezTo>
                <a:cubicBezTo>
                  <a:pt x="1657" y="36"/>
                  <a:pt x="1690" y="67"/>
                  <a:pt x="1704" y="120"/>
                </a:cubicBezTo>
                <a:cubicBezTo>
                  <a:pt x="1718" y="173"/>
                  <a:pt x="1700" y="232"/>
                  <a:pt x="1700" y="338"/>
                </a:cubicBezTo>
                <a:cubicBezTo>
                  <a:pt x="1700" y="444"/>
                  <a:pt x="1710" y="577"/>
                  <a:pt x="1708" y="665"/>
                </a:cubicBezTo>
                <a:cubicBezTo>
                  <a:pt x="1706" y="753"/>
                  <a:pt x="1696" y="789"/>
                  <a:pt x="1698" y="857"/>
                </a:cubicBezTo>
                <a:cubicBezTo>
                  <a:pt x="1700" y="925"/>
                  <a:pt x="1717" y="1007"/>
                  <a:pt x="1710" y="1043"/>
                </a:cubicBezTo>
                <a:cubicBezTo>
                  <a:pt x="1703" y="1079"/>
                  <a:pt x="1693" y="1106"/>
                  <a:pt x="1656" y="1120"/>
                </a:cubicBezTo>
                <a:cubicBezTo>
                  <a:pt x="1619" y="1134"/>
                  <a:pt x="1537" y="1124"/>
                  <a:pt x="1480" y="1122"/>
                </a:cubicBezTo>
                <a:cubicBezTo>
                  <a:pt x="1423" y="1120"/>
                  <a:pt x="1347" y="1110"/>
                  <a:pt x="1254" y="1111"/>
                </a:cubicBezTo>
                <a:cubicBezTo>
                  <a:pt x="1161" y="1112"/>
                  <a:pt x="1032" y="1126"/>
                  <a:pt x="920" y="1126"/>
                </a:cubicBezTo>
                <a:cubicBezTo>
                  <a:pt x="808" y="1126"/>
                  <a:pt x="679" y="1111"/>
                  <a:pt x="584" y="1109"/>
                </a:cubicBezTo>
                <a:cubicBezTo>
                  <a:pt x="489" y="1107"/>
                  <a:pt x="408" y="1120"/>
                  <a:pt x="322" y="1123"/>
                </a:cubicBezTo>
                <a:cubicBezTo>
                  <a:pt x="236" y="1126"/>
                  <a:pt x="144" y="1132"/>
                  <a:pt x="88" y="1116"/>
                </a:cubicBezTo>
                <a:cubicBezTo>
                  <a:pt x="32" y="1100"/>
                  <a:pt x="17" y="1070"/>
                  <a:pt x="14" y="1029"/>
                </a:cubicBezTo>
                <a:cubicBezTo>
                  <a:pt x="11" y="988"/>
                  <a:pt x="19" y="925"/>
                  <a:pt x="23" y="847"/>
                </a:cubicBezTo>
                <a:cubicBezTo>
                  <a:pt x="27" y="769"/>
                  <a:pt x="26" y="734"/>
                  <a:pt x="20" y="657"/>
                </a:cubicBezTo>
                <a:cubicBezTo>
                  <a:pt x="14" y="580"/>
                  <a:pt x="0" y="497"/>
                  <a:pt x="4" y="405"/>
                </a:cubicBezTo>
                <a:cubicBezTo>
                  <a:pt x="8" y="313"/>
                  <a:pt x="17" y="276"/>
                  <a:pt x="20" y="222"/>
                </a:cubicBezTo>
                <a:cubicBezTo>
                  <a:pt x="23" y="168"/>
                  <a:pt x="12" y="104"/>
                  <a:pt x="32" y="7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36760" y="2394000"/>
            <a:ext cx="2725920" cy="181116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feb9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760" y="4437000"/>
            <a:ext cx="2733480" cy="181152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699e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1680" y="365040"/>
            <a:ext cx="2732040" cy="182268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e466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4280" y="372960"/>
            <a:ext cx="2732040" cy="1809720"/>
          </a:xfrm>
          <a:custGeom>
            <a:avLst/>
            <a:gdLst/>
            <a:ahLst/>
            <a:rect l="l" t="t" r="r" b="b"/>
            <a:pathLst>
              <a:path w="1712" h="1134">
                <a:moveTo>
                  <a:pt x="20" y="62"/>
                </a:moveTo>
                <a:cubicBezTo>
                  <a:pt x="40" y="28"/>
                  <a:pt x="68" y="25"/>
                  <a:pt x="132" y="20"/>
                </a:cubicBezTo>
                <a:cubicBezTo>
                  <a:pt x="196" y="15"/>
                  <a:pt x="304" y="34"/>
                  <a:pt x="406" y="32"/>
                </a:cubicBezTo>
                <a:cubicBezTo>
                  <a:pt x="508" y="30"/>
                  <a:pt x="638" y="9"/>
                  <a:pt x="746" y="8"/>
                </a:cubicBezTo>
                <a:cubicBezTo>
                  <a:pt x="854" y="7"/>
                  <a:pt x="967" y="22"/>
                  <a:pt x="1054" y="26"/>
                </a:cubicBezTo>
                <a:cubicBezTo>
                  <a:pt x="1141" y="30"/>
                  <a:pt x="1200" y="33"/>
                  <a:pt x="1270" y="30"/>
                </a:cubicBezTo>
                <a:cubicBezTo>
                  <a:pt x="1340" y="27"/>
                  <a:pt x="1417" y="8"/>
                  <a:pt x="1474" y="6"/>
                </a:cubicBezTo>
                <a:cubicBezTo>
                  <a:pt x="1531" y="4"/>
                  <a:pt x="1573" y="0"/>
                  <a:pt x="1612" y="18"/>
                </a:cubicBezTo>
                <a:cubicBezTo>
                  <a:pt x="1651" y="36"/>
                  <a:pt x="1684" y="67"/>
                  <a:pt x="1698" y="120"/>
                </a:cubicBezTo>
                <a:cubicBezTo>
                  <a:pt x="1712" y="173"/>
                  <a:pt x="1694" y="232"/>
                  <a:pt x="1694" y="338"/>
                </a:cubicBezTo>
                <a:cubicBezTo>
                  <a:pt x="1694" y="444"/>
                  <a:pt x="1706" y="662"/>
                  <a:pt x="1704" y="750"/>
                </a:cubicBezTo>
                <a:cubicBezTo>
                  <a:pt x="1702" y="838"/>
                  <a:pt x="1695" y="854"/>
                  <a:pt x="1694" y="902"/>
                </a:cubicBezTo>
                <a:cubicBezTo>
                  <a:pt x="1693" y="950"/>
                  <a:pt x="1703" y="1002"/>
                  <a:pt x="1696" y="1038"/>
                </a:cubicBezTo>
                <a:cubicBezTo>
                  <a:pt x="1689" y="1074"/>
                  <a:pt x="1687" y="1106"/>
                  <a:pt x="1650" y="1120"/>
                </a:cubicBezTo>
                <a:cubicBezTo>
                  <a:pt x="1613" y="1134"/>
                  <a:pt x="1531" y="1124"/>
                  <a:pt x="1474" y="1122"/>
                </a:cubicBezTo>
                <a:cubicBezTo>
                  <a:pt x="1417" y="1120"/>
                  <a:pt x="1343" y="1101"/>
                  <a:pt x="1250" y="1102"/>
                </a:cubicBezTo>
                <a:cubicBezTo>
                  <a:pt x="1157" y="1103"/>
                  <a:pt x="1026" y="1126"/>
                  <a:pt x="914" y="1126"/>
                </a:cubicBezTo>
                <a:cubicBezTo>
                  <a:pt x="802" y="1126"/>
                  <a:pt x="675" y="1102"/>
                  <a:pt x="580" y="1100"/>
                </a:cubicBezTo>
                <a:cubicBezTo>
                  <a:pt x="485" y="1098"/>
                  <a:pt x="430" y="1113"/>
                  <a:pt x="344" y="1116"/>
                </a:cubicBezTo>
                <a:cubicBezTo>
                  <a:pt x="258" y="1119"/>
                  <a:pt x="120" y="1132"/>
                  <a:pt x="64" y="1116"/>
                </a:cubicBezTo>
                <a:cubicBezTo>
                  <a:pt x="8" y="1100"/>
                  <a:pt x="16" y="1063"/>
                  <a:pt x="8" y="1020"/>
                </a:cubicBezTo>
                <a:cubicBezTo>
                  <a:pt x="0" y="977"/>
                  <a:pt x="15" y="938"/>
                  <a:pt x="16" y="860"/>
                </a:cubicBezTo>
                <a:cubicBezTo>
                  <a:pt x="17" y="782"/>
                  <a:pt x="18" y="629"/>
                  <a:pt x="16" y="550"/>
                </a:cubicBezTo>
                <a:cubicBezTo>
                  <a:pt x="14" y="471"/>
                  <a:pt x="2" y="439"/>
                  <a:pt x="2" y="384"/>
                </a:cubicBezTo>
                <a:cubicBezTo>
                  <a:pt x="2" y="329"/>
                  <a:pt x="11" y="276"/>
                  <a:pt x="14" y="222"/>
                </a:cubicBezTo>
                <a:cubicBezTo>
                  <a:pt x="17" y="168"/>
                  <a:pt x="0" y="96"/>
                  <a:pt x="20" y="62"/>
                </a:cubicBezTo>
                <a:close/>
              </a:path>
            </a:pathLst>
          </a:custGeom>
          <a:solidFill>
            <a:srgbClr val="6ed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0" y="428796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472880" y="169560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48596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456840" y="6308280"/>
            <a:ext cx="21337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0828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2720" y="6308280"/>
            <a:ext cx="21337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CA2F-E282-45CD-8755-5BDBB35C5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08000" y="4797360"/>
            <a:ext cx="525780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990033"/>
                </a:solidFill>
                <a:latin typeface="Arial"/>
              </a:rPr>
              <a:t>Применение ЭОР в образовательном процессе</a:t>
            </a:r>
            <a:endParaRPr b="1" lang="en-US" sz="4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5280" y="404640"/>
            <a:ext cx="2664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ролова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тьяна Олеговна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У «Общеобразовательная гимназия №6»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События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295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Форум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72400" cy="479088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7667640" y="5157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ed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79280"/>
            <a:ext cx="756144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Страницы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34516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760" y="283680"/>
            <a:ext cx="5811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Файлы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936720"/>
            <a:ext cx="675972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272360" cy="66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5"/>
          <p:cNvSpPr/>
          <p:nvPr/>
        </p:nvSpPr>
        <p:spPr>
          <a:xfrm>
            <a:off x="0" y="3929040"/>
            <a:ext cx="9144000" cy="3143160"/>
          </a:xfrm>
          <a:prstGeom prst="rect">
            <a:avLst/>
          </a:prstGeom>
          <a:solidFill>
            <a:srgbClr val="0874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74b2"/>
                </a:solidFill>
                <a:latin typeface="Calibri"/>
              </a:rPr>
              <a:t>школьная социальная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3" descr=""/>
          <p:cNvPicPr/>
          <p:nvPr/>
        </p:nvPicPr>
        <p:blipFill>
          <a:blip r:embed="rId1"/>
          <a:stretch/>
        </p:blipFill>
        <p:spPr>
          <a:xfrm>
            <a:off x="2500200" y="642960"/>
            <a:ext cx="4154760" cy="1928880"/>
          </a:xfrm>
          <a:prstGeom prst="rect">
            <a:avLst/>
          </a:prstGeom>
          <a:ln w="0">
            <a:noFill/>
          </a:ln>
        </p:spPr>
      </p:pic>
      <p:sp>
        <p:nvSpPr>
          <p:cNvPr id="159" name="Заголовок 1"/>
          <p:cNvSpPr/>
          <p:nvPr/>
        </p:nvSpPr>
        <p:spPr>
          <a:xfrm>
            <a:off x="714240" y="5286240"/>
            <a:ext cx="7772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ww.dnevnik.ru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m@dnevnik.ru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8 800 100 06 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1714680" y="2714760"/>
            <a:ext cx="60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74b2"/>
                </a:solidFill>
                <a:latin typeface="Calibri"/>
              </a:rPr>
              <a:t>школьная образователь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Заголовок 1"/>
          <p:cNvSpPr/>
          <p:nvPr/>
        </p:nvSpPr>
        <p:spPr>
          <a:xfrm>
            <a:off x="785880" y="4143240"/>
            <a:ext cx="778824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9"/>
          <p:cNvSpPr/>
          <p:nvPr/>
        </p:nvSpPr>
        <p:spPr>
          <a:xfrm>
            <a:off x="0" y="4643280"/>
            <a:ext cx="9144000" cy="2214720"/>
          </a:xfrm>
          <a:prstGeom prst="rect">
            <a:avLst/>
          </a:prstGeom>
          <a:solidFill>
            <a:srgbClr val="0874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3357720"/>
            <a:ext cx="807228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874b2"/>
                </a:solidFill>
                <a:latin typeface="Arial"/>
              </a:rPr>
              <a:t>школьная образовательная сеть</a:t>
            </a:r>
            <a:endParaRPr b="1" lang="en-US" sz="46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07" name="Рисунок 11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5999400" cy="2786040"/>
          </a:xfrm>
          <a:prstGeom prst="rect">
            <a:avLst/>
          </a:prstGeom>
          <a:ln w="0">
            <a:noFill/>
          </a:ln>
        </p:spPr>
      </p:pic>
      <p:sp>
        <p:nvSpPr>
          <p:cNvPr id="108" name="Заголовок 1"/>
          <p:cNvSpPr/>
          <p:nvPr/>
        </p:nvSpPr>
        <p:spPr>
          <a:xfrm>
            <a:off x="677880" y="5173560"/>
            <a:ext cx="77882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www.dnevnik.r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9"/>
          <p:cNvSpPr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solidFill>
            <a:srgbClr val="0874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29040" y="213840"/>
            <a:ext cx="492912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74b2"/>
                </a:solidFill>
                <a:latin typeface="Arial"/>
              </a:rPr>
              <a:t>школьная образовательная сеть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11" name="Рисунок 11" descr=""/>
          <p:cNvPicPr/>
          <p:nvPr/>
        </p:nvPicPr>
        <p:blipFill>
          <a:blip r:embed="rId1"/>
          <a:stretch/>
        </p:blipFill>
        <p:spPr>
          <a:xfrm>
            <a:off x="285840" y="209520"/>
            <a:ext cx="1857240" cy="862200"/>
          </a:xfrm>
          <a:prstGeom prst="rect">
            <a:avLst/>
          </a:prstGeom>
          <a:ln w="0">
            <a:noFill/>
          </a:ln>
        </p:spPr>
      </p:pic>
      <p:sp>
        <p:nvSpPr>
          <p:cNvPr id="112" name="Заголовок 1"/>
          <p:cNvSpPr/>
          <p:nvPr/>
        </p:nvSpPr>
        <p:spPr>
          <a:xfrm>
            <a:off x="3929040" y="642960"/>
            <a:ext cx="4929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874b2"/>
                </a:solidFill>
                <a:latin typeface="Calibri"/>
              </a:rPr>
              <a:t>www.dnevnik.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85840" y="1530360"/>
            <a:ext cx="864396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одержимое 5"/>
          <p:cNvSpPr/>
          <p:nvPr/>
        </p:nvSpPr>
        <p:spPr>
          <a:xfrm>
            <a:off x="571680" y="1500120"/>
            <a:ext cx="808668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Образовательная се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Удобное решение под образовательные нужд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одержимое 5"/>
          <p:cNvSpPr/>
          <p:nvPr/>
        </p:nvSpPr>
        <p:spPr>
          <a:xfrm>
            <a:off x="571680" y="3143160"/>
            <a:ext cx="822960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Расписание урок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Электронный журнал учите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Электронный днев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Список домашних зада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Возможности для дистанционного обуч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Конструктор для составления отче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Мониторинговая система для управления процесс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Быстрый ввод информации и импорт да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9"/>
          <p:cNvSpPr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solidFill>
            <a:srgbClr val="0874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29040" y="213840"/>
            <a:ext cx="492912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74b2"/>
                </a:solidFill>
                <a:latin typeface="Arial"/>
              </a:rPr>
              <a:t>школьная образовательная сеть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18" name="Рисунок 11" descr=""/>
          <p:cNvPicPr/>
          <p:nvPr/>
        </p:nvPicPr>
        <p:blipFill>
          <a:blip r:embed="rId1"/>
          <a:stretch/>
        </p:blipFill>
        <p:spPr>
          <a:xfrm>
            <a:off x="285840" y="209520"/>
            <a:ext cx="1857240" cy="862200"/>
          </a:xfrm>
          <a:prstGeom prst="rect">
            <a:avLst/>
          </a:prstGeom>
          <a:ln w="0">
            <a:noFill/>
          </a:ln>
        </p:spPr>
      </p:pic>
      <p:sp>
        <p:nvSpPr>
          <p:cNvPr id="119" name="Заголовок 1"/>
          <p:cNvSpPr/>
          <p:nvPr/>
        </p:nvSpPr>
        <p:spPr>
          <a:xfrm>
            <a:off x="3929040" y="642960"/>
            <a:ext cx="4929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874b2"/>
                </a:solidFill>
                <a:latin typeface="Calibri"/>
              </a:rPr>
              <a:t>www.dnevnik.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Заголовок 1"/>
          <p:cNvSpPr/>
          <p:nvPr/>
        </p:nvSpPr>
        <p:spPr>
          <a:xfrm>
            <a:off x="285840" y="1530360"/>
            <a:ext cx="864396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5"/>
          <p:cNvSpPr/>
          <p:nvPr/>
        </p:nvSpPr>
        <p:spPr>
          <a:xfrm>
            <a:off x="571680" y="1500120"/>
            <a:ext cx="808668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Учебные 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труктурированные материалы по предмет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одержимое 5"/>
          <p:cNvSpPr/>
          <p:nvPr/>
        </p:nvSpPr>
        <p:spPr>
          <a:xfrm>
            <a:off x="571680" y="3143160"/>
            <a:ext cx="82296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ексты, справочники, перевод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Карты, схемы, иллю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Учебники, методические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гры обучающе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Аудио-, видео-уро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терактивная энциклопе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Те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9"/>
          <p:cNvSpPr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solidFill>
            <a:srgbClr val="0874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29040" y="213840"/>
            <a:ext cx="4929120" cy="4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74b2"/>
                </a:solidFill>
                <a:latin typeface="Arial"/>
              </a:rPr>
              <a:t>школьная образовательная сеть</a:t>
            </a:r>
            <a:endParaRPr b="1" lang="en-US" sz="26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25" name="Рисунок 11" descr=""/>
          <p:cNvPicPr/>
          <p:nvPr/>
        </p:nvPicPr>
        <p:blipFill>
          <a:blip r:embed="rId1"/>
          <a:stretch/>
        </p:blipFill>
        <p:spPr>
          <a:xfrm>
            <a:off x="285840" y="209520"/>
            <a:ext cx="1857240" cy="8622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3929040" y="642960"/>
            <a:ext cx="4929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874b2"/>
                </a:solidFill>
                <a:latin typeface="Calibri"/>
              </a:rPr>
              <a:t>www.dnevnik.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285840" y="1530360"/>
            <a:ext cx="864396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одержимое 5"/>
          <p:cNvSpPr/>
          <p:nvPr/>
        </p:nvSpPr>
        <p:spPr>
          <a:xfrm>
            <a:off x="571680" y="1500120"/>
            <a:ext cx="808668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Социальная се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Новая культура общения и администр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одержимое 5"/>
          <p:cNvSpPr/>
          <p:nvPr/>
        </p:nvSpPr>
        <p:spPr>
          <a:xfrm>
            <a:off x="571680" y="3143160"/>
            <a:ext cx="82296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Персональные страницы пользовател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Объявления и личные сообщ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Группы и событ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Внешний портал школ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Фото/видео/аудио галере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Обмен и хранение файл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9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584720" y="713160"/>
            <a:ext cx="4747320" cy="5883120"/>
            <a:chOff x="1584720" y="713160"/>
            <a:chExt cx="4747320" cy="5883120"/>
          </a:xfrm>
        </p:grpSpPr>
        <p:sp>
          <p:nvSpPr>
            <p:cNvPr id="131" name=""/>
            <p:cNvSpPr/>
            <p:nvPr/>
          </p:nvSpPr>
          <p:spPr>
            <a:xfrm>
              <a:off x="3870720" y="1851840"/>
              <a:ext cx="1080" cy="56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70720" y="3560040"/>
              <a:ext cx="108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70720" y="5078880"/>
              <a:ext cx="108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84720" y="713160"/>
              <a:ext cx="4747320" cy="1138320"/>
            </a:xfrm>
            <a:prstGeom prst="rect">
              <a:avLst/>
            </a:prstGeom>
            <a:gradFill rotWithShape="0">
              <a:gsLst>
                <a:gs pos="0">
                  <a:srgbClr val="699ef3"/>
                </a:gs>
                <a:gs pos="100000">
                  <a:srgbClr val="30487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Испытывала острую необходимость постоянного и непрерывного контакта с родителями ученико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84720" y="2421360"/>
              <a:ext cx="4747320" cy="1138320"/>
            </a:xfrm>
            <a:prstGeom prst="rect">
              <a:avLst/>
            </a:prstGeom>
            <a:gradFill rotWithShape="0">
              <a:gsLst>
                <a:gs pos="0">
                  <a:srgbClr val="699ef3"/>
                </a:gs>
                <a:gs pos="100000">
                  <a:srgbClr val="30487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Ознакомилась с предложенными возможностями на образовательном сайте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"Дневник.ру"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4720" y="4129560"/>
              <a:ext cx="4747320" cy="947880"/>
            </a:xfrm>
            <a:prstGeom prst="rect">
              <a:avLst/>
            </a:prstGeom>
            <a:gradFill rotWithShape="0">
              <a:gsLst>
                <a:gs pos="0">
                  <a:srgbClr val="699ef3"/>
                </a:gs>
                <a:gs pos="100000">
                  <a:srgbClr val="30487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роанализировала потребности родите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84720" y="5648040"/>
              <a:ext cx="4747320" cy="948240"/>
            </a:xfrm>
            <a:prstGeom prst="rect">
              <a:avLst/>
            </a:prstGeom>
            <a:gradFill rotWithShape="0">
              <a:gsLst>
                <a:gs pos="0">
                  <a:srgbClr val="699ef3"/>
                </a:gs>
                <a:gs pos="100000">
                  <a:srgbClr val="30487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Создала группу 3Б кла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209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Новости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16000" y="893880"/>
            <a:ext cx="698508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284040"/>
            <a:ext cx="5819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События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018720" cy="29098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812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6ed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14:19:41Z</dcterms:created>
  <dc:creator>Comp</dc:creator>
  <dc:description/>
  <dc:language>en-US</dc:language>
  <cp:lastModifiedBy>Comp</cp:lastModifiedBy>
  <dcterms:modified xsi:type="dcterms:W3CDTF">2011-10-06T13:58:42Z</dcterms:modified>
  <cp:revision>5</cp:revision>
  <dc:subject/>
  <dc:title>Применение ЭОР в образовательном процессе</dc:title>
</cp:coreProperties>
</file>