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jpeg" ContentType="image/jpeg"/>
  <Override PartName="/ppt/media/image50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4.jpeg" ContentType="image/jpeg"/>
  <Override PartName="/ppt/media/image4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5.gif" ContentType="image/gif"/>
  <Override PartName="/ppt/media/image7.jpeg" ContentType="image/jpeg"/>
  <Override PartName="/ppt/media/image35.jpeg" ContentType="image/jpeg"/>
  <Override PartName="/ppt/media/image10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45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46.jpeg" ContentType="image/jpeg"/>
  <Override PartName="/ppt/media/image47.jpeg" ContentType="image/jpeg"/>
  <Override PartName="/ppt/media/image52.jpeg" ContentType="image/jpeg"/>
  <Override PartName="/ppt/media/image48.jpeg" ContentType="image/jpeg"/>
  <Override PartName="/ppt/media/image53.jpeg" ContentType="image/jpeg"/>
  <Override PartName="/ppt/media/image31.jpeg" ContentType="image/jpeg"/>
  <Override PartName="/ppt/media/image30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3C4D-A02B-4F16-99FE-1FE49CE02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6524-4DE5-474A-8182-D9618B27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108F-C29C-4026-8B78-9AB18EE82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EBCC-D9B1-47C5-B959-78BFAD7A4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336E7-5513-4A57-BE5A-D712D7EE8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C4C3-4A65-4975-9AF1-0A3E4DF0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82AF9-6671-460C-A0EE-E37039AC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F307-4165-4BAE-BB96-565CFE32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96B1F-57AC-43C4-815D-EFBFCAD0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62B4E-4A74-4892-9A87-FC7122B8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B704-14E2-48BF-8209-331E0E9F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D2B6-3188-4D03-A2A2-11959FA0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B3634-D5FF-42E4-B0EC-9E3A45EA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1071C-3F89-4D56-9C85-D47913D6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9948-424D-4431-88F2-8752236E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1C0B-7123-4754-B9E8-63CAE2869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E8A2-DEF0-45D9-812C-AD2F39CBB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4254A-6AC8-4617-B204-4620CBC7E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7403B-C727-4841-9EAA-28DF0B7C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F8D9A-14DD-4F2C-A4B4-BB3398C3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A27D7-FB1B-4E9A-8CE2-B867F6E0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2994F-EFDD-4B6F-B106-68FC1877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14BF-4D3A-4BF7-A17B-49200FF7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5A722-87DA-4D01-A232-267CE4C8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30960-C333-4002-BA55-329ECBE0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AEC0A-8A45-421A-A2F6-5294E951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F4540-792A-4E47-9E5B-6E74663D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0A3F4-829F-456E-A868-16CDF2FE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9FFC4-378C-4B94-8BA7-F1561DA91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9B022-C34A-496F-9A2F-56121DFA2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8246-844B-4A45-9988-761A7628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165C-0A03-4C38-9A28-EDFC8A8AE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CDE4-5DAA-4760-8119-9EC45989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2E78-250D-4007-8C4F-56174300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858F-88A3-447F-A200-4188400F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647A-DD99-4884-8A37-968B7922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152E-E3F5-4FCB-8836-C586CD81DB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BC30-20FC-43CE-95A2-D87F5CF08F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4803-50EC-418C-87B6-4D28FE00E3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45.jpeg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image" Target="../media/image5.gif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trip-guide.ru/Cities/slide.php?town=SPosad&amp;page=indexgallery&amp;image=17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hyperlink" Target="http://trip-guide.ru/Cities/index.php?town=Rostov&amp;page=indexgallery&amp;part=5" TargetMode="External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050560" y="6475320"/>
            <a:ext cx="7093080" cy="7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читель : Ковалёва  Марина Валер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WordArt 5"/>
          <p:cNvSpPr txBox="1"/>
          <p:nvPr/>
        </p:nvSpPr>
        <p:spPr>
          <a:xfrm>
            <a:off x="250920" y="404640"/>
            <a:ext cx="4752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5560">
                  <a:solidFill>
                    <a:srgbClr val="8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ОЛОТОЕ КОЛЬЦО</a:t>
            </a:r>
            <a:endParaRPr b="1" i="1" lang="en-US" sz="1800" spc="1" strike="noStrike">
              <a:ln w="25560">
                <a:solidFill>
                  <a:srgbClr val="8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WordArt 6"/>
          <p:cNvSpPr txBox="1"/>
          <p:nvPr/>
        </p:nvSpPr>
        <p:spPr>
          <a:xfrm>
            <a:off x="5433840" y="5589720"/>
            <a:ext cx="37101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5560">
                  <a:solidFill>
                    <a:srgbClr val="8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ССИИ</a:t>
            </a:r>
            <a:endParaRPr b="1" i="1" lang="en-US" sz="1800" spc="1" strike="noStrike">
              <a:ln w="25560">
                <a:solidFill>
                  <a:srgbClr val="8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Суздаль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4" name="Picture 3" descr="Герб города"/>
          <p:cNvPicPr/>
          <p:nvPr/>
        </p:nvPicPr>
        <p:blipFill>
          <a:blip r:embed="rId1"/>
          <a:stretch/>
        </p:blipFill>
        <p:spPr>
          <a:xfrm>
            <a:off x="324000" y="0"/>
            <a:ext cx="2433600" cy="27082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Суздаль, Покровский монастырь"/>
          <p:cNvPicPr/>
          <p:nvPr/>
        </p:nvPicPr>
        <p:blipFill>
          <a:blip r:embed="rId2"/>
          <a:stretch/>
        </p:blipFill>
        <p:spPr>
          <a:xfrm>
            <a:off x="900000" y="2781360"/>
            <a:ext cx="3062520" cy="375444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  <p:pic>
        <p:nvPicPr>
          <p:cNvPr id="256" name="Picture 5" descr="церковь бориса и глеба в Кидекше"/>
          <p:cNvPicPr/>
          <p:nvPr/>
        </p:nvPicPr>
        <p:blipFill>
          <a:blip r:embed="rId3"/>
          <a:stretch/>
        </p:blipFill>
        <p:spPr>
          <a:xfrm>
            <a:off x="2700360" y="907920"/>
            <a:ext cx="3747960" cy="240516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  <p:pic>
        <p:nvPicPr>
          <p:cNvPr id="257" name="Picture 6" descr="Суздаль, Антипиевская колокольня с вогнутым суздальским шатром, 1745 г."/>
          <p:cNvPicPr/>
          <p:nvPr/>
        </p:nvPicPr>
        <p:blipFill>
          <a:blip r:embed="rId4"/>
          <a:stretch/>
        </p:blipFill>
        <p:spPr>
          <a:xfrm>
            <a:off x="6372360" y="1700280"/>
            <a:ext cx="2341440" cy="479736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  <p:pic>
        <p:nvPicPr>
          <p:cNvPr id="258" name="Picture 7" descr="Суздаль, Спасо-Евфимиевский монастырь, 16-17 вв."/>
          <p:cNvPicPr/>
          <p:nvPr/>
        </p:nvPicPr>
        <p:blipFill>
          <a:blip r:embed="rId5"/>
          <a:stretch/>
        </p:blipFill>
        <p:spPr>
          <a:xfrm>
            <a:off x="3564000" y="3933720"/>
            <a:ext cx="2808360" cy="244800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  <p:pic>
        <p:nvPicPr>
          <p:cNvPr id="259" name="Picture 8" descr="Трегубова 006"/>
          <p:cNvPicPr/>
          <p:nvPr/>
        </p:nvPicPr>
        <p:blipFill>
          <a:blip r:embed="rId6"/>
          <a:stretch/>
        </p:blipFill>
        <p:spPr>
          <a:xfrm>
            <a:off x="1857240" y="1357200"/>
            <a:ext cx="5329440" cy="455616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  <p:sp>
        <p:nvSpPr>
          <p:cNvPr id="260" name="AutoShape 9"/>
          <p:cNvSpPr/>
          <p:nvPr/>
        </p:nvSpPr>
        <p:spPr>
          <a:xfrm>
            <a:off x="8798040" y="6453360"/>
            <a:ext cx="382320" cy="444240"/>
          </a:xfrm>
          <a:custGeom>
            <a:avLst/>
            <a:gdLst>
              <a:gd name="textAreaLeft" fmla="*/ 24480 w 382320"/>
              <a:gd name="textAreaRight" fmla="*/ 357840 w 382320"/>
              <a:gd name="textAreaTop" fmla="*/ 24480 h 444240"/>
              <a:gd name="textAreaBottom" fmla="*/ 419760 h 444240"/>
            </a:gdLst>
            <a:ahLst/>
            <a:rect l="textAreaLeft" t="textAreaTop" r="textAreaRight" b="textAreaBottom"/>
            <a:pathLst>
              <a:path w="21600" h="25095">
                <a:moveTo>
                  <a:pt x="0" y="0"/>
                </a:moveTo>
                <a:lnTo>
                  <a:pt x="21600" y="0"/>
                </a:lnTo>
                <a:lnTo>
                  <a:pt x="21600" y="25095"/>
                </a:lnTo>
                <a:lnTo>
                  <a:pt x="0" y="25095"/>
                </a:lnTo>
                <a:close/>
              </a:path>
              <a:path fill="lightenLess" w="21600" h="2509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95">
                <a:moveTo>
                  <a:pt x="21600" y="0"/>
                </a:moveTo>
                <a:lnTo>
                  <a:pt x="21600" y="25095"/>
                </a:lnTo>
                <a:lnTo>
                  <a:pt x="20200" y="23695"/>
                </a:lnTo>
                <a:lnTo>
                  <a:pt x="20200" y="1400"/>
                </a:lnTo>
                <a:close/>
              </a:path>
              <a:path fill="darkenLess" w="21600" h="25095">
                <a:moveTo>
                  <a:pt x="21600" y="25095"/>
                </a:moveTo>
                <a:lnTo>
                  <a:pt x="0" y="25095"/>
                </a:lnTo>
                <a:lnTo>
                  <a:pt x="1400" y="23695"/>
                </a:lnTo>
                <a:lnTo>
                  <a:pt x="20200" y="23695"/>
                </a:lnTo>
                <a:close/>
              </a:path>
              <a:path fill="lighten" w="21600" h="25095">
                <a:moveTo>
                  <a:pt x="0" y="2509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95"/>
                </a:lnTo>
                <a:close/>
              </a:path>
              <a:path fill="darken" w="21600" h="25095">
                <a:moveTo>
                  <a:pt x="10800" y="5585"/>
                </a:moveTo>
                <a:lnTo>
                  <a:pt x="13376" y="8196"/>
                </a:lnTo>
                <a:lnTo>
                  <a:pt x="13376" y="6455"/>
                </a:lnTo>
                <a:lnTo>
                  <a:pt x="15152" y="6455"/>
                </a:lnTo>
                <a:lnTo>
                  <a:pt x="15152" y="9971"/>
                </a:lnTo>
                <a:lnTo>
                  <a:pt x="17763" y="12548"/>
                </a:lnTo>
                <a:lnTo>
                  <a:pt x="16109" y="12548"/>
                </a:lnTo>
                <a:lnTo>
                  <a:pt x="16109" y="19737"/>
                </a:lnTo>
                <a:lnTo>
                  <a:pt x="5491" y="19737"/>
                </a:lnTo>
                <a:lnTo>
                  <a:pt x="5491" y="12548"/>
                </a:lnTo>
                <a:lnTo>
                  <a:pt x="3837" y="12548"/>
                </a:lnTo>
                <a:close/>
              </a:path>
              <a:path fill="darkenLess" w="21600" h="25095">
                <a:moveTo>
                  <a:pt x="13376" y="8196"/>
                </a:moveTo>
                <a:lnTo>
                  <a:pt x="13376" y="6455"/>
                </a:lnTo>
                <a:lnTo>
                  <a:pt x="15152" y="6455"/>
                </a:lnTo>
                <a:lnTo>
                  <a:pt x="15152" y="9971"/>
                </a:lnTo>
                <a:close/>
              </a:path>
              <a:path fill="darkenLess" w="21600" h="25095">
                <a:moveTo>
                  <a:pt x="9877" y="16046"/>
                </a:moveTo>
                <a:lnTo>
                  <a:pt x="11723" y="16046"/>
                </a:lnTo>
                <a:lnTo>
                  <a:pt x="11723" y="19737"/>
                </a:lnTo>
                <a:lnTo>
                  <a:pt x="16109" y="19737"/>
                </a:lnTo>
                <a:lnTo>
                  <a:pt x="16109" y="12548"/>
                </a:lnTo>
                <a:lnTo>
                  <a:pt x="5491" y="12548"/>
                </a:lnTo>
                <a:lnTo>
                  <a:pt x="5491" y="19737"/>
                </a:lnTo>
                <a:lnTo>
                  <a:pt x="9877" y="19737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6870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ладимир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2" name="Picture 4" descr="Герб города"/>
          <p:cNvPicPr/>
          <p:nvPr/>
        </p:nvPicPr>
        <p:blipFill>
          <a:blip r:embed="rId1"/>
          <a:stretch/>
        </p:blipFill>
        <p:spPr>
          <a:xfrm>
            <a:off x="179280" y="0"/>
            <a:ext cx="2563920" cy="28526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золотые ворота3"/>
          <p:cNvPicPr/>
          <p:nvPr/>
        </p:nvPicPr>
        <p:blipFill>
          <a:blip r:embed="rId2"/>
          <a:stretch/>
        </p:blipFill>
        <p:spPr>
          <a:xfrm>
            <a:off x="1332000" y="2852640"/>
            <a:ext cx="2592360" cy="371628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  <p:pic>
        <p:nvPicPr>
          <p:cNvPr id="264" name="Picture 6" descr="усп соб5"/>
          <p:cNvPicPr/>
          <p:nvPr/>
        </p:nvPicPr>
        <p:blipFill>
          <a:blip r:embed="rId3"/>
          <a:stretch/>
        </p:blipFill>
        <p:spPr>
          <a:xfrm>
            <a:off x="3348000" y="907920"/>
            <a:ext cx="2664000" cy="422136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  <p:pic>
        <p:nvPicPr>
          <p:cNvPr id="265" name="Picture 7" descr="храм покрова на нерли2"/>
          <p:cNvPicPr/>
          <p:nvPr/>
        </p:nvPicPr>
        <p:blipFill>
          <a:blip r:embed="rId4"/>
          <a:stretch/>
        </p:blipFill>
        <p:spPr>
          <a:xfrm>
            <a:off x="5651640" y="4292640"/>
            <a:ext cx="2833560" cy="230508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  <p:pic>
        <p:nvPicPr>
          <p:cNvPr id="266" name="Picture 8" descr="Богоматерь владимирская 12"/>
          <p:cNvPicPr/>
          <p:nvPr/>
        </p:nvPicPr>
        <p:blipFill>
          <a:blip r:embed="rId5"/>
          <a:stretch/>
        </p:blipFill>
        <p:spPr>
          <a:xfrm>
            <a:off x="6012000" y="1125360"/>
            <a:ext cx="2332080" cy="324036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  <p:sp>
        <p:nvSpPr>
          <p:cNvPr id="267" name="AutoShape 9"/>
          <p:cNvSpPr/>
          <p:nvPr/>
        </p:nvSpPr>
        <p:spPr>
          <a:xfrm>
            <a:off x="8798040" y="6453360"/>
            <a:ext cx="382320" cy="444240"/>
          </a:xfrm>
          <a:custGeom>
            <a:avLst/>
            <a:gdLst>
              <a:gd name="textAreaLeft" fmla="*/ 24480 w 382320"/>
              <a:gd name="textAreaRight" fmla="*/ 357840 w 382320"/>
              <a:gd name="textAreaTop" fmla="*/ 24480 h 444240"/>
              <a:gd name="textAreaBottom" fmla="*/ 419760 h 444240"/>
            </a:gdLst>
            <a:ahLst/>
            <a:rect l="textAreaLeft" t="textAreaTop" r="textAreaRight" b="textAreaBottom"/>
            <a:pathLst>
              <a:path w="21600" h="25095">
                <a:moveTo>
                  <a:pt x="0" y="0"/>
                </a:moveTo>
                <a:lnTo>
                  <a:pt x="21600" y="0"/>
                </a:lnTo>
                <a:lnTo>
                  <a:pt x="21600" y="25095"/>
                </a:lnTo>
                <a:lnTo>
                  <a:pt x="0" y="25095"/>
                </a:lnTo>
                <a:close/>
              </a:path>
              <a:path fill="lightenLess" w="21600" h="2509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95">
                <a:moveTo>
                  <a:pt x="21600" y="0"/>
                </a:moveTo>
                <a:lnTo>
                  <a:pt x="21600" y="25095"/>
                </a:lnTo>
                <a:lnTo>
                  <a:pt x="20200" y="23695"/>
                </a:lnTo>
                <a:lnTo>
                  <a:pt x="20200" y="1400"/>
                </a:lnTo>
                <a:close/>
              </a:path>
              <a:path fill="darkenLess" w="21600" h="25095">
                <a:moveTo>
                  <a:pt x="21600" y="25095"/>
                </a:moveTo>
                <a:lnTo>
                  <a:pt x="0" y="25095"/>
                </a:lnTo>
                <a:lnTo>
                  <a:pt x="1400" y="23695"/>
                </a:lnTo>
                <a:lnTo>
                  <a:pt x="20200" y="23695"/>
                </a:lnTo>
                <a:close/>
              </a:path>
              <a:path fill="lighten" w="21600" h="25095">
                <a:moveTo>
                  <a:pt x="0" y="2509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95"/>
                </a:lnTo>
                <a:close/>
              </a:path>
              <a:path fill="darken" w="21600" h="25095">
                <a:moveTo>
                  <a:pt x="10800" y="5585"/>
                </a:moveTo>
                <a:lnTo>
                  <a:pt x="13376" y="8196"/>
                </a:lnTo>
                <a:lnTo>
                  <a:pt x="13376" y="6455"/>
                </a:lnTo>
                <a:lnTo>
                  <a:pt x="15152" y="6455"/>
                </a:lnTo>
                <a:lnTo>
                  <a:pt x="15152" y="9971"/>
                </a:lnTo>
                <a:lnTo>
                  <a:pt x="17763" y="12548"/>
                </a:lnTo>
                <a:lnTo>
                  <a:pt x="16109" y="12548"/>
                </a:lnTo>
                <a:lnTo>
                  <a:pt x="16109" y="19737"/>
                </a:lnTo>
                <a:lnTo>
                  <a:pt x="5491" y="19737"/>
                </a:lnTo>
                <a:lnTo>
                  <a:pt x="5491" y="12548"/>
                </a:lnTo>
                <a:lnTo>
                  <a:pt x="3837" y="12548"/>
                </a:lnTo>
                <a:close/>
              </a:path>
              <a:path fill="darkenLess" w="21600" h="25095">
                <a:moveTo>
                  <a:pt x="13376" y="8196"/>
                </a:moveTo>
                <a:lnTo>
                  <a:pt x="13376" y="6455"/>
                </a:lnTo>
                <a:lnTo>
                  <a:pt x="15152" y="6455"/>
                </a:lnTo>
                <a:lnTo>
                  <a:pt x="15152" y="9971"/>
                </a:lnTo>
                <a:close/>
              </a:path>
              <a:path fill="darkenLess" w="21600" h="25095">
                <a:moveTo>
                  <a:pt x="9877" y="16046"/>
                </a:moveTo>
                <a:lnTo>
                  <a:pt x="11723" y="16046"/>
                </a:lnTo>
                <a:lnTo>
                  <a:pt x="11723" y="19737"/>
                </a:lnTo>
                <a:lnTo>
                  <a:pt x="16109" y="19737"/>
                </a:lnTo>
                <a:lnTo>
                  <a:pt x="16109" y="12548"/>
                </a:lnTo>
                <a:lnTo>
                  <a:pt x="5491" y="12548"/>
                </a:lnTo>
                <a:lnTo>
                  <a:pt x="5491" y="19737"/>
                </a:lnTo>
                <a:lnTo>
                  <a:pt x="9877" y="19737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5"/>
          <p:cNvSpPr/>
          <p:nvPr/>
        </p:nvSpPr>
        <p:spPr>
          <a:xfrm>
            <a:off x="250920" y="54936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611280" y="54936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971640" y="54936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1332000" y="54936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1692360" y="54936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Rectangle 10"/>
          <p:cNvSpPr/>
          <p:nvPr/>
        </p:nvSpPr>
        <p:spPr>
          <a:xfrm>
            <a:off x="2050920" y="54936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Rectangle 11"/>
          <p:cNvSpPr/>
          <p:nvPr/>
        </p:nvSpPr>
        <p:spPr>
          <a:xfrm>
            <a:off x="2411280" y="54936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Rectangle 12"/>
          <p:cNvSpPr/>
          <p:nvPr/>
        </p:nvSpPr>
        <p:spPr>
          <a:xfrm>
            <a:off x="2987640" y="54936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Rectangle 13"/>
          <p:cNvSpPr/>
          <p:nvPr/>
        </p:nvSpPr>
        <p:spPr>
          <a:xfrm>
            <a:off x="3348000" y="54936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Rectangle 14"/>
          <p:cNvSpPr/>
          <p:nvPr/>
        </p:nvSpPr>
        <p:spPr>
          <a:xfrm>
            <a:off x="3708360" y="54936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Rectangle 15"/>
          <p:cNvSpPr/>
          <p:nvPr/>
        </p:nvSpPr>
        <p:spPr>
          <a:xfrm>
            <a:off x="4067280" y="54936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Rectangle 16"/>
          <p:cNvSpPr/>
          <p:nvPr/>
        </p:nvSpPr>
        <p:spPr>
          <a:xfrm>
            <a:off x="4427640" y="54936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Rectangle 17"/>
          <p:cNvSpPr/>
          <p:nvPr/>
        </p:nvSpPr>
        <p:spPr>
          <a:xfrm>
            <a:off x="539640" y="1197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Rectangle 18"/>
          <p:cNvSpPr/>
          <p:nvPr/>
        </p:nvSpPr>
        <p:spPr>
          <a:xfrm>
            <a:off x="900000" y="1197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Rectangle 19"/>
          <p:cNvSpPr/>
          <p:nvPr/>
        </p:nvSpPr>
        <p:spPr>
          <a:xfrm>
            <a:off x="1258920" y="1197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Rectangle 20"/>
          <p:cNvSpPr/>
          <p:nvPr/>
        </p:nvSpPr>
        <p:spPr>
          <a:xfrm>
            <a:off x="1619280" y="1197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Rectangle 21"/>
          <p:cNvSpPr/>
          <p:nvPr/>
        </p:nvSpPr>
        <p:spPr>
          <a:xfrm>
            <a:off x="2340000" y="1197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Rectangle 22"/>
          <p:cNvSpPr/>
          <p:nvPr/>
        </p:nvSpPr>
        <p:spPr>
          <a:xfrm>
            <a:off x="1979640" y="1197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Rectangle 23"/>
          <p:cNvSpPr/>
          <p:nvPr/>
        </p:nvSpPr>
        <p:spPr>
          <a:xfrm>
            <a:off x="2700360" y="1197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Rectangle 24"/>
          <p:cNvSpPr/>
          <p:nvPr/>
        </p:nvSpPr>
        <p:spPr>
          <a:xfrm>
            <a:off x="3059280" y="1197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Rectangle 25"/>
          <p:cNvSpPr/>
          <p:nvPr/>
        </p:nvSpPr>
        <p:spPr>
          <a:xfrm>
            <a:off x="3419640" y="1197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Rectangle 26"/>
          <p:cNvSpPr/>
          <p:nvPr/>
        </p:nvSpPr>
        <p:spPr>
          <a:xfrm>
            <a:off x="3780000" y="1197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Rectangle 27"/>
          <p:cNvSpPr/>
          <p:nvPr/>
        </p:nvSpPr>
        <p:spPr>
          <a:xfrm>
            <a:off x="4427640" y="1197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Rectangle 28"/>
          <p:cNvSpPr/>
          <p:nvPr/>
        </p:nvSpPr>
        <p:spPr>
          <a:xfrm>
            <a:off x="4788000" y="1197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Rectangle 29"/>
          <p:cNvSpPr/>
          <p:nvPr/>
        </p:nvSpPr>
        <p:spPr>
          <a:xfrm>
            <a:off x="5148360" y="1197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Rectangle 30"/>
          <p:cNvSpPr/>
          <p:nvPr/>
        </p:nvSpPr>
        <p:spPr>
          <a:xfrm>
            <a:off x="5508720" y="1197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Rectangle 31"/>
          <p:cNvSpPr/>
          <p:nvPr/>
        </p:nvSpPr>
        <p:spPr>
          <a:xfrm>
            <a:off x="5867280" y="1197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Rectangle 32"/>
          <p:cNvSpPr/>
          <p:nvPr/>
        </p:nvSpPr>
        <p:spPr>
          <a:xfrm>
            <a:off x="6227640" y="1197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Rectangle 33"/>
          <p:cNvSpPr/>
          <p:nvPr/>
        </p:nvSpPr>
        <p:spPr>
          <a:xfrm>
            <a:off x="6588000" y="1197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Rectangle 34"/>
          <p:cNvSpPr/>
          <p:nvPr/>
        </p:nvSpPr>
        <p:spPr>
          <a:xfrm>
            <a:off x="6948360" y="1197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Rectangle 35"/>
          <p:cNvSpPr/>
          <p:nvPr/>
        </p:nvSpPr>
        <p:spPr>
          <a:xfrm>
            <a:off x="7308720" y="1197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Rectangle 36"/>
          <p:cNvSpPr/>
          <p:nvPr/>
        </p:nvSpPr>
        <p:spPr>
          <a:xfrm>
            <a:off x="1332000" y="191628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Rectangle 37"/>
          <p:cNvSpPr/>
          <p:nvPr/>
        </p:nvSpPr>
        <p:spPr>
          <a:xfrm>
            <a:off x="1692360" y="191628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Rectangle 38"/>
          <p:cNvSpPr/>
          <p:nvPr/>
        </p:nvSpPr>
        <p:spPr>
          <a:xfrm>
            <a:off x="2050920" y="191628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Rectangle 39"/>
          <p:cNvSpPr/>
          <p:nvPr/>
        </p:nvSpPr>
        <p:spPr>
          <a:xfrm>
            <a:off x="2411280" y="191628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Rectangle 40"/>
          <p:cNvSpPr/>
          <p:nvPr/>
        </p:nvSpPr>
        <p:spPr>
          <a:xfrm>
            <a:off x="2771640" y="191628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Rectangle 41"/>
          <p:cNvSpPr/>
          <p:nvPr/>
        </p:nvSpPr>
        <p:spPr>
          <a:xfrm>
            <a:off x="3132000" y="191628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Rectangle 42"/>
          <p:cNvSpPr/>
          <p:nvPr/>
        </p:nvSpPr>
        <p:spPr>
          <a:xfrm>
            <a:off x="1619280" y="2637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Rectangle 43"/>
          <p:cNvSpPr/>
          <p:nvPr/>
        </p:nvSpPr>
        <p:spPr>
          <a:xfrm>
            <a:off x="1979640" y="2637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Rectangle 44"/>
          <p:cNvSpPr/>
          <p:nvPr/>
        </p:nvSpPr>
        <p:spPr>
          <a:xfrm>
            <a:off x="2340000" y="2637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Rectangle 45"/>
          <p:cNvSpPr/>
          <p:nvPr/>
        </p:nvSpPr>
        <p:spPr>
          <a:xfrm>
            <a:off x="2700360" y="2637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Rectangle 47"/>
          <p:cNvSpPr/>
          <p:nvPr/>
        </p:nvSpPr>
        <p:spPr>
          <a:xfrm>
            <a:off x="3059280" y="2637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Rectangle 48"/>
          <p:cNvSpPr/>
          <p:nvPr/>
        </p:nvSpPr>
        <p:spPr>
          <a:xfrm>
            <a:off x="826920" y="3429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Rectangle 49"/>
          <p:cNvSpPr/>
          <p:nvPr/>
        </p:nvSpPr>
        <p:spPr>
          <a:xfrm>
            <a:off x="1187280" y="3429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Rectangle 50"/>
          <p:cNvSpPr/>
          <p:nvPr/>
        </p:nvSpPr>
        <p:spPr>
          <a:xfrm>
            <a:off x="1547640" y="3429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Rectangle 51"/>
          <p:cNvSpPr/>
          <p:nvPr/>
        </p:nvSpPr>
        <p:spPr>
          <a:xfrm>
            <a:off x="2268360" y="3429000"/>
            <a:ext cx="36072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Rectangle 52"/>
          <p:cNvSpPr/>
          <p:nvPr/>
        </p:nvSpPr>
        <p:spPr>
          <a:xfrm>
            <a:off x="1908000" y="3429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Rectangle 53"/>
          <p:cNvSpPr/>
          <p:nvPr/>
        </p:nvSpPr>
        <p:spPr>
          <a:xfrm>
            <a:off x="2627280" y="3429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Rectangle 54"/>
          <p:cNvSpPr/>
          <p:nvPr/>
        </p:nvSpPr>
        <p:spPr>
          <a:xfrm>
            <a:off x="2987640" y="3429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Rectangle 55"/>
          <p:cNvSpPr/>
          <p:nvPr/>
        </p:nvSpPr>
        <p:spPr>
          <a:xfrm>
            <a:off x="3348000" y="3429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Rectangle 56"/>
          <p:cNvSpPr/>
          <p:nvPr/>
        </p:nvSpPr>
        <p:spPr>
          <a:xfrm>
            <a:off x="3708360" y="3429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Rectangle 57"/>
          <p:cNvSpPr/>
          <p:nvPr/>
        </p:nvSpPr>
        <p:spPr>
          <a:xfrm>
            <a:off x="2195640" y="4076640"/>
            <a:ext cx="360360" cy="43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Rectangle 58"/>
          <p:cNvSpPr/>
          <p:nvPr/>
        </p:nvSpPr>
        <p:spPr>
          <a:xfrm>
            <a:off x="2556000" y="4076640"/>
            <a:ext cx="360360" cy="43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Rectangle 59"/>
          <p:cNvSpPr/>
          <p:nvPr/>
        </p:nvSpPr>
        <p:spPr>
          <a:xfrm>
            <a:off x="2916360" y="4076640"/>
            <a:ext cx="360360" cy="43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Rectangle 60"/>
          <p:cNvSpPr/>
          <p:nvPr/>
        </p:nvSpPr>
        <p:spPr>
          <a:xfrm>
            <a:off x="3276720" y="4076640"/>
            <a:ext cx="360360" cy="43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Rectangle 61"/>
          <p:cNvSpPr/>
          <p:nvPr/>
        </p:nvSpPr>
        <p:spPr>
          <a:xfrm>
            <a:off x="3635280" y="4076640"/>
            <a:ext cx="360360" cy="43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Rectangle 62"/>
          <p:cNvSpPr/>
          <p:nvPr/>
        </p:nvSpPr>
        <p:spPr>
          <a:xfrm>
            <a:off x="3924360" y="4076640"/>
            <a:ext cx="360360" cy="43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Rectangle 63"/>
          <p:cNvSpPr/>
          <p:nvPr/>
        </p:nvSpPr>
        <p:spPr>
          <a:xfrm>
            <a:off x="4284720" y="4076640"/>
            <a:ext cx="360360" cy="43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Rectangle 64"/>
          <p:cNvSpPr/>
          <p:nvPr/>
        </p:nvSpPr>
        <p:spPr>
          <a:xfrm>
            <a:off x="4643280" y="4076640"/>
            <a:ext cx="360360" cy="43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Rectangle 65"/>
          <p:cNvSpPr/>
          <p:nvPr/>
        </p:nvSpPr>
        <p:spPr>
          <a:xfrm>
            <a:off x="2556000" y="4797360"/>
            <a:ext cx="360360" cy="43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Rectangle 66"/>
          <p:cNvSpPr/>
          <p:nvPr/>
        </p:nvSpPr>
        <p:spPr>
          <a:xfrm>
            <a:off x="2916360" y="4797360"/>
            <a:ext cx="360360" cy="43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Rectangle 67"/>
          <p:cNvSpPr/>
          <p:nvPr/>
        </p:nvSpPr>
        <p:spPr>
          <a:xfrm>
            <a:off x="3276720" y="4797360"/>
            <a:ext cx="360360" cy="43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Rectangle 68"/>
          <p:cNvSpPr/>
          <p:nvPr/>
        </p:nvSpPr>
        <p:spPr>
          <a:xfrm>
            <a:off x="2268360" y="5445000"/>
            <a:ext cx="360720" cy="43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Rectangle 69"/>
          <p:cNvSpPr/>
          <p:nvPr/>
        </p:nvSpPr>
        <p:spPr>
          <a:xfrm>
            <a:off x="3635280" y="4797360"/>
            <a:ext cx="360360" cy="43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Rectangle 70"/>
          <p:cNvSpPr/>
          <p:nvPr/>
        </p:nvSpPr>
        <p:spPr>
          <a:xfrm>
            <a:off x="2627280" y="5445000"/>
            <a:ext cx="360360" cy="43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Rectangle 71"/>
          <p:cNvSpPr/>
          <p:nvPr/>
        </p:nvSpPr>
        <p:spPr>
          <a:xfrm>
            <a:off x="2987640" y="5445000"/>
            <a:ext cx="360360" cy="43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Rectangle 72"/>
          <p:cNvSpPr/>
          <p:nvPr/>
        </p:nvSpPr>
        <p:spPr>
          <a:xfrm>
            <a:off x="3348000" y="5445000"/>
            <a:ext cx="360360" cy="43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Rectangle 73"/>
          <p:cNvSpPr/>
          <p:nvPr/>
        </p:nvSpPr>
        <p:spPr>
          <a:xfrm>
            <a:off x="3708360" y="5445000"/>
            <a:ext cx="360360" cy="43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Rectangle 74"/>
          <p:cNvSpPr/>
          <p:nvPr/>
        </p:nvSpPr>
        <p:spPr>
          <a:xfrm>
            <a:off x="4067280" y="5445000"/>
            <a:ext cx="360360" cy="43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Rectangle 75"/>
          <p:cNvSpPr/>
          <p:nvPr/>
        </p:nvSpPr>
        <p:spPr>
          <a:xfrm>
            <a:off x="4427640" y="5445000"/>
            <a:ext cx="360360" cy="43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Rectangle 76"/>
          <p:cNvSpPr/>
          <p:nvPr/>
        </p:nvSpPr>
        <p:spPr>
          <a:xfrm>
            <a:off x="2771640" y="6093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Rectangle 77"/>
          <p:cNvSpPr/>
          <p:nvPr/>
        </p:nvSpPr>
        <p:spPr>
          <a:xfrm>
            <a:off x="3132000" y="6093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Rectangle 78"/>
          <p:cNvSpPr/>
          <p:nvPr/>
        </p:nvSpPr>
        <p:spPr>
          <a:xfrm>
            <a:off x="3492360" y="6093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Rectangle 79"/>
          <p:cNvSpPr/>
          <p:nvPr/>
        </p:nvSpPr>
        <p:spPr>
          <a:xfrm>
            <a:off x="3851280" y="6093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Rectangle 80"/>
          <p:cNvSpPr/>
          <p:nvPr/>
        </p:nvSpPr>
        <p:spPr>
          <a:xfrm>
            <a:off x="4211640" y="6093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Rectangle 81"/>
          <p:cNvSpPr/>
          <p:nvPr/>
        </p:nvSpPr>
        <p:spPr>
          <a:xfrm>
            <a:off x="4572000" y="6093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Rectangle 82"/>
          <p:cNvSpPr/>
          <p:nvPr/>
        </p:nvSpPr>
        <p:spPr>
          <a:xfrm>
            <a:off x="4932360" y="6093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Rectangle 83"/>
          <p:cNvSpPr/>
          <p:nvPr/>
        </p:nvSpPr>
        <p:spPr>
          <a:xfrm>
            <a:off x="5292720" y="6093000"/>
            <a:ext cx="360360" cy="431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6" name="Picture 84" descr="кремль"/>
          <p:cNvPicPr/>
          <p:nvPr/>
        </p:nvPicPr>
        <p:blipFill>
          <a:blip r:embed="rId1"/>
          <a:stretch/>
        </p:blipFill>
        <p:spPr>
          <a:xfrm>
            <a:off x="6516720" y="1916280"/>
            <a:ext cx="1800360" cy="237636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  <p:pic>
        <p:nvPicPr>
          <p:cNvPr id="347" name="Picture 85" descr="Ростов Великий, Вход в Красные палаты"/>
          <p:cNvPicPr/>
          <p:nvPr/>
        </p:nvPicPr>
        <p:blipFill>
          <a:blip r:embed="rId2"/>
          <a:stretch/>
        </p:blipFill>
        <p:spPr>
          <a:xfrm>
            <a:off x="5508720" y="61920"/>
            <a:ext cx="1727280" cy="106344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  <p:pic>
        <p:nvPicPr>
          <p:cNvPr id="348" name="Picture 86" descr="Ярославль, Церковь Спаса на городу, конец 18 в."/>
          <p:cNvPicPr/>
          <p:nvPr/>
        </p:nvPicPr>
        <p:blipFill>
          <a:blip r:embed="rId3"/>
          <a:stretch/>
        </p:blipFill>
        <p:spPr>
          <a:xfrm>
            <a:off x="4427640" y="1773360"/>
            <a:ext cx="1693800" cy="223344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  <p:pic>
        <p:nvPicPr>
          <p:cNvPr id="349" name="Picture 89" descr="золотые ворота3"/>
          <p:cNvPicPr/>
          <p:nvPr/>
        </p:nvPicPr>
        <p:blipFill>
          <a:blip r:embed="rId4"/>
          <a:stretch/>
        </p:blipFill>
        <p:spPr>
          <a:xfrm>
            <a:off x="5796000" y="4653000"/>
            <a:ext cx="2843280" cy="191592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  <p:pic>
        <p:nvPicPr>
          <p:cNvPr id="350" name="Picture 90" descr="золотые ворота2"/>
          <p:cNvPicPr/>
          <p:nvPr/>
        </p:nvPicPr>
        <p:blipFill>
          <a:blip r:embed="rId5"/>
          <a:stretch/>
        </p:blipFill>
        <p:spPr>
          <a:xfrm>
            <a:off x="179280" y="1700280"/>
            <a:ext cx="1079640" cy="172872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  <p:pic>
        <p:nvPicPr>
          <p:cNvPr id="351" name="Picture 91" descr="Ростов Великий, Успенский собор и звонница"/>
          <p:cNvPicPr/>
          <p:nvPr/>
        </p:nvPicPr>
        <p:blipFill>
          <a:blip r:embed="rId6"/>
          <a:stretch/>
        </p:blipFill>
        <p:spPr>
          <a:xfrm>
            <a:off x="179280" y="4005360"/>
            <a:ext cx="1944720" cy="143964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  <p:sp>
        <p:nvSpPr>
          <p:cNvPr id="352" name="Text Box 92"/>
          <p:cNvSpPr/>
          <p:nvPr/>
        </p:nvSpPr>
        <p:spPr>
          <a:xfrm>
            <a:off x="250920" y="54936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  Е    Р   Г    И   Е   В      П   О   С   А   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Text Box 93"/>
          <p:cNvSpPr/>
          <p:nvPr/>
        </p:nvSpPr>
        <p:spPr>
          <a:xfrm>
            <a:off x="585720" y="1190520"/>
            <a:ext cx="737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   Е    Р  Е    С   Л   А   В   Л  Ь    -   З   А    Л   Е   С   С    К   И   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Text Box 94"/>
          <p:cNvSpPr/>
          <p:nvPr/>
        </p:nvSpPr>
        <p:spPr>
          <a:xfrm>
            <a:off x="1317600" y="1951200"/>
            <a:ext cx="28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   О    С   Т   О   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Text Box 95"/>
          <p:cNvSpPr/>
          <p:nvPr/>
        </p:nvSpPr>
        <p:spPr>
          <a:xfrm>
            <a:off x="1619280" y="263700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   Г    Л   И   Ч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Text Box 96"/>
          <p:cNvSpPr/>
          <p:nvPr/>
        </p:nvSpPr>
        <p:spPr>
          <a:xfrm>
            <a:off x="830160" y="3490920"/>
            <a:ext cx="33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  Р   О   С   Л   А   В   Л   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Text Box 97"/>
          <p:cNvSpPr/>
          <p:nvPr/>
        </p:nvSpPr>
        <p:spPr>
          <a:xfrm>
            <a:off x="2270160" y="4076640"/>
            <a:ext cx="33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  О   С   Т   Р   О  М  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Text Box 98"/>
          <p:cNvSpPr/>
          <p:nvPr/>
        </p:nvSpPr>
        <p:spPr>
          <a:xfrm>
            <a:off x="2575080" y="4824360"/>
            <a:ext cx="33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   Л   Ё   С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Text Box 99"/>
          <p:cNvSpPr/>
          <p:nvPr/>
        </p:nvSpPr>
        <p:spPr>
          <a:xfrm>
            <a:off x="2300400" y="5464080"/>
            <a:ext cx="33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  У   З   Д    А   Л   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Text Box 100"/>
          <p:cNvSpPr/>
          <p:nvPr/>
        </p:nvSpPr>
        <p:spPr>
          <a:xfrm>
            <a:off x="2817720" y="6089760"/>
            <a:ext cx="33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 Л    А   Д   И   М  И   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5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5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5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7843680" cy="6191280"/>
          </a:xfrm>
          <a:prstGeom prst="rect">
            <a:avLst/>
          </a:prstGeom>
          <a:ln w="28440">
            <a:solidFill>
              <a:srgbClr val="ffb800"/>
            </a:solidFill>
            <a:miter/>
          </a:ln>
        </p:spPr>
      </p:pic>
      <p:sp>
        <p:nvSpPr>
          <p:cNvPr id="196" name="Oval 5">
            <a:hlinkClick r:id="rId2" action="ppaction://hlinksldjump"/>
          </p:cNvPr>
          <p:cNvSpPr/>
          <p:nvPr/>
        </p:nvSpPr>
        <p:spPr>
          <a:xfrm>
            <a:off x="3395520" y="3952800"/>
            <a:ext cx="216000" cy="2160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Oval 6">
            <a:hlinkClick r:id="rId3" action="ppaction://hlinksldjump"/>
          </p:cNvPr>
          <p:cNvSpPr/>
          <p:nvPr/>
        </p:nvSpPr>
        <p:spPr>
          <a:xfrm>
            <a:off x="4281480" y="3067200"/>
            <a:ext cx="216000" cy="2156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Oval 7">
            <a:hlinkClick r:id="rId4" action="ppaction://hlinksldjump"/>
          </p:cNvPr>
          <p:cNvSpPr/>
          <p:nvPr/>
        </p:nvSpPr>
        <p:spPr>
          <a:xfrm>
            <a:off x="5003640" y="1844640"/>
            <a:ext cx="216000" cy="2160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Oval 8">
            <a:hlinkClick r:id="rId5" action="ppaction://hlinksldjump"/>
          </p:cNvPr>
          <p:cNvSpPr/>
          <p:nvPr/>
        </p:nvSpPr>
        <p:spPr>
          <a:xfrm>
            <a:off x="3635280" y="981000"/>
            <a:ext cx="216000" cy="2160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Oval 9">
            <a:hlinkClick r:id="rId6" action="ppaction://hlinksldjump"/>
          </p:cNvPr>
          <p:cNvSpPr/>
          <p:nvPr/>
        </p:nvSpPr>
        <p:spPr>
          <a:xfrm>
            <a:off x="5580000" y="692280"/>
            <a:ext cx="216000" cy="2156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Oval 10">
            <a:hlinkClick r:id="rId7" action="ppaction://hlinksldjump"/>
          </p:cNvPr>
          <p:cNvSpPr/>
          <p:nvPr/>
        </p:nvSpPr>
        <p:spPr>
          <a:xfrm>
            <a:off x="6732720" y="404640"/>
            <a:ext cx="215640" cy="2160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Oval 11">
            <a:hlinkClick r:id="rId8" action="ppaction://hlinksldjump"/>
          </p:cNvPr>
          <p:cNvSpPr/>
          <p:nvPr/>
        </p:nvSpPr>
        <p:spPr>
          <a:xfrm>
            <a:off x="7380360" y="1197000"/>
            <a:ext cx="216000" cy="2160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Oval 12">
            <a:hlinkClick r:id="rId9" action="ppaction://hlinksldjump"/>
          </p:cNvPr>
          <p:cNvSpPr/>
          <p:nvPr/>
        </p:nvSpPr>
        <p:spPr>
          <a:xfrm>
            <a:off x="6175440" y="3981600"/>
            <a:ext cx="216000" cy="2156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Oval 13">
            <a:hlinkClick r:id="rId10" action="ppaction://hlinksldjump"/>
          </p:cNvPr>
          <p:cNvSpPr/>
          <p:nvPr/>
        </p:nvSpPr>
        <p:spPr>
          <a:xfrm>
            <a:off x="5940360" y="4797360"/>
            <a:ext cx="216000" cy="2160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5" name="Picture 14" descr="паравозик"/>
          <p:cNvPicPr/>
          <p:nvPr/>
        </p:nvPicPr>
        <p:blipFill>
          <a:blip r:embed="rId11"/>
          <a:stretch/>
        </p:blipFill>
        <p:spPr>
          <a:xfrm>
            <a:off x="0" y="6086520"/>
            <a:ext cx="914400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84000" y="151920"/>
            <a:ext cx="507204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Сергиев Посад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Picture 6" descr="sergiev2"/>
          <p:cNvPicPr/>
          <p:nvPr/>
        </p:nvPicPr>
        <p:blipFill>
          <a:blip r:embed="rId1"/>
          <a:stretch/>
        </p:blipFill>
        <p:spPr>
          <a:xfrm>
            <a:off x="179280" y="18900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Успенский собор, Сергиев Посад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88000" y="981000"/>
            <a:ext cx="1800360" cy="2665440"/>
          </a:xfrm>
          <a:prstGeom prst="rect">
            <a:avLst/>
          </a:prstGeom>
          <a:ln w="28440">
            <a:solidFill>
              <a:srgbClr val="ffb800"/>
            </a:solidFill>
            <a:miter/>
          </a:ln>
        </p:spPr>
      </p:pic>
      <p:pic>
        <p:nvPicPr>
          <p:cNvPr id="210" name="Picture 9" descr="тр с лавра пятницкая башня"/>
          <p:cNvPicPr/>
          <p:nvPr/>
        </p:nvPicPr>
        <p:blipFill>
          <a:blip r:embed="rId4"/>
          <a:stretch/>
        </p:blipFill>
        <p:spPr>
          <a:xfrm>
            <a:off x="2268360" y="1341360"/>
            <a:ext cx="4321440" cy="3240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Сергиев Посад, Успенский собор, 1559-1585 гг."/>
          <p:cNvPicPr/>
          <p:nvPr/>
        </p:nvPicPr>
        <p:blipFill>
          <a:blip r:embed="rId5"/>
          <a:stretch/>
        </p:blipFill>
        <p:spPr>
          <a:xfrm>
            <a:off x="250920" y="2205000"/>
            <a:ext cx="1908000" cy="3457440"/>
          </a:xfrm>
          <a:prstGeom prst="rect">
            <a:avLst/>
          </a:prstGeom>
          <a:ln w="28440">
            <a:solidFill>
              <a:srgbClr val="ffb800"/>
            </a:solidFill>
            <a:miter/>
          </a:ln>
        </p:spPr>
      </p:pic>
      <p:sp>
        <p:nvSpPr>
          <p:cNvPr id="212" name="AutoShape 12">
            <a:hlinkClick r:id="rId6" action="ppaction://hlinksldjump"/>
          </p:cNvPr>
          <p:cNvSpPr/>
          <p:nvPr/>
        </p:nvSpPr>
        <p:spPr>
          <a:xfrm>
            <a:off x="8798040" y="6453360"/>
            <a:ext cx="382320" cy="444240"/>
          </a:xfrm>
          <a:custGeom>
            <a:avLst/>
            <a:gdLst>
              <a:gd name="textAreaLeft" fmla="*/ 24480 w 382320"/>
              <a:gd name="textAreaRight" fmla="*/ 357840 w 382320"/>
              <a:gd name="textAreaTop" fmla="*/ 24480 h 444240"/>
              <a:gd name="textAreaBottom" fmla="*/ 419760 h 444240"/>
            </a:gdLst>
            <a:ahLst/>
            <a:rect l="textAreaLeft" t="textAreaTop" r="textAreaRight" b="textAreaBottom"/>
            <a:pathLst>
              <a:path w="21600" h="25095">
                <a:moveTo>
                  <a:pt x="0" y="0"/>
                </a:moveTo>
                <a:lnTo>
                  <a:pt x="21600" y="0"/>
                </a:lnTo>
                <a:lnTo>
                  <a:pt x="21600" y="25095"/>
                </a:lnTo>
                <a:lnTo>
                  <a:pt x="0" y="25095"/>
                </a:lnTo>
                <a:close/>
              </a:path>
              <a:path fill="lightenLess" w="21600" h="2509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95">
                <a:moveTo>
                  <a:pt x="21600" y="0"/>
                </a:moveTo>
                <a:lnTo>
                  <a:pt x="21600" y="25095"/>
                </a:lnTo>
                <a:lnTo>
                  <a:pt x="20200" y="23695"/>
                </a:lnTo>
                <a:lnTo>
                  <a:pt x="20200" y="1400"/>
                </a:lnTo>
                <a:close/>
              </a:path>
              <a:path fill="darkenLess" w="21600" h="25095">
                <a:moveTo>
                  <a:pt x="21600" y="25095"/>
                </a:moveTo>
                <a:lnTo>
                  <a:pt x="0" y="25095"/>
                </a:lnTo>
                <a:lnTo>
                  <a:pt x="1400" y="23695"/>
                </a:lnTo>
                <a:lnTo>
                  <a:pt x="20200" y="23695"/>
                </a:lnTo>
                <a:close/>
              </a:path>
              <a:path fill="lighten" w="21600" h="25095">
                <a:moveTo>
                  <a:pt x="0" y="2509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95"/>
                </a:lnTo>
                <a:close/>
              </a:path>
              <a:path fill="darken" w="21600" h="25095">
                <a:moveTo>
                  <a:pt x="10800" y="5585"/>
                </a:moveTo>
                <a:lnTo>
                  <a:pt x="13376" y="8196"/>
                </a:lnTo>
                <a:lnTo>
                  <a:pt x="13376" y="6455"/>
                </a:lnTo>
                <a:lnTo>
                  <a:pt x="15152" y="6455"/>
                </a:lnTo>
                <a:lnTo>
                  <a:pt x="15152" y="9971"/>
                </a:lnTo>
                <a:lnTo>
                  <a:pt x="17763" y="12548"/>
                </a:lnTo>
                <a:lnTo>
                  <a:pt x="16109" y="12548"/>
                </a:lnTo>
                <a:lnTo>
                  <a:pt x="16109" y="19737"/>
                </a:lnTo>
                <a:lnTo>
                  <a:pt x="5491" y="19737"/>
                </a:lnTo>
                <a:lnTo>
                  <a:pt x="5491" y="12548"/>
                </a:lnTo>
                <a:lnTo>
                  <a:pt x="3837" y="12548"/>
                </a:lnTo>
                <a:close/>
              </a:path>
              <a:path fill="darkenLess" w="21600" h="25095">
                <a:moveTo>
                  <a:pt x="13376" y="8196"/>
                </a:moveTo>
                <a:lnTo>
                  <a:pt x="13376" y="6455"/>
                </a:lnTo>
                <a:lnTo>
                  <a:pt x="15152" y="6455"/>
                </a:lnTo>
                <a:lnTo>
                  <a:pt x="15152" y="9971"/>
                </a:lnTo>
                <a:close/>
              </a:path>
              <a:path fill="darkenLess" w="21600" h="25095">
                <a:moveTo>
                  <a:pt x="9877" y="16046"/>
                </a:moveTo>
                <a:lnTo>
                  <a:pt x="11723" y="16046"/>
                </a:lnTo>
                <a:lnTo>
                  <a:pt x="11723" y="19737"/>
                </a:lnTo>
                <a:lnTo>
                  <a:pt x="16109" y="19737"/>
                </a:lnTo>
                <a:lnTo>
                  <a:pt x="16109" y="12548"/>
                </a:lnTo>
                <a:lnTo>
                  <a:pt x="5491" y="12548"/>
                </a:lnTo>
                <a:lnTo>
                  <a:pt x="5491" y="19737"/>
                </a:lnTo>
                <a:lnTo>
                  <a:pt x="9877" y="19737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Picture 8" descr="вид на троице-серг лавру со смотровой площадки"/>
          <p:cNvPicPr/>
          <p:nvPr/>
        </p:nvPicPr>
        <p:blipFill>
          <a:blip r:embed="rId7"/>
          <a:stretch/>
        </p:blipFill>
        <p:spPr>
          <a:xfrm>
            <a:off x="3132000" y="3618000"/>
            <a:ext cx="5185080" cy="3240000"/>
          </a:xfrm>
          <a:prstGeom prst="rect">
            <a:avLst/>
          </a:prstGeom>
          <a:ln w="28440">
            <a:solidFill>
              <a:srgbClr val="ffb800"/>
            </a:solidFill>
            <a:miter/>
          </a:ln>
        </p:spPr>
      </p:pic>
      <p:pic>
        <p:nvPicPr>
          <p:cNvPr id="214" name="Picture 11" descr="Трегубова 002"/>
          <p:cNvPicPr/>
          <p:nvPr/>
        </p:nvPicPr>
        <p:blipFill>
          <a:blip r:embed="rId8"/>
          <a:stretch/>
        </p:blipFill>
        <p:spPr>
          <a:xfrm>
            <a:off x="1908000" y="907920"/>
            <a:ext cx="5340600" cy="5139000"/>
          </a:xfrm>
          <a:prstGeom prst="rect">
            <a:avLst/>
          </a:prstGeom>
          <a:ln w="28440">
            <a:solidFill>
              <a:srgbClr val="ffb8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694368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ереславль-Залесски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6" name="Picture 4" descr="30_s"/>
          <p:cNvPicPr/>
          <p:nvPr/>
        </p:nvPicPr>
        <p:blipFill>
          <a:blip r:embed="rId1"/>
          <a:stretch/>
        </p:blipFill>
        <p:spPr>
          <a:xfrm>
            <a:off x="179280" y="981000"/>
            <a:ext cx="2089080" cy="2857680"/>
          </a:xfrm>
          <a:prstGeom prst="rect">
            <a:avLst/>
          </a:prstGeom>
          <a:ln w="28440">
            <a:solidFill>
              <a:srgbClr val="ffb800"/>
            </a:solidFill>
            <a:miter/>
          </a:ln>
        </p:spPr>
      </p:pic>
      <p:pic>
        <p:nvPicPr>
          <p:cNvPr id="217" name="Picture 5" descr="26_s"/>
          <p:cNvPicPr/>
          <p:nvPr/>
        </p:nvPicPr>
        <p:blipFill>
          <a:blip r:embed="rId2"/>
          <a:stretch/>
        </p:blipFill>
        <p:spPr>
          <a:xfrm>
            <a:off x="1979640" y="1484280"/>
            <a:ext cx="2879640" cy="3672000"/>
          </a:xfrm>
          <a:prstGeom prst="rect">
            <a:avLst/>
          </a:prstGeom>
          <a:ln w="28440">
            <a:solidFill>
              <a:srgbClr val="ffb800"/>
            </a:solidFill>
            <a:miter/>
          </a:ln>
        </p:spPr>
      </p:pic>
      <p:pic>
        <p:nvPicPr>
          <p:cNvPr id="218" name="Picture 6" descr="25_s"/>
          <p:cNvPicPr/>
          <p:nvPr/>
        </p:nvPicPr>
        <p:blipFill>
          <a:blip r:embed="rId3"/>
          <a:stretch/>
        </p:blipFill>
        <p:spPr>
          <a:xfrm>
            <a:off x="3780000" y="2133720"/>
            <a:ext cx="2736720" cy="4032000"/>
          </a:xfrm>
          <a:prstGeom prst="rect">
            <a:avLst/>
          </a:prstGeom>
          <a:ln w="28440">
            <a:solidFill>
              <a:srgbClr val="ffb800"/>
            </a:solidFill>
            <a:miter/>
          </a:ln>
        </p:spPr>
      </p:pic>
      <p:pic>
        <p:nvPicPr>
          <p:cNvPr id="219" name="Picture 7" descr="24_s"/>
          <p:cNvPicPr/>
          <p:nvPr/>
        </p:nvPicPr>
        <p:blipFill>
          <a:blip r:embed="rId4"/>
          <a:stretch/>
        </p:blipFill>
        <p:spPr>
          <a:xfrm>
            <a:off x="6156360" y="2852640"/>
            <a:ext cx="2592360" cy="3745080"/>
          </a:xfrm>
          <a:prstGeom prst="rect">
            <a:avLst/>
          </a:prstGeom>
          <a:ln w="28440">
            <a:solidFill>
              <a:srgbClr val="ffb800"/>
            </a:solidFill>
            <a:miter/>
          </a:ln>
        </p:spPr>
      </p:pic>
      <p:sp>
        <p:nvSpPr>
          <p:cNvPr id="220" name="AutoShape 8">
            <a:hlinkClick r:id="rId5" action="ppaction://hlinksldjump"/>
          </p:cNvPr>
          <p:cNvSpPr/>
          <p:nvPr/>
        </p:nvSpPr>
        <p:spPr>
          <a:xfrm>
            <a:off x="8798040" y="6453360"/>
            <a:ext cx="382320" cy="444240"/>
          </a:xfrm>
          <a:custGeom>
            <a:avLst/>
            <a:gdLst>
              <a:gd name="textAreaLeft" fmla="*/ 24480 w 382320"/>
              <a:gd name="textAreaRight" fmla="*/ 357840 w 382320"/>
              <a:gd name="textAreaTop" fmla="*/ 24480 h 444240"/>
              <a:gd name="textAreaBottom" fmla="*/ 419760 h 444240"/>
            </a:gdLst>
            <a:ahLst/>
            <a:rect l="textAreaLeft" t="textAreaTop" r="textAreaRight" b="textAreaBottom"/>
            <a:pathLst>
              <a:path w="21600" h="25095">
                <a:moveTo>
                  <a:pt x="0" y="0"/>
                </a:moveTo>
                <a:lnTo>
                  <a:pt x="21600" y="0"/>
                </a:lnTo>
                <a:lnTo>
                  <a:pt x="21600" y="25095"/>
                </a:lnTo>
                <a:lnTo>
                  <a:pt x="0" y="25095"/>
                </a:lnTo>
                <a:close/>
              </a:path>
              <a:path fill="lightenLess" w="21600" h="2509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95">
                <a:moveTo>
                  <a:pt x="21600" y="0"/>
                </a:moveTo>
                <a:lnTo>
                  <a:pt x="21600" y="25095"/>
                </a:lnTo>
                <a:lnTo>
                  <a:pt x="20200" y="23695"/>
                </a:lnTo>
                <a:lnTo>
                  <a:pt x="20200" y="1400"/>
                </a:lnTo>
                <a:close/>
              </a:path>
              <a:path fill="darkenLess" w="21600" h="25095">
                <a:moveTo>
                  <a:pt x="21600" y="25095"/>
                </a:moveTo>
                <a:lnTo>
                  <a:pt x="0" y="25095"/>
                </a:lnTo>
                <a:lnTo>
                  <a:pt x="1400" y="23695"/>
                </a:lnTo>
                <a:lnTo>
                  <a:pt x="20200" y="23695"/>
                </a:lnTo>
                <a:close/>
              </a:path>
              <a:path fill="lighten" w="21600" h="25095">
                <a:moveTo>
                  <a:pt x="0" y="2509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95"/>
                </a:lnTo>
                <a:close/>
              </a:path>
              <a:path fill="darken" w="21600" h="25095">
                <a:moveTo>
                  <a:pt x="10800" y="5585"/>
                </a:moveTo>
                <a:lnTo>
                  <a:pt x="13376" y="8196"/>
                </a:lnTo>
                <a:lnTo>
                  <a:pt x="13376" y="6455"/>
                </a:lnTo>
                <a:lnTo>
                  <a:pt x="15152" y="6455"/>
                </a:lnTo>
                <a:lnTo>
                  <a:pt x="15152" y="9971"/>
                </a:lnTo>
                <a:lnTo>
                  <a:pt x="17763" y="12548"/>
                </a:lnTo>
                <a:lnTo>
                  <a:pt x="16109" y="12548"/>
                </a:lnTo>
                <a:lnTo>
                  <a:pt x="16109" y="19737"/>
                </a:lnTo>
                <a:lnTo>
                  <a:pt x="5491" y="19737"/>
                </a:lnTo>
                <a:lnTo>
                  <a:pt x="5491" y="12548"/>
                </a:lnTo>
                <a:lnTo>
                  <a:pt x="3837" y="12548"/>
                </a:lnTo>
                <a:close/>
              </a:path>
              <a:path fill="darkenLess" w="21600" h="25095">
                <a:moveTo>
                  <a:pt x="13376" y="8196"/>
                </a:moveTo>
                <a:lnTo>
                  <a:pt x="13376" y="6455"/>
                </a:lnTo>
                <a:lnTo>
                  <a:pt x="15152" y="6455"/>
                </a:lnTo>
                <a:lnTo>
                  <a:pt x="15152" y="9971"/>
                </a:lnTo>
                <a:close/>
              </a:path>
              <a:path fill="darkenLess" w="21600" h="25095">
                <a:moveTo>
                  <a:pt x="9877" y="16046"/>
                </a:moveTo>
                <a:lnTo>
                  <a:pt x="11723" y="16046"/>
                </a:lnTo>
                <a:lnTo>
                  <a:pt x="11723" y="19737"/>
                </a:lnTo>
                <a:lnTo>
                  <a:pt x="16109" y="19737"/>
                </a:lnTo>
                <a:lnTo>
                  <a:pt x="16109" y="12548"/>
                </a:lnTo>
                <a:lnTo>
                  <a:pt x="5491" y="12548"/>
                </a:lnTo>
                <a:lnTo>
                  <a:pt x="5491" y="19737"/>
                </a:lnTo>
                <a:lnTo>
                  <a:pt x="9877" y="19737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30260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ост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" name="Picture 4" descr="Герб города"/>
          <p:cNvPicPr/>
          <p:nvPr/>
        </p:nvPicPr>
        <p:blipFill>
          <a:blip r:embed="rId1"/>
          <a:stretch/>
        </p:blipFill>
        <p:spPr>
          <a:xfrm>
            <a:off x="250920" y="0"/>
            <a:ext cx="2449440" cy="2565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кремль"/>
          <p:cNvPicPr/>
          <p:nvPr/>
        </p:nvPicPr>
        <p:blipFill>
          <a:blip r:embed="rId2"/>
          <a:stretch/>
        </p:blipFill>
        <p:spPr>
          <a:xfrm>
            <a:off x="1403280" y="2997360"/>
            <a:ext cx="3672000" cy="3644640"/>
          </a:xfrm>
          <a:prstGeom prst="rect">
            <a:avLst/>
          </a:prstGeom>
          <a:ln w="28440">
            <a:solidFill>
              <a:srgbClr val="ffb800"/>
            </a:solidFill>
            <a:miter/>
          </a:ln>
        </p:spPr>
      </p:pic>
      <p:pic>
        <p:nvPicPr>
          <p:cNvPr id="224" name="Picture 6" descr="Ростов Великий, Вход в Красные палаты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11640" y="907920"/>
            <a:ext cx="3600360" cy="3025800"/>
          </a:xfrm>
          <a:prstGeom prst="rect">
            <a:avLst/>
          </a:prstGeom>
          <a:ln w="28440">
            <a:solidFill>
              <a:srgbClr val="ffb800"/>
            </a:solidFill>
            <a:miter/>
          </a:ln>
        </p:spPr>
      </p:pic>
      <p:pic>
        <p:nvPicPr>
          <p:cNvPr id="225" name="Picture 7" descr="успенский собор"/>
          <p:cNvPicPr/>
          <p:nvPr/>
        </p:nvPicPr>
        <p:blipFill>
          <a:blip r:embed="rId5"/>
          <a:stretch/>
        </p:blipFill>
        <p:spPr>
          <a:xfrm>
            <a:off x="5940360" y="3716280"/>
            <a:ext cx="2303640" cy="2879640"/>
          </a:xfrm>
          <a:prstGeom prst="rect">
            <a:avLst/>
          </a:prstGeom>
          <a:ln w="28440">
            <a:solidFill>
              <a:srgbClr val="ffb800"/>
            </a:solidFill>
            <a:miter/>
          </a:ln>
        </p:spPr>
      </p:pic>
      <p:sp>
        <p:nvSpPr>
          <p:cNvPr id="226" name="AutoShape 8">
            <a:hlinkClick r:id="rId6" action="ppaction://hlinksldjump"/>
          </p:cNvPr>
          <p:cNvSpPr/>
          <p:nvPr/>
        </p:nvSpPr>
        <p:spPr>
          <a:xfrm>
            <a:off x="8798040" y="6453360"/>
            <a:ext cx="382320" cy="444240"/>
          </a:xfrm>
          <a:custGeom>
            <a:avLst/>
            <a:gdLst>
              <a:gd name="textAreaLeft" fmla="*/ 24480 w 382320"/>
              <a:gd name="textAreaRight" fmla="*/ 357840 w 382320"/>
              <a:gd name="textAreaTop" fmla="*/ 24480 h 444240"/>
              <a:gd name="textAreaBottom" fmla="*/ 419760 h 444240"/>
            </a:gdLst>
            <a:ahLst/>
            <a:rect l="textAreaLeft" t="textAreaTop" r="textAreaRight" b="textAreaBottom"/>
            <a:pathLst>
              <a:path w="21600" h="25095">
                <a:moveTo>
                  <a:pt x="0" y="0"/>
                </a:moveTo>
                <a:lnTo>
                  <a:pt x="21600" y="0"/>
                </a:lnTo>
                <a:lnTo>
                  <a:pt x="21600" y="25095"/>
                </a:lnTo>
                <a:lnTo>
                  <a:pt x="0" y="25095"/>
                </a:lnTo>
                <a:close/>
              </a:path>
              <a:path fill="lightenLess" w="21600" h="2509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95">
                <a:moveTo>
                  <a:pt x="21600" y="0"/>
                </a:moveTo>
                <a:lnTo>
                  <a:pt x="21600" y="25095"/>
                </a:lnTo>
                <a:lnTo>
                  <a:pt x="20200" y="23695"/>
                </a:lnTo>
                <a:lnTo>
                  <a:pt x="20200" y="1400"/>
                </a:lnTo>
                <a:close/>
              </a:path>
              <a:path fill="darkenLess" w="21600" h="25095">
                <a:moveTo>
                  <a:pt x="21600" y="25095"/>
                </a:moveTo>
                <a:lnTo>
                  <a:pt x="0" y="25095"/>
                </a:lnTo>
                <a:lnTo>
                  <a:pt x="1400" y="23695"/>
                </a:lnTo>
                <a:lnTo>
                  <a:pt x="20200" y="23695"/>
                </a:lnTo>
                <a:close/>
              </a:path>
              <a:path fill="lighten" w="21600" h="25095">
                <a:moveTo>
                  <a:pt x="0" y="2509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95"/>
                </a:lnTo>
                <a:close/>
              </a:path>
              <a:path fill="darken" w="21600" h="25095">
                <a:moveTo>
                  <a:pt x="10800" y="5585"/>
                </a:moveTo>
                <a:lnTo>
                  <a:pt x="13376" y="8196"/>
                </a:lnTo>
                <a:lnTo>
                  <a:pt x="13376" y="6455"/>
                </a:lnTo>
                <a:lnTo>
                  <a:pt x="15152" y="6455"/>
                </a:lnTo>
                <a:lnTo>
                  <a:pt x="15152" y="9971"/>
                </a:lnTo>
                <a:lnTo>
                  <a:pt x="17763" y="12548"/>
                </a:lnTo>
                <a:lnTo>
                  <a:pt x="16109" y="12548"/>
                </a:lnTo>
                <a:lnTo>
                  <a:pt x="16109" y="19737"/>
                </a:lnTo>
                <a:lnTo>
                  <a:pt x="5491" y="19737"/>
                </a:lnTo>
                <a:lnTo>
                  <a:pt x="5491" y="12548"/>
                </a:lnTo>
                <a:lnTo>
                  <a:pt x="3837" y="12548"/>
                </a:lnTo>
                <a:close/>
              </a:path>
              <a:path fill="darkenLess" w="21600" h="25095">
                <a:moveTo>
                  <a:pt x="13376" y="8196"/>
                </a:moveTo>
                <a:lnTo>
                  <a:pt x="13376" y="6455"/>
                </a:lnTo>
                <a:lnTo>
                  <a:pt x="15152" y="6455"/>
                </a:lnTo>
                <a:lnTo>
                  <a:pt x="15152" y="9971"/>
                </a:lnTo>
                <a:close/>
              </a:path>
              <a:path fill="darkenLess" w="21600" h="25095">
                <a:moveTo>
                  <a:pt x="9877" y="16046"/>
                </a:moveTo>
                <a:lnTo>
                  <a:pt x="11723" y="16046"/>
                </a:lnTo>
                <a:lnTo>
                  <a:pt x="11723" y="19737"/>
                </a:lnTo>
                <a:lnTo>
                  <a:pt x="16109" y="19737"/>
                </a:lnTo>
                <a:lnTo>
                  <a:pt x="16109" y="12548"/>
                </a:lnTo>
                <a:lnTo>
                  <a:pt x="5491" y="12548"/>
                </a:lnTo>
                <a:lnTo>
                  <a:pt x="5491" y="19737"/>
                </a:lnTo>
                <a:lnTo>
                  <a:pt x="9877" y="19737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Углич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8" name="Picture 4" descr="65_s"/>
          <p:cNvPicPr/>
          <p:nvPr/>
        </p:nvPicPr>
        <p:blipFill>
          <a:blip r:embed="rId1"/>
          <a:stretch/>
        </p:blipFill>
        <p:spPr>
          <a:xfrm>
            <a:off x="324000" y="404640"/>
            <a:ext cx="2881080" cy="2592720"/>
          </a:xfrm>
          <a:prstGeom prst="rect">
            <a:avLst/>
          </a:prstGeom>
          <a:ln w="28440">
            <a:solidFill>
              <a:srgbClr val="ffb800"/>
            </a:solidFill>
            <a:miter/>
          </a:ln>
        </p:spPr>
      </p:pic>
      <p:pic>
        <p:nvPicPr>
          <p:cNvPr id="229" name="Picture 5" descr="58_s"/>
          <p:cNvPicPr/>
          <p:nvPr/>
        </p:nvPicPr>
        <p:blipFill>
          <a:blip r:embed="rId2"/>
          <a:stretch/>
        </p:blipFill>
        <p:spPr>
          <a:xfrm>
            <a:off x="5651640" y="1844640"/>
            <a:ext cx="2985840" cy="3959280"/>
          </a:xfrm>
          <a:prstGeom prst="rect">
            <a:avLst/>
          </a:prstGeom>
          <a:ln w="28440">
            <a:solidFill>
              <a:srgbClr val="ffb800"/>
            </a:solidFill>
            <a:miter/>
          </a:ln>
        </p:spPr>
      </p:pic>
      <p:pic>
        <p:nvPicPr>
          <p:cNvPr id="230" name="Picture 6" descr="56_s"/>
          <p:cNvPicPr/>
          <p:nvPr/>
        </p:nvPicPr>
        <p:blipFill>
          <a:blip r:embed="rId3"/>
          <a:stretch/>
        </p:blipFill>
        <p:spPr>
          <a:xfrm>
            <a:off x="1619280" y="3213000"/>
            <a:ext cx="3838680" cy="2900520"/>
          </a:xfrm>
          <a:prstGeom prst="rect">
            <a:avLst/>
          </a:prstGeom>
          <a:ln w="28440">
            <a:solidFill>
              <a:srgbClr val="ffb800"/>
            </a:solidFill>
            <a:miter/>
          </a:ln>
        </p:spPr>
      </p:pic>
      <p:pic>
        <p:nvPicPr>
          <p:cNvPr id="231" name="Picture 7" descr="Трегубова 003"/>
          <p:cNvPicPr/>
          <p:nvPr/>
        </p:nvPicPr>
        <p:blipFill>
          <a:blip r:embed="rId4"/>
          <a:stretch/>
        </p:blipFill>
        <p:spPr>
          <a:xfrm>
            <a:off x="2124000" y="1003320"/>
            <a:ext cx="5832720" cy="4852800"/>
          </a:xfrm>
          <a:prstGeom prst="rect">
            <a:avLst/>
          </a:prstGeom>
          <a:ln w="28440">
            <a:solidFill>
              <a:srgbClr val="ffb800"/>
            </a:solidFill>
            <a:miter/>
          </a:ln>
        </p:spPr>
      </p:pic>
      <p:sp>
        <p:nvSpPr>
          <p:cNvPr id="232" name="AutoShape 8"/>
          <p:cNvSpPr/>
          <p:nvPr/>
        </p:nvSpPr>
        <p:spPr>
          <a:xfrm>
            <a:off x="8798040" y="6453360"/>
            <a:ext cx="382320" cy="444240"/>
          </a:xfrm>
          <a:custGeom>
            <a:avLst/>
            <a:gdLst>
              <a:gd name="textAreaLeft" fmla="*/ 24480 w 382320"/>
              <a:gd name="textAreaRight" fmla="*/ 357840 w 382320"/>
              <a:gd name="textAreaTop" fmla="*/ 24480 h 444240"/>
              <a:gd name="textAreaBottom" fmla="*/ 419760 h 444240"/>
            </a:gdLst>
            <a:ahLst/>
            <a:rect l="textAreaLeft" t="textAreaTop" r="textAreaRight" b="textAreaBottom"/>
            <a:pathLst>
              <a:path w="21600" h="25095">
                <a:moveTo>
                  <a:pt x="0" y="0"/>
                </a:moveTo>
                <a:lnTo>
                  <a:pt x="21600" y="0"/>
                </a:lnTo>
                <a:lnTo>
                  <a:pt x="21600" y="25095"/>
                </a:lnTo>
                <a:lnTo>
                  <a:pt x="0" y="25095"/>
                </a:lnTo>
                <a:close/>
              </a:path>
              <a:path fill="lightenLess" w="21600" h="2509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95">
                <a:moveTo>
                  <a:pt x="21600" y="0"/>
                </a:moveTo>
                <a:lnTo>
                  <a:pt x="21600" y="25095"/>
                </a:lnTo>
                <a:lnTo>
                  <a:pt x="20200" y="23695"/>
                </a:lnTo>
                <a:lnTo>
                  <a:pt x="20200" y="1400"/>
                </a:lnTo>
                <a:close/>
              </a:path>
              <a:path fill="darkenLess" w="21600" h="25095">
                <a:moveTo>
                  <a:pt x="21600" y="25095"/>
                </a:moveTo>
                <a:lnTo>
                  <a:pt x="0" y="25095"/>
                </a:lnTo>
                <a:lnTo>
                  <a:pt x="1400" y="23695"/>
                </a:lnTo>
                <a:lnTo>
                  <a:pt x="20200" y="23695"/>
                </a:lnTo>
                <a:close/>
              </a:path>
              <a:path fill="lighten" w="21600" h="25095">
                <a:moveTo>
                  <a:pt x="0" y="2509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95"/>
                </a:lnTo>
                <a:close/>
              </a:path>
              <a:path fill="darken" w="21600" h="25095">
                <a:moveTo>
                  <a:pt x="10800" y="5585"/>
                </a:moveTo>
                <a:lnTo>
                  <a:pt x="13376" y="8196"/>
                </a:lnTo>
                <a:lnTo>
                  <a:pt x="13376" y="6455"/>
                </a:lnTo>
                <a:lnTo>
                  <a:pt x="15152" y="6455"/>
                </a:lnTo>
                <a:lnTo>
                  <a:pt x="15152" y="9971"/>
                </a:lnTo>
                <a:lnTo>
                  <a:pt x="17763" y="12548"/>
                </a:lnTo>
                <a:lnTo>
                  <a:pt x="16109" y="12548"/>
                </a:lnTo>
                <a:lnTo>
                  <a:pt x="16109" y="19737"/>
                </a:lnTo>
                <a:lnTo>
                  <a:pt x="5491" y="19737"/>
                </a:lnTo>
                <a:lnTo>
                  <a:pt x="5491" y="12548"/>
                </a:lnTo>
                <a:lnTo>
                  <a:pt x="3837" y="12548"/>
                </a:lnTo>
                <a:close/>
              </a:path>
              <a:path fill="darkenLess" w="21600" h="25095">
                <a:moveTo>
                  <a:pt x="13376" y="8196"/>
                </a:moveTo>
                <a:lnTo>
                  <a:pt x="13376" y="6455"/>
                </a:lnTo>
                <a:lnTo>
                  <a:pt x="15152" y="6455"/>
                </a:lnTo>
                <a:lnTo>
                  <a:pt x="15152" y="9971"/>
                </a:lnTo>
                <a:close/>
              </a:path>
              <a:path fill="darkenLess" w="21600" h="25095">
                <a:moveTo>
                  <a:pt x="9877" y="16046"/>
                </a:moveTo>
                <a:lnTo>
                  <a:pt x="11723" y="16046"/>
                </a:lnTo>
                <a:lnTo>
                  <a:pt x="11723" y="19737"/>
                </a:lnTo>
                <a:lnTo>
                  <a:pt x="16109" y="19737"/>
                </a:lnTo>
                <a:lnTo>
                  <a:pt x="16109" y="12548"/>
                </a:lnTo>
                <a:lnTo>
                  <a:pt x="5491" y="12548"/>
                </a:lnTo>
                <a:lnTo>
                  <a:pt x="5491" y="19737"/>
                </a:lnTo>
                <a:lnTo>
                  <a:pt x="9877" y="19737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Ярославл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4" name="Picture 4" descr="67_s"/>
          <p:cNvPicPr/>
          <p:nvPr/>
        </p:nvPicPr>
        <p:blipFill>
          <a:blip r:embed="rId1"/>
          <a:stretch/>
        </p:blipFill>
        <p:spPr>
          <a:xfrm>
            <a:off x="755640" y="2565360"/>
            <a:ext cx="3600360" cy="309564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  <p:pic>
        <p:nvPicPr>
          <p:cNvPr id="235" name="Picture 5" descr="Герб города"/>
          <p:cNvPicPr/>
          <p:nvPr/>
        </p:nvPicPr>
        <p:blipFill>
          <a:blip r:embed="rId2"/>
          <a:stretch/>
        </p:blipFill>
        <p:spPr>
          <a:xfrm>
            <a:off x="250920" y="0"/>
            <a:ext cx="2368440" cy="2637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Ярославль, Церковь Ильи Пророка"/>
          <p:cNvPicPr/>
          <p:nvPr/>
        </p:nvPicPr>
        <p:blipFill>
          <a:blip r:embed="rId3"/>
          <a:stretch/>
        </p:blipFill>
        <p:spPr>
          <a:xfrm>
            <a:off x="4500720" y="1052640"/>
            <a:ext cx="3443040" cy="324000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  <p:pic>
        <p:nvPicPr>
          <p:cNvPr id="237" name="Picture 7" descr="спасо преображенскйи монастырь Главный колокол"/>
          <p:cNvPicPr/>
          <p:nvPr/>
        </p:nvPicPr>
        <p:blipFill>
          <a:blip r:embed="rId4"/>
          <a:stretch/>
        </p:blipFill>
        <p:spPr>
          <a:xfrm>
            <a:off x="5580000" y="3716280"/>
            <a:ext cx="2844720" cy="295272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  <p:pic>
        <p:nvPicPr>
          <p:cNvPr id="238" name="Picture 8" descr="Трегубова 004"/>
          <p:cNvPicPr/>
          <p:nvPr/>
        </p:nvPicPr>
        <p:blipFill>
          <a:blip r:embed="rId5"/>
          <a:stretch/>
        </p:blipFill>
        <p:spPr>
          <a:xfrm>
            <a:off x="2627280" y="1484280"/>
            <a:ext cx="5254560" cy="421164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  <p:sp>
        <p:nvSpPr>
          <p:cNvPr id="239" name="AutoShape 9"/>
          <p:cNvSpPr/>
          <p:nvPr/>
        </p:nvSpPr>
        <p:spPr>
          <a:xfrm>
            <a:off x="8798040" y="6453360"/>
            <a:ext cx="382320" cy="444240"/>
          </a:xfrm>
          <a:custGeom>
            <a:avLst/>
            <a:gdLst>
              <a:gd name="textAreaLeft" fmla="*/ 24480 w 382320"/>
              <a:gd name="textAreaRight" fmla="*/ 357840 w 382320"/>
              <a:gd name="textAreaTop" fmla="*/ 24480 h 444240"/>
              <a:gd name="textAreaBottom" fmla="*/ 419760 h 444240"/>
            </a:gdLst>
            <a:ahLst/>
            <a:rect l="textAreaLeft" t="textAreaTop" r="textAreaRight" b="textAreaBottom"/>
            <a:pathLst>
              <a:path w="21600" h="25095">
                <a:moveTo>
                  <a:pt x="0" y="0"/>
                </a:moveTo>
                <a:lnTo>
                  <a:pt x="21600" y="0"/>
                </a:lnTo>
                <a:lnTo>
                  <a:pt x="21600" y="25095"/>
                </a:lnTo>
                <a:lnTo>
                  <a:pt x="0" y="25095"/>
                </a:lnTo>
                <a:close/>
              </a:path>
              <a:path fill="lightenLess" w="21600" h="2509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95">
                <a:moveTo>
                  <a:pt x="21600" y="0"/>
                </a:moveTo>
                <a:lnTo>
                  <a:pt x="21600" y="25095"/>
                </a:lnTo>
                <a:lnTo>
                  <a:pt x="20200" y="23695"/>
                </a:lnTo>
                <a:lnTo>
                  <a:pt x="20200" y="1400"/>
                </a:lnTo>
                <a:close/>
              </a:path>
              <a:path fill="darkenLess" w="21600" h="25095">
                <a:moveTo>
                  <a:pt x="21600" y="25095"/>
                </a:moveTo>
                <a:lnTo>
                  <a:pt x="0" y="25095"/>
                </a:lnTo>
                <a:lnTo>
                  <a:pt x="1400" y="23695"/>
                </a:lnTo>
                <a:lnTo>
                  <a:pt x="20200" y="23695"/>
                </a:lnTo>
                <a:close/>
              </a:path>
              <a:path fill="lighten" w="21600" h="25095">
                <a:moveTo>
                  <a:pt x="0" y="2509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95"/>
                </a:lnTo>
                <a:close/>
              </a:path>
              <a:path fill="darken" w="21600" h="25095">
                <a:moveTo>
                  <a:pt x="10800" y="5585"/>
                </a:moveTo>
                <a:lnTo>
                  <a:pt x="13376" y="8196"/>
                </a:lnTo>
                <a:lnTo>
                  <a:pt x="13376" y="6455"/>
                </a:lnTo>
                <a:lnTo>
                  <a:pt x="15152" y="6455"/>
                </a:lnTo>
                <a:lnTo>
                  <a:pt x="15152" y="9971"/>
                </a:lnTo>
                <a:lnTo>
                  <a:pt x="17763" y="12548"/>
                </a:lnTo>
                <a:lnTo>
                  <a:pt x="16109" y="12548"/>
                </a:lnTo>
                <a:lnTo>
                  <a:pt x="16109" y="19737"/>
                </a:lnTo>
                <a:lnTo>
                  <a:pt x="5491" y="19737"/>
                </a:lnTo>
                <a:lnTo>
                  <a:pt x="5491" y="12548"/>
                </a:lnTo>
                <a:lnTo>
                  <a:pt x="3837" y="12548"/>
                </a:lnTo>
                <a:close/>
              </a:path>
              <a:path fill="darkenLess" w="21600" h="25095">
                <a:moveTo>
                  <a:pt x="13376" y="8196"/>
                </a:moveTo>
                <a:lnTo>
                  <a:pt x="13376" y="6455"/>
                </a:lnTo>
                <a:lnTo>
                  <a:pt x="15152" y="6455"/>
                </a:lnTo>
                <a:lnTo>
                  <a:pt x="15152" y="9971"/>
                </a:lnTo>
                <a:close/>
              </a:path>
              <a:path fill="darkenLess" w="21600" h="25095">
                <a:moveTo>
                  <a:pt x="9877" y="16046"/>
                </a:moveTo>
                <a:lnTo>
                  <a:pt x="11723" y="16046"/>
                </a:lnTo>
                <a:lnTo>
                  <a:pt x="11723" y="19737"/>
                </a:lnTo>
                <a:lnTo>
                  <a:pt x="16109" y="19737"/>
                </a:lnTo>
                <a:lnTo>
                  <a:pt x="16109" y="12548"/>
                </a:lnTo>
                <a:lnTo>
                  <a:pt x="5491" y="12548"/>
                </a:lnTo>
                <a:lnTo>
                  <a:pt x="5491" y="19737"/>
                </a:lnTo>
                <a:lnTo>
                  <a:pt x="9877" y="19737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остром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1" name="Picture 4" descr="17_s"/>
          <p:cNvPicPr/>
          <p:nvPr/>
        </p:nvPicPr>
        <p:blipFill>
          <a:blip r:embed="rId1"/>
          <a:stretch/>
        </p:blipFill>
        <p:spPr>
          <a:xfrm>
            <a:off x="324000" y="333360"/>
            <a:ext cx="1904760" cy="24256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72_s"/>
          <p:cNvPicPr/>
          <p:nvPr/>
        </p:nvPicPr>
        <p:blipFill>
          <a:blip r:embed="rId2"/>
          <a:stretch/>
        </p:blipFill>
        <p:spPr>
          <a:xfrm>
            <a:off x="250920" y="3284640"/>
            <a:ext cx="3313080" cy="316872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  <p:pic>
        <p:nvPicPr>
          <p:cNvPr id="243" name="Picture 6" descr="Ипатьевский монастырь"/>
          <p:cNvPicPr/>
          <p:nvPr/>
        </p:nvPicPr>
        <p:blipFill>
          <a:blip r:embed="rId3"/>
          <a:stretch/>
        </p:blipFill>
        <p:spPr>
          <a:xfrm>
            <a:off x="2268360" y="1052640"/>
            <a:ext cx="3505320" cy="417492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  <p:pic>
        <p:nvPicPr>
          <p:cNvPr id="244" name="Picture 7" descr="Церковь Воскресения на Дебре"/>
          <p:cNvPicPr/>
          <p:nvPr/>
        </p:nvPicPr>
        <p:blipFill>
          <a:blip r:embed="rId4"/>
          <a:stretch/>
        </p:blipFill>
        <p:spPr>
          <a:xfrm>
            <a:off x="5219640" y="2492280"/>
            <a:ext cx="3384720" cy="417672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  <p:pic>
        <p:nvPicPr>
          <p:cNvPr id="245" name="Picture 8" descr="Трегубова 005"/>
          <p:cNvPicPr/>
          <p:nvPr/>
        </p:nvPicPr>
        <p:blipFill>
          <a:blip r:embed="rId5"/>
          <a:stretch/>
        </p:blipFill>
        <p:spPr>
          <a:xfrm>
            <a:off x="2700360" y="1484280"/>
            <a:ext cx="5452920" cy="468144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  <p:sp>
        <p:nvSpPr>
          <p:cNvPr id="246" name="AutoShape 9"/>
          <p:cNvSpPr/>
          <p:nvPr/>
        </p:nvSpPr>
        <p:spPr>
          <a:xfrm>
            <a:off x="8798040" y="6453360"/>
            <a:ext cx="382320" cy="444240"/>
          </a:xfrm>
          <a:custGeom>
            <a:avLst/>
            <a:gdLst>
              <a:gd name="textAreaLeft" fmla="*/ 24480 w 382320"/>
              <a:gd name="textAreaRight" fmla="*/ 357840 w 382320"/>
              <a:gd name="textAreaTop" fmla="*/ 24480 h 444240"/>
              <a:gd name="textAreaBottom" fmla="*/ 419760 h 444240"/>
            </a:gdLst>
            <a:ahLst/>
            <a:rect l="textAreaLeft" t="textAreaTop" r="textAreaRight" b="textAreaBottom"/>
            <a:pathLst>
              <a:path w="21600" h="25095">
                <a:moveTo>
                  <a:pt x="0" y="0"/>
                </a:moveTo>
                <a:lnTo>
                  <a:pt x="21600" y="0"/>
                </a:lnTo>
                <a:lnTo>
                  <a:pt x="21600" y="25095"/>
                </a:lnTo>
                <a:lnTo>
                  <a:pt x="0" y="25095"/>
                </a:lnTo>
                <a:close/>
              </a:path>
              <a:path fill="lightenLess" w="21600" h="2509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95">
                <a:moveTo>
                  <a:pt x="21600" y="0"/>
                </a:moveTo>
                <a:lnTo>
                  <a:pt x="21600" y="25095"/>
                </a:lnTo>
                <a:lnTo>
                  <a:pt x="20200" y="23695"/>
                </a:lnTo>
                <a:lnTo>
                  <a:pt x="20200" y="1400"/>
                </a:lnTo>
                <a:close/>
              </a:path>
              <a:path fill="darkenLess" w="21600" h="25095">
                <a:moveTo>
                  <a:pt x="21600" y="25095"/>
                </a:moveTo>
                <a:lnTo>
                  <a:pt x="0" y="25095"/>
                </a:lnTo>
                <a:lnTo>
                  <a:pt x="1400" y="23695"/>
                </a:lnTo>
                <a:lnTo>
                  <a:pt x="20200" y="23695"/>
                </a:lnTo>
                <a:close/>
              </a:path>
              <a:path fill="lighten" w="21600" h="25095">
                <a:moveTo>
                  <a:pt x="0" y="2509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95"/>
                </a:lnTo>
                <a:close/>
              </a:path>
              <a:path fill="darken" w="21600" h="25095">
                <a:moveTo>
                  <a:pt x="10800" y="5585"/>
                </a:moveTo>
                <a:lnTo>
                  <a:pt x="13376" y="8196"/>
                </a:lnTo>
                <a:lnTo>
                  <a:pt x="13376" y="6455"/>
                </a:lnTo>
                <a:lnTo>
                  <a:pt x="15152" y="6455"/>
                </a:lnTo>
                <a:lnTo>
                  <a:pt x="15152" y="9971"/>
                </a:lnTo>
                <a:lnTo>
                  <a:pt x="17763" y="12548"/>
                </a:lnTo>
                <a:lnTo>
                  <a:pt x="16109" y="12548"/>
                </a:lnTo>
                <a:lnTo>
                  <a:pt x="16109" y="19737"/>
                </a:lnTo>
                <a:lnTo>
                  <a:pt x="5491" y="19737"/>
                </a:lnTo>
                <a:lnTo>
                  <a:pt x="5491" y="12548"/>
                </a:lnTo>
                <a:lnTo>
                  <a:pt x="3837" y="12548"/>
                </a:lnTo>
                <a:close/>
              </a:path>
              <a:path fill="darkenLess" w="21600" h="25095">
                <a:moveTo>
                  <a:pt x="13376" y="8196"/>
                </a:moveTo>
                <a:lnTo>
                  <a:pt x="13376" y="6455"/>
                </a:lnTo>
                <a:lnTo>
                  <a:pt x="15152" y="6455"/>
                </a:lnTo>
                <a:lnTo>
                  <a:pt x="15152" y="9971"/>
                </a:lnTo>
                <a:close/>
              </a:path>
              <a:path fill="darkenLess" w="21600" h="25095">
                <a:moveTo>
                  <a:pt x="9877" y="16046"/>
                </a:moveTo>
                <a:lnTo>
                  <a:pt x="11723" y="16046"/>
                </a:lnTo>
                <a:lnTo>
                  <a:pt x="11723" y="19737"/>
                </a:lnTo>
                <a:lnTo>
                  <a:pt x="16109" y="19737"/>
                </a:lnTo>
                <a:lnTo>
                  <a:pt x="16109" y="12548"/>
                </a:lnTo>
                <a:lnTo>
                  <a:pt x="5491" y="12548"/>
                </a:lnTo>
                <a:lnTo>
                  <a:pt x="5491" y="19737"/>
                </a:lnTo>
                <a:lnTo>
                  <a:pt x="9877" y="19737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лёс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8" name="Picture 4" descr="ples_gerb(1)"/>
          <p:cNvPicPr/>
          <p:nvPr/>
        </p:nvPicPr>
        <p:blipFill>
          <a:blip r:embed="rId1"/>
          <a:stretch/>
        </p:blipFill>
        <p:spPr>
          <a:xfrm>
            <a:off x="468360" y="333360"/>
            <a:ext cx="2362320" cy="2629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ples_cerkov"/>
          <p:cNvPicPr/>
          <p:nvPr/>
        </p:nvPicPr>
        <p:blipFill>
          <a:blip r:embed="rId2"/>
          <a:stretch/>
        </p:blipFill>
        <p:spPr>
          <a:xfrm>
            <a:off x="684360" y="3141720"/>
            <a:ext cx="3809880" cy="342900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  <p:pic>
        <p:nvPicPr>
          <p:cNvPr id="250" name="Picture 6" descr="ples_na_beregu"/>
          <p:cNvPicPr/>
          <p:nvPr/>
        </p:nvPicPr>
        <p:blipFill>
          <a:blip r:embed="rId3"/>
          <a:stretch/>
        </p:blipFill>
        <p:spPr>
          <a:xfrm>
            <a:off x="3708360" y="981000"/>
            <a:ext cx="3809880" cy="325116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  <p:pic>
        <p:nvPicPr>
          <p:cNvPr id="251" name="Picture 7" descr="krestovozdvizh_cerkov"/>
          <p:cNvPicPr/>
          <p:nvPr/>
        </p:nvPicPr>
        <p:blipFill>
          <a:blip r:embed="rId4"/>
          <a:stretch/>
        </p:blipFill>
        <p:spPr>
          <a:xfrm>
            <a:off x="4716360" y="3573360"/>
            <a:ext cx="3810240" cy="309888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  <p:sp>
        <p:nvSpPr>
          <p:cNvPr id="252" name="AutoShape 8"/>
          <p:cNvSpPr/>
          <p:nvPr/>
        </p:nvSpPr>
        <p:spPr>
          <a:xfrm>
            <a:off x="8798040" y="6453360"/>
            <a:ext cx="382320" cy="444240"/>
          </a:xfrm>
          <a:custGeom>
            <a:avLst/>
            <a:gdLst>
              <a:gd name="textAreaLeft" fmla="*/ 24480 w 382320"/>
              <a:gd name="textAreaRight" fmla="*/ 357840 w 382320"/>
              <a:gd name="textAreaTop" fmla="*/ 24480 h 444240"/>
              <a:gd name="textAreaBottom" fmla="*/ 419760 h 444240"/>
            </a:gdLst>
            <a:ahLst/>
            <a:rect l="textAreaLeft" t="textAreaTop" r="textAreaRight" b="textAreaBottom"/>
            <a:pathLst>
              <a:path w="21600" h="25095">
                <a:moveTo>
                  <a:pt x="0" y="0"/>
                </a:moveTo>
                <a:lnTo>
                  <a:pt x="21600" y="0"/>
                </a:lnTo>
                <a:lnTo>
                  <a:pt x="21600" y="25095"/>
                </a:lnTo>
                <a:lnTo>
                  <a:pt x="0" y="25095"/>
                </a:lnTo>
                <a:close/>
              </a:path>
              <a:path fill="lightenLess" w="21600" h="2509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95">
                <a:moveTo>
                  <a:pt x="21600" y="0"/>
                </a:moveTo>
                <a:lnTo>
                  <a:pt x="21600" y="25095"/>
                </a:lnTo>
                <a:lnTo>
                  <a:pt x="20200" y="23695"/>
                </a:lnTo>
                <a:lnTo>
                  <a:pt x="20200" y="1400"/>
                </a:lnTo>
                <a:close/>
              </a:path>
              <a:path fill="darkenLess" w="21600" h="25095">
                <a:moveTo>
                  <a:pt x="21600" y="25095"/>
                </a:moveTo>
                <a:lnTo>
                  <a:pt x="0" y="25095"/>
                </a:lnTo>
                <a:lnTo>
                  <a:pt x="1400" y="23695"/>
                </a:lnTo>
                <a:lnTo>
                  <a:pt x="20200" y="23695"/>
                </a:lnTo>
                <a:close/>
              </a:path>
              <a:path fill="lighten" w="21600" h="25095">
                <a:moveTo>
                  <a:pt x="0" y="2509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95"/>
                </a:lnTo>
                <a:close/>
              </a:path>
              <a:path fill="darken" w="21600" h="25095">
                <a:moveTo>
                  <a:pt x="10800" y="5585"/>
                </a:moveTo>
                <a:lnTo>
                  <a:pt x="13376" y="8196"/>
                </a:lnTo>
                <a:lnTo>
                  <a:pt x="13376" y="6455"/>
                </a:lnTo>
                <a:lnTo>
                  <a:pt x="15152" y="6455"/>
                </a:lnTo>
                <a:lnTo>
                  <a:pt x="15152" y="9971"/>
                </a:lnTo>
                <a:lnTo>
                  <a:pt x="17763" y="12548"/>
                </a:lnTo>
                <a:lnTo>
                  <a:pt x="16109" y="12548"/>
                </a:lnTo>
                <a:lnTo>
                  <a:pt x="16109" y="19737"/>
                </a:lnTo>
                <a:lnTo>
                  <a:pt x="5491" y="19737"/>
                </a:lnTo>
                <a:lnTo>
                  <a:pt x="5491" y="12548"/>
                </a:lnTo>
                <a:lnTo>
                  <a:pt x="3837" y="12548"/>
                </a:lnTo>
                <a:close/>
              </a:path>
              <a:path fill="darkenLess" w="21600" h="25095">
                <a:moveTo>
                  <a:pt x="13376" y="8196"/>
                </a:moveTo>
                <a:lnTo>
                  <a:pt x="13376" y="6455"/>
                </a:lnTo>
                <a:lnTo>
                  <a:pt x="15152" y="6455"/>
                </a:lnTo>
                <a:lnTo>
                  <a:pt x="15152" y="9971"/>
                </a:lnTo>
                <a:close/>
              </a:path>
              <a:path fill="darkenLess" w="21600" h="25095">
                <a:moveTo>
                  <a:pt x="9877" y="16046"/>
                </a:moveTo>
                <a:lnTo>
                  <a:pt x="11723" y="16046"/>
                </a:lnTo>
                <a:lnTo>
                  <a:pt x="11723" y="19737"/>
                </a:lnTo>
                <a:lnTo>
                  <a:pt x="16109" y="19737"/>
                </a:lnTo>
                <a:lnTo>
                  <a:pt x="16109" y="12548"/>
                </a:lnTo>
                <a:lnTo>
                  <a:pt x="5491" y="12548"/>
                </a:lnTo>
                <a:lnTo>
                  <a:pt x="5491" y="19737"/>
                </a:lnTo>
                <a:lnTo>
                  <a:pt x="9877" y="19737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9:09:45Z</dcterms:created>
  <dc:creator>семинар</dc:creator>
  <dc:description/>
  <dc:language>en-US</dc:language>
  <cp:lastModifiedBy>Boss</cp:lastModifiedBy>
  <dcterms:modified xsi:type="dcterms:W3CDTF">2012-06-23T16:30:16Z</dcterms:modified>
  <cp:revision>64</cp:revision>
  <dc:subject/>
  <dc:title>Путешествие по Золотому кольцу России.</dc:title>
</cp:coreProperties>
</file>