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gif" ContentType="image/gif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13.png" ContentType="image/pn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6.jpeg" ContentType="image/jpeg"/>
  <Override PartName="/ppt/media/image9.gif" ContentType="image/gif"/>
  <Override PartName="/ppt/media/image12.png" ContentType="image/png"/>
  <Override PartName="/ppt/media/image33.gif" ContentType="image/gif"/>
  <Override PartName="/ppt/media/image34.png" ContentType="image/png"/>
  <Override PartName="/ppt/media/image2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20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14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gif" ContentType="image/gi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F3C-94D2-4E3D-8857-091FA98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FA8-645F-46DE-A838-B3113AC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FC9-C77D-4B2C-BCB5-C5BA75DD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442-A52A-44E5-9E77-C3F08CC0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74D-9FCE-4D68-AD6F-371BA32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6FA-7DA1-4046-A846-03C8300E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692-AE16-4045-A26A-708EC6C4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4D-2FF2-4781-9E20-44F839D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693-AAE4-42AF-BE69-3025F6B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3E6-21AC-4EA0-99DE-21A8F4A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AB2-4A40-4C28-964C-B0E3EEB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337-F721-4F33-9393-59234C3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70C7-7714-4E3E-9EEA-66153A088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оект по географии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Загрязнение атмосферы автомобильным транспортом в районе МОУ СОШ №2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520"/>
            <a:ext cx="75218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ыполнили: Крикливый Михаил -8 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рмилов Денис 8 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ОУ СОШ №2 г. Красный 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86771"/>
          <p:cNvPicPr/>
          <p:nvPr/>
        </p:nvPicPr>
        <p:blipFill>
          <a:blip r:embed="rId1"/>
          <a:stretch/>
        </p:blipFill>
        <p:spPr>
          <a:xfrm>
            <a:off x="250920" y="5157720"/>
            <a:ext cx="16570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ки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дсчет единиц автотранспорта, проходящего по исследуемым участка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чет количества топли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чет  количества выделившихся вредных вещ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пределение направления вет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защищённости зелёными насажде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36215"/>
          <p:cNvPicPr/>
          <p:nvPr/>
        </p:nvPicPr>
        <p:blipFill>
          <a:blip r:embed="rId1"/>
          <a:stretch/>
        </p:blipFill>
        <p:spPr>
          <a:xfrm>
            <a:off x="7327800" y="5967360"/>
            <a:ext cx="1816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ранспортный поток  в среднем за 2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ранспортный поток  в среднем в пересчете за 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16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68360" y="4210200"/>
            <a:ext cx="8244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нт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76640"/>
            <a:ext cx="77868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Январь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MM900236335[1]"/>
          <p:cNvPicPr/>
          <p:nvPr/>
        </p:nvPicPr>
        <p:blipFill>
          <a:blip r:embed="rId1"/>
          <a:stretch/>
        </p:blipFill>
        <p:spPr>
          <a:xfrm>
            <a:off x="7956720" y="6021360"/>
            <a:ext cx="1187280" cy="83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640" y="4292280"/>
            <a:ext cx="829152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09452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71042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1116000" y="4797360"/>
            <a:ext cx="709452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16"/>
          <p:cNvGraphicFramePr/>
          <p:nvPr/>
        </p:nvGraphicFramePr>
        <p:xfrm>
          <a:off x="6280200" y="5540400"/>
          <a:ext cx="199800" cy="1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0200" y="5540400"/>
                    <a:ext cx="19980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нализ  древесного и кустарникового состава раст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2879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обладающие в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нтябрь                                               Ян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08000" y="492120"/>
            <a:ext cx="4352760" cy="30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600440" y="479520"/>
            <a:ext cx="4467240" cy="30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2284560" y="3946680"/>
            <a:ext cx="51242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езультате работы над проектом делаем вывод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42848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1.  Количество машин в зимний период резко уменьшается, весной значительно увеличив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больше всего автотранспорта по воскресным дням проходит по улице Комсомольская в сентябре и марте, что связано с выходными днями большинства населения города и с тем, что эта улица является связующей между  двумя микрорайонами 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самое большое количество автотранспорта проходит по улице Комсомольская.  Самый низкий показатель в январе  на улице Куховаренко. Везде преобладает легковой 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2. В сентябре за 1 час легковым транспортом сжигается наибольшее количество бензина (12литр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наибольшее количество вредных выбросов наблюдается  в сентябре (углеводорода;  угарного газа;  диоксида азо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3.  Необходимо 657,2  м3 чистого воздуха, чтобы разбавить выделившиеся вредны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4.  На исследуемых улицах преобладают северные,  северо-западные и северо-восточные  вет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5.  В зимний период  поток машин резко уменьшается, что связано с тем, что многие автолюбители не используют транспорт зимой, однако количество вредных веществ, выделяющихся в атмосферу, остаётся на довольно высоком уровне. В весеннее время поток машин постепенно увеличивается. Это связано с наиболее благоприятными условиями для водителей, ставивших свой транспорт в гаражи на  зимни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результатам нашей работы мы даём следующие рекомендации в области защиты атмосферного возду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гулирование транспортных нагрузок на улицах город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еревод автомашин на газовое топ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величение площади зеленых насаждений вокруг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вномерное движение машин на улице, предотвращение заторов, задержки на перекрест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блюдение предельной скорости 40 км/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здание объездных дорог для грузового транспорта за пределами г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кологическое просвещение насел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0297081"/>
          <p:cNvPicPr/>
          <p:nvPr/>
        </p:nvPicPr>
        <p:blipFill>
          <a:blip r:embed="rId1"/>
          <a:stretch/>
        </p:blipFill>
        <p:spPr>
          <a:xfrm>
            <a:off x="8172360" y="6068880"/>
            <a:ext cx="97164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297080"/>
          <p:cNvPicPr/>
          <p:nvPr/>
        </p:nvPicPr>
        <p:blipFill>
          <a:blip r:embed="rId2"/>
          <a:stretch/>
        </p:blipFill>
        <p:spPr>
          <a:xfrm>
            <a:off x="8172360" y="5229360"/>
            <a:ext cx="971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6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6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6417\Desktop\Фото1954.jpg"/>
          <p:cNvPicPr/>
          <p:nvPr/>
        </p:nvPicPr>
        <p:blipFill>
          <a:blip r:embed="rId1"/>
          <a:stretch/>
        </p:blipFill>
        <p:spPr>
          <a:xfrm>
            <a:off x="25560" y="1413000"/>
            <a:ext cx="4690800" cy="37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6417\Desktop\Фото1955.jpg"/>
          <p:cNvPicPr/>
          <p:nvPr/>
        </p:nvPicPr>
        <p:blipFill>
          <a:blip r:embed="rId2"/>
          <a:stretch/>
        </p:blipFill>
        <p:spPr>
          <a:xfrm>
            <a:off x="4859280" y="476280"/>
            <a:ext cx="3952800" cy="28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6417\Desktop\Фото1957.jpg"/>
          <p:cNvPicPr/>
          <p:nvPr/>
        </p:nvPicPr>
        <p:blipFill>
          <a:blip r:embed="rId3"/>
          <a:stretch/>
        </p:blipFill>
        <p:spPr>
          <a:xfrm>
            <a:off x="4859280" y="371160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900igr.net/datai/geografija/Mir-transporta/0015-020-Mirovoj-avtomobilnyj-transport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География\Desktop\P250412_12.18.jpg"/>
          <p:cNvPicPr/>
          <p:nvPr/>
        </p:nvPicPr>
        <p:blipFill>
          <a:blip r:embed="rId2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География\Desktop\P250412_12.52.jpg"/>
          <p:cNvPicPr/>
          <p:nvPr/>
        </p:nvPicPr>
        <p:blipFill>
          <a:blip r:embed="rId3"/>
          <a:stretch/>
        </p:blipFill>
        <p:spPr>
          <a:xfrm>
            <a:off x="4500720" y="3286080"/>
            <a:ext cx="44686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5" descr="Photo 054.gif"/>
          <p:cNvPicPr/>
          <p:nvPr/>
        </p:nvPicPr>
        <p:blipFill>
          <a:blip r:embed="rId1"/>
          <a:stretch/>
        </p:blipFill>
        <p:spPr>
          <a:xfrm>
            <a:off x="6516720" y="692280"/>
            <a:ext cx="189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Photo 054.gif"/>
          <p:cNvPicPr/>
          <p:nvPr/>
        </p:nvPicPr>
        <p:blipFill>
          <a:blip r:embed="rId2"/>
          <a:stretch/>
        </p:blipFill>
        <p:spPr>
          <a:xfrm>
            <a:off x="900000" y="692280"/>
            <a:ext cx="1862280" cy="12286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" descr=""/>
          <p:cNvPicPr/>
          <p:nvPr/>
        </p:nvPicPr>
        <p:blipFill>
          <a:blip r:embed="rId3"/>
          <a:stretch/>
        </p:blipFill>
        <p:spPr>
          <a:xfrm>
            <a:off x="-49320" y="2687760"/>
            <a:ext cx="9242640" cy="1598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Photo 054.gif"/>
          <p:cNvPicPr/>
          <p:nvPr/>
        </p:nvPicPr>
        <p:blipFill>
          <a:blip r:embed="rId4"/>
          <a:stretch/>
        </p:blipFill>
        <p:spPr>
          <a:xfrm>
            <a:off x="3786120" y="4929120"/>
            <a:ext cx="18622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mirsmazok.ru/images/zagryaznenie2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40 из 92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116 из 92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141 из 925"/>
          <p:cNvPicPr/>
          <p:nvPr/>
        </p:nvPicPr>
        <p:blipFill>
          <a:blip r:embed="rId1"/>
          <a:stretch/>
        </p:blipFill>
        <p:spPr>
          <a:xfrm>
            <a:off x="-19080" y="260280"/>
            <a:ext cx="916308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Цель работ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ценка количества выбросов вредных веществ автотранспортом в районе школы №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432049"/>
          <p:cNvPicPr/>
          <p:nvPr/>
        </p:nvPicPr>
        <p:blipFill>
          <a:blip r:embed="rId1"/>
          <a:stretch/>
        </p:blipFill>
        <p:spPr>
          <a:xfrm>
            <a:off x="7319880" y="5030640"/>
            <a:ext cx="182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дачи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пределить количество автотранспорта на дорогах вокруг школы в разное время года и количество загрязняющих веществ выделяемых 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пределить основные направления распространения загрязняющих веществ на исследуемых участ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явить степень загрязнения каждого участка в районе школы по количеству поступающих выхлопных газ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вести анализ наличия древесно-кустарниковой растительности и продумать систему защиты от выбр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36476"/>
          <p:cNvPicPr/>
          <p:nvPr/>
        </p:nvPicPr>
        <p:blipFill>
          <a:blip r:embed="rId1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C:\Users\6417\Pictures\1.pn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8:17:50Z</dcterms:created>
  <dc:creator>Ludmila</dc:creator>
  <dc:description/>
  <dc:language>en-US</dc:language>
  <cp:lastModifiedBy>Секретарь</cp:lastModifiedBy>
  <dcterms:modified xsi:type="dcterms:W3CDTF">2012-04-26T09:30:35Z</dcterms:modified>
  <cp:revision>42</cp:revision>
  <dc:subject/>
  <dc:title>Слайд 1</dc:title>
</cp:coreProperties>
</file>