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423-E6BE-4A9C-AB75-BC65D229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702-DEB2-4930-B4AB-F80CDB94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849-27AF-442E-B1B8-C46DDE7F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0A2-3700-4FE0-B974-BC540144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C7C-F5D4-4C10-84CC-8A96D358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E39-A43A-41BC-A91D-F07F86D7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49A-E0C3-4803-9192-DB9A5ED1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305-A375-4089-A003-7CBC12C6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A75-76E6-48F0-A53B-517FE5B1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2F7-6084-459B-B983-9C60C76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453-61E2-4928-9A4C-BADE05E1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93D-F0B5-459D-A727-70B4D825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9015-1A42-4013-81C1-8BB51D5DB6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7822-EFA8-4BA5-96E8-1FBE3CC62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209600" cy="733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85080" y="5589720"/>
            <a:ext cx="105732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пьютер – универсальная техническая система обработк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информатики: грязных В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FD2CE-9CA7-4F16-B343-E8A5D524F5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мять компьюте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ится на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нутреннюю –оперативну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нешнюю – долговременн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внутренняя память энергозависимая и «быстрая», внешняя память энергонезависимая и сравнительно «медленна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230508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1871640" cy="172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8C62D-52D6-4018-A587-922F326369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определяет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ыстродейств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амя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енем доступа процессора к данным, хранящимся в устройстве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 досту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ого жестк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инчестера)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comic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кун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ременная оперативная памя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ладает временем досту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*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екун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.е. работает примерно в миллион раз быстр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два основных типа устройств оперативной памяти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а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ам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70EAD-C6B3-41FA-A4CE-CBD2862A66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ды пам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ая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ще всего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амятью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а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ая памя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ёмкая, но по быстродействию значительно уступ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атическая 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ую ещё назыв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эш-памя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менее ёмкая, но более «быстрая». Её использование позволяет значительно увеличить производительность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ещё один вид памяти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З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энергонезависимое устройство. В ПЗУ хранится программа запуска компьютера, которая называет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OS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базовая система ввода/выв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идеопамя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амять обслуживающая монит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6588000" y="595008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8858F-C60C-4B20-8B28-322C46281B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ая  из плат –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стемная пл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атеринск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 системной пл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ездо для процесс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ая система ввода/вывод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BI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ёзда модулей оперативной памя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ёмы ш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схемы системной лог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таре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0C4B5-1849-423E-97AF-FD15B3EF74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904000" cy="5904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948360" y="587700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A9CC7-100B-4858-A7CF-E43CD0DA5E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ты ввода/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узлы для подключения к компьютеру внешних устройств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рты ввода/выв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ые и паралл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последовательным порт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дключаются устройств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менивающиеся информаци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 компьютером (модем, др.компьютер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параллельным порт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дключаются те устройства которые лиш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уч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компьютера (например, принтер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ллельный порт использует одновременно несколько линий. В современных компьютерах используются двунаправленные параллельные порты, позволяющие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б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6021360"/>
            <a:ext cx="647640" cy="574560"/>
          </a:xfrm>
          <a:custGeom>
            <a:avLst/>
            <a:gdLst>
              <a:gd name="textAreaLeft" fmla="*/ 93600 w 647640"/>
              <a:gd name="textAreaRight" fmla="*/ 554040 w 64764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0826" y="3520"/>
                </a:lnTo>
                <a:lnTo>
                  <a:pt x="3520" y="352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0826" y="18080"/>
                </a:lnTo>
                <a:lnTo>
                  <a:pt x="20826" y="352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26" y="1808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46" h="21600">
                <a:moveTo>
                  <a:pt x="6747" y="10800"/>
                </a:moveTo>
                <a:lnTo>
                  <a:pt x="17599" y="5374"/>
                </a:lnTo>
                <a:lnTo>
                  <a:pt x="17599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274AA-C7AC-4FC2-81C6-B6D51F01DE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временные виды внешних у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нешние устр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пьютера обеспечивают ввод и вывод разнообразной информации: клавиатура, сканер, микрофон, звуковая плата, манипулятор типа мышь, монитор, принтер, акустические систе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вуковая пл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стройство, позволяющее обрабатывать звуков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стемы 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еспечивают возможность одновременной работы разных устройств вы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тевое оборуд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беспечивает сетевое подключение и работу в сети (модем, маршрутизатор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587700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34331-E54C-45A5-8257-578D6DE3E1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спективные направлени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я П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 расширяется и совершенствуется набор внешних устрой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ьютеры перестают быть однопроцессор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ме ПК на практике существуют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мпьютеры более высокого уров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щные микрокомпьютеры, выполняющие специализированные работы высокого профессионального уров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рверы в глобальной компьютерной сети, управляющие её работой и хранящие огромные объёмы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процессорные системы параллельной обработки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587700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9A1E3-51B5-437C-A1A0-5F123488F9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принципиально отличае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рхитектура  ПК от классической архитектуры компьютеров первых покол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функции выполняют контроллёры внешних устройст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чём состоит принцип открытости архитектуры П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ите перспективные направления развития компьютерной тех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56E39-CCD0-4B7C-804C-FB9B738EF8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тектура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тектура ПК – это наиболее общие принципы построения компьютера, отражающие программное управление работой и взаимодействием его основных функциональных уз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1.Архитектура компьютеров первых поко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он Нейм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2852640"/>
            <a:ext cx="3528720" cy="720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ее запомина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860640"/>
            <a:ext cx="1944720" cy="576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4941720"/>
            <a:ext cx="3529080" cy="648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тивное запомина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789360"/>
            <a:ext cx="1800000" cy="647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3860640"/>
            <a:ext cx="1871640" cy="576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4005360"/>
            <a:ext cx="115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80000" y="400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9243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35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92436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48400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4292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64328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27C78-93B1-4D55-B86C-8C97F9270E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476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26920" y="1484280"/>
            <a:ext cx="7201080" cy="3600000"/>
            <a:chOff x="826920" y="1484280"/>
            <a:chExt cx="7201080" cy="3600000"/>
          </a:xfrm>
        </p:grpSpPr>
        <p:sp>
          <p:nvSpPr>
            <p:cNvPr id="65" name=""/>
            <p:cNvSpPr/>
            <p:nvPr/>
          </p:nvSpPr>
          <p:spPr>
            <a:xfrm>
              <a:off x="900000" y="1484280"/>
              <a:ext cx="1943280" cy="647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Централь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оцесс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35280" y="1557000"/>
              <a:ext cx="1657440" cy="574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амя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4720" y="1557000"/>
              <a:ext cx="1943280" cy="574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идеопамя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0000" y="2707920"/>
              <a:ext cx="705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71640" y="4005000"/>
              <a:ext cx="705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4652640"/>
              <a:ext cx="57636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79640" y="4652640"/>
              <a:ext cx="57636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32000" y="4652640"/>
              <a:ext cx="57636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27640" y="4652640"/>
              <a:ext cx="57600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24360" y="4652640"/>
              <a:ext cx="57636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93080" y="4652640"/>
              <a:ext cx="576000" cy="431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429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564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67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007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728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589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1128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6400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5928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764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400500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40360" y="213192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88000" y="213192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9280" y="213192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08720" y="2131920"/>
              <a:ext cx="0" cy="57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.2. Архитектура современного компью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Шина      ад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924280"/>
            <a:ext cx="511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364500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5373720"/>
            <a:ext cx="1512720" cy="863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5373720"/>
            <a:ext cx="1512720" cy="863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5373720"/>
            <a:ext cx="1513080" cy="1079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ш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5373720"/>
            <a:ext cx="1512720" cy="8636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2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5445000"/>
            <a:ext cx="576000" cy="7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2472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ACB23-0F88-4351-8AC1-82D45C31A4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ны принципиальные раз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место процессора имеем центральный процесс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место одного устройства ввода имеем группу устройств неопределённого со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аналогично  и для устройств вывод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явились новые элементы архитектуры, такие как видеопамять, шина, контрол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я эволюция компьютеров шла и идёт под знаком миниатюризации электронных схем, что не просто способствовало уменьшению размеров базовых узлов компьютера, но и  привело к огромному , в десятки тысяч раз, росту быстродействия процес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66EEE-293E-4C32-859A-BF570824D1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никло существенное противоречие между высокой скоростью обработки информации внутри машины и медленной работой устройств ввода/ вывода. Учёными и конструкторами был предложен такой путь: центральный процессор, который до этого осуществлял все функции по обмену данными между устройствами, освобождается от них, и эти функции передаются специальным устройствам, которые называют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нтролё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23B7C-7569-4D0A-8B73-5FD753AB45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26828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начение контролёров и 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06064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ды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85264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ная 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364500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рты ввода / 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4437000"/>
            <a:ext cx="8280360" cy="720720"/>
          </a:xfrm>
          <a:custGeom>
            <a:avLst/>
            <a:gdLst>
              <a:gd name="textAreaLeft" fmla="*/ 46440 w 8280360"/>
              <a:gd name="textAreaRight" fmla="*/ 8233920 w 828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48050" h="21600">
                <a:moveTo>
                  <a:pt x="0" y="0"/>
                </a:moveTo>
                <a:lnTo>
                  <a:pt x="248050" y="0"/>
                </a:lnTo>
                <a:lnTo>
                  <a:pt x="248050" y="21600"/>
                </a:lnTo>
                <a:lnTo>
                  <a:pt x="0" y="21600"/>
                </a:lnTo>
                <a:close/>
              </a:path>
              <a:path fill="lightenLess" w="248050" h="21600">
                <a:moveTo>
                  <a:pt x="0" y="0"/>
                </a:moveTo>
                <a:lnTo>
                  <a:pt x="248050" y="0"/>
                </a:lnTo>
                <a:lnTo>
                  <a:pt x="246650" y="1400"/>
                </a:lnTo>
                <a:lnTo>
                  <a:pt x="1400" y="1400"/>
                </a:lnTo>
                <a:close/>
              </a:path>
              <a:path fill="darken" w="248050" h="21600">
                <a:moveTo>
                  <a:pt x="248050" y="0"/>
                </a:moveTo>
                <a:lnTo>
                  <a:pt x="248050" y="21600"/>
                </a:lnTo>
                <a:lnTo>
                  <a:pt x="246650" y="20200"/>
                </a:lnTo>
                <a:lnTo>
                  <a:pt x="246650" y="1400"/>
                </a:lnTo>
                <a:close/>
              </a:path>
              <a:path fill="darkenLess" w="248050" h="21600">
                <a:moveTo>
                  <a:pt x="24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50" y="20200"/>
                </a:lnTo>
                <a:close/>
              </a:path>
              <a:path fill="lighten" w="24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ые виды внешних устр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300640"/>
            <a:ext cx="7416720" cy="720720"/>
          </a:xfrm>
          <a:custGeom>
            <a:avLst/>
            <a:gdLst>
              <a:gd name="textAreaLeft" fmla="*/ 46440 w 7416720"/>
              <a:gd name="textAreaRight" fmla="*/ 7370280 w 741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22179" h="21600">
                <a:moveTo>
                  <a:pt x="0" y="0"/>
                </a:moveTo>
                <a:lnTo>
                  <a:pt x="222179" y="0"/>
                </a:lnTo>
                <a:lnTo>
                  <a:pt x="222179" y="21600"/>
                </a:lnTo>
                <a:lnTo>
                  <a:pt x="0" y="21600"/>
                </a:lnTo>
                <a:close/>
              </a:path>
              <a:path fill="lightenLess" w="222179" h="21600">
                <a:moveTo>
                  <a:pt x="0" y="0"/>
                </a:moveTo>
                <a:lnTo>
                  <a:pt x="222179" y="0"/>
                </a:lnTo>
                <a:lnTo>
                  <a:pt x="220779" y="1400"/>
                </a:lnTo>
                <a:lnTo>
                  <a:pt x="1400" y="1400"/>
                </a:lnTo>
                <a:close/>
              </a:path>
              <a:path fill="darken" w="222179" h="21600">
                <a:moveTo>
                  <a:pt x="222179" y="0"/>
                </a:moveTo>
                <a:lnTo>
                  <a:pt x="222179" y="21600"/>
                </a:lnTo>
                <a:lnTo>
                  <a:pt x="220779" y="20200"/>
                </a:lnTo>
                <a:lnTo>
                  <a:pt x="220779" y="1400"/>
                </a:lnTo>
                <a:close/>
              </a:path>
              <a:path fill="darkenLess" w="222179" h="21600">
                <a:moveTo>
                  <a:pt x="222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779" y="20200"/>
                </a:lnTo>
                <a:close/>
              </a:path>
              <a:path fill="lighten" w="222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спективные направления развития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33360"/>
            <a:ext cx="647640" cy="574560"/>
          </a:xfrm>
          <a:custGeom>
            <a:avLst/>
            <a:gdLst>
              <a:gd name="textAreaLeft" fmla="*/ 93600 w 647640"/>
              <a:gd name="textAreaRight" fmla="*/ 554040 w 64764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0826" y="3520"/>
                </a:lnTo>
                <a:lnTo>
                  <a:pt x="3520" y="352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0826" y="18080"/>
                </a:lnTo>
                <a:lnTo>
                  <a:pt x="20826" y="352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26" y="1808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46" h="21600">
                <a:moveTo>
                  <a:pt x="6747" y="10800"/>
                </a:moveTo>
                <a:lnTo>
                  <a:pt x="17599" y="5374"/>
                </a:lnTo>
                <a:lnTo>
                  <a:pt x="17599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BEBBA-FAFB-4D60-8583-47CE53FC50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начение контролёров и 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онтролё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пециализированный процессор, управляющий работой вверенного ему внешнего устро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скольку в системе появилось теперь несколько процессоров, главный из них для отличия стали называ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центр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контролёров существенно изменяет процессы обмена информацией внутри компью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альный процессор при необходимости произвести обмен выдаёт задание на его осуществление контролё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4876A-874D-47E1-8E33-E46E8CDD90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начение контролёров и 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льнейший обмен информацией  протекает под руководством контролёра. Если же по данной задаче до завершения обмена ничего сделать нельзя, то можно в это время решать другую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вязи между отдельными функциональными узлами компьютера используется специальное устройство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ш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ина состо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з трёх ча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шины дан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я передачи данн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шины адре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я передачи адрес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шины управ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для передачи управляющих сигнал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5AECF-4F7E-499A-997B-5F563A56D2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начение контролёров и 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 из достоинст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анной схемы заключается в возможности легко подключать к компьютеру новые устройства. Это называется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ом открытой архитектуры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ователю она даёт возм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бодно выбирать состав внешних устройств в зависимости от круга решаем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6588000" y="5950080"/>
            <a:ext cx="648000" cy="574560"/>
          </a:xfrm>
          <a:custGeom>
            <a:avLst/>
            <a:gdLst>
              <a:gd name="textAreaLeft" fmla="*/ 93600 w 648000"/>
              <a:gd name="textAreaRight" fmla="*/ 554400 w 648000"/>
              <a:gd name="textAreaTop" fmla="*/ 93600 h 574560"/>
              <a:gd name="textAreaBottom" fmla="*/ 480960 h 574560"/>
            </a:gdLst>
            <a:ahLst/>
            <a:rect l="textAreaLeft" t="textAreaTop" r="textAreaRight" b="textAreaBottom"/>
            <a:pathLst>
              <a:path w="24359" h="21600">
                <a:moveTo>
                  <a:pt x="0" y="0"/>
                </a:moveTo>
                <a:lnTo>
                  <a:pt x="24359" y="0"/>
                </a:lnTo>
                <a:lnTo>
                  <a:pt x="24359" y="21600"/>
                </a:lnTo>
                <a:lnTo>
                  <a:pt x="0" y="21600"/>
                </a:lnTo>
                <a:close/>
              </a:path>
              <a:path fill="lightenLess" w="24359" h="21600">
                <a:moveTo>
                  <a:pt x="0" y="0"/>
                </a:moveTo>
                <a:lnTo>
                  <a:pt x="24359" y="0"/>
                </a:lnTo>
                <a:lnTo>
                  <a:pt x="20839" y="3520"/>
                </a:lnTo>
                <a:lnTo>
                  <a:pt x="3520" y="3520"/>
                </a:lnTo>
                <a:close/>
              </a:path>
              <a:path fill="darken" w="24359" h="21600">
                <a:moveTo>
                  <a:pt x="24359" y="0"/>
                </a:moveTo>
                <a:lnTo>
                  <a:pt x="24359" y="21600"/>
                </a:lnTo>
                <a:lnTo>
                  <a:pt x="20839" y="18080"/>
                </a:lnTo>
                <a:lnTo>
                  <a:pt x="20839" y="3520"/>
                </a:lnTo>
                <a:close/>
              </a:path>
              <a:path fill="darkenLess" w="24359" h="21600">
                <a:moveTo>
                  <a:pt x="24359" y="21600"/>
                </a:moveTo>
                <a:lnTo>
                  <a:pt x="0" y="21600"/>
                </a:lnTo>
                <a:lnTo>
                  <a:pt x="3520" y="18080"/>
                </a:lnTo>
                <a:lnTo>
                  <a:pt x="20839" y="18080"/>
                </a:lnTo>
                <a:close/>
              </a:path>
              <a:path fill="lighten" w="24359" h="21600">
                <a:moveTo>
                  <a:pt x="0" y="21600"/>
                </a:moveTo>
                <a:lnTo>
                  <a:pt x="0" y="0"/>
                </a:lnTo>
                <a:lnTo>
                  <a:pt x="3520" y="3520"/>
                </a:lnTo>
                <a:lnTo>
                  <a:pt x="3520" y="18080"/>
                </a:lnTo>
                <a:close/>
              </a:path>
              <a:path fill="darken" w="24359" h="21600">
                <a:moveTo>
                  <a:pt x="6753" y="10800"/>
                </a:moveTo>
                <a:lnTo>
                  <a:pt x="17606" y="5374"/>
                </a:lnTo>
                <a:lnTo>
                  <a:pt x="17606" y="1622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446F4-4957-40E6-ADD3-F4043DF8C4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8:00:39Z</dcterms:created>
  <dc:creator>Валентина</dc:creator>
  <dc:description/>
  <dc:language>en-US</dc:language>
  <cp:lastModifiedBy>Валентина</cp:lastModifiedBy>
  <dcterms:modified xsi:type="dcterms:W3CDTF">2012-05-14T20:22:07Z</dcterms:modified>
  <cp:revision>11</cp:revision>
  <dc:subject/>
  <dc:title>Слайд 1</dc:title>
</cp:coreProperties>
</file>