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2F5-1515-47FF-B451-AF4C1AC4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6C2-F048-4B70-94CF-DDFEFCC9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C2A-12D0-401A-8E27-BD0016BC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4E4-21F1-4B54-A23B-C9425CDE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5B5-DCB2-4A91-8170-006B287B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262-3D22-4AEC-90AC-08ADA34E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552-4DC8-4CD5-844E-6027749E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997-73DF-4EA7-AA1B-1F41FED5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A17-1FFE-4A23-A756-DEDB2A7C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81F-3F89-44C5-A619-BD119CBA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D7E-4E99-4620-8DB3-F50CFD80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D53-B6A8-4F3E-A940-713C6E7C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F310-02E9-494F-A833-BFC57ACA54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AB9C-484C-4647-8550-D93A15DA1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209600" cy="733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85080" y="5589720"/>
            <a:ext cx="105732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пьютер – универсальная техническая система обработк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 информатики: грязных В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17DC4-E3FC-4DA7-828E-3BC531B1DF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мять компьюте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ится н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нутреннюю –оперативну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нешнюю – долговременну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внутренняя память энергозависимая и «быстрая», внешняя память энергонезависимая и сравнительно «медленна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2305080" cy="1568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1871640" cy="172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26567-9B75-4C02-BBF4-710EC4D671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определяетс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ыстродей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амя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енем доступа процессора к данным, хранящимся в устройстве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 доступ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ременного жестк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инчестера)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кун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ременная оперативная памя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ладает временем доступ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*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екун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.е. работает примерно в миллион раз быстр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два основных типа устройств оперативной памяти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ат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ам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15686-9ADC-46E1-88BB-4EA5F2FC0B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ая 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ще всего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ью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а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ая памя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ёмкая, но по быстродействию значительно уступ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атическая 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ую ещё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эш-памя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менее ёмкая, но более «быстрая». Её использование позволяет значительно увеличить производительность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ещё один вид памяти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З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энергонезависимое устройство. В ПЗУ хранится программа запуска компьютера, которая называетс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OS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базовая система ввода/выв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идео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мять обслуживающая мони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6588000" y="5950080"/>
            <a:ext cx="648000" cy="574560"/>
          </a:xfrm>
          <a:custGeom>
            <a:avLst/>
            <a:gdLst>
              <a:gd name="textAreaLeft" fmla="*/ 93600 w 648000"/>
              <a:gd name="textAreaRight" fmla="*/ 554400 w 64800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59" h="21600">
                <a:moveTo>
                  <a:pt x="0" y="0"/>
                </a:moveTo>
                <a:lnTo>
                  <a:pt x="24359" y="0"/>
                </a:lnTo>
                <a:lnTo>
                  <a:pt x="24359" y="21600"/>
                </a:lnTo>
                <a:lnTo>
                  <a:pt x="0" y="21600"/>
                </a:lnTo>
                <a:close/>
              </a:path>
              <a:path fill="lightenLess" w="24359" h="21600">
                <a:moveTo>
                  <a:pt x="0" y="0"/>
                </a:moveTo>
                <a:lnTo>
                  <a:pt x="24359" y="0"/>
                </a:lnTo>
                <a:lnTo>
                  <a:pt x="20839" y="3520"/>
                </a:lnTo>
                <a:lnTo>
                  <a:pt x="3520" y="3520"/>
                </a:lnTo>
                <a:close/>
              </a:path>
              <a:path fill="darken" w="24359" h="21600">
                <a:moveTo>
                  <a:pt x="24359" y="0"/>
                </a:moveTo>
                <a:lnTo>
                  <a:pt x="24359" y="21600"/>
                </a:lnTo>
                <a:lnTo>
                  <a:pt x="20839" y="18080"/>
                </a:lnTo>
                <a:lnTo>
                  <a:pt x="20839" y="3520"/>
                </a:lnTo>
                <a:close/>
              </a:path>
              <a:path fill="darkenLess" w="24359" h="21600">
                <a:moveTo>
                  <a:pt x="24359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39" y="18080"/>
                </a:lnTo>
                <a:close/>
              </a:path>
              <a:path fill="lighten" w="24359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59" h="21600">
                <a:moveTo>
                  <a:pt x="6753" y="10800"/>
                </a:moveTo>
                <a:lnTo>
                  <a:pt x="17606" y="5374"/>
                </a:lnTo>
                <a:lnTo>
                  <a:pt x="17606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29151-2107-4965-B3E2-B3738540FB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 из плат –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истемная пл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атеринск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 системной пл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нездо для процесс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овая система ввода/вывод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BI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нёзда модулей оперативной памя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ёмы ш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схемы системной лог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таре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6ED20-2509-4BB8-83B8-05593D59E4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904000" cy="5904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948360" y="5877000"/>
            <a:ext cx="648000" cy="574560"/>
          </a:xfrm>
          <a:custGeom>
            <a:avLst/>
            <a:gdLst>
              <a:gd name="textAreaLeft" fmla="*/ 93600 w 648000"/>
              <a:gd name="textAreaRight" fmla="*/ 554400 w 64800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59" h="21600">
                <a:moveTo>
                  <a:pt x="0" y="0"/>
                </a:moveTo>
                <a:lnTo>
                  <a:pt x="24359" y="0"/>
                </a:lnTo>
                <a:lnTo>
                  <a:pt x="24359" y="21600"/>
                </a:lnTo>
                <a:lnTo>
                  <a:pt x="0" y="21600"/>
                </a:lnTo>
                <a:close/>
              </a:path>
              <a:path fill="lightenLess" w="24359" h="21600">
                <a:moveTo>
                  <a:pt x="0" y="0"/>
                </a:moveTo>
                <a:lnTo>
                  <a:pt x="24359" y="0"/>
                </a:lnTo>
                <a:lnTo>
                  <a:pt x="20839" y="3520"/>
                </a:lnTo>
                <a:lnTo>
                  <a:pt x="3520" y="3520"/>
                </a:lnTo>
                <a:close/>
              </a:path>
              <a:path fill="darken" w="24359" h="21600">
                <a:moveTo>
                  <a:pt x="24359" y="0"/>
                </a:moveTo>
                <a:lnTo>
                  <a:pt x="24359" y="21600"/>
                </a:lnTo>
                <a:lnTo>
                  <a:pt x="20839" y="18080"/>
                </a:lnTo>
                <a:lnTo>
                  <a:pt x="20839" y="3520"/>
                </a:lnTo>
                <a:close/>
              </a:path>
              <a:path fill="darkenLess" w="24359" h="21600">
                <a:moveTo>
                  <a:pt x="24359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39" y="18080"/>
                </a:lnTo>
                <a:close/>
              </a:path>
              <a:path fill="lighten" w="24359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59" h="21600">
                <a:moveTo>
                  <a:pt x="6753" y="10800"/>
                </a:moveTo>
                <a:lnTo>
                  <a:pt x="17606" y="5374"/>
                </a:lnTo>
                <a:lnTo>
                  <a:pt x="17606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E5E2B-D663-4C0C-9A18-7595B7CF42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ты ввода/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ые узлы для подключения к компьютеру внешних устройств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рты ввода/выв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ые и паралл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последовательным порт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дключаются устройства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менивающиеся информаци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 компьютером (модем, др.компьютер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параллельным порт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дключаются те устройства которые лиш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уч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компьютера (например, прин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ый порт использует одновременно несколько линий. В современных компьютерах используются двунаправленные параллельные порты, позволяющие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б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6021360"/>
            <a:ext cx="647640" cy="574560"/>
          </a:xfrm>
          <a:custGeom>
            <a:avLst/>
            <a:gdLst>
              <a:gd name="textAreaLeft" fmla="*/ 93600 w 647640"/>
              <a:gd name="textAreaRight" fmla="*/ 554040 w 64764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0826" y="3520"/>
                </a:lnTo>
                <a:lnTo>
                  <a:pt x="3520" y="352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0826" y="18080"/>
                </a:lnTo>
                <a:lnTo>
                  <a:pt x="20826" y="352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26" y="1808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46" h="21600">
                <a:moveTo>
                  <a:pt x="6747" y="10800"/>
                </a:moveTo>
                <a:lnTo>
                  <a:pt x="17599" y="5374"/>
                </a:lnTo>
                <a:lnTo>
                  <a:pt x="17599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46200-AA91-483B-B138-7DF9E84CA5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ременные виды внешних устро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нешние устр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пьютера обеспечивают ввод и вывод разнообразной информации: клавиатура, сканер, микрофон, звуковая плата, манипулятор типа мышь, монитор, принтер, акустические систе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вуковая пл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стройство, позволяющее обрабатывать звуков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истемы мультимеди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еспечивают возможность одновременной работы разных устройств 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евое оборуд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еспечивает сетевое подключение и работу в сети (модем, маршрутизато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5877000"/>
            <a:ext cx="648000" cy="574560"/>
          </a:xfrm>
          <a:custGeom>
            <a:avLst/>
            <a:gdLst>
              <a:gd name="textAreaLeft" fmla="*/ 93600 w 648000"/>
              <a:gd name="textAreaRight" fmla="*/ 554400 w 64800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59" h="21600">
                <a:moveTo>
                  <a:pt x="0" y="0"/>
                </a:moveTo>
                <a:lnTo>
                  <a:pt x="24359" y="0"/>
                </a:lnTo>
                <a:lnTo>
                  <a:pt x="24359" y="21600"/>
                </a:lnTo>
                <a:lnTo>
                  <a:pt x="0" y="21600"/>
                </a:lnTo>
                <a:close/>
              </a:path>
              <a:path fill="lightenLess" w="24359" h="21600">
                <a:moveTo>
                  <a:pt x="0" y="0"/>
                </a:moveTo>
                <a:lnTo>
                  <a:pt x="24359" y="0"/>
                </a:lnTo>
                <a:lnTo>
                  <a:pt x="20839" y="3520"/>
                </a:lnTo>
                <a:lnTo>
                  <a:pt x="3520" y="3520"/>
                </a:lnTo>
                <a:close/>
              </a:path>
              <a:path fill="darken" w="24359" h="21600">
                <a:moveTo>
                  <a:pt x="24359" y="0"/>
                </a:moveTo>
                <a:lnTo>
                  <a:pt x="24359" y="21600"/>
                </a:lnTo>
                <a:lnTo>
                  <a:pt x="20839" y="18080"/>
                </a:lnTo>
                <a:lnTo>
                  <a:pt x="20839" y="3520"/>
                </a:lnTo>
                <a:close/>
              </a:path>
              <a:path fill="darkenLess" w="24359" h="21600">
                <a:moveTo>
                  <a:pt x="24359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39" y="18080"/>
                </a:lnTo>
                <a:close/>
              </a:path>
              <a:path fill="lighten" w="24359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59" h="21600">
                <a:moveTo>
                  <a:pt x="6753" y="10800"/>
                </a:moveTo>
                <a:lnTo>
                  <a:pt x="17606" y="5374"/>
                </a:lnTo>
                <a:lnTo>
                  <a:pt x="17606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81311-7921-4FFE-89AD-E9CFE09B59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спективные направлен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я 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 расширяется и совершенствуется набор внешних устрой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ьютеры перестают быть однопроцессор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ме ПК на практике существуют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мпьютеры более высокого уров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щные микрокомпьютеры, выполняющие специализированные работы высокого профессионального уров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веры в глобальной компьютерной сети, управляющие её работой и хранящие огромные объёмы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процессорные системы параллельной обработки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5877000"/>
            <a:ext cx="648000" cy="574560"/>
          </a:xfrm>
          <a:custGeom>
            <a:avLst/>
            <a:gdLst>
              <a:gd name="textAreaLeft" fmla="*/ 93600 w 648000"/>
              <a:gd name="textAreaRight" fmla="*/ 554400 w 64800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59" h="21600">
                <a:moveTo>
                  <a:pt x="0" y="0"/>
                </a:moveTo>
                <a:lnTo>
                  <a:pt x="24359" y="0"/>
                </a:lnTo>
                <a:lnTo>
                  <a:pt x="24359" y="21600"/>
                </a:lnTo>
                <a:lnTo>
                  <a:pt x="0" y="21600"/>
                </a:lnTo>
                <a:close/>
              </a:path>
              <a:path fill="lightenLess" w="24359" h="21600">
                <a:moveTo>
                  <a:pt x="0" y="0"/>
                </a:moveTo>
                <a:lnTo>
                  <a:pt x="24359" y="0"/>
                </a:lnTo>
                <a:lnTo>
                  <a:pt x="20839" y="3520"/>
                </a:lnTo>
                <a:lnTo>
                  <a:pt x="3520" y="3520"/>
                </a:lnTo>
                <a:close/>
              </a:path>
              <a:path fill="darken" w="24359" h="21600">
                <a:moveTo>
                  <a:pt x="24359" y="0"/>
                </a:moveTo>
                <a:lnTo>
                  <a:pt x="24359" y="21600"/>
                </a:lnTo>
                <a:lnTo>
                  <a:pt x="20839" y="18080"/>
                </a:lnTo>
                <a:lnTo>
                  <a:pt x="20839" y="3520"/>
                </a:lnTo>
                <a:close/>
              </a:path>
              <a:path fill="darkenLess" w="24359" h="21600">
                <a:moveTo>
                  <a:pt x="24359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39" y="18080"/>
                </a:lnTo>
                <a:close/>
              </a:path>
              <a:path fill="lighten" w="24359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59" h="21600">
                <a:moveTo>
                  <a:pt x="6753" y="10800"/>
                </a:moveTo>
                <a:lnTo>
                  <a:pt x="17606" y="5374"/>
                </a:lnTo>
                <a:lnTo>
                  <a:pt x="17606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D1CBE-5E19-42FD-A986-36E49B42A8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принципиально отлич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хитектура  ПК от классической архитектуры компьютеров первых покол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функции выполняют контроллёры внешних устройст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чём состоит принцип открытости архитектуры П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те перспективные направления развития компьютерной 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2E81C-6AE5-48F7-9830-599FC238CF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тектура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тектура ПК – это наиболее общие принципы построения компьютера, отражающие программное управление работой и взаимодействием его основных функциональных уз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1.Архитектура компьютеров первых поко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фон Нейм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2852640"/>
            <a:ext cx="3528720" cy="720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ее запоминаю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860640"/>
            <a:ext cx="1944720" cy="576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4941720"/>
            <a:ext cx="3529080" cy="648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тивное запоминаю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789360"/>
            <a:ext cx="180000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3860640"/>
            <a:ext cx="1871640" cy="576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400536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400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92436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92436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48400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4292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64328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98126-868C-4ECB-BC4C-F25CA0561B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476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26920" y="1484280"/>
            <a:ext cx="7201080" cy="3600000"/>
            <a:chOff x="826920" y="1484280"/>
            <a:chExt cx="7201080" cy="3600000"/>
          </a:xfrm>
        </p:grpSpPr>
        <p:sp>
          <p:nvSpPr>
            <p:cNvPr id="65" name=""/>
            <p:cNvSpPr/>
            <p:nvPr/>
          </p:nvSpPr>
          <p:spPr>
            <a:xfrm>
              <a:off x="900000" y="1484280"/>
              <a:ext cx="1943280" cy="647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Централь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оцесс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35280" y="1557000"/>
              <a:ext cx="1657440" cy="5745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амя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4720" y="1557000"/>
              <a:ext cx="1943280" cy="5745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идеопамя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0000" y="2707920"/>
              <a:ext cx="705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71640" y="4005000"/>
              <a:ext cx="705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4652640"/>
              <a:ext cx="576360" cy="431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79640" y="4652640"/>
              <a:ext cx="576360" cy="431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32000" y="4652640"/>
              <a:ext cx="576360" cy="431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27640" y="4652640"/>
              <a:ext cx="576000" cy="431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24360" y="4652640"/>
              <a:ext cx="576360" cy="431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93080" y="4652640"/>
              <a:ext cx="576000" cy="431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4292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564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672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0072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6728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600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5892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1128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6400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5928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2764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2472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40360" y="2131920"/>
              <a:ext cx="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88000" y="2131920"/>
              <a:ext cx="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9280" y="2131920"/>
              <a:ext cx="0" cy="57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08720" y="2131920"/>
              <a:ext cx="0" cy="57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.2. Архитектура современного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ина      ад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924280"/>
            <a:ext cx="5113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28464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3645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5373720"/>
            <a:ext cx="1512720" cy="863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5373720"/>
            <a:ext cx="1512720" cy="863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5373720"/>
            <a:ext cx="1513080" cy="1079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5373720"/>
            <a:ext cx="1512720" cy="863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5445000"/>
            <a:ext cx="576000" cy="7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F030D-1EE1-47CF-8A6B-EA49D8071A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ны принципиальные различ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место процессора имеем центральный процесс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место одного устройства ввода имеем группу устройств неопределённого со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аналогично  и для устройств выво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явились новые элементы архитектуры, такие как видеопамять, шина, контрол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я эволюция компьютеров шла и идёт под знаком миниатюризации электронных схем, что не просто способствовало уменьшению размеров базовых узлов компьютера, но и  привело к огромному , в десятки тысяч раз, росту быстродействия процес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A755C-5B94-48C8-A4C2-FEA5EAB099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никло существенное противоречие между высокой скоростью обработки информации внутри машины и медленной работой устройств ввода/ вывода. Учёными и конструкторами был предложен такой путь: центральный процессор, который до этого осуществлял все функции по обмену данными между устройствами, освобождается от них, и эти функции передаются специальным устройствам, которые называютс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нтролё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8FA79-0F73-4F6E-8126-B9AC8F9B3F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268280"/>
            <a:ext cx="8280360" cy="720720"/>
          </a:xfrm>
          <a:custGeom>
            <a:avLst/>
            <a:gdLst>
              <a:gd name="textAreaLeft" fmla="*/ 46440 w 8280360"/>
              <a:gd name="textAreaRight" fmla="*/ 8233920 w 828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48050" h="21600">
                <a:moveTo>
                  <a:pt x="0" y="0"/>
                </a:moveTo>
                <a:lnTo>
                  <a:pt x="248050" y="0"/>
                </a:lnTo>
                <a:lnTo>
                  <a:pt x="248050" y="21600"/>
                </a:lnTo>
                <a:lnTo>
                  <a:pt x="0" y="21600"/>
                </a:lnTo>
                <a:close/>
              </a:path>
              <a:path fill="lightenLess" w="248050" h="21600">
                <a:moveTo>
                  <a:pt x="0" y="0"/>
                </a:moveTo>
                <a:lnTo>
                  <a:pt x="248050" y="0"/>
                </a:lnTo>
                <a:lnTo>
                  <a:pt x="246650" y="1400"/>
                </a:lnTo>
                <a:lnTo>
                  <a:pt x="1400" y="1400"/>
                </a:lnTo>
                <a:close/>
              </a:path>
              <a:path fill="darken" w="248050" h="21600">
                <a:moveTo>
                  <a:pt x="248050" y="0"/>
                </a:moveTo>
                <a:lnTo>
                  <a:pt x="248050" y="21600"/>
                </a:lnTo>
                <a:lnTo>
                  <a:pt x="246650" y="20200"/>
                </a:lnTo>
                <a:lnTo>
                  <a:pt x="246650" y="1400"/>
                </a:lnTo>
                <a:close/>
              </a:path>
              <a:path fill="darkenLess" w="248050" h="21600">
                <a:moveTo>
                  <a:pt x="24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50" y="20200"/>
                </a:lnTo>
                <a:close/>
              </a:path>
              <a:path fill="lighten" w="24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начение контролёров и ш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060640"/>
            <a:ext cx="8280360" cy="720720"/>
          </a:xfrm>
          <a:custGeom>
            <a:avLst/>
            <a:gdLst>
              <a:gd name="textAreaLeft" fmla="*/ 46440 w 8280360"/>
              <a:gd name="textAreaRight" fmla="*/ 8233920 w 828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48050" h="21600">
                <a:moveTo>
                  <a:pt x="0" y="0"/>
                </a:moveTo>
                <a:lnTo>
                  <a:pt x="248050" y="0"/>
                </a:lnTo>
                <a:lnTo>
                  <a:pt x="248050" y="21600"/>
                </a:lnTo>
                <a:lnTo>
                  <a:pt x="0" y="21600"/>
                </a:lnTo>
                <a:close/>
              </a:path>
              <a:path fill="lightenLess" w="248050" h="21600">
                <a:moveTo>
                  <a:pt x="0" y="0"/>
                </a:moveTo>
                <a:lnTo>
                  <a:pt x="248050" y="0"/>
                </a:lnTo>
                <a:lnTo>
                  <a:pt x="246650" y="1400"/>
                </a:lnTo>
                <a:lnTo>
                  <a:pt x="1400" y="1400"/>
                </a:lnTo>
                <a:close/>
              </a:path>
              <a:path fill="darken" w="248050" h="21600">
                <a:moveTo>
                  <a:pt x="248050" y="0"/>
                </a:moveTo>
                <a:lnTo>
                  <a:pt x="248050" y="21600"/>
                </a:lnTo>
                <a:lnTo>
                  <a:pt x="246650" y="20200"/>
                </a:lnTo>
                <a:lnTo>
                  <a:pt x="246650" y="1400"/>
                </a:lnTo>
                <a:close/>
              </a:path>
              <a:path fill="darkenLess" w="248050" h="21600">
                <a:moveTo>
                  <a:pt x="24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50" y="20200"/>
                </a:lnTo>
                <a:close/>
              </a:path>
              <a:path fill="lighten" w="24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ы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852640"/>
            <a:ext cx="8280360" cy="720720"/>
          </a:xfrm>
          <a:custGeom>
            <a:avLst/>
            <a:gdLst>
              <a:gd name="textAreaLeft" fmla="*/ 46440 w 8280360"/>
              <a:gd name="textAreaRight" fmla="*/ 8233920 w 828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48050" h="21600">
                <a:moveTo>
                  <a:pt x="0" y="0"/>
                </a:moveTo>
                <a:lnTo>
                  <a:pt x="248050" y="0"/>
                </a:lnTo>
                <a:lnTo>
                  <a:pt x="248050" y="21600"/>
                </a:lnTo>
                <a:lnTo>
                  <a:pt x="0" y="21600"/>
                </a:lnTo>
                <a:close/>
              </a:path>
              <a:path fill="lightenLess" w="248050" h="21600">
                <a:moveTo>
                  <a:pt x="0" y="0"/>
                </a:moveTo>
                <a:lnTo>
                  <a:pt x="248050" y="0"/>
                </a:lnTo>
                <a:lnTo>
                  <a:pt x="246650" y="1400"/>
                </a:lnTo>
                <a:lnTo>
                  <a:pt x="1400" y="1400"/>
                </a:lnTo>
                <a:close/>
              </a:path>
              <a:path fill="darken" w="248050" h="21600">
                <a:moveTo>
                  <a:pt x="248050" y="0"/>
                </a:moveTo>
                <a:lnTo>
                  <a:pt x="248050" y="21600"/>
                </a:lnTo>
                <a:lnTo>
                  <a:pt x="246650" y="20200"/>
                </a:lnTo>
                <a:lnTo>
                  <a:pt x="246650" y="1400"/>
                </a:lnTo>
                <a:close/>
              </a:path>
              <a:path fill="darkenLess" w="248050" h="21600">
                <a:moveTo>
                  <a:pt x="24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50" y="20200"/>
                </a:lnTo>
                <a:close/>
              </a:path>
              <a:path fill="lighten" w="24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ная 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3645000"/>
            <a:ext cx="8280360" cy="720720"/>
          </a:xfrm>
          <a:custGeom>
            <a:avLst/>
            <a:gdLst>
              <a:gd name="textAreaLeft" fmla="*/ 46440 w 8280360"/>
              <a:gd name="textAreaRight" fmla="*/ 8233920 w 828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48050" h="21600">
                <a:moveTo>
                  <a:pt x="0" y="0"/>
                </a:moveTo>
                <a:lnTo>
                  <a:pt x="248050" y="0"/>
                </a:lnTo>
                <a:lnTo>
                  <a:pt x="248050" y="21600"/>
                </a:lnTo>
                <a:lnTo>
                  <a:pt x="0" y="21600"/>
                </a:lnTo>
                <a:close/>
              </a:path>
              <a:path fill="lightenLess" w="248050" h="21600">
                <a:moveTo>
                  <a:pt x="0" y="0"/>
                </a:moveTo>
                <a:lnTo>
                  <a:pt x="248050" y="0"/>
                </a:lnTo>
                <a:lnTo>
                  <a:pt x="246650" y="1400"/>
                </a:lnTo>
                <a:lnTo>
                  <a:pt x="1400" y="1400"/>
                </a:lnTo>
                <a:close/>
              </a:path>
              <a:path fill="darken" w="248050" h="21600">
                <a:moveTo>
                  <a:pt x="248050" y="0"/>
                </a:moveTo>
                <a:lnTo>
                  <a:pt x="248050" y="21600"/>
                </a:lnTo>
                <a:lnTo>
                  <a:pt x="246650" y="20200"/>
                </a:lnTo>
                <a:lnTo>
                  <a:pt x="246650" y="1400"/>
                </a:lnTo>
                <a:close/>
              </a:path>
              <a:path fill="darkenLess" w="248050" h="21600">
                <a:moveTo>
                  <a:pt x="24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50" y="20200"/>
                </a:lnTo>
                <a:close/>
              </a:path>
              <a:path fill="lighten" w="24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рты ввода / 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4437000"/>
            <a:ext cx="8280360" cy="720720"/>
          </a:xfrm>
          <a:custGeom>
            <a:avLst/>
            <a:gdLst>
              <a:gd name="textAreaLeft" fmla="*/ 46440 w 8280360"/>
              <a:gd name="textAreaRight" fmla="*/ 8233920 w 828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48050" h="21600">
                <a:moveTo>
                  <a:pt x="0" y="0"/>
                </a:moveTo>
                <a:lnTo>
                  <a:pt x="248050" y="0"/>
                </a:lnTo>
                <a:lnTo>
                  <a:pt x="248050" y="21600"/>
                </a:lnTo>
                <a:lnTo>
                  <a:pt x="0" y="21600"/>
                </a:lnTo>
                <a:close/>
              </a:path>
              <a:path fill="lightenLess" w="248050" h="21600">
                <a:moveTo>
                  <a:pt x="0" y="0"/>
                </a:moveTo>
                <a:lnTo>
                  <a:pt x="248050" y="0"/>
                </a:lnTo>
                <a:lnTo>
                  <a:pt x="246650" y="1400"/>
                </a:lnTo>
                <a:lnTo>
                  <a:pt x="1400" y="1400"/>
                </a:lnTo>
                <a:close/>
              </a:path>
              <a:path fill="darken" w="248050" h="21600">
                <a:moveTo>
                  <a:pt x="248050" y="0"/>
                </a:moveTo>
                <a:lnTo>
                  <a:pt x="248050" y="21600"/>
                </a:lnTo>
                <a:lnTo>
                  <a:pt x="246650" y="20200"/>
                </a:lnTo>
                <a:lnTo>
                  <a:pt x="246650" y="1400"/>
                </a:lnTo>
                <a:close/>
              </a:path>
              <a:path fill="darkenLess" w="248050" h="21600">
                <a:moveTo>
                  <a:pt x="24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50" y="20200"/>
                </a:lnTo>
                <a:close/>
              </a:path>
              <a:path fill="lighten" w="24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ые виды внешних устр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300640"/>
            <a:ext cx="7416720" cy="720720"/>
          </a:xfrm>
          <a:custGeom>
            <a:avLst/>
            <a:gdLst>
              <a:gd name="textAreaLeft" fmla="*/ 46440 w 7416720"/>
              <a:gd name="textAreaRight" fmla="*/ 7370280 w 741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2179" h="21600">
                <a:moveTo>
                  <a:pt x="0" y="0"/>
                </a:moveTo>
                <a:lnTo>
                  <a:pt x="222179" y="0"/>
                </a:lnTo>
                <a:lnTo>
                  <a:pt x="222179" y="21600"/>
                </a:lnTo>
                <a:lnTo>
                  <a:pt x="0" y="21600"/>
                </a:lnTo>
                <a:close/>
              </a:path>
              <a:path fill="lightenLess" w="222179" h="21600">
                <a:moveTo>
                  <a:pt x="0" y="0"/>
                </a:moveTo>
                <a:lnTo>
                  <a:pt x="222179" y="0"/>
                </a:lnTo>
                <a:lnTo>
                  <a:pt x="220779" y="1400"/>
                </a:lnTo>
                <a:lnTo>
                  <a:pt x="1400" y="1400"/>
                </a:lnTo>
                <a:close/>
              </a:path>
              <a:path fill="darken" w="222179" h="21600">
                <a:moveTo>
                  <a:pt x="222179" y="0"/>
                </a:moveTo>
                <a:lnTo>
                  <a:pt x="222179" y="21600"/>
                </a:lnTo>
                <a:lnTo>
                  <a:pt x="220779" y="20200"/>
                </a:lnTo>
                <a:lnTo>
                  <a:pt x="220779" y="1400"/>
                </a:lnTo>
                <a:close/>
              </a:path>
              <a:path fill="darkenLess" w="222179" h="21600">
                <a:moveTo>
                  <a:pt x="222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779" y="20200"/>
                </a:lnTo>
                <a:close/>
              </a:path>
              <a:path fill="lighten" w="222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спективные направления развития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333360"/>
            <a:ext cx="647640" cy="574560"/>
          </a:xfrm>
          <a:custGeom>
            <a:avLst/>
            <a:gdLst>
              <a:gd name="textAreaLeft" fmla="*/ 93600 w 647640"/>
              <a:gd name="textAreaRight" fmla="*/ 554040 w 64764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0826" y="3520"/>
                </a:lnTo>
                <a:lnTo>
                  <a:pt x="3520" y="352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0826" y="18080"/>
                </a:lnTo>
                <a:lnTo>
                  <a:pt x="20826" y="352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26" y="1808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46" h="21600">
                <a:moveTo>
                  <a:pt x="6747" y="10800"/>
                </a:moveTo>
                <a:lnTo>
                  <a:pt x="17599" y="5374"/>
                </a:lnTo>
                <a:lnTo>
                  <a:pt x="17599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11BD8-64FC-4FB5-90CE-98B4B87550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начение контролёров и 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нтролё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пециализированный процессор, управляющий работой вверенного ему внешнего у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оскольку в системе появилось теперь несколько процессоров, главный из них для отличия стали назыв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нтр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контролёров существенно изменяет процессы обмена информацией внутри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тральный процессор при необходимости произвести обмен выдаёт задание на его осуществление контролё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A22EA-A295-4241-8BB1-C6B5308DC6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начение контролёров и 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ьнейший обмен информацией  протекает под руководством контролёра. Если же по данной задаче до завершения обмена ничего сделать нельзя, то можно в это время решать другую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вязи между отдельными функциональными узлами компьютера используется специальное устройство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ш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на состои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з трёх ча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шины да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ля передачи данн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шины адре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ля передачи адрес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шины управ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ля передачи управляющих сигнал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D08C9-7DC2-44C9-8758-5A58FFC80A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начение контролёров и 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 из достоинст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анной схемы заключается в возможности легко подключать к компьютеру новые устройства. Это называетс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нципом открытой архитектуры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ьзователю она даёт возм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но выбирать состав внешних устройств в зависимости от круга решаемы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6588000" y="5950080"/>
            <a:ext cx="648000" cy="574560"/>
          </a:xfrm>
          <a:custGeom>
            <a:avLst/>
            <a:gdLst>
              <a:gd name="textAreaLeft" fmla="*/ 93600 w 648000"/>
              <a:gd name="textAreaRight" fmla="*/ 554400 w 64800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59" h="21600">
                <a:moveTo>
                  <a:pt x="0" y="0"/>
                </a:moveTo>
                <a:lnTo>
                  <a:pt x="24359" y="0"/>
                </a:lnTo>
                <a:lnTo>
                  <a:pt x="24359" y="21600"/>
                </a:lnTo>
                <a:lnTo>
                  <a:pt x="0" y="21600"/>
                </a:lnTo>
                <a:close/>
              </a:path>
              <a:path fill="lightenLess" w="24359" h="21600">
                <a:moveTo>
                  <a:pt x="0" y="0"/>
                </a:moveTo>
                <a:lnTo>
                  <a:pt x="24359" y="0"/>
                </a:lnTo>
                <a:lnTo>
                  <a:pt x="20839" y="3520"/>
                </a:lnTo>
                <a:lnTo>
                  <a:pt x="3520" y="3520"/>
                </a:lnTo>
                <a:close/>
              </a:path>
              <a:path fill="darken" w="24359" h="21600">
                <a:moveTo>
                  <a:pt x="24359" y="0"/>
                </a:moveTo>
                <a:lnTo>
                  <a:pt x="24359" y="21600"/>
                </a:lnTo>
                <a:lnTo>
                  <a:pt x="20839" y="18080"/>
                </a:lnTo>
                <a:lnTo>
                  <a:pt x="20839" y="3520"/>
                </a:lnTo>
                <a:close/>
              </a:path>
              <a:path fill="darkenLess" w="24359" h="21600">
                <a:moveTo>
                  <a:pt x="24359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39" y="18080"/>
                </a:lnTo>
                <a:close/>
              </a:path>
              <a:path fill="lighten" w="24359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59" h="21600">
                <a:moveTo>
                  <a:pt x="6753" y="10800"/>
                </a:moveTo>
                <a:lnTo>
                  <a:pt x="17606" y="5374"/>
                </a:lnTo>
                <a:lnTo>
                  <a:pt x="17606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5D027-25AA-49FD-9725-8045F4461D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8:00:39Z</dcterms:created>
  <dc:creator>Валентина</dc:creator>
  <dc:description/>
  <dc:language>en-US</dc:language>
  <cp:lastModifiedBy>Валентина</cp:lastModifiedBy>
  <dcterms:modified xsi:type="dcterms:W3CDTF">2012-05-14T20:22:07Z</dcterms:modified>
  <cp:revision>11</cp:revision>
  <dc:subject/>
  <dc:title>Слайд 1</dc:title>
</cp:coreProperties>
</file>