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8EB-08E1-48A5-AC84-5C347D6C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168-7944-43AA-A9B7-97DE8726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28F-486B-4295-8933-0EBCFBF6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BD0-7ECA-4B9C-815B-7BA18DAF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03F81-F606-4158-83A3-6D74EDAF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EA7C8-FD28-4306-88F0-24468BDD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370E4-329F-48D5-BA7C-F2EEB1DF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6F711-496C-44FE-8641-F7A6B1BC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CCE04-1A4E-44DC-921B-150DB4AB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31AD9-4471-45DF-B402-13ABD3D6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94289-32BC-4F4D-BA60-1B1CD7A9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A9F-05FA-4599-AFEB-BB642FD5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7BF96-5FBB-407E-A941-7B104B44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BBE82-CFCA-453B-89C1-2D344EC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4C418-F51C-410E-BDA1-165F3B05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436D8-5C46-416B-BE1F-7D9FA87A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0C77-F555-473B-A879-D965F11A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A8D-465D-48B6-8E5B-85C20D57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E7C4-E171-44E1-BFBB-4390B4D7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2DE-3F54-40E3-8491-9ED0B26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0DD-C2E6-4B53-B6C5-10AF74F7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004-53FC-47BE-BDCC-58998174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023-460E-4033-83ED-F6FC91A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557-A443-4083-B380-BFF63566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60A7-5AA8-415F-A7FD-6E3D44CAF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8699-79EF-47BD-B061-803C4FE915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Логопедический массаж как эффективное средство укрепления и профилактики психофизического здоровья школьник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123640" y="4508640"/>
            <a:ext cx="65516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у выполнила   ученица 1А класс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откова Кристи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ный руководител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доренко Елена Викторовна.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11280" y="5157720"/>
            <a:ext cx="4475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шки растираем вверх и вниз мы быстр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SDC10759"/>
          <p:cNvPicPr/>
          <p:nvPr/>
        </p:nvPicPr>
        <p:blipFill>
          <a:blip r:embed="rId1"/>
          <a:stretch/>
        </p:blipFill>
        <p:spPr>
          <a:xfrm>
            <a:off x="324000" y="476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3645000"/>
            <a:ext cx="403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бельки сгребают все плохие мысл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SDC10761"/>
          <p:cNvPicPr/>
          <p:nvPr/>
        </p:nvPicPr>
        <p:blipFill>
          <a:blip r:embed="rId2"/>
          <a:stretch/>
        </p:blipFill>
        <p:spPr>
          <a:xfrm>
            <a:off x="4500720" y="155736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860640"/>
            <a:ext cx="4402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х вперед сгиба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572000" y="55897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янем вниз за мочк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SDC10763"/>
          <p:cNvPicPr/>
          <p:nvPr/>
        </p:nvPicPr>
        <p:blipFill>
          <a:blip r:embed="rId1"/>
          <a:stretch/>
        </p:blipFill>
        <p:spPr>
          <a:xfrm>
            <a:off x="395280" y="47628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SDC10764"/>
          <p:cNvPicPr/>
          <p:nvPr/>
        </p:nvPicPr>
        <p:blipFill>
          <a:blip r:embed="rId2"/>
          <a:stretch/>
        </p:blipFill>
        <p:spPr>
          <a:xfrm>
            <a:off x="4716360" y="2276640"/>
            <a:ext cx="4103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3429000"/>
            <a:ext cx="4211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потом уходим пальцами на щеч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SDC10766"/>
          <p:cNvPicPr/>
          <p:nvPr/>
        </p:nvPicPr>
        <p:blipFill>
          <a:blip r:embed="rId1"/>
          <a:stretch/>
        </p:blipFill>
        <p:spPr>
          <a:xfrm>
            <a:off x="395280" y="40464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DC10767"/>
          <p:cNvPicPr/>
          <p:nvPr/>
        </p:nvPicPr>
        <p:blipFill>
          <a:blip r:embed="rId2"/>
          <a:stretch/>
        </p:blipFill>
        <p:spPr>
          <a:xfrm>
            <a:off x="4572000" y="1773360"/>
            <a:ext cx="4287960" cy="3216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572000" y="530064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Щечки разминаем, чтобы надували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941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бки разминаем, чтобы улыбали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SDC10768"/>
          <p:cNvPicPr/>
          <p:nvPr/>
        </p:nvPicPr>
        <p:blipFill>
          <a:blip r:embed="rId1"/>
          <a:stretch/>
        </p:blipFill>
        <p:spPr>
          <a:xfrm>
            <a:off x="2195640" y="907920"/>
            <a:ext cx="5059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бки пожуем мы, шарики наду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SDC10772"/>
          <p:cNvPicPr/>
          <p:nvPr/>
        </p:nvPicPr>
        <p:blipFill>
          <a:blip r:embed="rId1"/>
          <a:stretch/>
        </p:blipFill>
        <p:spPr>
          <a:xfrm>
            <a:off x="324000" y="141300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DC10773"/>
          <p:cNvPicPr/>
          <p:nvPr/>
        </p:nvPicPr>
        <p:blipFill>
          <a:blip r:embed="rId2"/>
          <a:stretch/>
        </p:blipFill>
        <p:spPr>
          <a:xfrm>
            <a:off x="4716360" y="1413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0" y="5013360"/>
            <a:ext cx="4114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янем подбородок и его щипа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SDC10774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SDC10775"/>
          <p:cNvPicPr/>
          <p:nvPr/>
        </p:nvPicPr>
        <p:blipFill>
          <a:blip r:embed="rId2"/>
          <a:stretch/>
        </p:blipFill>
        <p:spPr>
          <a:xfrm>
            <a:off x="4643280" y="1628640"/>
            <a:ext cx="4176720" cy="3132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324000" y="3789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губами вправо – влево потанцуе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5640" y="5300640"/>
            <a:ext cx="6985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потом по шейке ручками стека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SDC10778"/>
          <p:cNvPicPr/>
          <p:nvPr/>
        </p:nvPicPr>
        <p:blipFill>
          <a:blip r:embed="rId1"/>
          <a:stretch/>
        </p:blipFill>
        <p:spPr>
          <a:xfrm>
            <a:off x="1763640" y="40464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90476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post-40370-1213795552"/>
          <p:cNvPicPr/>
          <p:nvPr/>
        </p:nvPicPr>
        <p:blipFill>
          <a:blip r:embed="rId3"/>
          <a:stretch/>
        </p:blipFill>
        <p:spPr>
          <a:xfrm>
            <a:off x="5465880" y="189000"/>
            <a:ext cx="3678120" cy="5400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5"/>
          <p:cNvSpPr txBox="1"/>
          <p:nvPr/>
        </p:nvSpPr>
        <p:spPr>
          <a:xfrm>
            <a:off x="250920" y="5300640"/>
            <a:ext cx="68421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удьте  здоровы!  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Picture 10" descr="SDC11311"/>
          <p:cNvPicPr/>
          <p:nvPr/>
        </p:nvPicPr>
        <p:blipFill>
          <a:blip r:embed="rId4"/>
          <a:stretch/>
        </p:blipFill>
        <p:spPr>
          <a:xfrm>
            <a:off x="457200" y="1773360"/>
            <a:ext cx="4038480" cy="338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6000" spc="-1" strike="noStrike">
                <a:solidFill>
                  <a:srgbClr val="ffffff"/>
                </a:solidFill>
                <a:latin typeface="Tahoma"/>
              </a:rPr>
              <a:t>цель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оздоровление организм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укрепить здоровь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массаж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Традиционные виды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ссически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точны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Нетрадиционные 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ж кистей и стоп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урикулярны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ж волосистой части голов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ссаж профессора Аугл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ёмы массаж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глажи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мин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ир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брац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720" y="291600"/>
            <a:ext cx="4402080" cy="277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классического массажа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SDC10650"/>
          <p:cNvPicPr/>
          <p:nvPr/>
        </p:nvPicPr>
        <p:blipFill>
          <a:blip r:embed="rId1"/>
          <a:stretch/>
        </p:blipFill>
        <p:spPr>
          <a:xfrm>
            <a:off x="360360" y="907920"/>
            <a:ext cx="3471840" cy="4629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DC10654"/>
          <p:cNvPicPr/>
          <p:nvPr/>
        </p:nvPicPr>
        <p:blipFill>
          <a:blip r:embed="rId2"/>
          <a:stretch/>
        </p:blipFill>
        <p:spPr>
          <a:xfrm>
            <a:off x="4500720" y="3357720"/>
            <a:ext cx="4176720" cy="3133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4186080" cy="25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лассический массаж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29152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SDC10655"/>
          <p:cNvPicPr/>
          <p:nvPr/>
        </p:nvPicPr>
        <p:blipFill>
          <a:blip r:embed="rId1"/>
          <a:stretch/>
        </p:blipFill>
        <p:spPr>
          <a:xfrm>
            <a:off x="324000" y="318924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SDC10658"/>
          <p:cNvPicPr/>
          <p:nvPr/>
        </p:nvPicPr>
        <p:blipFill>
          <a:blip r:embed="rId2"/>
          <a:stretch/>
        </p:blipFill>
        <p:spPr>
          <a:xfrm>
            <a:off x="5148360" y="549360"/>
            <a:ext cx="3687840" cy="4916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0" y="291960"/>
            <a:ext cx="4114800" cy="24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ссический массаж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SDC10659"/>
          <p:cNvPicPr/>
          <p:nvPr/>
        </p:nvPicPr>
        <p:blipFill>
          <a:blip r:embed="rId1"/>
          <a:stretch/>
        </p:blipFill>
        <p:spPr>
          <a:xfrm>
            <a:off x="395280" y="692280"/>
            <a:ext cx="3863880" cy="5151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DC10662"/>
          <p:cNvPicPr/>
          <p:nvPr/>
        </p:nvPicPr>
        <p:blipFill>
          <a:blip r:embed="rId2"/>
          <a:stretch/>
        </p:blipFill>
        <p:spPr>
          <a:xfrm>
            <a:off x="4572000" y="3213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4259160" cy="270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ассаж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флексогенных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о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38606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SDC10550"/>
          <p:cNvPicPr/>
          <p:nvPr/>
        </p:nvPicPr>
        <p:blipFill>
          <a:blip r:embed="rId1"/>
          <a:stretch/>
        </p:blipFill>
        <p:spPr>
          <a:xfrm>
            <a:off x="4859280" y="26028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SDC10554"/>
          <p:cNvPicPr/>
          <p:nvPr/>
        </p:nvPicPr>
        <p:blipFill>
          <a:blip r:embed="rId2"/>
          <a:stretch/>
        </p:blipFill>
        <p:spPr>
          <a:xfrm>
            <a:off x="4859280" y="3573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SDC10563"/>
          <p:cNvPicPr/>
          <p:nvPr/>
        </p:nvPicPr>
        <p:blipFill>
          <a:blip r:embed="rId3"/>
          <a:stretch/>
        </p:blipFill>
        <p:spPr>
          <a:xfrm>
            <a:off x="324000" y="3573360"/>
            <a:ext cx="4052880" cy="304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9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68316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омасса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58936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лицо теплом своим мы умывае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SDC10750"/>
          <p:cNvPicPr/>
          <p:nvPr/>
        </p:nvPicPr>
        <p:blipFill>
          <a:blip r:embed="rId1"/>
          <a:stretch/>
        </p:blipFill>
        <p:spPr>
          <a:xfrm>
            <a:off x="4500720" y="333360"/>
            <a:ext cx="4319280" cy="3240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716360" y="3645000"/>
            <a:ext cx="410364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чки растираем и разогревае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SDC10757"/>
          <p:cNvPicPr/>
          <p:nvPr/>
        </p:nvPicPr>
        <p:blipFill>
          <a:blip r:embed="rId2"/>
          <a:stretch/>
        </p:blipFill>
        <p:spPr>
          <a:xfrm>
            <a:off x="324000" y="270828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0:48:00Z</dcterms:created>
  <dc:creator>S</dc:creator>
  <dc:description/>
  <dc:language>en-US</dc:language>
  <cp:lastModifiedBy>ЛЕНА</cp:lastModifiedBy>
  <dcterms:modified xsi:type="dcterms:W3CDTF">2012-06-24T19:51:00Z</dcterms:modified>
  <cp:revision>104</cp:revision>
  <dc:subject/>
  <dc:title>Логопедический массаж как эффективное средство укрепления и профилактики психофизического здоровья дошкольников в условиях детского сада</dc:title>
</cp:coreProperties>
</file>