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DCD-A251-4218-AFFE-FAAF8C28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181-4EEC-462D-98E8-B8761B7B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9E4-6CF4-4B8A-B8B9-F460D16F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39D-9811-4205-811D-0B33FB6D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3BF73-5CDE-4944-B485-9507FE06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4C5F1-35D3-45AB-9C43-9807F4A7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27C9F-847C-4F52-8137-88C8982C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6BD4-8E98-4C8F-A2FD-98BA39C2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1E191-75D2-4BEB-A324-A05ECF3B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3D48B-5D93-43B0-9CD1-7B3E8192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5DA2F-8CBC-44AC-8777-9526CAC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799-ABD6-42E0-AA66-603C2B8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16821-1D86-452E-BCE4-025D2736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D2F5D-7529-4042-9197-C74F62B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4A701-7124-49BC-B154-EBC5DE3B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440E5-836C-428A-8E56-38386A2D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2213E-A693-40A6-9606-3E5FAF29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E9E-BA24-4A88-A6AA-C3CC2E62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05A-85E3-4517-A0F5-57ED4C7D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0E5-C51D-4A8E-BB5F-5C903388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365-BC63-4648-B6BF-9F8D7B44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889-775D-4033-A014-0DEBC18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0A7-9041-48D2-8D76-97F3D9A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47A-110E-45F1-BE90-CC545303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E793-E8A2-41BE-B05D-EFCF0D3C2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8DF7-84C4-4707-8B43-80E21F4C66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огопедический массаж как эффективное средство укрепления и профилактики психофизического здоровья школьни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23640" y="4508640"/>
            <a:ext cx="65516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у выполнила   ученица 1А клас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откова Крист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ный руководител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оренко Елена Викторовна.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11280" y="5157720"/>
            <a:ext cx="4475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шки растираем вверх и вниз мы быстр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SDC10759"/>
          <p:cNvPicPr/>
          <p:nvPr/>
        </p:nvPicPr>
        <p:blipFill>
          <a:blip r:embed="rId1"/>
          <a:stretch/>
        </p:blipFill>
        <p:spPr>
          <a:xfrm>
            <a:off x="324000" y="476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3645000"/>
            <a:ext cx="403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бельки сгребают все плохие мыс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SDC10761"/>
          <p:cNvPicPr/>
          <p:nvPr/>
        </p:nvPicPr>
        <p:blipFill>
          <a:blip r:embed="rId2"/>
          <a:stretch/>
        </p:blipFill>
        <p:spPr>
          <a:xfrm>
            <a:off x="4500720" y="1557360"/>
            <a:ext cx="431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860640"/>
            <a:ext cx="4402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х вперед сгибае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72000" y="558972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янем вниз за моч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SDC10763"/>
          <p:cNvPicPr/>
          <p:nvPr/>
        </p:nvPicPr>
        <p:blipFill>
          <a:blip r:embed="rId1"/>
          <a:stretch/>
        </p:blipFill>
        <p:spPr>
          <a:xfrm>
            <a:off x="395280" y="47628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SDC10764"/>
          <p:cNvPicPr/>
          <p:nvPr/>
        </p:nvPicPr>
        <p:blipFill>
          <a:blip r:embed="rId2"/>
          <a:stretch/>
        </p:blipFill>
        <p:spPr>
          <a:xfrm>
            <a:off x="4716360" y="227664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3429000"/>
            <a:ext cx="4211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потом уходим пальцами на щеч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SDC10766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DC10767"/>
          <p:cNvPicPr/>
          <p:nvPr/>
        </p:nvPicPr>
        <p:blipFill>
          <a:blip r:embed="rId2"/>
          <a:stretch/>
        </p:blipFill>
        <p:spPr>
          <a:xfrm>
            <a:off x="4572000" y="1773360"/>
            <a:ext cx="4287960" cy="3216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4572000" y="530064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Щечки разминаем, чтобы надували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941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бки разминаем, чтобы улыбали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SDC10768"/>
          <p:cNvPicPr/>
          <p:nvPr/>
        </p:nvPicPr>
        <p:blipFill>
          <a:blip r:embed="rId1"/>
          <a:stretch/>
        </p:blipFill>
        <p:spPr>
          <a:xfrm>
            <a:off x="2195640" y="907920"/>
            <a:ext cx="5059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бки пожуем мы, шарики надуе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SDC10772"/>
          <p:cNvPicPr/>
          <p:nvPr/>
        </p:nvPicPr>
        <p:blipFill>
          <a:blip r:embed="rId1"/>
          <a:stretch/>
        </p:blipFill>
        <p:spPr>
          <a:xfrm>
            <a:off x="324000" y="1413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SDC10773"/>
          <p:cNvPicPr/>
          <p:nvPr/>
        </p:nvPicPr>
        <p:blipFill>
          <a:blip r:embed="rId2"/>
          <a:stretch/>
        </p:blipFill>
        <p:spPr>
          <a:xfrm>
            <a:off x="4716360" y="1413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0" y="5013360"/>
            <a:ext cx="41148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янем подбородок и его щипае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SDC10774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SDC10775"/>
          <p:cNvPicPr/>
          <p:nvPr/>
        </p:nvPicPr>
        <p:blipFill>
          <a:blip r:embed="rId2"/>
          <a:stretch/>
        </p:blipFill>
        <p:spPr>
          <a:xfrm>
            <a:off x="4643280" y="162864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324000" y="3789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губами вправо – влево потанцуе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5640" y="5300640"/>
            <a:ext cx="6985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потом по шейке ручками стека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SDC10778"/>
          <p:cNvPicPr/>
          <p:nvPr/>
        </p:nvPicPr>
        <p:blipFill>
          <a:blip r:embed="rId1"/>
          <a:stretch/>
        </p:blipFill>
        <p:spPr>
          <a:xfrm>
            <a:off x="1763640" y="40464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90476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post-40370-1213795552"/>
          <p:cNvPicPr/>
          <p:nvPr/>
        </p:nvPicPr>
        <p:blipFill>
          <a:blip r:embed="rId3"/>
          <a:stretch/>
        </p:blipFill>
        <p:spPr>
          <a:xfrm>
            <a:off x="5465880" y="189000"/>
            <a:ext cx="3678120" cy="5400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5"/>
          <p:cNvSpPr txBox="1"/>
          <p:nvPr/>
        </p:nvSpPr>
        <p:spPr>
          <a:xfrm>
            <a:off x="250920" y="5300640"/>
            <a:ext cx="6842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ьте  здоровы!  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10" descr="SDC11311"/>
          <p:cNvPicPr/>
          <p:nvPr/>
        </p:nvPicPr>
        <p:blipFill>
          <a:blip r:embed="rId4"/>
          <a:stretch/>
        </p:blipFill>
        <p:spPr>
          <a:xfrm>
            <a:off x="457200" y="1773360"/>
            <a:ext cx="403848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оздоровление организм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укрепить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массаж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Традиционные вид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ический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точный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Нетрадиционные 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аж кистей и сто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урикулярны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аж волосистой части голов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аж профессора Аугл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ёмы массаж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глажи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мин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ир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бра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720" y="291600"/>
            <a:ext cx="4402080" cy="27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классического массаж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SDC10650"/>
          <p:cNvPicPr/>
          <p:nvPr/>
        </p:nvPicPr>
        <p:blipFill>
          <a:blip r:embed="rId1"/>
          <a:stretch/>
        </p:blipFill>
        <p:spPr>
          <a:xfrm>
            <a:off x="360360" y="907920"/>
            <a:ext cx="3471840" cy="4629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DC10654"/>
          <p:cNvPicPr/>
          <p:nvPr/>
        </p:nvPicPr>
        <p:blipFill>
          <a:blip r:embed="rId2"/>
          <a:stretch/>
        </p:blipFill>
        <p:spPr>
          <a:xfrm>
            <a:off x="4500720" y="3357720"/>
            <a:ext cx="4176720" cy="313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4186080" cy="25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ассический массаж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3141360"/>
            <a:ext cx="82915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SDC10655"/>
          <p:cNvPicPr/>
          <p:nvPr/>
        </p:nvPicPr>
        <p:blipFill>
          <a:blip r:embed="rId1"/>
          <a:stretch/>
        </p:blipFill>
        <p:spPr>
          <a:xfrm>
            <a:off x="324000" y="318924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SDC10658"/>
          <p:cNvPicPr/>
          <p:nvPr/>
        </p:nvPicPr>
        <p:blipFill>
          <a:blip r:embed="rId2"/>
          <a:stretch/>
        </p:blipFill>
        <p:spPr>
          <a:xfrm>
            <a:off x="5148360" y="549360"/>
            <a:ext cx="3687840" cy="491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291960"/>
            <a:ext cx="4114800" cy="24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ассический массаж 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SDC10659"/>
          <p:cNvPicPr/>
          <p:nvPr/>
        </p:nvPicPr>
        <p:blipFill>
          <a:blip r:embed="rId1"/>
          <a:stretch/>
        </p:blipFill>
        <p:spPr>
          <a:xfrm>
            <a:off x="395280" y="692280"/>
            <a:ext cx="3863880" cy="5151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DC10662"/>
          <p:cNvPicPr/>
          <p:nvPr/>
        </p:nvPicPr>
        <p:blipFill>
          <a:blip r:embed="rId2"/>
          <a:stretch/>
        </p:blipFill>
        <p:spPr>
          <a:xfrm>
            <a:off x="4572000" y="3213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4259160" cy="27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ссаж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флексогенных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о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8606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SDC10550"/>
          <p:cNvPicPr/>
          <p:nvPr/>
        </p:nvPicPr>
        <p:blipFill>
          <a:blip r:embed="rId1"/>
          <a:stretch/>
        </p:blipFill>
        <p:spPr>
          <a:xfrm>
            <a:off x="485928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DC10554"/>
          <p:cNvPicPr/>
          <p:nvPr/>
        </p:nvPicPr>
        <p:blipFill>
          <a:blip r:embed="rId2"/>
          <a:stretch/>
        </p:blipFill>
        <p:spPr>
          <a:xfrm>
            <a:off x="4859280" y="3573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SDC10563"/>
          <p:cNvPicPr/>
          <p:nvPr/>
        </p:nvPicPr>
        <p:blipFill>
          <a:blip r:embed="rId3"/>
          <a:stretch/>
        </p:blipFill>
        <p:spPr>
          <a:xfrm>
            <a:off x="324000" y="3573360"/>
            <a:ext cx="4052880" cy="304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68316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омасса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558936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лицо теплом своим мы умывае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SDC10750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3240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716360" y="3645000"/>
            <a:ext cx="41036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чки растираем и разогревае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SDC10757"/>
          <p:cNvPicPr/>
          <p:nvPr/>
        </p:nvPicPr>
        <p:blipFill>
          <a:blip r:embed="rId2"/>
          <a:stretch/>
        </p:blipFill>
        <p:spPr>
          <a:xfrm>
            <a:off x="324000" y="270828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0:48:00Z</dcterms:created>
  <dc:creator>S</dc:creator>
  <dc:description/>
  <dc:language>en-US</dc:language>
  <cp:lastModifiedBy>ЛЕНА</cp:lastModifiedBy>
  <dcterms:modified xsi:type="dcterms:W3CDTF">2012-06-24T19:51:00Z</dcterms:modified>
  <cp:revision>104</cp:revision>
  <dc:subject/>
  <dc:title>Логопедический массаж как эффективное средство укрепления и профилактики психофизического здоровья дошкольников в условиях детского сада</dc:title>
</cp:coreProperties>
</file>