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388-52DB-4692-936C-C651D224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408-153A-49F6-9332-C1425F3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CCB-9FD0-4633-B997-E8C4A750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28D-EFC0-4796-A857-8CD40640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4A6B-34F0-4DB2-BC0F-A6EAF973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3462-B8E4-4A18-86DF-40FCD6AE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386D-1F88-4450-B1A6-94093DCB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72B-76D3-4490-BE5C-0D128A2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86FC-BA34-4CEA-BCDC-DD725FD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E8C1-67C2-43BA-917E-896FD801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17CC-78E2-4A25-8A93-B930966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F42-DCA8-42C0-AB8A-C642A4C6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2AB-CFDF-4A8B-96B0-DD02C5C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7F5C-49F0-436F-A634-C934844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5792-D48B-42A8-A8A3-2C01494B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6D7B-E965-4259-8952-7E06DFE1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EE45-BEAA-42FA-9D0C-1BD899D5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9CD9-E83F-4EA8-A616-93079084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F7B5-5A6E-4F46-8383-4F98D0F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8B15-BB72-40A1-A24E-ED712E6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2027-1614-408F-A9DE-077769C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82D3-936C-4EDD-86EF-63C9D83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F2E-7D44-418D-981E-92E3B29C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4844-08BF-4745-9F51-E43BDBA7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ECB7-E2F0-4EFB-BAE0-31DE45D0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3920-0E22-4FE4-8E9D-C6309959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3ECC-5CA7-4525-85DB-9A8AEBA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CE1C-1705-4DF1-AB84-06A7C60E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F50E-D18F-4DB7-B093-8B4BD34D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5811-0EA9-455B-AB4E-0A38D7BE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6643-D693-476D-B138-399A74A0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C305-F089-4F8A-A33C-CE8D30E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68C1-4B9F-49EA-8E6B-478ACC9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450-5BE0-45FC-B96C-843D587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AE5F-5000-44A3-9CC3-0851FFE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9323-DDBE-4417-B6F9-8AAABCF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491BB-6B72-46F9-940F-F9AD374B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19E1-AB54-4BC8-BFF9-CEB11F0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7287-2DEC-4CD0-AAE7-4D54A9CE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00AA-532A-4EB1-8CD0-A3F3CE0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F5A3A-851A-4DEF-86DA-F73B548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AD98-B0DB-487C-A1C9-1CF93DB4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C7DD-C825-4C00-9040-CA1280B1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9F7-6044-4347-9C79-130C5FC1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D75-41B4-4450-BEAB-8C05520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F17-1EA6-4FF7-A249-119944D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E32-EAE1-4E1A-9603-4D0A4C16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C5B-A4A9-458B-87F9-0D73E7B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5C0B-480C-4327-A90F-9E896E749A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D919-1D90-446A-B775-6FCF1F3D58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7110-5E98-4C8F-9D22-EDA2B595C2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EEE0-A3AA-4F4C-B17F-ECE9D4405C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«Средняя общеобразовательная школа №16»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ела Александровского Александровского района Ставропольского края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0040" y="1643040"/>
            <a:ext cx="83534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644000" y="5214960"/>
            <a:ext cx="42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пыта работы учителя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онь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054960" y="60404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642960" y="1357200"/>
            <a:ext cx="8001000" cy="364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668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Развитие творческих способностей учащихся</a:t>
            </a:r>
            <a:endParaRPr b="1" lang="en-US" sz="4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 их самореализация</a:t>
            </a:r>
            <a:endParaRPr b="1" lang="en-US" sz="4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Технология ведения занятий блочно- модульной системы</a:t>
            </a:r>
            <a:r>
              <a:rPr b="0" lang="ru-RU" sz="3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9280" y="1628640"/>
          <a:ext cx="8785440" cy="5112000"/>
        </p:xfrm>
        <a:graphic>
          <a:graphicData uri="http://schemas.openxmlformats.org/drawingml/2006/table">
            <a:tbl>
              <a:tblPr/>
              <a:tblGrid>
                <a:gridCol w="1200240"/>
                <a:gridCol w="1190520"/>
                <a:gridCol w="2265480"/>
                <a:gridCol w="4129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и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браза т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оретических вопросов и их закрепление (уроки-лекции, уроки общения), примерная 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6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 образа в пон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типичных опорных задач (практикум-миниму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4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понятия до алгоритма, предварительный 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 с размытыми правилами,  нестандартных и занимательных задач (практикум-максиму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контроль по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актики и те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imes New Roman"/>
              </a:rPr>
              <a:t>Структура блока (цикла)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НОВОГО МАТЕРИАЛА (ИНМ 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 с опорным конспек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общения (У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и-практикумы (УП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-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ь на печатной основе (ТП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ые (СР),   контрольные работы (К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Блок «Многогранники»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(4 модуля)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9280" y="1052640"/>
          <a:ext cx="8750520" cy="5711760"/>
        </p:xfrm>
        <a:graphic>
          <a:graphicData uri="http://schemas.openxmlformats.org/drawingml/2006/table">
            <a:tbl>
              <a:tblPr/>
              <a:tblGrid>
                <a:gridCol w="757440"/>
                <a:gridCol w="954000"/>
                <a:gridCol w="703908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уроки – лекция с опорным  конспе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к – урок общения, опрос теор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уроки – совместное решение с учителем различных задач и упраж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уроки – работа в группах (учитель-консульта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урок – урок-тренинг (отработка навыков решения задач на готовых чертежа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урок – промежуточная проверка знаний (тестирование, индивидуальная работа, математический диктант, экспресс-опрос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уроки – практикум по решению нестандарт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к – урок дифференцированной самостоятельной работы учащихся, спланированный на разных уровнях сложности (индивидуальные консультации, помощь по устранению пробелов в знаниях, проверка выполнения домашней контрольной работ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урок - нестандартный урок обобщающего повторения (урок вопросов и ответов, урок взаимообучения, защиты рефератов, проектов, практических работ или моделей, КВН и др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эта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урок - зачет по теории изучаемой темы, по решению опорных и творческих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урок - урок многовариантной контрольной работы, составленной в трех уровнях сл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к - анализ контрольной работы и разбор допущенных ошиб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6"/>
          <p:cNvSpPr txBox="1"/>
          <p:nvPr/>
        </p:nvSpPr>
        <p:spPr>
          <a:xfrm rot="20042400">
            <a:off x="1042560" y="1700280"/>
            <a:ext cx="7742160" cy="36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cc66"/>
                  </a:solidFill>
                  <a:miter/>
                </a:ln>
                <a:solidFill>
                  <a:srgbClr val="ffffff">
                    <a:alpha val="91000"/>
                  </a:srgbClr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Georgia"/>
              </a:rPr>
              <a:t>МНОГОГРАННИКИ</a:t>
            </a:r>
            <a:endParaRPr b="1" i="1" lang="en-US" sz="1800" spc="1" strike="noStrike">
              <a:ln w="19080">
                <a:solidFill>
                  <a:srgbClr val="cccc66"/>
                </a:solidFill>
                <a:miter/>
              </a:ln>
              <a:solidFill>
                <a:srgbClr val="ffffff">
                  <a:alpha val="91000"/>
                </a:srgbClr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онятие многогран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(многогранника, выпуклого многогранника, невыпуклого многогранни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многогранника (грань, ребро, вершина, диагона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р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пр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призмы (основания, боковые грани, боковые ребра, высота, диагональ, диагональное сеч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призм ( наклонная, прямая, правиль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 поверхности призмы (основания, боковая, полна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пирам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пирамиды (вершина, основание, боковые грани, боковые ребра, высот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 поверхности пирамиды (основания, боковая, пол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пирамид ( наклонная, правильная, усечен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ьная пирамида: элементы, свойства, площадь боковой поверх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еченная пирамида: основания, боковые грани, боковые ребра, высота, площадь боковой поверх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еченная правильная пирамида: основания, боковые грани, боковые ребра, высота, апофемы, площадь боковой поверх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равильные многогра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мметрия в пространстве (точка, ось, плоскость симметр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ятие правильного многогранника. Виды правильных многогранников: тетраэдр, октаэдр, икосаэдр, куб, додекаэ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симметрии правильных многогра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403056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мятка учащемуся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с опорным консп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читать текст параграфа, постарайтесь как можно более подробно вспомнить содержание урока, проведенного учителем по данной теме, используйте для этого сделанные записи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те на заголовок конспекта, вспомните, что нового можно узнать, почему именно эти слова вынесены в заголовок? Прочитайте содержание пункта (параграфа). Выделите основные понятия, разбейте текст на смысловые части, выделите логические связи между смысловыми частями. Подчеркните карандашом все непонятные слова, выражения и выясните их значение. Разберите основные определения, теоремы. Соотнесите изученный материал с предложенным опорным консп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и запомните материал, используя опорный консп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райтесь ответить на поставленные вопросы в листе само(взаимо)проверки. Воспроизведите по памяти все записи, рисунки опорного консп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ьте с конспектом, если все безукоризненно, можно приступать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личии даже очень небольшой ошибки, описки, необходимо работу выполнить еще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ледующий день перед уроком необходимо снова воспроизвести все рисунки, записи опорного конспекта и повторить все определения, выводы, доказ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записанное в конспекте - МАТЕМАТИЧЕСКАЯ АЗБ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ее надо в совершенстве только на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637240" y="0"/>
            <a:ext cx="3506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райтесь, прежде ч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ступить к выпол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юбого задания на урок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ли дома, четко определ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и свое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176200" cy="28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2735280" cy="2620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6654960" y="549360"/>
            <a:ext cx="1800000" cy="29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4"/>
          <a:stretch/>
        </p:blipFill>
        <p:spPr>
          <a:xfrm>
            <a:off x="6804000" y="364500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5"/>
          <a:stretch/>
        </p:blipFill>
        <p:spPr>
          <a:xfrm>
            <a:off x="324000" y="4076640"/>
            <a:ext cx="1800000" cy="25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6"/>
          <a:stretch/>
        </p:blipFill>
        <p:spPr>
          <a:xfrm>
            <a:off x="2484360" y="4076640"/>
            <a:ext cx="388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357120" y="189000"/>
            <a:ext cx="2270160" cy="626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3236760" y="189000"/>
            <a:ext cx="2414880" cy="6335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2233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324000" y="345960"/>
            <a:ext cx="3456000" cy="610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403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04360" cy="2639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828036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8675640" y="3645000"/>
            <a:ext cx="7308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40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Когда людей станут учить не тому,</a:t>
            </a:r>
            <a:br>
              <a:rPr sz="1900"/>
            </a:b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что они должны думать, а тому, </a:t>
            </a:r>
            <a:br>
              <a:rPr sz="1900"/>
            </a:b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как они должны думать, то тогда</a:t>
            </a:r>
            <a:br>
              <a:rPr sz="1900"/>
            </a:b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исчезнут всякие недоразумения.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Г. Лихтенберг</a:t>
            </a:r>
            <a:r>
              <a:rPr b="0" lang="ru-RU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вная цель педагоги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для раскрытия индивидуальных способностей учащихся, формирование у них умений самостоятельно учиться: планировать, организовывать, корректировать, контролировать и оценивать свою учебно - познавательную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0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281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Лист само(взаимо)контроля по теме: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«Многогранники. Площади поверхностей»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10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Сформулируйте 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клого 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ыпуклого многогран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ью 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ом 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ой многогран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Сформулируйте определение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ми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гранями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ребрами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ю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ным сечением приз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Какая призма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5600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поверхность призмы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поверх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й поверхн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Чему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поверхность призмы (доказ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верхность приз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Дайте определение параллелепипеда как призмы в основании котор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уйте определение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м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гранями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ребрами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чите фразу: «Если у пирамиды боковые ребра равны или углы наклона   боковых ребер к плоскости основания равны, то ее вершина проецируется в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Лист само(взаимо)контроля по теме: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«Многогранники. Площади поверхностей»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95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 Какая пирамида называется прави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правиль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ю правиль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офе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 Какая поверхность пирамиды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поверх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й поверхн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 Чему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поверхность пирамиды (доказ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верхность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  Сформулируйте определение усеченной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ми усечен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гранями усечен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усеченн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3280" y="836640"/>
            <a:ext cx="4321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  Чему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поверхность усеченной пирамиды (доказ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верхность усеченн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  Понятие объ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  Свойства объе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е тела имеют равные объемы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ло составлено из нескольких тел, то его объем равен сумме объемов эти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  Чему равен объ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ого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ой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  Сформулируйте определение правильного многогран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.  Назовите 5 типов правильных многогр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17"/>
          <p:cNvGrpSpPr/>
          <p:nvPr/>
        </p:nvGrpSpPr>
        <p:grpSpPr>
          <a:xfrm>
            <a:off x="1366920" y="260280"/>
            <a:ext cx="7777080" cy="6597720"/>
            <a:chOff x="1366920" y="260280"/>
            <a:chExt cx="7777080" cy="6597720"/>
          </a:xfrm>
        </p:grpSpPr>
        <p:sp>
          <p:nvSpPr>
            <p:cNvPr id="241" name="AutoShape 154"/>
            <p:cNvSpPr/>
            <p:nvPr/>
          </p:nvSpPr>
          <p:spPr>
            <a:xfrm>
              <a:off x="1366920" y="260280"/>
              <a:ext cx="7777080" cy="65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53"/>
            <p:cNvSpPr/>
            <p:nvPr/>
          </p:nvSpPr>
          <p:spPr>
            <a:xfrm>
              <a:off x="4525560" y="867600"/>
              <a:ext cx="2431080" cy="261360"/>
            </a:xfrm>
            <a:prstGeom prst="parallelogram">
              <a:avLst>
                <a:gd name="adj" fmla="val 232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52"/>
            <p:cNvSpPr/>
            <p:nvPr/>
          </p:nvSpPr>
          <p:spPr>
            <a:xfrm>
              <a:off x="6713280" y="434160"/>
              <a:ext cx="2430360" cy="260280"/>
            </a:xfrm>
            <a:prstGeom prst="parallelogram">
              <a:avLst>
                <a:gd name="adj" fmla="val 2334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51"/>
            <p:cNvSpPr/>
            <p:nvPr/>
          </p:nvSpPr>
          <p:spPr>
            <a:xfrm>
              <a:off x="5011920" y="2170080"/>
              <a:ext cx="2431440" cy="261360"/>
            </a:xfrm>
            <a:prstGeom prst="parallelogram">
              <a:avLst>
                <a:gd name="adj" fmla="val 2325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0"/>
            <p:cNvSpPr/>
            <p:nvPr/>
          </p:nvSpPr>
          <p:spPr>
            <a:xfrm flipH="1" flipV="1">
              <a:off x="6594840" y="1032120"/>
              <a:ext cx="604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49"/>
            <p:cNvSpPr/>
            <p:nvPr/>
          </p:nvSpPr>
          <p:spPr>
            <a:xfrm flipV="1">
              <a:off x="7199640" y="694440"/>
              <a:ext cx="7279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8"/>
            <p:cNvSpPr/>
            <p:nvPr/>
          </p:nvSpPr>
          <p:spPr>
            <a:xfrm>
              <a:off x="4525560" y="1128600"/>
              <a:ext cx="1220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7"/>
            <p:cNvSpPr/>
            <p:nvPr/>
          </p:nvSpPr>
          <p:spPr>
            <a:xfrm flipH="1">
              <a:off x="4160880" y="1129320"/>
              <a:ext cx="36396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6"/>
            <p:cNvSpPr/>
            <p:nvPr/>
          </p:nvSpPr>
          <p:spPr>
            <a:xfrm flipH="1" flipV="1">
              <a:off x="4282920" y="1041480"/>
              <a:ext cx="24264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5"/>
            <p:cNvSpPr/>
            <p:nvPr/>
          </p:nvSpPr>
          <p:spPr>
            <a:xfrm flipH="1" flipV="1">
              <a:off x="4403880" y="954720"/>
              <a:ext cx="12132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4"/>
            <p:cNvSpPr/>
            <p:nvPr/>
          </p:nvSpPr>
          <p:spPr>
            <a:xfrm flipV="1">
              <a:off x="4525560" y="694080"/>
              <a:ext cx="36468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3"/>
            <p:cNvSpPr/>
            <p:nvPr/>
          </p:nvSpPr>
          <p:spPr>
            <a:xfrm flipH="1">
              <a:off x="6348240" y="1909800"/>
              <a:ext cx="7297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42"/>
            <p:cNvSpPr/>
            <p:nvPr/>
          </p:nvSpPr>
          <p:spPr>
            <a:xfrm flipH="1">
              <a:off x="3675240" y="2430720"/>
              <a:ext cx="2066400" cy="34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1"/>
            <p:cNvSpPr/>
            <p:nvPr/>
          </p:nvSpPr>
          <p:spPr>
            <a:xfrm>
              <a:off x="5740920" y="2430720"/>
              <a:ext cx="1699560" cy="34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40"/>
            <p:cNvSpPr/>
            <p:nvPr/>
          </p:nvSpPr>
          <p:spPr>
            <a:xfrm>
              <a:off x="5257080" y="1215720"/>
              <a:ext cx="3520800" cy="69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39"/>
            <p:cNvSpPr/>
            <p:nvPr/>
          </p:nvSpPr>
          <p:spPr>
            <a:xfrm rot="10800000">
              <a:off x="4889880" y="4861080"/>
              <a:ext cx="1821960" cy="433800"/>
            </a:xfrm>
            <a:custGeom>
              <a:avLst/>
              <a:gdLst>
                <a:gd name="textAreaLeft" fmla="*/ 379440 w 1821960"/>
                <a:gd name="textAreaRight" fmla="*/ 1442520 w 1821960"/>
                <a:gd name="textAreaTop" fmla="*/ 90000 h 433800"/>
                <a:gd name="textAreaBottom" fmla="*/ 343800 h 4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38"/>
            <p:cNvSpPr/>
            <p:nvPr/>
          </p:nvSpPr>
          <p:spPr>
            <a:xfrm rot="10800000">
              <a:off x="7198920" y="4861080"/>
              <a:ext cx="1823760" cy="433800"/>
            </a:xfrm>
            <a:custGeom>
              <a:avLst/>
              <a:gdLst>
                <a:gd name="textAreaLeft" fmla="*/ 379440 w 1823760"/>
                <a:gd name="textAreaRight" fmla="*/ 1444320 w 1823760"/>
                <a:gd name="textAreaTop" fmla="*/ 90000 h 433800"/>
                <a:gd name="textAreaBottom" fmla="*/ 343800 h 4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37"/>
            <p:cNvSpPr/>
            <p:nvPr/>
          </p:nvSpPr>
          <p:spPr>
            <a:xfrm>
              <a:off x="2338560" y="520560"/>
              <a:ext cx="255096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6"/>
            <p:cNvSpPr/>
            <p:nvPr/>
          </p:nvSpPr>
          <p:spPr>
            <a:xfrm>
              <a:off x="2095920" y="1562040"/>
              <a:ext cx="255168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35"/>
            <p:cNvSpPr/>
            <p:nvPr/>
          </p:nvSpPr>
          <p:spPr>
            <a:xfrm>
              <a:off x="4523040" y="866880"/>
              <a:ext cx="2431080" cy="261720"/>
            </a:xfrm>
            <a:prstGeom prst="parallelogram">
              <a:avLst>
                <a:gd name="adj" fmla="val 2322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4"/>
            <p:cNvSpPr/>
            <p:nvPr/>
          </p:nvSpPr>
          <p:spPr>
            <a:xfrm>
              <a:off x="5010120" y="2169360"/>
              <a:ext cx="2431440" cy="261360"/>
            </a:xfrm>
            <a:prstGeom prst="parallelogram">
              <a:avLst>
                <a:gd name="adj" fmla="val 2325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3"/>
            <p:cNvSpPr/>
            <p:nvPr/>
          </p:nvSpPr>
          <p:spPr>
            <a:xfrm flipH="1" flipV="1">
              <a:off x="6592320" y="1031400"/>
              <a:ext cx="60552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2"/>
            <p:cNvSpPr/>
            <p:nvPr/>
          </p:nvSpPr>
          <p:spPr>
            <a:xfrm flipV="1">
              <a:off x="7197840" y="693720"/>
              <a:ext cx="72720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31"/>
            <p:cNvSpPr/>
            <p:nvPr/>
          </p:nvSpPr>
          <p:spPr>
            <a:xfrm>
              <a:off x="4523040" y="1128600"/>
              <a:ext cx="1220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0"/>
            <p:cNvSpPr/>
            <p:nvPr/>
          </p:nvSpPr>
          <p:spPr>
            <a:xfrm flipH="1">
              <a:off x="4159800" y="1128600"/>
              <a:ext cx="36288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9"/>
            <p:cNvSpPr/>
            <p:nvPr/>
          </p:nvSpPr>
          <p:spPr>
            <a:xfrm flipH="1" flipV="1">
              <a:off x="4281120" y="1040760"/>
              <a:ext cx="24192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28"/>
            <p:cNvSpPr/>
            <p:nvPr/>
          </p:nvSpPr>
          <p:spPr>
            <a:xfrm flipH="1" flipV="1">
              <a:off x="4402080" y="954000"/>
              <a:ext cx="12060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27"/>
            <p:cNvSpPr/>
            <p:nvPr/>
          </p:nvSpPr>
          <p:spPr>
            <a:xfrm flipV="1">
              <a:off x="4523040" y="693360"/>
              <a:ext cx="36576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6"/>
            <p:cNvSpPr/>
            <p:nvPr/>
          </p:nvSpPr>
          <p:spPr>
            <a:xfrm flipH="1">
              <a:off x="6346440" y="1909080"/>
              <a:ext cx="7297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5"/>
            <p:cNvSpPr/>
            <p:nvPr/>
          </p:nvSpPr>
          <p:spPr>
            <a:xfrm flipH="1">
              <a:off x="3673440" y="2430000"/>
              <a:ext cx="206640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4"/>
            <p:cNvSpPr/>
            <p:nvPr/>
          </p:nvSpPr>
          <p:spPr>
            <a:xfrm>
              <a:off x="5739120" y="2430000"/>
              <a:ext cx="169992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3"/>
            <p:cNvSpPr/>
            <p:nvPr/>
          </p:nvSpPr>
          <p:spPr>
            <a:xfrm>
              <a:off x="5255280" y="1215000"/>
              <a:ext cx="3520800" cy="69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22"/>
            <p:cNvSpPr/>
            <p:nvPr/>
          </p:nvSpPr>
          <p:spPr>
            <a:xfrm rot="10800000">
              <a:off x="4888440" y="4860360"/>
              <a:ext cx="1821960" cy="434520"/>
            </a:xfrm>
            <a:custGeom>
              <a:avLst/>
              <a:gdLst>
                <a:gd name="textAreaLeft" fmla="*/ 379440 w 1821960"/>
                <a:gd name="textAreaRight" fmla="*/ 1442520 w 1821960"/>
                <a:gd name="textAreaTop" fmla="*/ 90000 h 434520"/>
                <a:gd name="textAreaBottom" fmla="*/ 344520 h 43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1"/>
            <p:cNvSpPr/>
            <p:nvPr/>
          </p:nvSpPr>
          <p:spPr>
            <a:xfrm rot="10800000">
              <a:off x="7196400" y="4860360"/>
              <a:ext cx="1823760" cy="434520"/>
            </a:xfrm>
            <a:custGeom>
              <a:avLst/>
              <a:gdLst>
                <a:gd name="textAreaLeft" fmla="*/ 379440 w 1823760"/>
                <a:gd name="textAreaRight" fmla="*/ 1444320 w 1823760"/>
                <a:gd name="textAreaTop" fmla="*/ 90000 h 434520"/>
                <a:gd name="textAreaBottom" fmla="*/ 344520 h 43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0"/>
            <p:cNvSpPr/>
            <p:nvPr/>
          </p:nvSpPr>
          <p:spPr>
            <a:xfrm>
              <a:off x="2335680" y="519840"/>
              <a:ext cx="25516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19"/>
            <p:cNvSpPr/>
            <p:nvPr/>
          </p:nvSpPr>
          <p:spPr>
            <a:xfrm>
              <a:off x="2094120" y="1562040"/>
              <a:ext cx="2550960" cy="1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8"/>
            <p:cNvSpPr/>
            <p:nvPr/>
          </p:nvSpPr>
          <p:spPr>
            <a:xfrm>
              <a:off x="5255280" y="1215000"/>
              <a:ext cx="3520800" cy="69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196"/>
          <p:cNvSpPr/>
          <p:nvPr/>
        </p:nvSpPr>
        <p:spPr>
          <a:xfrm>
            <a:off x="1835280" y="981000"/>
            <a:ext cx="2400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5"/>
          <p:cNvSpPr/>
          <p:nvPr/>
        </p:nvSpPr>
        <p:spPr>
          <a:xfrm>
            <a:off x="1908000" y="692280"/>
            <a:ext cx="2400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7"/>
          <p:cNvSpPr/>
          <p:nvPr/>
        </p:nvSpPr>
        <p:spPr>
          <a:xfrm>
            <a:off x="1763640" y="1268280"/>
            <a:ext cx="2400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8"/>
          <p:cNvSpPr/>
          <p:nvPr/>
        </p:nvSpPr>
        <p:spPr>
          <a:xfrm>
            <a:off x="1258920" y="2060640"/>
            <a:ext cx="1828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21"/>
          <p:cNvSpPr/>
          <p:nvPr/>
        </p:nvSpPr>
        <p:spPr>
          <a:xfrm>
            <a:off x="6227640" y="2781360"/>
            <a:ext cx="2171880" cy="6858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1"/>
          <p:cNvSpPr/>
          <p:nvPr/>
        </p:nvSpPr>
        <p:spPr>
          <a:xfrm>
            <a:off x="468360" y="2852640"/>
            <a:ext cx="137160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2"/>
          <p:cNvSpPr/>
          <p:nvPr/>
        </p:nvSpPr>
        <p:spPr>
          <a:xfrm>
            <a:off x="2627280" y="2924280"/>
            <a:ext cx="137160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3"/>
          <p:cNvSpPr/>
          <p:nvPr/>
        </p:nvSpPr>
        <p:spPr>
          <a:xfrm>
            <a:off x="1258920" y="3573360"/>
            <a:ext cx="137160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0"/>
          <p:cNvSpPr/>
          <p:nvPr/>
        </p:nvSpPr>
        <p:spPr>
          <a:xfrm>
            <a:off x="5076720" y="3573360"/>
            <a:ext cx="1598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04"/>
          <p:cNvSpPr/>
          <p:nvPr/>
        </p:nvSpPr>
        <p:spPr>
          <a:xfrm>
            <a:off x="6012000" y="42210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99"/>
          <p:cNvSpPr/>
          <p:nvPr/>
        </p:nvSpPr>
        <p:spPr>
          <a:xfrm>
            <a:off x="250920" y="4508640"/>
            <a:ext cx="2400120" cy="33012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5"/>
          <p:cNvSpPr/>
          <p:nvPr/>
        </p:nvSpPr>
        <p:spPr>
          <a:xfrm>
            <a:off x="324000" y="5084640"/>
            <a:ext cx="1598400" cy="33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06"/>
          <p:cNvSpPr/>
          <p:nvPr/>
        </p:nvSpPr>
        <p:spPr>
          <a:xfrm>
            <a:off x="684360" y="5589720"/>
            <a:ext cx="1601640" cy="3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7"/>
          <p:cNvSpPr/>
          <p:nvPr/>
        </p:nvSpPr>
        <p:spPr>
          <a:xfrm>
            <a:off x="1619280" y="6093000"/>
            <a:ext cx="1714320" cy="3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8"/>
          <p:cNvSpPr/>
          <p:nvPr/>
        </p:nvSpPr>
        <p:spPr>
          <a:xfrm>
            <a:off x="2916360" y="6527880"/>
            <a:ext cx="1601640" cy="3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9"/>
          <p:cNvSpPr/>
          <p:nvPr/>
        </p:nvSpPr>
        <p:spPr>
          <a:xfrm flipH="1">
            <a:off x="1042920" y="2637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10"/>
          <p:cNvSpPr/>
          <p:nvPr/>
        </p:nvSpPr>
        <p:spPr>
          <a:xfrm>
            <a:off x="2124000" y="278136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1"/>
          <p:cNvSpPr/>
          <p:nvPr/>
        </p:nvSpPr>
        <p:spPr>
          <a:xfrm>
            <a:off x="2916360" y="2637000"/>
            <a:ext cx="34272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3"/>
          <p:cNvSpPr/>
          <p:nvPr/>
        </p:nvSpPr>
        <p:spPr>
          <a:xfrm flipH="1">
            <a:off x="5796000" y="321300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12"/>
          <p:cNvSpPr/>
          <p:nvPr/>
        </p:nvSpPr>
        <p:spPr>
          <a:xfrm>
            <a:off x="7093080" y="3500280"/>
            <a:ext cx="0" cy="7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23"/>
          <p:cNvSpPr/>
          <p:nvPr/>
        </p:nvSpPr>
        <p:spPr>
          <a:xfrm>
            <a:off x="8317080" y="3284640"/>
            <a:ext cx="38880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14"/>
          <p:cNvSpPr/>
          <p:nvPr/>
        </p:nvSpPr>
        <p:spPr>
          <a:xfrm>
            <a:off x="1908000" y="41497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5"/>
          <p:cNvSpPr/>
          <p:nvPr/>
        </p:nvSpPr>
        <p:spPr>
          <a:xfrm flipH="1">
            <a:off x="1908000" y="4797360"/>
            <a:ext cx="6480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6"/>
          <p:cNvSpPr/>
          <p:nvPr/>
        </p:nvSpPr>
        <p:spPr>
          <a:xfrm flipH="1">
            <a:off x="2268000" y="4869000"/>
            <a:ext cx="2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7"/>
          <p:cNvSpPr/>
          <p:nvPr/>
        </p:nvSpPr>
        <p:spPr>
          <a:xfrm>
            <a:off x="2627280" y="4869000"/>
            <a:ext cx="754200" cy="12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8"/>
          <p:cNvSpPr/>
          <p:nvPr/>
        </p:nvSpPr>
        <p:spPr>
          <a:xfrm>
            <a:off x="2627280" y="4800600"/>
            <a:ext cx="187344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9"/>
          <p:cNvSpPr/>
          <p:nvPr/>
        </p:nvSpPr>
        <p:spPr>
          <a:xfrm flipH="1">
            <a:off x="5724000" y="4653000"/>
            <a:ext cx="2905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20"/>
          <p:cNvSpPr/>
          <p:nvPr/>
        </p:nvSpPr>
        <p:spPr>
          <a:xfrm>
            <a:off x="7812000" y="465300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2"/>
          <p:cNvSpPr/>
          <p:nvPr/>
        </p:nvSpPr>
        <p:spPr>
          <a:xfrm>
            <a:off x="7380360" y="36450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6"/>
          <p:cNvSpPr/>
          <p:nvPr/>
        </p:nvSpPr>
        <p:spPr>
          <a:xfrm>
            <a:off x="492120" y="-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36"/>
          <p:cNvSpPr/>
          <p:nvPr/>
        </p:nvSpPr>
        <p:spPr>
          <a:xfrm>
            <a:off x="5951520" y="589608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Bookman Old Style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8"/>
          <p:cNvSpPr/>
          <p:nvPr/>
        </p:nvSpPr>
        <p:spPr>
          <a:xfrm>
            <a:off x="3348000" y="3500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39"/>
          <p:cNvSpPr/>
          <p:nvPr/>
        </p:nvSpPr>
        <p:spPr>
          <a:xfrm>
            <a:off x="324000" y="450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00"/>
          <p:cNvSpPr/>
          <p:nvPr/>
        </p:nvSpPr>
        <p:spPr>
          <a:xfrm>
            <a:off x="5435640" y="1557360"/>
            <a:ext cx="2952720" cy="79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03"/>
          <p:cNvSpPr/>
          <p:nvPr/>
        </p:nvSpPr>
        <p:spPr>
          <a:xfrm>
            <a:off x="6948360" y="189000"/>
            <a:ext cx="2195640" cy="576000"/>
          </a:xfrm>
          <a:prstGeom prst="parallelogram">
            <a:avLst>
              <a:gd name="adj" fmla="val 952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пукл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05"/>
          <p:cNvSpPr/>
          <p:nvPr/>
        </p:nvSpPr>
        <p:spPr>
          <a:xfrm>
            <a:off x="4356000" y="2565360"/>
            <a:ext cx="2448000" cy="576360"/>
          </a:xfrm>
          <a:prstGeom prst="parallelogram">
            <a:avLst>
              <a:gd name="adj" fmla="val 1061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ук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06"/>
          <p:cNvSpPr/>
          <p:nvPr/>
        </p:nvSpPr>
        <p:spPr>
          <a:xfrm>
            <a:off x="4427640" y="476280"/>
            <a:ext cx="2195280" cy="649080"/>
          </a:xfrm>
          <a:prstGeom prst="parallelogram">
            <a:avLst>
              <a:gd name="adj" fmla="val 845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9"/>
          <p:cNvSpPr/>
          <p:nvPr/>
        </p:nvSpPr>
        <p:spPr>
          <a:xfrm>
            <a:off x="250920" y="26028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10"/>
          <p:cNvSpPr/>
          <p:nvPr/>
        </p:nvSpPr>
        <p:spPr>
          <a:xfrm>
            <a:off x="468360" y="549360"/>
            <a:ext cx="30258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т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1"/>
          <p:cNvSpPr/>
          <p:nvPr/>
        </p:nvSpPr>
        <p:spPr>
          <a:xfrm>
            <a:off x="684360" y="90792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2"/>
          <p:cNvSpPr/>
          <p:nvPr/>
        </p:nvSpPr>
        <p:spPr>
          <a:xfrm>
            <a:off x="900000" y="119700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3"/>
          <p:cNvSpPr/>
          <p:nvPr/>
        </p:nvSpPr>
        <p:spPr>
          <a:xfrm>
            <a:off x="1116000" y="148428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17"/>
          <p:cNvSpPr/>
          <p:nvPr/>
        </p:nvSpPr>
        <p:spPr>
          <a:xfrm>
            <a:off x="611280" y="2637000"/>
            <a:ext cx="273672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18"/>
          <p:cNvSpPr/>
          <p:nvPr/>
        </p:nvSpPr>
        <p:spPr>
          <a:xfrm>
            <a:off x="5651640" y="3213000"/>
            <a:ext cx="2736720" cy="574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19"/>
          <p:cNvSpPr/>
          <p:nvPr/>
        </p:nvSpPr>
        <p:spPr>
          <a:xfrm>
            <a:off x="324000" y="3429000"/>
            <a:ext cx="129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20"/>
          <p:cNvSpPr/>
          <p:nvPr/>
        </p:nvSpPr>
        <p:spPr>
          <a:xfrm>
            <a:off x="1258920" y="4005360"/>
            <a:ext cx="1297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21"/>
          <p:cNvSpPr/>
          <p:nvPr/>
        </p:nvSpPr>
        <p:spPr>
          <a:xfrm>
            <a:off x="2195640" y="3429000"/>
            <a:ext cx="129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23"/>
          <p:cNvSpPr/>
          <p:nvPr/>
        </p:nvSpPr>
        <p:spPr>
          <a:xfrm>
            <a:off x="468360" y="4653000"/>
            <a:ext cx="2665440" cy="216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25"/>
          <p:cNvSpPr/>
          <p:nvPr/>
        </p:nvSpPr>
        <p:spPr>
          <a:xfrm>
            <a:off x="179280" y="494172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26"/>
          <p:cNvSpPr/>
          <p:nvPr/>
        </p:nvSpPr>
        <p:spPr>
          <a:xfrm>
            <a:off x="755640" y="537372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27"/>
          <p:cNvSpPr/>
          <p:nvPr/>
        </p:nvSpPr>
        <p:spPr>
          <a:xfrm>
            <a:off x="1332000" y="580536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28"/>
          <p:cNvSpPr/>
          <p:nvPr/>
        </p:nvSpPr>
        <p:spPr>
          <a:xfrm>
            <a:off x="1835280" y="623736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0"/>
          <p:cNvSpPr/>
          <p:nvPr/>
        </p:nvSpPr>
        <p:spPr>
          <a:xfrm>
            <a:off x="4788000" y="393372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31"/>
          <p:cNvSpPr/>
          <p:nvPr/>
        </p:nvSpPr>
        <p:spPr>
          <a:xfrm>
            <a:off x="7308720" y="393372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2"/>
          <p:cNvSpPr/>
          <p:nvPr/>
        </p:nvSpPr>
        <p:spPr>
          <a:xfrm>
            <a:off x="6084720" y="450864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3"/>
          <p:cNvSpPr/>
          <p:nvPr/>
        </p:nvSpPr>
        <p:spPr>
          <a:xfrm rot="10800000">
            <a:off x="4859280" y="5229000"/>
            <a:ext cx="2006640" cy="40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35"/>
          <p:cNvSpPr/>
          <p:nvPr/>
        </p:nvSpPr>
        <p:spPr>
          <a:xfrm flipH="1" flipV="1">
            <a:off x="3203280" y="260280"/>
            <a:ext cx="158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6"/>
          <p:cNvSpPr/>
          <p:nvPr/>
        </p:nvSpPr>
        <p:spPr>
          <a:xfrm flipH="1" flipV="1">
            <a:off x="3492360" y="62028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7"/>
          <p:cNvSpPr/>
          <p:nvPr/>
        </p:nvSpPr>
        <p:spPr>
          <a:xfrm flipH="1">
            <a:off x="3708360" y="765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38"/>
          <p:cNvSpPr/>
          <p:nvPr/>
        </p:nvSpPr>
        <p:spPr>
          <a:xfrm flipH="1">
            <a:off x="3924360" y="76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39"/>
          <p:cNvSpPr/>
          <p:nvPr/>
        </p:nvSpPr>
        <p:spPr>
          <a:xfrm flipH="1">
            <a:off x="4140360" y="765000"/>
            <a:ext cx="57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40"/>
          <p:cNvSpPr/>
          <p:nvPr/>
        </p:nvSpPr>
        <p:spPr>
          <a:xfrm flipH="1" flipV="1">
            <a:off x="6084360" y="1125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2"/>
          <p:cNvSpPr/>
          <p:nvPr/>
        </p:nvSpPr>
        <p:spPr>
          <a:xfrm flipV="1">
            <a:off x="6948360" y="764640"/>
            <a:ext cx="1295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3"/>
          <p:cNvSpPr/>
          <p:nvPr/>
        </p:nvSpPr>
        <p:spPr>
          <a:xfrm flipH="1">
            <a:off x="5579640" y="234936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4"/>
          <p:cNvSpPr/>
          <p:nvPr/>
        </p:nvSpPr>
        <p:spPr>
          <a:xfrm flipH="1">
            <a:off x="3347640" y="2781360"/>
            <a:ext cx="1368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5"/>
          <p:cNvSpPr/>
          <p:nvPr/>
        </p:nvSpPr>
        <p:spPr>
          <a:xfrm>
            <a:off x="6516720" y="285264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6"/>
          <p:cNvSpPr/>
          <p:nvPr/>
        </p:nvSpPr>
        <p:spPr>
          <a:xfrm flipH="1">
            <a:off x="826560" y="321300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7"/>
          <p:cNvSpPr/>
          <p:nvPr/>
        </p:nvSpPr>
        <p:spPr>
          <a:xfrm>
            <a:off x="1835280" y="3213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8"/>
          <p:cNvSpPr/>
          <p:nvPr/>
        </p:nvSpPr>
        <p:spPr>
          <a:xfrm>
            <a:off x="183528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49"/>
          <p:cNvSpPr/>
          <p:nvPr/>
        </p:nvSpPr>
        <p:spPr>
          <a:xfrm>
            <a:off x="1835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50"/>
          <p:cNvSpPr/>
          <p:nvPr/>
        </p:nvSpPr>
        <p:spPr>
          <a:xfrm flipH="1">
            <a:off x="2484000" y="4869000"/>
            <a:ext cx="64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1"/>
          <p:cNvSpPr/>
          <p:nvPr/>
        </p:nvSpPr>
        <p:spPr>
          <a:xfrm>
            <a:off x="305928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52"/>
          <p:cNvSpPr/>
          <p:nvPr/>
        </p:nvSpPr>
        <p:spPr>
          <a:xfrm>
            <a:off x="3059280" y="486900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53"/>
          <p:cNvSpPr/>
          <p:nvPr/>
        </p:nvSpPr>
        <p:spPr>
          <a:xfrm>
            <a:off x="3059280" y="486900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54"/>
          <p:cNvSpPr/>
          <p:nvPr/>
        </p:nvSpPr>
        <p:spPr>
          <a:xfrm flipH="1">
            <a:off x="5724360" y="37893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5"/>
          <p:cNvSpPr/>
          <p:nvPr/>
        </p:nvSpPr>
        <p:spPr>
          <a:xfrm>
            <a:off x="6948360" y="3789360"/>
            <a:ext cx="129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56"/>
          <p:cNvSpPr/>
          <p:nvPr/>
        </p:nvSpPr>
        <p:spPr>
          <a:xfrm flipH="1">
            <a:off x="6877080" y="378936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7"/>
          <p:cNvSpPr/>
          <p:nvPr/>
        </p:nvSpPr>
        <p:spPr>
          <a:xfrm flipH="1">
            <a:off x="6372360" y="501336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58"/>
          <p:cNvSpPr/>
          <p:nvPr/>
        </p:nvSpPr>
        <p:spPr>
          <a:xfrm>
            <a:off x="6804000" y="5013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2"/>
          <p:cNvSpPr/>
          <p:nvPr/>
        </p:nvSpPr>
        <p:spPr>
          <a:xfrm>
            <a:off x="250920" y="337644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70"/>
          <p:cNvSpPr/>
          <p:nvPr/>
        </p:nvSpPr>
        <p:spPr>
          <a:xfrm rot="10800000">
            <a:off x="7137360" y="5229000"/>
            <a:ext cx="2006640" cy="40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71"/>
          <p:cNvSpPr/>
          <p:nvPr/>
        </p:nvSpPr>
        <p:spPr>
          <a:xfrm>
            <a:off x="6516720" y="5950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Bookman Old Style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72"/>
          <p:cNvSpPr/>
          <p:nvPr/>
        </p:nvSpPr>
        <p:spPr>
          <a:xfrm>
            <a:off x="2700360" y="3933720"/>
            <a:ext cx="358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595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Задачи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5840" y="1380240"/>
            <a:ext cx="864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роки математики должны помог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навыки самостоятельной деятельности и объективного оценивания каждым учащимся своих знаний и ум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вать необходимость математических знаний для становления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гражданина, способного к активной жизненной позиции, правильно ориентирующегося в современной системе ценностей наше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best_robust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графической иллюстрации изучаем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учающем режи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нировочном режиме (отработка элементарных умений и навыков после изучения 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тестирования качества усвоения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с отстающими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5"/>
          <p:cNvSpPr txBox="1"/>
          <p:nvPr/>
        </p:nvSpPr>
        <p:spPr>
          <a:xfrm>
            <a:off x="1116000" y="549360"/>
            <a:ext cx="684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менение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ных технологи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597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best_robust_big"/>
          <p:cNvPicPr/>
          <p:nvPr/>
        </p:nvPicPr>
        <p:blipFill>
          <a:blip r:embed="rId1"/>
          <a:stretch/>
        </p:blipFill>
        <p:spPr>
          <a:xfrm>
            <a:off x="250920" y="3500280"/>
            <a:ext cx="4321080" cy="3168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3"/>
          <p:cNvSpPr/>
          <p:nvPr/>
        </p:nvSpPr>
        <p:spPr>
          <a:xfrm>
            <a:off x="539640" y="189000"/>
            <a:ext cx="1800360" cy="194292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443520 h 1942920"/>
              <a:gd name="textAreaBottom" fmla="*/ 14994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1979640" y="836640"/>
            <a:ext cx="3527280" cy="3527280"/>
          </a:xfrm>
          <a:custGeom>
            <a:avLst/>
            <a:gdLst>
              <a:gd name="textAreaLeft" fmla="*/ 804960 w 3527280"/>
              <a:gd name="textAreaRight" fmla="*/ 2722320 w 3527280"/>
              <a:gd name="textAreaTop" fmla="*/ 804960 h 3527280"/>
              <a:gd name="textAreaBottom" fmla="*/ 272232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317840" y="2486160"/>
            <a:ext cx="4826160" cy="4371840"/>
          </a:xfrm>
          <a:custGeom>
            <a:avLst/>
            <a:gdLst>
              <a:gd name="textAreaLeft" fmla="*/ 1101600 w 4826160"/>
              <a:gd name="textAreaRight" fmla="*/ 3724560 w 4826160"/>
              <a:gd name="textAreaTop" fmla="*/ 997920 h 4371840"/>
              <a:gd name="textAreaBottom" fmla="*/ 3373920 h 437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5440" cy="576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Урок геометрии в 8 клас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4437000"/>
            <a:ext cx="8713800" cy="1152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Bookman Old Style"/>
              </a:rPr>
              <a:t>Применение подобия к доказательству теорем и решению зада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книга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835280" y="2421000"/>
            <a:ext cx="5400720" cy="26589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116000" y="2997360"/>
            <a:ext cx="7704000" cy="79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9966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03247"/>
                </a:solidFill>
                <a:latin typeface="Bookman Old Style"/>
              </a:rPr>
              <a:t>Теорема </a:t>
            </a:r>
            <a:r>
              <a:rPr b="1" i="1" lang="ru-RU" sz="6600" spc="-1" strike="noStrike">
                <a:solidFill>
                  <a:srgbClr val="e03247"/>
                </a:solidFill>
                <a:latin typeface="Monotype Corsiva"/>
              </a:rPr>
              <a:t>ПиФаГоРа</a:t>
            </a:r>
            <a:r>
              <a:rPr b="0" lang="ru-RU" sz="2800" spc="-1" strike="noStrike">
                <a:solidFill>
                  <a:srgbClr val="e032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 flipV="1" rot="10800000">
            <a:off x="1257480" y="62028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Александровская МОУ 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916360" y="5877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010-2011 учебный год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1476360" y="155736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геометрии в 8 класс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75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9999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cc"/>
                </a:solidFill>
                <a:latin typeface="Bookman Old Style"/>
              </a:rPr>
              <a:t>Практические работы учащихся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6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395280" y="1916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Bookman Old Style"/>
              </a:rPr>
              <a:t>Параллельный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2"/>
          <p:cNvPicPr/>
          <p:nvPr/>
        </p:nvPicPr>
        <p:blipFill>
          <a:blip r:embed="rId1"/>
          <a:stretch/>
        </p:blipFill>
        <p:spPr>
          <a:xfrm>
            <a:off x="250920" y="1268280"/>
            <a:ext cx="8707320" cy="54007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cc0000"/>
                </a:solidFill>
                <a:latin typeface="Bookman Old Style"/>
              </a:rPr>
              <a:t>Практические работы учащихся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8137440" cy="53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ookman Old Style"/>
              </a:rPr>
              <a:t>Практические работы учащихся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1"/>
          <p:cNvPicPr/>
          <p:nvPr/>
        </p:nvPicPr>
        <p:blipFill>
          <a:blip r:embed="rId1"/>
          <a:stretch/>
        </p:blipFill>
        <p:spPr>
          <a:xfrm>
            <a:off x="179280" y="785880"/>
            <a:ext cx="87854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Ведущая идея опыта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каз от авторитарного характера обучения в пользу поисково-творче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ученик учится на своем уровне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лючение учебных перегрузок школьников и создание условий для сохранения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Теоретическая</a:t>
            </a:r>
            <a:r>
              <a:rPr b="1" lang="ru-RU" sz="4200" spc="-1" strike="noStrike">
                <a:solidFill>
                  <a:srgbClr val="cc0000"/>
                </a:solidFill>
                <a:latin typeface="Times New Roman"/>
              </a:rPr>
              <a:t> база опыта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ей педагогической деятельности опираюсь на идеи дидакт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обучения Ю.А. Макарова основной целью которой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, методику интенсификации обучения на основе схемных и знаковых моделей учебного материала В.Ф.Шаталова и технологию укрупнения дидактических единиц П.М.Эрдни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Педагогическое мастерство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856944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ло сочетать различные формы работы: классную, групповую и индивидуальную, учитывая общее для класса, типичное для групп и индивидуальное для отдельных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4572000" y="18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мение учителя занять во время урока всех учащихся есть критерий достоинства учителя </a:t>
            </a:r>
            <a:br>
              <a:rPr sz="1800"/>
            </a:b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К. Д. Уш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imes New Roman"/>
              </a:rPr>
              <a:t>Основные принципы обучения школьников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доступности учебного материала (объяснение материала на разных уровнях слож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наглядности и связь учебного материала с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роль теоретически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индивидуализации и дифференциации обучения математи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многократного повторен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оке главным должен быть ученик с его вопросами и пробле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Технология опыта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чно - модульная технология в сочетании с дифференциальным и традиционным подходом в обучении, новыми информационными технологиями. Использую элементы технологий развивающего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Б. Эльконина - В.В. Давыдова, личностно-ориентированного обучения И.С. Якиманской, групповых технологий А.Г. Ривина, В.К. Дъячен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imes New Roman"/>
              </a:rPr>
              <a:t>Модульно-блочная технология (МБТ)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орные элементы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учебный пери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модуль или цикл (уро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ые методы обуч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объяснительно-иллюстративный, эвристический, программированный, проблем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обладающие организационные формы обуч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лекция, беседа и практик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средства диагности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текущие устные опросы или текущие письменные программированные опросы (тесты), письменные контрольные работы или зачеты по окончании изучения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2:34:04Z</dcterms:created>
  <dc:creator>ноутбук</dc:creator>
  <dc:description/>
  <dc:language>en-US</dc:language>
  <cp:lastModifiedBy>Александр</cp:lastModifiedBy>
  <dcterms:modified xsi:type="dcterms:W3CDTF">2012-06-24T19:17:46Z</dcterms:modified>
  <cp:revision>24</cp:revision>
  <dc:subject/>
  <dc:title>Слайд 1</dc:title>
</cp:coreProperties>
</file>