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2AE-CDA5-4522-99F6-B742D415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FF5-A287-4820-A2E6-D9DACFF9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3F8-7F76-4848-BAA0-28C46905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9DF-DDBC-49FD-A993-E496FDA4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F0A-9583-494C-A11A-ACE815EE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674-3582-4784-83B8-A3D7789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D296-66EA-4493-853D-5D135F8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8809-DF74-4D93-AD2F-8FC5665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51BA-6F2F-44AF-8A53-FE9E38B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E17F-DB19-4D7A-853B-3F8E38CD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1655-A65E-4730-A041-765782C5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C0D-4D75-4F4E-9F71-D54621B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0C52-F0E5-4C67-BD5F-D988051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EBA5-5F1F-4DC5-AE7A-346644D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D1C-2CA8-45A5-B53E-43EAE82C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37F3-35DB-4C72-B48D-6E4134D8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AD4-8F42-411A-B1D3-D56F3D59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417CA-D449-4146-83B0-460B342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0703-946E-41C7-89B5-2A20BDF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542D7-CE77-4E94-8DB5-B3EA0C8B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48DB-1FE5-4EF4-B5AD-0EC00A0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3266-5C0E-4FD0-B922-8D5DB31B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2BE1-3665-46CB-AC4F-31D59884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7546C-ADB7-4826-B1DC-66A8A072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64C13-C56E-4AAD-A481-FC568AF4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23A1-19A5-42A9-A989-AFD9C3F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0DFD-8949-4085-976B-ACEEF66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E3E0A-E20E-4635-8F7E-BD53AF47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EB26-BABB-4B01-9890-54D0602B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4251-AC4B-4443-9EA1-C05AC4A9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A33A-4F72-4515-B377-6FD3D27E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B295-B1E4-4FFA-8A6C-F6381578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924D5-A1B1-46F9-A038-3EC3B311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FC9-E88F-4E1E-9E8C-ED967BB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A670-E295-4624-AC03-42F61203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8A79C-6CB9-42CE-B917-7B28E8A0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190E-990D-463F-819B-B5AD86DD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1879B-8472-4DD7-A601-00BAEECD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E3CF-DFAD-4992-8282-345393E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E56B5-23BC-405B-9FEB-12511045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B9C6-01CA-4C09-B58E-14FC568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691C-E65D-438D-96E6-44B5C95B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6ADF1-BE1E-41CA-B01F-7A9D2B8D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AFF-C2D6-44C9-83AE-16B83A09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F0C-90BF-4FEF-8A94-3E37DC13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EDD-6D42-4F1B-BDBA-CBC7B675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B2D-6393-4D5E-B823-0B14938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672-E2D8-4F1E-8EB1-4B342D6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616C-D535-484E-B733-318160162E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6FA-CE50-4126-A0C7-4869B2E345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7BF-DE7B-438C-97B7-C57D7332B7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cc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289-2E07-4E63-8D25-B3B357AF18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«Средняя общеобразовательная школа №16»</a:t>
            </a:r>
            <a:br>
              <a:rPr sz="2000"/>
            </a:b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ела Александровского Александровского района Ставропольского края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0040" y="1643040"/>
            <a:ext cx="83534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644000" y="5214960"/>
            <a:ext cx="42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пыта работы учителя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онь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054960" y="60404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0"/>
          <p:cNvSpPr txBox="1"/>
          <p:nvPr/>
        </p:nvSpPr>
        <p:spPr>
          <a:xfrm>
            <a:off x="642960" y="1357200"/>
            <a:ext cx="8001000" cy="364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668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Развитие творческих способностей учащихся</a:t>
            </a:r>
            <a:endParaRPr b="1" lang="en-US" sz="4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и их самореализация</a:t>
            </a:r>
            <a:endParaRPr b="1" lang="en-US" sz="4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4247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Технология ведения занятий блочно- модульной системы</a:t>
            </a:r>
            <a:r>
              <a:rPr b="0" lang="ru-RU" sz="3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9280" y="1628640"/>
          <a:ext cx="8785440" cy="5112000"/>
        </p:xfrm>
        <a:graphic>
          <a:graphicData uri="http://schemas.openxmlformats.org/drawingml/2006/table">
            <a:tbl>
              <a:tblPr/>
              <a:tblGrid>
                <a:gridCol w="1200240"/>
                <a:gridCol w="1190520"/>
                <a:gridCol w="2265480"/>
                <a:gridCol w="4129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ка и 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образа т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оретических вопросов и их закрепление (уроки-лекции, уроки общения), примерная контро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6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 образа в пон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типичных опорных задач (практикум-миниму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- 4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ие понятия до алгоритма, предварительный 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 с размытыми правилами,  нестандартных и занимательных задач (практикум-максиму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вый контроль по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практики и те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Структура блока (цикла)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НОВОГО МАТЕРИАЛА (ИНМ 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 с опорным конспек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общения (УО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ЕПЛ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и-практикумы (УП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-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ь на печатной основе (ТП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ые (СР),   контрольные работы (КР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Блок «Многогранники»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(4 модуля)</a:t>
            </a:r>
            <a:endParaRPr b="0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9280" y="1052640"/>
          <a:ext cx="8750520" cy="5711760"/>
        </p:xfrm>
        <a:graphic>
          <a:graphicData uri="http://schemas.openxmlformats.org/drawingml/2006/table">
            <a:tbl>
              <a:tblPr/>
              <a:tblGrid>
                <a:gridCol w="757440"/>
                <a:gridCol w="954000"/>
                <a:gridCol w="7039080"/>
              </a:tblGrid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лекция с опорным  конспе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– урок общения, опрос теор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совместное решение с учителем различных задач и упраж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 уроки – работа в группах (учитель-консультан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урок – урок-тренинг (отработка навыков решения задач на готовых чертежах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урок – промежуточная проверка знаний (тестирование, индивидуальная работа, математический диктант, экспресс-опрос и д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уроки – практикум по решению нестандартных зада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– урок дифференцированной самостоятельной работы учащихся, спланированный на разных уровнях сложности (индивидуальные консультации, помощь по устранению пробелов в знаниях, проверка выполнения домашней контрольной работ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урок - нестандартный урок обобщающего повторения (урок вопросов и ответов, урок взаимообучения, защиты рефератов, проектов, практических работ или моделей, КВН и др.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эта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ча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урок - зачет по теории изучаемой темы, по решению опорных и творческих 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урок - урок многовариантной контрольной работы, составленной в трех уровнях сл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урок - анализ контрольной работы и разбор допущенных ошиб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6"/>
          <p:cNvSpPr txBox="1"/>
          <p:nvPr/>
        </p:nvSpPr>
        <p:spPr>
          <a:xfrm rot="20042400">
            <a:off x="1042560" y="1700280"/>
            <a:ext cx="7742160" cy="365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cc66"/>
                  </a:solidFill>
                  <a:miter/>
                </a:ln>
                <a:solidFill>
                  <a:srgbClr val="ffffff">
                    <a:alpha val="91000"/>
                  </a:srgbClr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Georgia"/>
              </a:rPr>
              <a:t>МНОГОГРАННИКИ</a:t>
            </a:r>
            <a:endParaRPr b="1" i="1" lang="en-US" sz="1800" spc="1" strike="noStrike">
              <a:ln w="19080">
                <a:solidFill>
                  <a:srgbClr val="cccc66"/>
                </a:solidFill>
                <a:miter/>
              </a:ln>
              <a:solidFill>
                <a:srgbClr val="ffffff">
                  <a:alpha val="91000"/>
                </a:srgbClr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ПЛАН ЛЕКЦИИ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онятие многогран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(многогранника, выпуклого многогранника, невыпуклого многогранни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многогранника (грань, ребро, вершина, диагона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р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призмы (основания, боковые грани, боковые ребра, высота, диагональ, диагональное се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призм ( наклонная, прямая, правиль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 поверхности призмы (основания, боковая, полна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орема о площади боковой поверхности прямой приз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ределение пирам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пирамиды (вершина, основание, боковые грани, боковые ребра, высот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щадь поверхности пирамиды (основания, боковая, пол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иды пирамид ( наклонная, правильная, усечен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ильная пирамида: элементы, свойства, площадь боковой поверх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еченная пирамида: основания, боковые грани, боковые ребра, высота, площадь боковой поверх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еченная правильная пирамида: основания, боковые грани, боковые ребра, высота, апофемы, площадь боковой поверх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Правильные многогран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мметрия в пространстве (точка, ось, плоскость симметр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нятие правильного многогранника. Виды правильных многогранников: тетраэдр, октаэдр, икосаэдр, куб, додекаэд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менты симметрии правильных многогран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0" y="403056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амятка учащемуся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опорным консп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читать текст параграфа, постарайтесь как можно более подробно вспомнить содержание урока, проведенного учителем по данной теме, используйте для этого сделанные записи на ур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те на заголовок конспекта, вспомните, что нового можно узнать, почему именно эти слова вынесены в заголовок? Прочитайте содержание пункта (параграфа). Выделите основные понятия, разбейте текст на смысловые части, выделите логические связи между смысловыми частями. Подчеркните карандашом все непонятные слова, выражения и выясните их значение. Разберите основные определения, теоремы. Соотнесите изученный материал с предложенным опорным консп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ите и запомните материал, используя опорный консп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райтесь ответить на поставленные вопросы в листе само(взаимо)проверки. Воспроизведите по памяти все записи, рисунки опорного консп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рьте с конспектом, если все безукоризненно, можно приступать к решению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личии даже очень небольшой ошибки, описки, необходимо работу выполнить еще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ледующий день перед уроком необходимо снова воспроизвести все рисунки, записи опорного конспекта и повторить все определения, выводы, доказатель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записанное в конспекте - МАТЕМАТИЧЕСКАЯ АЗБ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ть ее надо в совершенстве только на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637240" y="0"/>
            <a:ext cx="3506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райтесь, прежде че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иступить к выпол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юбого задания на урок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 дома, четко определ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ли свое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176200" cy="28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2916360" y="692280"/>
            <a:ext cx="2735280" cy="2620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6654960" y="549360"/>
            <a:ext cx="1800000" cy="2950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4"/>
          <a:stretch/>
        </p:blipFill>
        <p:spPr>
          <a:xfrm>
            <a:off x="6804000" y="364500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324000" y="4076640"/>
            <a:ext cx="1800000" cy="25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"/>
          <p:cNvPicPr/>
          <p:nvPr/>
        </p:nvPicPr>
        <p:blipFill>
          <a:blip r:embed="rId6"/>
          <a:stretch/>
        </p:blipFill>
        <p:spPr>
          <a:xfrm>
            <a:off x="2484360" y="4076640"/>
            <a:ext cx="3888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357120" y="189000"/>
            <a:ext cx="2270160" cy="626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3236760" y="189000"/>
            <a:ext cx="2414880" cy="6335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6659640" y="189000"/>
            <a:ext cx="2233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324000" y="345960"/>
            <a:ext cx="3456000" cy="610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4716360" y="476280"/>
            <a:ext cx="403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04360" cy="2639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8280360" cy="324000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8675640" y="3645000"/>
            <a:ext cx="7308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280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403236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Когда людей станут учить не тому,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что они должны думать, а тому, 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как они должны думать, то тогда</a:t>
            </a:r>
            <a:br>
              <a:rPr sz="1900"/>
            </a:b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исчезнут всякие недоразумения.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cc0000"/>
                </a:solidFill>
                <a:latin typeface="Times New Roman"/>
              </a:rPr>
              <a:t>Г. Лихтенберг</a:t>
            </a:r>
            <a:r>
              <a:rPr b="0" lang="ru-RU" sz="4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лавная цель педагоги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условий для раскрытия индивидуальных способностей учащихся, формирование у них умений самостоятельно учиться: планировать, организовывать, корректировать, контролировать и оценивать свою учебно - познавательную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0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281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Лист само(взаимо)контроля по теме: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«Многогранники. Площади поверхностей»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4105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Сформулируйте 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клого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ыпуклого многогран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нью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ром многогран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ой многогран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формулируйте определение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ребрами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ю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ональным сечением приз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Какая призма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356000" y="1196640"/>
            <a:ext cx="478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поверхность призмы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поверх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й поверх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призм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приз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Дайте определение параллелепипеда как призмы в основании которой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улируйте определение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ем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ши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ребрами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ите фразу: «Если у пирамиды боковые ребра равны или углы наклона   боковых ребер к плоскости основания равны, то ее вершина проецируется в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</a:rPr>
              <a:t>Лист само(взаимо)контроля по теме: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«Многогранники. Площади поверхностей»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44956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 Какая пирамида называется прави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правиль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ью правиль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офем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 Какая поверхность пирамиды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ой поверхнос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й поверхност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пирамид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.  Сформулируйте определение усеченной пирам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.  Что наз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ниями усечен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ыми гранями усеченной 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ой 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3280" y="836640"/>
            <a:ext cx="432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.  Чему рав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ая поверхность усеченной пирамиды (доказ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поверхность 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  Понятие объ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.  Свойства объе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е тела имеют равные объемы;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ло составлено из нескольких тел, то его объем равен сумме объемов этих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2.  Чему равен объ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ого параллелепип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ой п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ой пирами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.  Сформулируйте определение правильного многогран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.  Назовите 5 типов правильных многогран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17"/>
          <p:cNvGrpSpPr/>
          <p:nvPr/>
        </p:nvGrpSpPr>
        <p:grpSpPr>
          <a:xfrm>
            <a:off x="1366920" y="260280"/>
            <a:ext cx="7777080" cy="6597720"/>
            <a:chOff x="1366920" y="260280"/>
            <a:chExt cx="7777080" cy="6597720"/>
          </a:xfrm>
        </p:grpSpPr>
        <p:sp>
          <p:nvSpPr>
            <p:cNvPr id="241" name="AutoShape 154"/>
            <p:cNvSpPr/>
            <p:nvPr/>
          </p:nvSpPr>
          <p:spPr>
            <a:xfrm>
              <a:off x="1366920" y="260280"/>
              <a:ext cx="7777080" cy="65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53"/>
            <p:cNvSpPr/>
            <p:nvPr/>
          </p:nvSpPr>
          <p:spPr>
            <a:xfrm>
              <a:off x="4525560" y="867600"/>
              <a:ext cx="2431080" cy="261360"/>
            </a:xfrm>
            <a:prstGeom prst="parallelogram">
              <a:avLst>
                <a:gd name="adj" fmla="val 232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52"/>
            <p:cNvSpPr/>
            <p:nvPr/>
          </p:nvSpPr>
          <p:spPr>
            <a:xfrm>
              <a:off x="6713280" y="434160"/>
              <a:ext cx="2430360" cy="260280"/>
            </a:xfrm>
            <a:prstGeom prst="parallelogram">
              <a:avLst>
                <a:gd name="adj" fmla="val 2334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51"/>
            <p:cNvSpPr/>
            <p:nvPr/>
          </p:nvSpPr>
          <p:spPr>
            <a:xfrm>
              <a:off x="5011920" y="2170080"/>
              <a:ext cx="2431440" cy="261360"/>
            </a:xfrm>
            <a:prstGeom prst="parallelogram">
              <a:avLst>
                <a:gd name="adj" fmla="val 2325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0"/>
            <p:cNvSpPr/>
            <p:nvPr/>
          </p:nvSpPr>
          <p:spPr>
            <a:xfrm flipH="1" flipV="1">
              <a:off x="6594840" y="1032120"/>
              <a:ext cx="60480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49"/>
            <p:cNvSpPr/>
            <p:nvPr/>
          </p:nvSpPr>
          <p:spPr>
            <a:xfrm flipV="1">
              <a:off x="7199640" y="694440"/>
              <a:ext cx="7279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8"/>
            <p:cNvSpPr/>
            <p:nvPr/>
          </p:nvSpPr>
          <p:spPr>
            <a:xfrm>
              <a:off x="4525560" y="1128600"/>
              <a:ext cx="1220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7"/>
            <p:cNvSpPr/>
            <p:nvPr/>
          </p:nvSpPr>
          <p:spPr>
            <a:xfrm flipH="1">
              <a:off x="4160880" y="1129320"/>
              <a:ext cx="36396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6"/>
            <p:cNvSpPr/>
            <p:nvPr/>
          </p:nvSpPr>
          <p:spPr>
            <a:xfrm flipH="1" flipV="1">
              <a:off x="4282920" y="1041480"/>
              <a:ext cx="24264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 flipH="1" flipV="1">
              <a:off x="4403880" y="954720"/>
              <a:ext cx="12132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4"/>
            <p:cNvSpPr/>
            <p:nvPr/>
          </p:nvSpPr>
          <p:spPr>
            <a:xfrm flipV="1">
              <a:off x="4525560" y="694080"/>
              <a:ext cx="36468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43"/>
            <p:cNvSpPr/>
            <p:nvPr/>
          </p:nvSpPr>
          <p:spPr>
            <a:xfrm flipH="1">
              <a:off x="6348240" y="1909800"/>
              <a:ext cx="7297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42"/>
            <p:cNvSpPr/>
            <p:nvPr/>
          </p:nvSpPr>
          <p:spPr>
            <a:xfrm flipH="1">
              <a:off x="3675240" y="2430720"/>
              <a:ext cx="2066400" cy="3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1"/>
            <p:cNvSpPr/>
            <p:nvPr/>
          </p:nvSpPr>
          <p:spPr>
            <a:xfrm>
              <a:off x="5740920" y="2430720"/>
              <a:ext cx="1699560" cy="34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40"/>
            <p:cNvSpPr/>
            <p:nvPr/>
          </p:nvSpPr>
          <p:spPr>
            <a:xfrm>
              <a:off x="5257080" y="121572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9"/>
            <p:cNvSpPr/>
            <p:nvPr/>
          </p:nvSpPr>
          <p:spPr>
            <a:xfrm rot="10800000">
              <a:off x="4889880" y="4861080"/>
              <a:ext cx="1821960" cy="433800"/>
            </a:xfrm>
            <a:custGeom>
              <a:avLst/>
              <a:gdLst>
                <a:gd name="textAreaLeft" fmla="*/ 379440 w 1821960"/>
                <a:gd name="textAreaRight" fmla="*/ 1442520 w 1821960"/>
                <a:gd name="textAreaTop" fmla="*/ 90000 h 433800"/>
                <a:gd name="textAreaBottom" fmla="*/ 343800 h 4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38"/>
            <p:cNvSpPr/>
            <p:nvPr/>
          </p:nvSpPr>
          <p:spPr>
            <a:xfrm rot="10800000">
              <a:off x="7198920" y="4861080"/>
              <a:ext cx="1823760" cy="433800"/>
            </a:xfrm>
            <a:custGeom>
              <a:avLst/>
              <a:gdLst>
                <a:gd name="textAreaLeft" fmla="*/ 379440 w 1823760"/>
                <a:gd name="textAreaRight" fmla="*/ 1444320 w 1823760"/>
                <a:gd name="textAreaTop" fmla="*/ 90000 h 433800"/>
                <a:gd name="textAreaBottom" fmla="*/ 343800 h 4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37"/>
            <p:cNvSpPr/>
            <p:nvPr/>
          </p:nvSpPr>
          <p:spPr>
            <a:xfrm>
              <a:off x="2338560" y="520560"/>
              <a:ext cx="255096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36"/>
            <p:cNvSpPr/>
            <p:nvPr/>
          </p:nvSpPr>
          <p:spPr>
            <a:xfrm>
              <a:off x="2095920" y="1562040"/>
              <a:ext cx="2551680" cy="1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135"/>
            <p:cNvSpPr/>
            <p:nvPr/>
          </p:nvSpPr>
          <p:spPr>
            <a:xfrm>
              <a:off x="4523040" y="866880"/>
              <a:ext cx="2431080" cy="261720"/>
            </a:xfrm>
            <a:prstGeom prst="parallelogram">
              <a:avLst>
                <a:gd name="adj" fmla="val 2322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4"/>
            <p:cNvSpPr/>
            <p:nvPr/>
          </p:nvSpPr>
          <p:spPr>
            <a:xfrm>
              <a:off x="5010120" y="2169360"/>
              <a:ext cx="2431440" cy="261360"/>
            </a:xfrm>
            <a:prstGeom prst="parallelogram">
              <a:avLst>
                <a:gd name="adj" fmla="val 2325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33"/>
            <p:cNvSpPr/>
            <p:nvPr/>
          </p:nvSpPr>
          <p:spPr>
            <a:xfrm flipH="1" flipV="1">
              <a:off x="6592320" y="1031400"/>
              <a:ext cx="60552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32"/>
            <p:cNvSpPr/>
            <p:nvPr/>
          </p:nvSpPr>
          <p:spPr>
            <a:xfrm flipV="1">
              <a:off x="7197840" y="693720"/>
              <a:ext cx="72720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31"/>
            <p:cNvSpPr/>
            <p:nvPr/>
          </p:nvSpPr>
          <p:spPr>
            <a:xfrm>
              <a:off x="4523040" y="1128600"/>
              <a:ext cx="1220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0"/>
            <p:cNvSpPr/>
            <p:nvPr/>
          </p:nvSpPr>
          <p:spPr>
            <a:xfrm flipH="1">
              <a:off x="4159800" y="1128600"/>
              <a:ext cx="36288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29"/>
            <p:cNvSpPr/>
            <p:nvPr/>
          </p:nvSpPr>
          <p:spPr>
            <a:xfrm flipH="1" flipV="1">
              <a:off x="4281120" y="1040760"/>
              <a:ext cx="24192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28"/>
            <p:cNvSpPr/>
            <p:nvPr/>
          </p:nvSpPr>
          <p:spPr>
            <a:xfrm flipH="1" flipV="1">
              <a:off x="4402080" y="954000"/>
              <a:ext cx="12060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27"/>
            <p:cNvSpPr/>
            <p:nvPr/>
          </p:nvSpPr>
          <p:spPr>
            <a:xfrm flipV="1">
              <a:off x="4523040" y="693360"/>
              <a:ext cx="365760" cy="43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26"/>
            <p:cNvSpPr/>
            <p:nvPr/>
          </p:nvSpPr>
          <p:spPr>
            <a:xfrm flipH="1">
              <a:off x="6346440" y="1909080"/>
              <a:ext cx="72972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25"/>
            <p:cNvSpPr/>
            <p:nvPr/>
          </p:nvSpPr>
          <p:spPr>
            <a:xfrm flipH="1">
              <a:off x="3673440" y="2430000"/>
              <a:ext cx="206640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24"/>
            <p:cNvSpPr/>
            <p:nvPr/>
          </p:nvSpPr>
          <p:spPr>
            <a:xfrm>
              <a:off x="5739120" y="2430000"/>
              <a:ext cx="16999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3"/>
            <p:cNvSpPr/>
            <p:nvPr/>
          </p:nvSpPr>
          <p:spPr>
            <a:xfrm>
              <a:off x="5255280" y="121500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22"/>
            <p:cNvSpPr/>
            <p:nvPr/>
          </p:nvSpPr>
          <p:spPr>
            <a:xfrm rot="10800000">
              <a:off x="4888440" y="4860360"/>
              <a:ext cx="1821960" cy="434520"/>
            </a:xfrm>
            <a:custGeom>
              <a:avLst/>
              <a:gdLst>
                <a:gd name="textAreaLeft" fmla="*/ 379440 w 1821960"/>
                <a:gd name="textAreaRight" fmla="*/ 1442520 w 1821960"/>
                <a:gd name="textAreaTop" fmla="*/ 90000 h 434520"/>
                <a:gd name="textAreaBottom" fmla="*/ 344520 h 43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1"/>
            <p:cNvSpPr/>
            <p:nvPr/>
          </p:nvSpPr>
          <p:spPr>
            <a:xfrm rot="10800000">
              <a:off x="7196400" y="4860360"/>
              <a:ext cx="1823760" cy="434520"/>
            </a:xfrm>
            <a:custGeom>
              <a:avLst/>
              <a:gdLst>
                <a:gd name="textAreaLeft" fmla="*/ 379440 w 1823760"/>
                <a:gd name="textAreaRight" fmla="*/ 1444320 w 1823760"/>
                <a:gd name="textAreaTop" fmla="*/ 90000 h 434520"/>
                <a:gd name="textAreaBottom" fmla="*/ 344520 h 43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20"/>
            <p:cNvSpPr/>
            <p:nvPr/>
          </p:nvSpPr>
          <p:spPr>
            <a:xfrm>
              <a:off x="2335680" y="519840"/>
              <a:ext cx="25516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19"/>
            <p:cNvSpPr/>
            <p:nvPr/>
          </p:nvSpPr>
          <p:spPr>
            <a:xfrm>
              <a:off x="2094120" y="1562040"/>
              <a:ext cx="2550960" cy="1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8"/>
            <p:cNvSpPr/>
            <p:nvPr/>
          </p:nvSpPr>
          <p:spPr>
            <a:xfrm>
              <a:off x="5255280" y="1215000"/>
              <a:ext cx="3520800" cy="695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196"/>
          <p:cNvSpPr/>
          <p:nvPr/>
        </p:nvSpPr>
        <p:spPr>
          <a:xfrm>
            <a:off x="1835280" y="981000"/>
            <a:ext cx="2400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95"/>
          <p:cNvSpPr/>
          <p:nvPr/>
        </p:nvSpPr>
        <p:spPr>
          <a:xfrm>
            <a:off x="1908000" y="692280"/>
            <a:ext cx="2400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7"/>
          <p:cNvSpPr/>
          <p:nvPr/>
        </p:nvSpPr>
        <p:spPr>
          <a:xfrm>
            <a:off x="1763640" y="1268280"/>
            <a:ext cx="2400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98"/>
          <p:cNvSpPr/>
          <p:nvPr/>
        </p:nvSpPr>
        <p:spPr>
          <a:xfrm>
            <a:off x="1258920" y="2060640"/>
            <a:ext cx="1828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21"/>
          <p:cNvSpPr/>
          <p:nvPr/>
        </p:nvSpPr>
        <p:spPr>
          <a:xfrm>
            <a:off x="6227640" y="2781360"/>
            <a:ext cx="2171880" cy="6858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1"/>
          <p:cNvSpPr/>
          <p:nvPr/>
        </p:nvSpPr>
        <p:spPr>
          <a:xfrm>
            <a:off x="468360" y="2852640"/>
            <a:ext cx="137160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2"/>
          <p:cNvSpPr/>
          <p:nvPr/>
        </p:nvSpPr>
        <p:spPr>
          <a:xfrm>
            <a:off x="2627280" y="2924280"/>
            <a:ext cx="137160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03"/>
          <p:cNvSpPr/>
          <p:nvPr/>
        </p:nvSpPr>
        <p:spPr>
          <a:xfrm>
            <a:off x="1258920" y="3573360"/>
            <a:ext cx="1371600" cy="5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0"/>
          <p:cNvSpPr/>
          <p:nvPr/>
        </p:nvSpPr>
        <p:spPr>
          <a:xfrm>
            <a:off x="5076720" y="3573360"/>
            <a:ext cx="1598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04"/>
          <p:cNvSpPr/>
          <p:nvPr/>
        </p:nvSpPr>
        <p:spPr>
          <a:xfrm>
            <a:off x="6012000" y="422100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99"/>
          <p:cNvSpPr/>
          <p:nvPr/>
        </p:nvSpPr>
        <p:spPr>
          <a:xfrm>
            <a:off x="250920" y="4508640"/>
            <a:ext cx="2400120" cy="33012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05"/>
          <p:cNvSpPr/>
          <p:nvPr/>
        </p:nvSpPr>
        <p:spPr>
          <a:xfrm>
            <a:off x="324000" y="5084640"/>
            <a:ext cx="1598400" cy="33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06"/>
          <p:cNvSpPr/>
          <p:nvPr/>
        </p:nvSpPr>
        <p:spPr>
          <a:xfrm>
            <a:off x="684360" y="5589720"/>
            <a:ext cx="160164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07"/>
          <p:cNvSpPr/>
          <p:nvPr/>
        </p:nvSpPr>
        <p:spPr>
          <a:xfrm>
            <a:off x="1619280" y="6093000"/>
            <a:ext cx="171432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8"/>
          <p:cNvSpPr/>
          <p:nvPr/>
        </p:nvSpPr>
        <p:spPr>
          <a:xfrm>
            <a:off x="2916360" y="6527880"/>
            <a:ext cx="1601640" cy="33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9"/>
          <p:cNvSpPr/>
          <p:nvPr/>
        </p:nvSpPr>
        <p:spPr>
          <a:xfrm flipH="1">
            <a:off x="1042920" y="2637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10"/>
          <p:cNvSpPr/>
          <p:nvPr/>
        </p:nvSpPr>
        <p:spPr>
          <a:xfrm>
            <a:off x="2124000" y="278136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1"/>
          <p:cNvSpPr/>
          <p:nvPr/>
        </p:nvSpPr>
        <p:spPr>
          <a:xfrm>
            <a:off x="2916360" y="2637000"/>
            <a:ext cx="3427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3"/>
          <p:cNvSpPr/>
          <p:nvPr/>
        </p:nvSpPr>
        <p:spPr>
          <a:xfrm flipH="1">
            <a:off x="5796000" y="3213000"/>
            <a:ext cx="4572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12"/>
          <p:cNvSpPr/>
          <p:nvPr/>
        </p:nvSpPr>
        <p:spPr>
          <a:xfrm>
            <a:off x="7093080" y="3500280"/>
            <a:ext cx="0" cy="7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23"/>
          <p:cNvSpPr/>
          <p:nvPr/>
        </p:nvSpPr>
        <p:spPr>
          <a:xfrm>
            <a:off x="8317080" y="3284640"/>
            <a:ext cx="38880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14"/>
          <p:cNvSpPr/>
          <p:nvPr/>
        </p:nvSpPr>
        <p:spPr>
          <a:xfrm>
            <a:off x="1908000" y="414972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15"/>
          <p:cNvSpPr/>
          <p:nvPr/>
        </p:nvSpPr>
        <p:spPr>
          <a:xfrm flipH="1">
            <a:off x="1908000" y="4797360"/>
            <a:ext cx="64800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6"/>
          <p:cNvSpPr/>
          <p:nvPr/>
        </p:nvSpPr>
        <p:spPr>
          <a:xfrm flipH="1">
            <a:off x="2268000" y="4869000"/>
            <a:ext cx="28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7"/>
          <p:cNvSpPr/>
          <p:nvPr/>
        </p:nvSpPr>
        <p:spPr>
          <a:xfrm>
            <a:off x="2627280" y="4869000"/>
            <a:ext cx="754200" cy="12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8"/>
          <p:cNvSpPr/>
          <p:nvPr/>
        </p:nvSpPr>
        <p:spPr>
          <a:xfrm>
            <a:off x="2627280" y="4800600"/>
            <a:ext cx="187344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9"/>
          <p:cNvSpPr/>
          <p:nvPr/>
        </p:nvSpPr>
        <p:spPr>
          <a:xfrm flipH="1">
            <a:off x="5724000" y="4653000"/>
            <a:ext cx="2905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0"/>
          <p:cNvSpPr/>
          <p:nvPr/>
        </p:nvSpPr>
        <p:spPr>
          <a:xfrm>
            <a:off x="7812000" y="465300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2"/>
          <p:cNvSpPr/>
          <p:nvPr/>
        </p:nvSpPr>
        <p:spPr>
          <a:xfrm>
            <a:off x="7380360" y="36450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26"/>
          <p:cNvSpPr/>
          <p:nvPr/>
        </p:nvSpPr>
        <p:spPr>
          <a:xfrm>
            <a:off x="492120" y="-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36"/>
          <p:cNvSpPr/>
          <p:nvPr/>
        </p:nvSpPr>
        <p:spPr>
          <a:xfrm>
            <a:off x="5951520" y="589608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Bookman Old Style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8"/>
          <p:cNvSpPr/>
          <p:nvPr/>
        </p:nvSpPr>
        <p:spPr>
          <a:xfrm>
            <a:off x="3348000" y="350028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9"/>
          <p:cNvSpPr/>
          <p:nvPr/>
        </p:nvSpPr>
        <p:spPr>
          <a:xfrm>
            <a:off x="324000" y="4508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00"/>
          <p:cNvSpPr/>
          <p:nvPr/>
        </p:nvSpPr>
        <p:spPr>
          <a:xfrm>
            <a:off x="5435640" y="1557360"/>
            <a:ext cx="2952720" cy="79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УГОЛЬ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03"/>
          <p:cNvSpPr/>
          <p:nvPr/>
        </p:nvSpPr>
        <p:spPr>
          <a:xfrm>
            <a:off x="6948360" y="189000"/>
            <a:ext cx="2195640" cy="576000"/>
          </a:xfrm>
          <a:prstGeom prst="parallelogram">
            <a:avLst>
              <a:gd name="adj" fmla="val 952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ыпукл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05"/>
          <p:cNvSpPr/>
          <p:nvPr/>
        </p:nvSpPr>
        <p:spPr>
          <a:xfrm>
            <a:off x="4356000" y="2565360"/>
            <a:ext cx="2448000" cy="576360"/>
          </a:xfrm>
          <a:prstGeom prst="parallelogram">
            <a:avLst>
              <a:gd name="adj" fmla="val 1061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ук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06"/>
          <p:cNvSpPr/>
          <p:nvPr/>
        </p:nvSpPr>
        <p:spPr>
          <a:xfrm>
            <a:off x="4427640" y="476280"/>
            <a:ext cx="2195280" cy="649080"/>
          </a:xfrm>
          <a:prstGeom prst="parallelogram">
            <a:avLst>
              <a:gd name="adj" fmla="val 845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9"/>
          <p:cNvSpPr/>
          <p:nvPr/>
        </p:nvSpPr>
        <p:spPr>
          <a:xfrm>
            <a:off x="250920" y="26028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тр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10"/>
          <p:cNvSpPr/>
          <p:nvPr/>
        </p:nvSpPr>
        <p:spPr>
          <a:xfrm>
            <a:off x="468360" y="549360"/>
            <a:ext cx="30258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т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1"/>
          <p:cNvSpPr/>
          <p:nvPr/>
        </p:nvSpPr>
        <p:spPr>
          <a:xfrm>
            <a:off x="684360" y="90792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кос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12"/>
          <p:cNvSpPr/>
          <p:nvPr/>
        </p:nvSpPr>
        <p:spPr>
          <a:xfrm>
            <a:off x="900000" y="119700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13"/>
          <p:cNvSpPr/>
          <p:nvPr/>
        </p:nvSpPr>
        <p:spPr>
          <a:xfrm>
            <a:off x="1116000" y="1484280"/>
            <a:ext cx="30258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декаэд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17"/>
          <p:cNvSpPr/>
          <p:nvPr/>
        </p:nvSpPr>
        <p:spPr>
          <a:xfrm>
            <a:off x="611280" y="2637000"/>
            <a:ext cx="2736720" cy="57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18"/>
          <p:cNvSpPr/>
          <p:nvPr/>
        </p:nvSpPr>
        <p:spPr>
          <a:xfrm>
            <a:off x="5651640" y="3213000"/>
            <a:ext cx="2736720" cy="5749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9"/>
          <p:cNvSpPr/>
          <p:nvPr/>
        </p:nvSpPr>
        <p:spPr>
          <a:xfrm>
            <a:off x="324000" y="3429000"/>
            <a:ext cx="129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20"/>
          <p:cNvSpPr/>
          <p:nvPr/>
        </p:nvSpPr>
        <p:spPr>
          <a:xfrm>
            <a:off x="1258920" y="4005360"/>
            <a:ext cx="1297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21"/>
          <p:cNvSpPr/>
          <p:nvPr/>
        </p:nvSpPr>
        <p:spPr>
          <a:xfrm>
            <a:off x="2195640" y="3429000"/>
            <a:ext cx="129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23"/>
          <p:cNvSpPr/>
          <p:nvPr/>
        </p:nvSpPr>
        <p:spPr>
          <a:xfrm>
            <a:off x="468360" y="4653000"/>
            <a:ext cx="2665440" cy="216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епип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25"/>
          <p:cNvSpPr/>
          <p:nvPr/>
        </p:nvSpPr>
        <p:spPr>
          <a:xfrm>
            <a:off x="179280" y="494172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26"/>
          <p:cNvSpPr/>
          <p:nvPr/>
        </p:nvSpPr>
        <p:spPr>
          <a:xfrm>
            <a:off x="755640" y="537372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27"/>
          <p:cNvSpPr/>
          <p:nvPr/>
        </p:nvSpPr>
        <p:spPr>
          <a:xfrm>
            <a:off x="1332000" y="580536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28"/>
          <p:cNvSpPr/>
          <p:nvPr/>
        </p:nvSpPr>
        <p:spPr>
          <a:xfrm>
            <a:off x="1835280" y="6237360"/>
            <a:ext cx="230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0"/>
          <p:cNvSpPr/>
          <p:nvPr/>
        </p:nvSpPr>
        <p:spPr>
          <a:xfrm>
            <a:off x="4788000" y="3933720"/>
            <a:ext cx="1655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31"/>
          <p:cNvSpPr/>
          <p:nvPr/>
        </p:nvSpPr>
        <p:spPr>
          <a:xfrm>
            <a:off x="7308720" y="393372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32"/>
          <p:cNvSpPr/>
          <p:nvPr/>
        </p:nvSpPr>
        <p:spPr>
          <a:xfrm>
            <a:off x="6084720" y="4508640"/>
            <a:ext cx="165600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е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3"/>
          <p:cNvSpPr/>
          <p:nvPr/>
        </p:nvSpPr>
        <p:spPr>
          <a:xfrm rot="10800000">
            <a:off x="4859280" y="5229000"/>
            <a:ext cx="2006640" cy="40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35"/>
          <p:cNvSpPr/>
          <p:nvPr/>
        </p:nvSpPr>
        <p:spPr>
          <a:xfrm flipH="1" flipV="1">
            <a:off x="3203280" y="26028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36"/>
          <p:cNvSpPr/>
          <p:nvPr/>
        </p:nvSpPr>
        <p:spPr>
          <a:xfrm flipH="1" flipV="1">
            <a:off x="3492360" y="62028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7"/>
          <p:cNvSpPr/>
          <p:nvPr/>
        </p:nvSpPr>
        <p:spPr>
          <a:xfrm flipH="1">
            <a:off x="3708360" y="765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38"/>
          <p:cNvSpPr/>
          <p:nvPr/>
        </p:nvSpPr>
        <p:spPr>
          <a:xfrm flipH="1">
            <a:off x="3924360" y="765000"/>
            <a:ext cx="79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39"/>
          <p:cNvSpPr/>
          <p:nvPr/>
        </p:nvSpPr>
        <p:spPr>
          <a:xfrm flipH="1">
            <a:off x="4140360" y="765000"/>
            <a:ext cx="576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40"/>
          <p:cNvSpPr/>
          <p:nvPr/>
        </p:nvSpPr>
        <p:spPr>
          <a:xfrm flipH="1" flipV="1">
            <a:off x="6084360" y="1125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2"/>
          <p:cNvSpPr/>
          <p:nvPr/>
        </p:nvSpPr>
        <p:spPr>
          <a:xfrm flipV="1">
            <a:off x="6948360" y="764640"/>
            <a:ext cx="1295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43"/>
          <p:cNvSpPr/>
          <p:nvPr/>
        </p:nvSpPr>
        <p:spPr>
          <a:xfrm flipH="1">
            <a:off x="5579640" y="234936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44"/>
          <p:cNvSpPr/>
          <p:nvPr/>
        </p:nvSpPr>
        <p:spPr>
          <a:xfrm flipH="1">
            <a:off x="3347640" y="2781360"/>
            <a:ext cx="1368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5"/>
          <p:cNvSpPr/>
          <p:nvPr/>
        </p:nvSpPr>
        <p:spPr>
          <a:xfrm>
            <a:off x="6516720" y="285264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6"/>
          <p:cNvSpPr/>
          <p:nvPr/>
        </p:nvSpPr>
        <p:spPr>
          <a:xfrm flipH="1">
            <a:off x="826560" y="321300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7"/>
          <p:cNvSpPr/>
          <p:nvPr/>
        </p:nvSpPr>
        <p:spPr>
          <a:xfrm>
            <a:off x="1835280" y="3213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48"/>
          <p:cNvSpPr/>
          <p:nvPr/>
        </p:nvSpPr>
        <p:spPr>
          <a:xfrm>
            <a:off x="1835280" y="3213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49"/>
          <p:cNvSpPr/>
          <p:nvPr/>
        </p:nvSpPr>
        <p:spPr>
          <a:xfrm>
            <a:off x="1835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50"/>
          <p:cNvSpPr/>
          <p:nvPr/>
        </p:nvSpPr>
        <p:spPr>
          <a:xfrm flipH="1">
            <a:off x="2484000" y="4869000"/>
            <a:ext cx="64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51"/>
          <p:cNvSpPr/>
          <p:nvPr/>
        </p:nvSpPr>
        <p:spPr>
          <a:xfrm>
            <a:off x="305928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52"/>
          <p:cNvSpPr/>
          <p:nvPr/>
        </p:nvSpPr>
        <p:spPr>
          <a:xfrm>
            <a:off x="3059280" y="4869000"/>
            <a:ext cx="50472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53"/>
          <p:cNvSpPr/>
          <p:nvPr/>
        </p:nvSpPr>
        <p:spPr>
          <a:xfrm>
            <a:off x="3059280" y="486900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54"/>
          <p:cNvSpPr/>
          <p:nvPr/>
        </p:nvSpPr>
        <p:spPr>
          <a:xfrm flipH="1">
            <a:off x="5724360" y="3789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55"/>
          <p:cNvSpPr/>
          <p:nvPr/>
        </p:nvSpPr>
        <p:spPr>
          <a:xfrm>
            <a:off x="6948360" y="3789360"/>
            <a:ext cx="129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56"/>
          <p:cNvSpPr/>
          <p:nvPr/>
        </p:nvSpPr>
        <p:spPr>
          <a:xfrm flipH="1">
            <a:off x="6877080" y="3789360"/>
            <a:ext cx="71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57"/>
          <p:cNvSpPr/>
          <p:nvPr/>
        </p:nvSpPr>
        <p:spPr>
          <a:xfrm flipH="1">
            <a:off x="6372360" y="501336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58"/>
          <p:cNvSpPr/>
          <p:nvPr/>
        </p:nvSpPr>
        <p:spPr>
          <a:xfrm>
            <a:off x="6804000" y="5013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62"/>
          <p:cNvSpPr/>
          <p:nvPr/>
        </p:nvSpPr>
        <p:spPr>
          <a:xfrm>
            <a:off x="250920" y="337644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70"/>
          <p:cNvSpPr/>
          <p:nvPr/>
        </p:nvSpPr>
        <p:spPr>
          <a:xfrm rot="10800000">
            <a:off x="7137360" y="5229000"/>
            <a:ext cx="2006640" cy="40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71"/>
          <p:cNvSpPr/>
          <p:nvPr/>
        </p:nvSpPr>
        <p:spPr>
          <a:xfrm>
            <a:off x="6516720" y="5950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Bookman Old Style"/>
              </a:rPr>
              <a:t>КЛА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72"/>
          <p:cNvSpPr/>
          <p:nvPr/>
        </p:nvSpPr>
        <p:spPr>
          <a:xfrm>
            <a:off x="2700360" y="3933720"/>
            <a:ext cx="3589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1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05952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Задачи</a:t>
            </a:r>
            <a:endParaRPr b="0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85840" y="1380240"/>
            <a:ext cx="864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роки математики должны помог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ть навыки самостоятельной деятельности и объективного оценивания каждым учащимся своих знаний и ум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знавать необходимость математических знаний для становлен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гражданина, способного к активной жизненной позиции, правильно ориентирующегося в современной системе ценностей наше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best_robust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графической иллюстрации изучаем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бучающем режи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нировочном режиме (отработка элементарных умений и навыков после изучения тем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тестирования качества усвоения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работе с отстающими уче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5"/>
          <p:cNvSpPr txBox="1"/>
          <p:nvPr/>
        </p:nvSpPr>
        <p:spPr>
          <a:xfrm>
            <a:off x="1116000" y="549360"/>
            <a:ext cx="684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менение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ных технологий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248360" cy="6597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643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best_robust_big"/>
          <p:cNvPicPr/>
          <p:nvPr/>
        </p:nvPicPr>
        <p:blipFill>
          <a:blip r:embed="rId1"/>
          <a:stretch/>
        </p:blipFill>
        <p:spPr>
          <a:xfrm>
            <a:off x="250920" y="3500280"/>
            <a:ext cx="4321080" cy="3168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3"/>
          <p:cNvSpPr/>
          <p:nvPr/>
        </p:nvSpPr>
        <p:spPr>
          <a:xfrm>
            <a:off x="539640" y="189000"/>
            <a:ext cx="1800360" cy="1942920"/>
          </a:xfrm>
          <a:custGeom>
            <a:avLst/>
            <a:gdLst>
              <a:gd name="textAreaLeft" fmla="*/ 410760 w 1800360"/>
              <a:gd name="textAreaRight" fmla="*/ 1389600 w 1800360"/>
              <a:gd name="textAreaTop" fmla="*/ 443520 h 1942920"/>
              <a:gd name="textAreaBottom" fmla="*/ 14994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1979640" y="836640"/>
            <a:ext cx="3527280" cy="3527280"/>
          </a:xfrm>
          <a:custGeom>
            <a:avLst/>
            <a:gdLst>
              <a:gd name="textAreaLeft" fmla="*/ 804960 w 3527280"/>
              <a:gd name="textAreaRight" fmla="*/ 2722320 w 3527280"/>
              <a:gd name="textAreaTop" fmla="*/ 804960 h 3527280"/>
              <a:gd name="textAreaBottom" fmla="*/ 272232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317840" y="2486160"/>
            <a:ext cx="4826160" cy="4371840"/>
          </a:xfrm>
          <a:custGeom>
            <a:avLst/>
            <a:gdLst>
              <a:gd name="textAreaLeft" fmla="*/ 1101600 w 4826160"/>
              <a:gd name="textAreaRight" fmla="*/ 3724560 w 4826160"/>
              <a:gd name="textAreaTop" fmla="*/ 997920 h 4371840"/>
              <a:gd name="textAreaBottom" fmla="*/ 3373920 h 4371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5440" cy="576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Verdana"/>
              </a:rPr>
              <a:t>Урок геометрии в 8 клас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4437000"/>
            <a:ext cx="8713800" cy="1152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dddddd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ff"/>
                </a:solidFill>
                <a:latin typeface="Bookman Old Style"/>
              </a:rPr>
              <a:t>Применение подобия к доказательству теорем и решению зада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книга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1835280" y="2421000"/>
            <a:ext cx="5400720" cy="26589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116000" y="2997360"/>
            <a:ext cx="7704000" cy="79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99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03247"/>
                </a:solidFill>
                <a:latin typeface="Bookman Old Style"/>
              </a:rPr>
              <a:t>Теорема </a:t>
            </a:r>
            <a:r>
              <a:rPr b="1" i="1" lang="ru-RU" sz="6600" spc="-1" strike="noStrike">
                <a:solidFill>
                  <a:srgbClr val="e03247"/>
                </a:solidFill>
                <a:latin typeface="Monotype Corsiva"/>
              </a:rPr>
              <a:t>ПиФаГоРа</a:t>
            </a:r>
            <a:r>
              <a:rPr b="0" lang="ru-RU" sz="2800" spc="-1" strike="noStrike">
                <a:solidFill>
                  <a:srgbClr val="e0324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 flipV="1" rot="10800000">
            <a:off x="1257480" y="620280"/>
            <a:ext cx="68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Александровская МОУ 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2916360" y="5877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2010-2011 учебный год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1476360" y="155736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1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геометрии в 8 класс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75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99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cc"/>
                </a:solidFill>
                <a:latin typeface="Bookman Old Style"/>
              </a:rPr>
              <a:t>Практические работы учащихс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6"/>
          <p:cNvPicPr/>
          <p:nvPr/>
        </p:nvPicPr>
        <p:blipFill>
          <a:blip r:embed="rId1"/>
          <a:stretch/>
        </p:blipFill>
        <p:spPr>
          <a:xfrm>
            <a:off x="179280" y="1557360"/>
            <a:ext cx="8964720" cy="53006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5"/>
          <p:cNvSpPr/>
          <p:nvPr/>
        </p:nvSpPr>
        <p:spPr>
          <a:xfrm>
            <a:off x="395280" y="1916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Bookman Old Style"/>
              </a:rPr>
              <a:t>Параллельный пере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2"/>
          <p:cNvPicPr/>
          <p:nvPr/>
        </p:nvPicPr>
        <p:blipFill>
          <a:blip r:embed="rId1"/>
          <a:stretch/>
        </p:blipFill>
        <p:spPr>
          <a:xfrm>
            <a:off x="250920" y="1268280"/>
            <a:ext cx="8707320" cy="5400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cc0000"/>
                </a:solidFill>
                <a:latin typeface="Bookman Old Style"/>
              </a:rPr>
              <a:t>Практические работы учащихся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8137440" cy="53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Bookman Old Style"/>
              </a:rPr>
              <a:t>Практические работы учащихся</a:t>
            </a:r>
            <a:endParaRPr b="0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1"/>
          <p:cNvPicPr/>
          <p:nvPr/>
        </p:nvPicPr>
        <p:blipFill>
          <a:blip r:embed="rId1"/>
          <a:stretch/>
        </p:blipFill>
        <p:spPr>
          <a:xfrm>
            <a:off x="179280" y="785880"/>
            <a:ext cx="87854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Ведущая идея опыта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каз от авторитарного характера обучения в пользу поисково-творче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ученик учится на своем уровне сло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лючение учебных перегрузок школьников и создание условий для сохранения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Теоретическая</a:t>
            </a:r>
            <a:r>
              <a:rPr b="1" lang="ru-RU" sz="4200" spc="-1" strike="noStrike">
                <a:solidFill>
                  <a:srgbClr val="cc0000"/>
                </a:solidFill>
                <a:latin typeface="Times New Roman"/>
              </a:rPr>
              <a:t> база опыта</a:t>
            </a:r>
            <a:endParaRPr b="0" lang="en-US" sz="4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ей педагогической деятельности опираюсь на идеи дидактиче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обучения Ю.А. Макарова основной целью которой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, методику интенсификации обучения на основе схемных и знаковых моделей учебного материала В.Ф.Шаталова и технологию укрупнения дидактических единиц П.М.Эрдни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00"/>
                </a:solidFill>
                <a:latin typeface="Times New Roman"/>
              </a:rPr>
              <a:t>Педагогическое мастерство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3213000"/>
            <a:ext cx="856944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ло сочетать различные формы работы: классную, групповую и индивидуальную, учитывая общее для класса, типичное для групп и индивидуальное для отдельных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572000" y="18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мение учителя занять во время урока всех учащихся есть критерий достоинства учителя </a:t>
            </a:r>
            <a:br>
              <a:rPr sz="1800"/>
            </a:b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К. Д. Уш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Основные принципы обучения школьников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доступности учебного материала (объяснение материала на разных уровнях слож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наглядности и связь учебного материала с жизн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роль теоретическ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индивидуализации и дифференциации обучения математи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многократного повторен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роке главным должен быть ученик с его вопросами и проблем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Технология опыта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очно - модульная технология в сочетании с дифференциальным и традиционным подходом в обучении, новыми информационными технологиями. Использую элементы технологий развивающего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Б. Эльконина - В.В. Давыдова, личностно-ориентированного обучения И.С. Якиманской, групповых технологий А.Г. Ривина, В.К. Дъячен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Times New Roman"/>
              </a:rPr>
              <a:t>Модульно-блочная технология (МБТ)</a:t>
            </a:r>
            <a:endParaRPr b="0" lang="en-US" sz="4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орные элементы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й учебный пери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модуль или цикл (уро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ые методы обуч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объяснительно-иллюстративный, эвристический, программированный, проблем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обладающие организационные формы обуч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лекция, беседа и практику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средства диагности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текущие устные опросы или текущие письменные программированные опросы (тесты), письменные контрольные работы или зачеты по окончании изучения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2:34:04Z</dcterms:created>
  <dc:creator>ноутбук</dc:creator>
  <dc:description/>
  <dc:language>en-US</dc:language>
  <cp:lastModifiedBy>Александр</cp:lastModifiedBy>
  <dcterms:modified xsi:type="dcterms:W3CDTF">2012-06-24T19:17:46Z</dcterms:modified>
  <cp:revision>24</cp:revision>
  <dc:subject/>
  <dc:title>Слайд 1</dc:title>
</cp:coreProperties>
</file>