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A65C-55F7-4B28-8EC4-166A6A7E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716-040E-4EB2-88A0-1B4F3CE0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CFFA-9443-4687-AA80-256EE033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484E-3308-40FE-840A-BDF5CA73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BA3B-AA60-4D08-BF1B-430768E3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F0A2-6218-48BC-A877-C1CF943F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819A-77F8-4880-B63F-DBD77011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01EA-4EE8-40DC-9607-FFFB7A9A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9CDA-7971-43A5-9F94-81681CFA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E3A5-79AF-4ECE-A2D8-3E1EFC67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59B6-CAFC-418B-9476-463D227A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BF59-C5B0-4A00-A148-28952CA6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4227-5E9F-4A6F-82DD-D263F18D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102D-A2CF-40D7-84FE-E02A23B0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5BDD-9286-4394-8995-56C8192A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7087-E290-47A4-9248-C1E72EAC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3BE9-E350-4166-B68D-1D66752A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AEB7-5D87-4A46-8B15-0DD70251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AA7D-D5E3-4BA4-BBDC-0921CF8F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D0D7-9B5D-43F0-AC6F-303C97BF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B5A0-328F-415C-8E3F-2182DEF0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8D59-7162-4F04-ADC8-5E06F31D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45EF-30B1-44A2-87AC-1A3D2BAB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7A7B-2FAD-4D39-A6CE-AB8CDE07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D073-D9CF-40DE-AAA9-F5547BC0529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E832-66EE-452B-AD1F-FF852932004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742840" y="4653000"/>
            <a:ext cx="6149880" cy="18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ы сегодня с вами будем поварами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тоб никто не отравился, каждый повар должен знат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ервое правило: на голову косынку надо надевать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торое правило мы знаем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тоб здоровью своему не навредить, руки с мылом надо мыть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6624720" cy="4104000"/>
          </a:xfrm>
          <a:prstGeom prst="rect">
            <a:avLst/>
          </a:prstGeom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70040" y="4311360"/>
            <a:ext cx="741528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уки помыты! Пора за работу, детвора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941480" y="274680"/>
            <a:ext cx="5261040" cy="394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ждый яблоко натрёт – на салатик наберёт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3778200" cy="2617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292720" y="134136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332000" y="4113360"/>
            <a:ext cx="3168720" cy="2233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716360" y="3438360"/>
            <a:ext cx="4248360" cy="31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то-то яблоки не те – почернели они все. Нет-нет-нет, наоборот, в них полезный витамин живёт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4038480" cy="4032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932360" y="1844640"/>
            <a:ext cx="403848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186920" y="4723920"/>
            <a:ext cx="7510680" cy="27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Хорошо мы потрудились – яблок много получилось. К ним бананы добавляем, хорошенько всё мешаем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34544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353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 теперь вы не зевайте, хорошо салат мешайте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056360" cy="48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есь салат, конечно, съеден! Извините, что для Вас только фотографии у нас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5800" y="2432160"/>
            <a:ext cx="3778200" cy="2449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038840" cy="48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Есть хотите – заходите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готовим и для Вас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вара мы просто класс!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561440" cy="5013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3T06:14:49Z</dcterms:created>
  <dc:creator>Anton</dc:creator>
  <dc:description/>
  <dc:language>en-US</dc:language>
  <cp:lastModifiedBy>Anton</cp:lastModifiedBy>
  <dcterms:modified xsi:type="dcterms:W3CDTF">2012-06-24T10:00:25Z</dcterms:modified>
  <cp:revision>5</cp:revision>
  <dc:subject/>
  <dc:title>Слайд 1</dc:title>
</cp:coreProperties>
</file>