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A53-190A-4A47-A03B-A83F632C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CAC-D8E3-41F2-AFBE-C713AEF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2F8-2A9B-43D2-980F-9C80B607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78D-A1EF-468D-959B-285223D5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94A7-C248-4FCF-B2D5-AEBF23A2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2A2-D845-44D8-A67E-E0C19578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32F-0DD7-4964-BE89-C42C2E5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75A-24C6-4179-AB5B-7BAD2B8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CA8B-B0E4-40D6-8AF5-3F7C708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F4A-F32C-46C0-8497-60EE781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0737-B550-45A8-B670-C99CDE0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478-20DC-4843-AF73-AE12E359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CFA-69BB-42DF-BF17-EE5B3FB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9FB-F3AE-492E-88AD-3D8E3EA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D93-1835-489E-87F9-547BABB9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3BD1-6609-4634-86F5-A0AB78DB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EF72-C478-44B5-A407-54BA0D5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D5B-DDA1-4CEB-9D33-7991E622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E5D-BF77-410A-9661-44DBDEA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169-1821-42DC-B28F-31890AED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4C6-0244-4AFB-85B7-332EAB68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748-2888-4342-BF2C-28E0004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E85-EE29-4A50-A59E-3346A31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15F-3453-4186-91C1-8D3F544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AEF-BF72-4C8E-A5B2-05A315F9D2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5C9-CE94-49F8-9DB9-584456E1B1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742840" y="4653000"/>
            <a:ext cx="614988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ы сегодня с вами будем поварам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б никто не отравился, каждый повар должен зн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вое правило: на голову косынку надо надев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торое правило мы знае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б здоровью своему не навредить, руки с мылом надо мы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624720" cy="410400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70040" y="4311360"/>
            <a:ext cx="741528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уки помыты! Пора за работу, детвор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41480" y="274680"/>
            <a:ext cx="5261040" cy="39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ый яблоко натрёт – на салатик наберё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78200" cy="2617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332000" y="411336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16360" y="3438360"/>
            <a:ext cx="4248360" cy="31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-то яблоки не те – почернели они все. Нет-нет-нет, наоборот, в них полезный витамин живё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6920" y="4723920"/>
            <a:ext cx="7510680" cy="27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орошо мы потрудились – яблок много получилось. К ним бананы добавляем, хорошенько всё мешае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3454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теперь вы не зевайте, хорошо салат меш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ь салат, конечно, съеден! Извините, что для Вас только фотографии у нас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2432160"/>
            <a:ext cx="3778200" cy="244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ть хотите – заходите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готовим и для Вас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ара мы просто класс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61440" cy="501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6:14:49Z</dcterms:created>
  <dc:creator>Anton</dc:creator>
  <dc:description/>
  <dc:language>en-US</dc:language>
  <cp:lastModifiedBy>Anton</cp:lastModifiedBy>
  <dcterms:modified xsi:type="dcterms:W3CDTF">2012-06-24T10:00:25Z</dcterms:modified>
  <cp:revision>5</cp:revision>
  <dc:subject/>
  <dc:title>Слайд 1</dc:title>
</cp:coreProperties>
</file>