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81D-8EF7-472A-9A0D-5A52836A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771-10C9-4CA1-B7B2-8D7BEC53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8E7-76EC-4BB0-8478-04AED664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9B2-C546-4842-95DB-A889E75F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C4D9-E719-4AB0-8E97-32BA17BD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ED9F-F521-4D0F-83DA-B8A567CF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8194-931A-43CD-B693-402C0A0D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0F00-C994-4A26-B7A8-9BB3213C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AE3F-755A-4841-BBB0-458786FA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0C1D-0528-4E62-9EE1-CF89594D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7D4F-D141-46D6-A69A-22D17F0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29D-ED98-48BF-9E01-E92CCAE5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77FB-13CD-4F9F-A55D-8703E6AD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B497-9E80-474F-9320-5BEEF02C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D977-32B6-47D5-8119-73C0FA1D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FA13-FF3D-4BD5-A87D-0B68A124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AFD0-05D2-46A5-B73D-1D02CEF2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DFD-A7EE-46D1-9C1E-B87AF5FD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F81-F85E-471D-A427-F61EC4D8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387-2679-486D-B6F8-772FBEF2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3FF-2CC6-47F0-9CCF-B33444EE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457-D229-47CB-A77C-803F5DE1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C67-77EB-47E8-A31F-4F9FAEE3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062-74E0-45CA-A4EC-ED2800F7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17B1-FDD8-4981-BF38-77A95DF4C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A917-D885-423F-81C9-64B9C176E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390348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Чайковский Пётр Ильич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олько та музыка может тронуть, потрясти и задеть, которая вылилась из глубины взволнованной вдохновением души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.И. Чайков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тр Ильич Чайковский родился (биографи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мь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2514600" cy="3463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Балет «Лебединое озеро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анец маленьких лебед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ожиданное спас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елый плеск лебединых кры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шумели ключи весен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рагоценных душевных си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ло доброе не забудетс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наказан будет злодей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 поры , пока сердцу чуди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анец маленьких лебе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ас</cp:lastModifiedBy>
  <dcterms:modified xsi:type="dcterms:W3CDTF">2007-03-18T11:55:1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