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A30-C232-4EC3-962C-E4397D04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CDE-B8A5-41C3-8459-076B6F7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F4A-8406-4EA5-8799-3B7E757D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7ED-F8AC-4155-882D-AF174EB3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1814-82AE-41B5-BEB2-EC697429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E34E-6B0E-4DBB-98E3-E13F32C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AB7-A9D0-44F2-AA0E-7E8D5362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5CB5-6848-43C7-BFFE-D05E08C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27C-F7FF-4727-BCA9-579F6C4D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E3F0-14A2-4E9F-BC65-501A6D5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CCA-2B5A-419B-B3D5-58F357C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62A-BA68-4E04-8EB6-0AA0149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C073-BA82-4C8E-9C98-DCBCDA6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5BFD-3715-4839-A6FD-CC0B6C9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FD23-BBEF-4D15-838A-ABE4304D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6B77-FEB8-4084-8551-6D36E976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029C-5B6D-4C7E-B4D7-AB01005D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1E3-0604-4983-B41C-3374CC3F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C44-6CBB-41A9-A562-07A0342E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EAD-9762-4297-885C-C11001B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E8D-E7A0-4DAA-8A50-79E1634B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7E9-993B-4179-AAD2-C77DC20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9FA-8936-44D9-AEE0-491DC58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9F3-8D04-4295-A121-36AABC7F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548-4C83-45E0-9708-6B2D59188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7AA1-5DCE-4305-832F-D7FEF76D1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390348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айковский Пётр Ильич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лько та музыка может тронуть, потрясти и задеть, которая вылилась из глубины взволнованной вдохновением душ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.И. Чайков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тр Ильич Чайковский родился (биограф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м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514600" cy="346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алет «Лебединое озеро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анец маленьких лебед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ожиданное спас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лый плеск лебединых кры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шумели ключи весен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рагоценных душевных си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о доброе не забуде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аказан будет злоде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 поры , пока сердцу чуд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нец маленьких лебе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с</cp:lastModifiedBy>
  <dcterms:modified xsi:type="dcterms:W3CDTF">2007-03-18T11:55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