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25B-9CA6-4A06-8E8A-A53FBF7A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181-1565-4ED6-A731-5976F67A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7BA-4AEA-4D69-8061-5F3AF892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42F-3682-418F-A152-7F307097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1AD1-565D-4172-81AE-9D64075D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3846-F38C-4B13-A10B-BAFE7128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0157-AE10-4CDC-8E11-F166A4E4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24B2-990A-4F9D-9B6A-DB7331C6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17DA-2ABA-4EA8-8E9C-26C82793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9880-B7F6-4AA4-BF2A-9503F78F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895F-D275-42A2-857A-ECFCF9B0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AC0-1F80-4C80-A6FA-A107D011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DB70-244A-44F3-AE45-487CD53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B94B-C213-4A16-A0E1-34CC3F52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307F-C306-4F37-BCF8-39919825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97D9-DC48-424B-8976-FF23A01C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575D-CDC7-44A3-B41F-667188B3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69E-A5F8-4B43-AF31-2A0CA215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1C6-A3B3-43ED-9DD7-B93837A7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478-C390-4493-941F-98DFA24C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0EEE-15CF-4593-9BCF-A588EE75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DC6-096A-4AEF-BB2F-17BC80C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5F0-5B94-4DD0-9917-A7A5141C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CCA-22A3-47F5-BA39-DCA7F263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5805-64B0-46DE-A3EC-3D1F5F1F06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4B2B-61C6-4609-BA42-87403D44121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urmuniform.ru/images/product_images/popup_images/924_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alama.ru/protivogaz%20vk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xumuk.ru/encyklopedia/2/4024-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amfs.ru/upload/resize_cache/iblock/9c7/350_1000_10240811ca8906714d1a9f41f2f5b358d/9c750119fcdefb1cae525f388c41539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rmarus.ru/images/products/gp-7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hyperlink" Target="http://www.protivogas.ru/gal/big/13/6145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497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ГБОУ СОШ № 608</a:t>
            </a:r>
            <a:br>
              <a:rPr sz="2000"/>
            </a:br>
            <a:r>
              <a:rPr b="1" lang="en-US" sz="2000" spc="-1" strike="noStrike">
                <a:solidFill>
                  <a:srgbClr val="dbbd71"/>
                </a:solidFill>
                <a:latin typeface="Arial"/>
              </a:rPr>
              <a:t> КИРОВСКОГО РАЙОНА  г.САНКТ -ПЕТЕРБУРГ</a:t>
            </a:r>
            <a:endParaRPr b="0" lang="en-US" sz="2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3068280"/>
            <a:ext cx="8075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Фильтрующие и гражданские                             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противогаз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46560" y="4586400"/>
            <a:ext cx="4897440" cy="15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Подготовила: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преподаватель-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организатор ОБЖ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dbbd71"/>
                </a:solidFill>
                <a:latin typeface="Arial"/>
              </a:rPr>
              <a:t>Карпова Т.А</a:t>
            </a:r>
            <a:r>
              <a:rPr b="1" lang="en-US" sz="1400" spc="-1" strike="noStrike">
                <a:solidFill>
                  <a:srgbClr val="f8a5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ражданский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противогаз ГП-7, новый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тивогаз ГП7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дежно защищает от АХОВ, радиоактивной пыли и бактериальных сред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значени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ога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едназначен для защиты органов дыхания и зрения взрослого населения страны, в том числе личного состава не военизированных формирований ГО от отравляющих веществ вероятного противника (ОВ ВП), радиоактивной пыли (РП) и бактериальных аэрозолей (Б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Противогаз гражданский ГП-7, новы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628640"/>
            <a:ext cx="4249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4316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Противогаз детск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фильтрующ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ПДФ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2Д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f8a500"/>
                </a:solidFill>
                <a:latin typeface="Tahoma"/>
              </a:rPr>
              <a:t>2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5257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Картинка 5 из 3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765000"/>
            <a:ext cx="4032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Камера защитная детская для детей до 1,5 ле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105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Составные части детской камеры: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оболочка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элемент диффузионно-сорбирующий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тесьма плечевая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каркас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поддон;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 зажим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Камера защитная детская предназначена для защиты детей в возрасте до 1,5 от отравляющих веществ, радиоактивной пыли и бактериальных средст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Детская защитная камера очень похожа на обычную сумку, поэтому переносить ребенка в ней очень удобно. Защита ребенка обеспечивается благодаря поглощению всех отравляющих веществ диффузным материалом, который состоит из специальных диффузно-сорбирующих</a:t>
            </a: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 элементов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248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стройство общевойскового фильтрующего противогаз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3888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1—шлем-маска ШМ-66М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2 – фильтрующе-поглощающая коробка ЕО-62к в чехл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3 – сумк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4 – шлем-маска ШМ-62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5 – незапотевающие пленки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6 – мембрана переговорного устройства для ШМ-66Му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7 – накладные утеплительные манже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716360" y="1600200"/>
            <a:ext cx="4176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75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Учебные 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.Предназначение средств индивидуальной защиты(СИЗ) насе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Классификация средств индивидуальной защиты органов дых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Устройство и принцип действия фильтрующего противогаза(модели противогаз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Гражданский противогаз ГП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едназначение</a:t>
            </a: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ИЗ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1.Для защиты военнослужащих на случай  применения в ходе боевых действий отравляющих вещест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2.Применяются на предприятиях, изготавливающих или использующих в производстве АХ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3.Для защиты газо- и горноспасате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a500"/>
                </a:solidFill>
                <a:latin typeface="Tahoma"/>
              </a:rPr>
              <a:t>4.Для защиты пожарных в сильно задымленных и загазованных помеще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13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лассификация средств индивидуальной защиты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2800" y="1341360"/>
            <a:ext cx="8208000" cy="5327280"/>
            <a:chOff x="442800" y="1341360"/>
            <a:chExt cx="8208000" cy="5327280"/>
          </a:xfrm>
        </p:grpSpPr>
        <p:cxnSp>
          <p:nvCxnSpPr>
            <p:cNvPr id="160" name="_s89143"/>
            <p:cNvCxnSpPr>
              <a:stCxn id="161" idx="0"/>
              <a:endCxn id="162" idx="2"/>
            </p:cNvCxnSpPr>
            <p:nvPr/>
          </p:nvCxnSpPr>
          <p:spPr>
            <a:xfrm flipV="1">
              <a:off x="2336400" y="5870520"/>
              <a:ext cx="540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3" name="_s89139"/>
            <p:cNvCxnSpPr>
              <a:stCxn id="162" idx="0"/>
              <a:endCxn id="164" idx="2"/>
            </p:cNvCxnSpPr>
            <p:nvPr/>
          </p:nvCxnSpPr>
          <p:spPr>
            <a:xfrm flipV="1">
              <a:off x="2336400" y="5072760"/>
              <a:ext cx="540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5" name="_s89137"/>
            <p:cNvCxnSpPr>
              <a:stCxn id="164" idx="0"/>
              <a:endCxn id="166" idx="2"/>
            </p:cNvCxnSpPr>
            <p:nvPr/>
          </p:nvCxnSpPr>
          <p:spPr>
            <a:xfrm flipV="1">
              <a:off x="2336400" y="4273200"/>
              <a:ext cx="540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89135"/>
            <p:cNvCxnSpPr>
              <a:stCxn id="166" idx="0"/>
              <a:endCxn id="168" idx="2"/>
            </p:cNvCxnSpPr>
            <p:nvPr/>
          </p:nvCxnSpPr>
          <p:spPr>
            <a:xfrm flipV="1">
              <a:off x="2336400" y="3473280"/>
              <a:ext cx="540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89133"/>
            <p:cNvCxnSpPr>
              <a:stCxn id="168" idx="0"/>
              <a:endCxn id="170" idx="2"/>
            </p:cNvCxnSpPr>
            <p:nvPr/>
          </p:nvCxnSpPr>
          <p:spPr>
            <a:xfrm flipV="1">
              <a:off x="2336400" y="2673720"/>
              <a:ext cx="5400" cy="267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89130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518440" y="902160"/>
              <a:ext cx="267120" cy="2210040"/>
            </a:xfrm>
            <a:prstGeom prst="bentConnector3">
              <a:avLst>
                <a:gd name="adj1" fmla="val 503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4" name="_s89129"/>
            <p:cNvCxnSpPr>
              <a:stCxn id="170" idx="0"/>
              <a:endCxn id="173" idx="2"/>
            </p:cNvCxnSpPr>
            <p:nvPr/>
          </p:nvCxnSpPr>
          <p:spPr>
            <a:xfrm flipH="1" flipV="1" rot="5400000">
              <a:off x="3308400" y="901800"/>
              <a:ext cx="267120" cy="2210760"/>
            </a:xfrm>
            <a:prstGeom prst="bentConnector3">
              <a:avLst>
                <a:gd name="adj1" fmla="val 503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3" name="_s89125"/>
            <p:cNvSpPr/>
            <p:nvPr/>
          </p:nvSpPr>
          <p:spPr>
            <a:xfrm>
              <a:off x="2653200" y="134136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Средства защ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органов дых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89126"/>
            <p:cNvSpPr/>
            <p:nvPr/>
          </p:nvSpPr>
          <p:spPr>
            <a:xfrm>
              <a:off x="442800" y="214092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Фильтрующ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89127"/>
            <p:cNvSpPr/>
            <p:nvPr/>
          </p:nvSpPr>
          <p:spPr>
            <a:xfrm>
              <a:off x="4862520" y="214092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Изолирующ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89132"/>
            <p:cNvSpPr/>
            <p:nvPr/>
          </p:nvSpPr>
          <p:spPr>
            <a:xfrm>
              <a:off x="442800" y="294048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Гражданские противогаз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89134"/>
            <p:cNvSpPr/>
            <p:nvPr/>
          </p:nvSpPr>
          <p:spPr>
            <a:xfrm>
              <a:off x="442800" y="374040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Детские противогаз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89136"/>
            <p:cNvSpPr/>
            <p:nvPr/>
          </p:nvSpPr>
          <p:spPr>
            <a:xfrm>
              <a:off x="442800" y="4539960"/>
              <a:ext cx="3788280" cy="5328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Общевойсковые противогаз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89138"/>
            <p:cNvSpPr/>
            <p:nvPr/>
          </p:nvSpPr>
          <p:spPr>
            <a:xfrm>
              <a:off x="442800" y="5339520"/>
              <a:ext cx="3788280" cy="53100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ромышленные противогаз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89142"/>
            <p:cNvSpPr/>
            <p:nvPr/>
          </p:nvSpPr>
          <p:spPr>
            <a:xfrm>
              <a:off x="442800" y="6137280"/>
              <a:ext cx="3788280" cy="531360"/>
            </a:xfrm>
            <a:prstGeom prst="roundRect">
              <a:avLst>
                <a:gd name="adj" fmla="val 16667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Простейшие средства защит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ринцип действия фильтрующих противогаз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вдохе зараженный воздух поступает в фильтрующе-поглощающую(противогазовую) короб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ле этого он попадает под лицевую часть и в органы дых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 выдохе воздух из-под лицевой части, минуя коробку, выходит наружу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глощение паров и газов осуществляется   путем адсорбции, хемосорбции и катализ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глощение дымов и туманов(аэрозолей) осуществляется путем фильтр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стройство фильтрующего противогаз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.фильтрующе-поглощающая короб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2.лицевая часть противог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3.очковый уз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4.ших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5.ПА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6.клапанная короб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642920" y="1628280"/>
            <a:ext cx="3745080" cy="5040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Картинка 3 из 44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1628640"/>
            <a:ext cx="374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ротивогаз ГП-7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Противогаз ГП-7 эффективен при защите от веществ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    нервно-паралитического              действия;</a:t>
            </a:r>
            <a:br>
              <a:rPr sz="2000"/>
            </a:b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    общеядовитого  действия;</a:t>
            </a:r>
            <a:br>
              <a:rPr sz="2000"/>
            </a:b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    радиоактивных с временем защитного действия до 6 часов;</a:t>
            </a:r>
            <a:br>
              <a:rPr sz="2000"/>
            </a:b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    кожно-нарывного действия с временем защитного действия до 2 часов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Картинка 16 из 4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321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ражданский противогаз ГП-7-В,</a:t>
            </a:r>
            <a:br>
              <a:rPr sz="2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ГП-7В-мт с приспособлением для приема воды(маску можно не снимать до 12 часов, заменяя фильтропоглощающие коробки при их отработке)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Картинка 8 из 156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960560"/>
            <a:ext cx="4141800" cy="4897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643280" y="2060280"/>
            <a:ext cx="4321440" cy="4530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Картинка 9 из 497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916280"/>
            <a:ext cx="4321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Устройство гражданского фильтрующего противогаза ГП-7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- лицевая часть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– фильтрующе -поглащающая короб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- трикотажный чехо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- узел клапана вдо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 - переговорное устройство (мембран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 - узел клапанов выдох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 - обтюрато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 - наголовник (затылочная пластин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 - лобная лям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 - височные лям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 - щёчные лямк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 - пряж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 - сум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ГП-7"/>
          <p:cNvPicPr/>
          <p:nvPr/>
        </p:nvPicPr>
        <p:blipFill>
          <a:blip r:embed="rId1"/>
          <a:stretch/>
        </p:blipFill>
        <p:spPr>
          <a:xfrm>
            <a:off x="4643280" y="1628640"/>
            <a:ext cx="432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1T07:02:28Z</dcterms:created>
  <dc:creator>sc608</dc:creator>
  <dc:description/>
  <dc:language>en-US</dc:language>
  <cp:lastModifiedBy>sc608</cp:lastModifiedBy>
  <dcterms:modified xsi:type="dcterms:W3CDTF">2012-06-21T11:11:39Z</dcterms:modified>
  <cp:revision>3</cp:revision>
  <dc:subject/>
  <dc:title>ГБОУ СОШ № 608  КИРОВСКОГО РАЙОНА  г.САНКТ -ПЕТЕРБУРГ</dc:title>
</cp:coreProperties>
</file>