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B342-6DC1-4A40-B4F8-C9C30956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AC4A-200E-4F1F-9737-E267D269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646A-A31B-4195-922C-8FB4160C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2EC4-2820-41DE-8A06-10B38F05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3D20-774C-40D1-981E-CF42576B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A310-7DD1-4CC1-9C2B-1405C563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A009-B9BD-41BA-8DE1-EB04B039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BCDE-F110-4FD0-9218-97B1B719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E92B-7F4E-41A3-B6F4-4C32B7B3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84EE-0676-454C-ABF8-C5A1FCAB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3BB8-A119-44B5-AB59-9990EA7B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2710-055F-4519-B786-D7468F9D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C45E-B85D-4527-AC43-7553750A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8173-FE8A-4AB1-A97C-5C6DEEF9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FA87-4BD0-41C2-ADC7-F455DF1C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89FE-A7C7-4ACD-8370-E414CA2F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725A-1B86-43A8-89AE-CA9567E7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FD00-B95A-4303-8417-3115970A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DBFB-9D88-425A-9DE1-535A4F16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5F47-D58D-4B18-A863-CCE2DC9C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A767-7FF8-47CD-9DF4-C7C164CB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34B-282F-4087-A6B1-C20A42E1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4689-36EF-4AC0-86FC-ACA877F0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78F-DD65-4B71-87AF-A1173269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1C1E-B6F4-4131-AFD0-0437FE41EAE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4BDB-08E7-413A-8E9B-6FCF15811CB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urmuniform.ru/images/product_images/popup_images/924_0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alama.ru/protivogaz%20vk.gif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xumuk.ru/encyklopedia/2/4024-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amfs.ru/upload/resize_cache/iblock/9c7/350_1000_10240811ca8906714d1a9f41f2f5b358d/9c750119fcdefb1cae525f388c41539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ormarus.ru/images/products/gp-7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hyperlink" Target="http://www.protivogas.ru/gal/big/13/6145.jpg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97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bbd71"/>
                </a:solidFill>
                <a:latin typeface="Arial"/>
              </a:rPr>
              <a:t>ГБОУ СОШ № 608</a:t>
            </a:r>
            <a:br>
              <a:rPr sz="2000"/>
            </a:br>
            <a:r>
              <a:rPr b="1" lang="en-US" sz="2000" spc="-1" strike="noStrike">
                <a:solidFill>
                  <a:srgbClr val="dbbd71"/>
                </a:solidFill>
                <a:latin typeface="Arial"/>
              </a:rPr>
              <a:t> КИРОВСКОГО РАЙОНА  г.САНКТ -ПЕТЕРБУРГ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3068280"/>
            <a:ext cx="8075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Фильтрующие и гражданские                             </a:t>
            </a: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противогаз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46560" y="4586400"/>
            <a:ext cx="4897440" cy="15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bbd71"/>
                </a:solidFill>
                <a:latin typeface="Arial"/>
              </a:rPr>
              <a:t>Подготовила: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bbd71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dbbd71"/>
                </a:solidFill>
                <a:latin typeface="Arial"/>
              </a:rPr>
              <a:t>преподаватель-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bbd71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dbbd71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dbbd71"/>
                </a:solidFill>
                <a:latin typeface="Arial"/>
              </a:rPr>
              <a:t>организатор ОБЖ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dbbd71"/>
                </a:solidFill>
                <a:latin typeface="Arial"/>
              </a:rPr>
              <a:t>Карпова Т.А</a:t>
            </a:r>
            <a:r>
              <a:rPr b="1" lang="en-US" sz="1400" spc="-1" strike="noStrike">
                <a:solidFill>
                  <a:srgbClr val="f8a5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Гражданский</a:t>
            </a:r>
            <a:br>
              <a:rPr sz="4400"/>
            </a:b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противогаз ГП-7, новы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тивогаз ГП7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дежно защищает от АХОВ, радиоактивной пыли и бактериальных средст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значени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тивогаз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дназначен для защиты органов дыхания и зрения взрослого населения страны, в том числе личного состава не военизированных формирований ГО от отравляющих веществ вероятного противника (ОВ ВП), радиоактивной пыли (РП) и бактериальных аэрозолей (Б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Противогаз гражданский ГП-7, новы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628640"/>
            <a:ext cx="4249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4316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Противогаз детск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фильтрующ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a5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f8a500"/>
                </a:solidFill>
                <a:latin typeface="Tahoma"/>
              </a:rPr>
              <a:t>ПДФ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f8a500"/>
                </a:solidFill>
                <a:latin typeface="Tahoma"/>
              </a:rPr>
              <a:t>2Д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f8a500"/>
                </a:solidFill>
                <a:latin typeface="Tahoma"/>
              </a:rPr>
              <a:t>2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5257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Картинка 5 из 3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765000"/>
            <a:ext cx="40323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Камера защитная детская для детей до 1,5 лет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105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Составные части детской камеры: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 оболочка;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 элемент диффузионно-сорбирующий;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 тесьма плечевая;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 каркас;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 поддон;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 зажим.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Камера защитная детская предназначена для защиты детей в возрасте до 1,5 от отравляющих веществ, радиоактивной пыли и бактериальных средств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Детская защитная камера очень похожа на обычную сумку, поэтому переносить ребенка в ней очень удобно. Защита ребенка обеспечивается благодаря поглощению всех отравляющих веществ диффузным материалом, который состоит из специальных диффузно-сорбирующих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элементов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248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Устройство общевойскового фильтрующего противогаз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3888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1—шлем-маска ШМ-66Му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2 – фильтрующе-поглощающая коробка ЕО-62к в чехл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3 – сумк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4 – шлем-маска ШМ-62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5 – незапотевающие пленк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6 – мембрана переговорного устройства для ШМ-66Му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7 – накладные утеплительные манже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716360" y="1600200"/>
            <a:ext cx="4176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211640" y="1628640"/>
            <a:ext cx="475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Учебные вопросы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1.Предназначение средств индивидуальной защиты(СИЗ) насе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Классификация средств индивидуальной защиты органов дых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Устройство и принцип действия фильтрующего противогаза(модели противогаз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Гражданский противогаз ГП-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редназначение</a:t>
            </a: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ИЗ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a500"/>
                </a:solidFill>
                <a:latin typeface="Tahoma"/>
              </a:rPr>
              <a:t>1.Для защиты военнослужащих на случай  применения в ходе боевых действий отравляющих веще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a500"/>
                </a:solidFill>
                <a:latin typeface="Tahoma"/>
              </a:rPr>
              <a:t>2.Применяются на предприятиях, изготавливающих или использующих в производстве АХ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a500"/>
                </a:solidFill>
                <a:latin typeface="Tahoma"/>
              </a:rPr>
              <a:t>3.Для защиты газо- и горноспаса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a500"/>
                </a:solidFill>
                <a:latin typeface="Tahoma"/>
              </a:rPr>
              <a:t>4.Для защиты пожарных в сильно задымленных и загазованных помещен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135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Классификация средств индивидуальной защит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42800" y="1341360"/>
            <a:ext cx="8208000" cy="5327280"/>
            <a:chOff x="442800" y="1341360"/>
            <a:chExt cx="8208000" cy="5327280"/>
          </a:xfrm>
        </p:grpSpPr>
        <p:cxnSp>
          <p:nvCxnSpPr>
            <p:cNvPr id="160" name="_s89143"/>
            <p:cNvCxnSpPr>
              <a:stCxn id="161" idx="0"/>
              <a:endCxn id="162" idx="2"/>
            </p:cNvCxnSpPr>
            <p:nvPr/>
          </p:nvCxnSpPr>
          <p:spPr>
            <a:xfrm flipV="1">
              <a:off x="2336400" y="5870520"/>
              <a:ext cx="5400" cy="267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3" name="_s89139"/>
            <p:cNvCxnSpPr>
              <a:stCxn id="162" idx="0"/>
              <a:endCxn id="164" idx="2"/>
            </p:cNvCxnSpPr>
            <p:nvPr/>
          </p:nvCxnSpPr>
          <p:spPr>
            <a:xfrm flipV="1">
              <a:off x="2336400" y="5072760"/>
              <a:ext cx="5400" cy="267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5" name="_s89137"/>
            <p:cNvCxnSpPr>
              <a:stCxn id="164" idx="0"/>
              <a:endCxn id="166" idx="2"/>
            </p:cNvCxnSpPr>
            <p:nvPr/>
          </p:nvCxnSpPr>
          <p:spPr>
            <a:xfrm flipV="1">
              <a:off x="2336400" y="4273200"/>
              <a:ext cx="5400" cy="267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89135"/>
            <p:cNvCxnSpPr>
              <a:stCxn id="166" idx="0"/>
              <a:endCxn id="168" idx="2"/>
            </p:cNvCxnSpPr>
            <p:nvPr/>
          </p:nvCxnSpPr>
          <p:spPr>
            <a:xfrm flipV="1">
              <a:off x="2336400" y="3473280"/>
              <a:ext cx="5400" cy="267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89133"/>
            <p:cNvCxnSpPr>
              <a:stCxn id="168" idx="0"/>
              <a:endCxn id="170" idx="2"/>
            </p:cNvCxnSpPr>
            <p:nvPr/>
          </p:nvCxnSpPr>
          <p:spPr>
            <a:xfrm flipV="1">
              <a:off x="2336400" y="2673720"/>
              <a:ext cx="5400" cy="267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89130"/>
            <p:cNvCxnSpPr>
              <a:stCxn id="172" idx="0"/>
              <a:endCxn id="173" idx="2"/>
            </p:cNvCxnSpPr>
            <p:nvPr/>
          </p:nvCxnSpPr>
          <p:spPr>
            <a:xfrm flipV="1" rot="16200000">
              <a:off x="5518440" y="902160"/>
              <a:ext cx="267120" cy="2210040"/>
            </a:xfrm>
            <a:prstGeom prst="bentConnector3">
              <a:avLst>
                <a:gd name="adj1" fmla="val 503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4" name="_s89129"/>
            <p:cNvCxnSpPr>
              <a:stCxn id="170" idx="0"/>
              <a:endCxn id="173" idx="2"/>
            </p:cNvCxnSpPr>
            <p:nvPr/>
          </p:nvCxnSpPr>
          <p:spPr>
            <a:xfrm flipH="1" flipV="1" rot="5400000">
              <a:off x="3308400" y="901800"/>
              <a:ext cx="267120" cy="2210760"/>
            </a:xfrm>
            <a:prstGeom prst="bentConnector3">
              <a:avLst>
                <a:gd name="adj1" fmla="val 503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3" name="_s89125"/>
            <p:cNvSpPr/>
            <p:nvPr/>
          </p:nvSpPr>
          <p:spPr>
            <a:xfrm>
              <a:off x="2653200" y="1341360"/>
              <a:ext cx="3788280" cy="53280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Средства защи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органов дыха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89126"/>
            <p:cNvSpPr/>
            <p:nvPr/>
          </p:nvSpPr>
          <p:spPr>
            <a:xfrm>
              <a:off x="442800" y="2140920"/>
              <a:ext cx="3788280" cy="53280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Фильтрующ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89127"/>
            <p:cNvSpPr/>
            <p:nvPr/>
          </p:nvSpPr>
          <p:spPr>
            <a:xfrm>
              <a:off x="4862520" y="2140920"/>
              <a:ext cx="3788280" cy="53280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Изолирующ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89132"/>
            <p:cNvSpPr/>
            <p:nvPr/>
          </p:nvSpPr>
          <p:spPr>
            <a:xfrm>
              <a:off x="442800" y="2940480"/>
              <a:ext cx="3788280" cy="53280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Гражданские противогаз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89134"/>
            <p:cNvSpPr/>
            <p:nvPr/>
          </p:nvSpPr>
          <p:spPr>
            <a:xfrm>
              <a:off x="442800" y="3740400"/>
              <a:ext cx="3788280" cy="53280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Детские противогаз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89136"/>
            <p:cNvSpPr/>
            <p:nvPr/>
          </p:nvSpPr>
          <p:spPr>
            <a:xfrm>
              <a:off x="442800" y="4539960"/>
              <a:ext cx="3788280" cy="53280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Общевойсковые противогаз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89138"/>
            <p:cNvSpPr/>
            <p:nvPr/>
          </p:nvSpPr>
          <p:spPr>
            <a:xfrm>
              <a:off x="442800" y="5339520"/>
              <a:ext cx="3788280" cy="53100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Промышленные противогаз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89142"/>
            <p:cNvSpPr/>
            <p:nvPr/>
          </p:nvSpPr>
          <p:spPr>
            <a:xfrm>
              <a:off x="442800" y="6137280"/>
              <a:ext cx="3788280" cy="53136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Простейшие средства защит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ринцип действия фильтрующих противогазов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 вдохе зараженный воздух поступает в фильтрующе-поглощающую(противогазовую) короб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сле этого он попадает под лицевую часть и в органы дых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 выдохе воздух из-под лицевой части, минуя коробку, выходит наружу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глощение паров и газов осуществляется   путем адсорбции, хемосорбции и катализ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глощение дымов и туманов(аэрозолей) осуществляется путем фильтр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Устройство фильтрующего противогаз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1.фильтрующе-поглощающая короб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2.лицевая часть противог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3.очковый узе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4.ших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5.ПА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6.клапанная короб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642920" y="1628280"/>
            <a:ext cx="3745080" cy="5040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Картинка 3 из 448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1628640"/>
            <a:ext cx="3745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ротивогаз ГП-7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a500"/>
                </a:solidFill>
                <a:latin typeface="Tahoma"/>
              </a:rPr>
              <a:t>Противогаз ГП-7 эффективен при защите от веществ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8a500"/>
                </a:solidFill>
                <a:latin typeface="Tahoma"/>
              </a:rPr>
              <a:t>    нервно-паралитического              действия;</a:t>
            </a:r>
            <a:br>
              <a:rPr sz="2000"/>
            </a:br>
            <a:r>
              <a:rPr b="0" lang="en-US" sz="2000" spc="-1" strike="noStrike">
                <a:solidFill>
                  <a:srgbClr val="f8a500"/>
                </a:solidFill>
                <a:latin typeface="Tahoma"/>
              </a:rPr>
              <a:t>    общеядовитого  действия;</a:t>
            </a:r>
            <a:br>
              <a:rPr sz="2000"/>
            </a:br>
            <a:r>
              <a:rPr b="0" lang="en-US" sz="2000" spc="-1" strike="noStrike">
                <a:solidFill>
                  <a:srgbClr val="f8a500"/>
                </a:solidFill>
                <a:latin typeface="Tahoma"/>
              </a:rPr>
              <a:t>    радиоактивных с временем защитного действия до 6 часов;</a:t>
            </a:r>
            <a:br>
              <a:rPr sz="2000"/>
            </a:br>
            <a:r>
              <a:rPr b="0" lang="en-US" sz="2000" spc="-1" strike="noStrike">
                <a:solidFill>
                  <a:srgbClr val="f8a500"/>
                </a:solidFill>
                <a:latin typeface="Tahoma"/>
              </a:rPr>
              <a:t>    кожно-нарывного действия с временем защитного действия до 2 часов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8a5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Картинка 16 из 49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341360"/>
            <a:ext cx="4321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Гражданский противогаз ГП-7-В,</a:t>
            </a:r>
            <a:br>
              <a:rPr sz="2400"/>
            </a:b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ГП-7В-мт с приспособлением для приема воды(маску можно не снимать до 12 часов, заменяя фильтропоглощающие коробки при их отработке)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Картинка 8 из 156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960560"/>
            <a:ext cx="4141800" cy="4897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643280" y="2060280"/>
            <a:ext cx="4321440" cy="4530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Картинка 9 из 497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916280"/>
            <a:ext cx="43214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Устройство гражданского фильтрующего противогаза ГП-7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47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- лицевая часть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 – фильтрующе -поглащающая коробк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 - трикотажный чехо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 - узел клапана вдох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 - переговорное устройство (мембрана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 - узел клапанов выдох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 - обтюратор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 - наголовник (затылочная пластина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 - лобная лямк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0 - височные лям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1 - щёчные лям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2 - пряжк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3 - сум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ГП-7"/>
          <p:cNvPicPr/>
          <p:nvPr/>
        </p:nvPicPr>
        <p:blipFill>
          <a:blip r:embed="rId1"/>
          <a:stretch/>
        </p:blipFill>
        <p:spPr>
          <a:xfrm>
            <a:off x="4643280" y="1628640"/>
            <a:ext cx="4321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1T07:02:28Z</dcterms:created>
  <dc:creator>sc608</dc:creator>
  <dc:description/>
  <dc:language>en-US</dc:language>
  <cp:lastModifiedBy>sc608</cp:lastModifiedBy>
  <dcterms:modified xsi:type="dcterms:W3CDTF">2012-06-21T11:11:39Z</dcterms:modified>
  <cp:revision>3</cp:revision>
  <dc:subject/>
  <dc:title>ГБОУ СОШ № 608  КИРОВСКОГО РАЙОНА  г.САНКТ -ПЕТЕРБУРГ</dc:title>
</cp:coreProperties>
</file>