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0DF-4A1B-45A8-AC61-4E829F12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AB1-4697-4866-9B0E-00FDCE72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D45-08C3-4C97-9561-CD50251C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684-32F8-47CF-AF30-DEC56DE3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92B-FA9E-49B4-8B38-BC8F41D9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B54-D10C-42B5-9C9D-482B349D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FE1-8E84-4903-9842-6F4DC492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B48-40ED-4211-A9B2-D68C35D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831-2582-468A-9DAD-B5B57878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554-280C-4D0E-98E5-F2D22F51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26F-9D69-4E42-BF1A-4213405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245-71BC-4F4A-8355-798F9638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7BEA-D31F-4075-A355-5151F6F4C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50920" y="189000"/>
            <a:ext cx="8569080" cy="69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ЛОДЁЖНЫЕ СТИЛИ – ВИНТАЖНЫЙ СТИ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ЁДОРОВА Ю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1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верь – 20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инный винтаж - это как правило, раритетные вещи известных брендов т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1">
            <a:lum contrast="24000"/>
          </a:blip>
          <a:srcRect l="0" t="5037" r="0" b="0"/>
          <a:stretch/>
        </p:blipFill>
        <p:spPr>
          <a:xfrm>
            <a:off x="4648320" y="1268280"/>
            <a:ext cx="449568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>
            <a:lum contrast="18000"/>
          </a:blip>
          <a:srcRect l="0" t="2504" r="0" b="0"/>
          <a:stretch/>
        </p:blipFill>
        <p:spPr>
          <a:xfrm>
            <a:off x="0" y="1295280"/>
            <a:ext cx="46069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винта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- это стилизация «под старину» современной одежды. Обычно в неовинтаже используются вещи кроя, силуэтов, рисунков и т.д. прошлых десятилетий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ый винта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дразумевает использование при изготовлении одежды, как материалов прошлых лет, так и сов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24000" y="1459080"/>
            <a:ext cx="4038480" cy="539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4716360" y="1386000"/>
            <a:ext cx="42595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ницам стиля винтаж нужно помнить, что отклоняться от стиля выбранной эпохи во всех элементах одежды, обуви и аксессуарах ни в коем случае нельзя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тажные вещи всегда отличает высокое качество и классические чер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х возраст подчеркивает их респектабельность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"/>
          <p:cNvPicPr/>
          <p:nvPr/>
        </p:nvPicPr>
        <p:blipFill>
          <a:blip r:embed="rId1"/>
          <a:srcRect l="8397" t="0" r="0" b="0"/>
          <a:stretch/>
        </p:blipFill>
        <p:spPr>
          <a:xfrm>
            <a:off x="250920" y="260280"/>
            <a:ext cx="2736720" cy="192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2"/>
          <a:stretch/>
        </p:blipFill>
        <p:spPr>
          <a:xfrm>
            <a:off x="2700360" y="4149720"/>
            <a:ext cx="2165400" cy="185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3"/>
          <a:srcRect l="20761" t="0" r="16020" b="0"/>
          <a:stretch/>
        </p:blipFill>
        <p:spPr>
          <a:xfrm>
            <a:off x="6730920" y="4292640"/>
            <a:ext cx="241308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4"/>
          <a:stretch/>
        </p:blipFill>
        <p:spPr>
          <a:xfrm>
            <a:off x="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5"/>
          <a:srcRect l="0" t="0" r="0" b="2362"/>
          <a:stretch/>
        </p:blipFill>
        <p:spPr>
          <a:xfrm>
            <a:off x="2484360" y="189000"/>
            <a:ext cx="224640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6"/>
          <a:srcRect l="0" t="2437" r="5736" b="2417"/>
          <a:stretch/>
        </p:blipFill>
        <p:spPr>
          <a:xfrm>
            <a:off x="4643280" y="404964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7">
            <a:lum contrast="6000"/>
          </a:blip>
          <a:srcRect l="0" t="21291" r="0" b="10646"/>
          <a:stretch/>
        </p:blipFill>
        <p:spPr>
          <a:xfrm>
            <a:off x="5003640" y="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"/>
          <p:cNvPicPr/>
          <p:nvPr/>
        </p:nvPicPr>
        <p:blipFill>
          <a:blip r:embed="rId8"/>
          <a:srcRect l="0" t="22285" r="0" b="19778"/>
          <a:stretch/>
        </p:blipFill>
        <p:spPr>
          <a:xfrm>
            <a:off x="6707160" y="692280"/>
            <a:ext cx="24368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5:20:59Z</dcterms:created>
  <dc:creator>Uzer</dc:creator>
  <dc:description/>
  <dc:language>en-US</dc:language>
  <cp:lastModifiedBy>Customer</cp:lastModifiedBy>
  <dcterms:modified xsi:type="dcterms:W3CDTF">2012-06-24T20:53:10Z</dcterms:modified>
  <cp:revision>14</cp:revision>
  <dc:subject/>
  <dc:title>Слайд 1</dc:title>
</cp:coreProperties>
</file>