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BCD-003F-49B7-86DD-CF808FAF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4D0-7F3C-4EB3-8F0E-A3F4CF09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3C7-4D1F-4B41-B30E-BB9221BB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EA4-C6AC-44F7-AF38-DF843799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A8F-A74D-4DCA-B9EC-835852BC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8D9-A046-4A7F-BA7B-E141A42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85CA-506B-4250-80BB-CE5F19AA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A1A-BA39-4DE3-A5B0-615068ED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931-DFFD-47EC-9699-741D934E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949-51D9-4DB4-8DB7-8FC953B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6AD-4585-423B-BE5D-A9A7EF3D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591-DA6F-49C2-867E-701C5EA9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F94C-6FC6-490A-9CD4-C885974DC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50920" y="189000"/>
            <a:ext cx="8569080" cy="69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ЛОДЁЖНЫЕ СТИЛИ – ВИНТАЖНЫЙ СТИ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ЁДОРОВА Ю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11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верь – 201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инный винтаж - это как правило, раритетные вещи известных брендов то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1">
            <a:lum contrast="24000"/>
          </a:blip>
          <a:srcRect l="0" t="5037" r="0" b="0"/>
          <a:stretch/>
        </p:blipFill>
        <p:spPr>
          <a:xfrm>
            <a:off x="4648320" y="1268280"/>
            <a:ext cx="449568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>
            <a:lum contrast="18000"/>
          </a:blip>
          <a:srcRect l="0" t="2504" r="0" b="0"/>
          <a:stretch/>
        </p:blipFill>
        <p:spPr>
          <a:xfrm>
            <a:off x="0" y="1295280"/>
            <a:ext cx="46069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винта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- это стилизация «под старину» современной одежды. Обычно в неовинтаже используются вещи кроя, силуэтов, рисунков и т.д. прошлых десятилетий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ированный винта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дразумевает использование при изготовлении одежды, как материалов прошлых лет, так и сов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24000" y="1459080"/>
            <a:ext cx="4038480" cy="539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4716360" y="1386000"/>
            <a:ext cx="42595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лонницам стиля винтаж нужно помнить, что отклоняться от стиля выбранной эпохи во всех элементах одежды, обуви и аксессуарах ни в коем случае нельзя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тажные вещи всегда отличает высокое качество и классические чер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х возраст подчеркивает их респектабельност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"/>
          <p:cNvPicPr/>
          <p:nvPr/>
        </p:nvPicPr>
        <p:blipFill>
          <a:blip r:embed="rId1"/>
          <a:srcRect l="8397" t="0" r="0" b="0"/>
          <a:stretch/>
        </p:blipFill>
        <p:spPr>
          <a:xfrm>
            <a:off x="250920" y="260280"/>
            <a:ext cx="2736720" cy="192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165400" cy="185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"/>
          <p:cNvPicPr/>
          <p:nvPr/>
        </p:nvPicPr>
        <p:blipFill>
          <a:blip r:embed="rId3"/>
          <a:srcRect l="20761" t="0" r="16020" b="0"/>
          <a:stretch/>
        </p:blipFill>
        <p:spPr>
          <a:xfrm>
            <a:off x="6730920" y="4292640"/>
            <a:ext cx="241308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"/>
          <p:cNvPicPr/>
          <p:nvPr/>
        </p:nvPicPr>
        <p:blipFill>
          <a:blip r:embed="rId4"/>
          <a:stretch/>
        </p:blipFill>
        <p:spPr>
          <a:xfrm>
            <a:off x="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5"/>
          <a:srcRect l="0" t="0" r="0" b="2362"/>
          <a:stretch/>
        </p:blipFill>
        <p:spPr>
          <a:xfrm>
            <a:off x="2484360" y="189000"/>
            <a:ext cx="224640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6"/>
          <a:srcRect l="0" t="2437" r="5736" b="2417"/>
          <a:stretch/>
        </p:blipFill>
        <p:spPr>
          <a:xfrm>
            <a:off x="4643280" y="4049640"/>
            <a:ext cx="2376720" cy="280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2" descr=""/>
          <p:cNvPicPr/>
          <p:nvPr/>
        </p:nvPicPr>
        <p:blipFill>
          <a:blip r:embed="rId7">
            <a:lum contrast="6000"/>
          </a:blip>
          <a:srcRect l="0" t="21291" r="0" b="10646"/>
          <a:stretch/>
        </p:blipFill>
        <p:spPr>
          <a:xfrm>
            <a:off x="5003640" y="0"/>
            <a:ext cx="2160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"/>
          <p:cNvPicPr/>
          <p:nvPr/>
        </p:nvPicPr>
        <p:blipFill>
          <a:blip r:embed="rId8"/>
          <a:srcRect l="0" t="22285" r="0" b="19778"/>
          <a:stretch/>
        </p:blipFill>
        <p:spPr>
          <a:xfrm>
            <a:off x="6707160" y="692280"/>
            <a:ext cx="2436840" cy="16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20:59Z</dcterms:created>
  <dc:creator>Uzer</dc:creator>
  <dc:description/>
  <dc:language>en-US</dc:language>
  <cp:lastModifiedBy>Customer</cp:lastModifiedBy>
  <dcterms:modified xsi:type="dcterms:W3CDTF">2012-06-24T20:53:10Z</dcterms:modified>
  <cp:revision>14</cp:revision>
  <dc:subject/>
  <dc:title>Слайд 1</dc:title>
</cp:coreProperties>
</file>