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7.png" ContentType="image/png"/>
  <Override PartName="/ppt/media/image2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4.png" ContentType="image/png"/>
  <Override PartName="/ppt/media/image24.jpeg" ContentType="image/jpeg"/>
  <Override PartName="/ppt/media/image2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wmf" ContentType="image/x-wmf"/>
  <Override PartName="/ppt/media/image15.jpeg" ContentType="image/jpeg"/>
  <Override PartName="/ppt/media/image14.gif" ContentType="image/gif"/>
  <Override PartName="/ppt/media/image16.png" ContentType="image/png"/>
  <Override PartName="/ppt/media/image1.wmf" ContentType="image/x-wmf"/>
  <Override PartName="/ppt/media/image9.jpeg" ContentType="image/jpeg"/>
  <Override PartName="/ppt/media/image2.jpeg" ContentType="image/jpeg"/>
  <Override PartName="/ppt/media/image23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"Кто вдадеет информацией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05FB5-6216-418E-B44E-E5708E56B5C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"Кто вдадеет информацией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2321F-34E8-4842-8723-BAB4FA85C44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56FE4-E300-4BB5-81B8-DFD499101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51996-A7AE-4381-B72D-7E92191E5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D148B-6357-45E3-A89D-283DDBAD8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B336A-63FC-4C3B-935E-2884FCF3F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BA999-01C1-448B-A639-3C94FDC6C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F3B14-2450-420D-A10B-8FEF50E11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F27BC-27C0-407B-A30A-CC7D2C236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A09A0-A3AA-42F0-9B6D-F8220C3B8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08437-B1C1-4ECF-B09C-04FA650EB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6C1BA-5EAC-461F-9A62-B72D9F93A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36C47-D963-4722-87B2-3410E8DAB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32AD2-B4B6-4BDD-B467-48F2801EB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4D836-E1EE-4CE3-AFE5-85C1849286A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image" Target="../media/image19.jpe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hyperlink" Target="file:///tmp/home/.config/libreoffice/4/user/gallery/chimes.wav" TargetMode="Externa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himes.wav" TargetMode="External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file:///tmp/home/.config/libreoffice/4/user/gallery/chimes.wav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hyperlink" Target="file:///tmp/home/.config/libreoffice/4/user/gallery/chimes.wav" TargetMode="External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uainfo.com/photos/big/178063_1.jpg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sklad-zakonov.narod.ru/Vlad_st/cals2.files/image006.jpg" TargetMode="External"/><Relationship Id="rId2" Type="http://schemas.openxmlformats.org/officeDocument/2006/relationships/image" Target="../media/image10.jpeg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hyperlink" Target="file:///tmp/home/.config/libreoffice/4/user/gallery/chimes.wav" TargetMode="Externa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hyperlink" Target="file:///tmp/home/.config/libreoffice/4/user/gallery/chimes.wav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371240" y="4114440"/>
            <a:ext cx="609588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зентация к уроку по дисциплине: «Информационные технологии в профессиональной деятельности» спец. 080110 «Экономика и бухгалтерский учет» ГБОУ СПО «Армавирский машиностроительный техникум»КК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подаватель      Закарина Л.Э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14400" y="5866920"/>
            <a:ext cx="6400800" cy="30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1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8"/>
          <p:cNvSpPr/>
          <p:nvPr/>
        </p:nvSpPr>
        <p:spPr>
          <a:xfrm>
            <a:off x="0" y="152280"/>
            <a:ext cx="9144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99"/>
                </a:solidFill>
                <a:latin typeface="Arial"/>
              </a:rPr>
              <a:t>Информационные технологии – движущая сила развития об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WordArt 16"/>
          <p:cNvSpPr txBox="1"/>
          <p:nvPr/>
        </p:nvSpPr>
        <p:spPr>
          <a:xfrm>
            <a:off x="228600" y="1066680"/>
            <a:ext cx="8686800" cy="2810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800080"/>
                </a:solidFill>
                <a:effectLst>
                  <a:outerShdw dist="107932" dir="18900000" blurRad="0" rotWithShape="0">
                    <a:srgbClr val="808080">
                      <a:alpha val="50000"/>
                    </a:srgbClr>
                  </a:outerShdw>
                </a:effectLst>
                <a:latin typeface="Arial"/>
              </a:rPr>
              <a:t>Информационная культура</a:t>
            </a:r>
            <a:endParaRPr b="0" lang="en-US" sz="1800" spc="1" strike="noStrike">
              <a:ln w="0">
                <a:noFill/>
              </a:ln>
              <a:solidFill>
                <a:srgbClr val="800080"/>
              </a:solidFill>
              <a:effectLst>
                <a:outerShdw dist="107932" dir="18900000" blurRad="0" rotWithShape="0">
                  <a:srgbClr val="808080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6858000" y="457200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 -0.01227 L -0.95 -0.01227 E">
                                      <p:cBhvr>
                                        <p:cTn id="6" dur="15000" fill="hold"/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" dur="3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" dur="3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800080"/>
                </a:solidFill>
                <a:latin typeface="Arial"/>
              </a:rPr>
              <a:t>Виды информационных технологий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д словом технология принято понимать совокупность условий (режимов), приемов и навыков использования предметов труда (инструментов и материалов) для получения результатов труда в определенном количестве с заданным качеством. Инструментами труда в информатике являются аппаратные и программные средства вычислительной техники, а материалами – носители информации и структуры данных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формационная  технология – информационный процесс, в результате которого создается информационный продукт. Коммуникационная технология - информационный процесс, в результате которого происходит передача и обмен информацией. Например, технология электронного документооборота, технология баз данных, коммуникационные технологии, технологии программирования, технологии компьютерной графики и т.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6"/>
          <p:cNvSpPr/>
          <p:nvPr/>
        </p:nvSpPr>
        <p:spPr>
          <a:xfrm>
            <a:off x="0" y="2552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Object 5"/>
          <p:cNvGraphicFramePr/>
          <p:nvPr/>
        </p:nvGraphicFramePr>
        <p:xfrm>
          <a:off x="0" y="4422600"/>
          <a:ext cx="2971800" cy="243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422600"/>
                    <a:ext cx="2971800" cy="243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0" name="Picture 7" descr="308760-001"/>
          <p:cNvPicPr/>
          <p:nvPr/>
        </p:nvPicPr>
        <p:blipFill>
          <a:blip r:embed="rId3"/>
          <a:stretch/>
        </p:blipFill>
        <p:spPr>
          <a:xfrm>
            <a:off x="6629400" y="4435560"/>
            <a:ext cx="2514600" cy="24224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8" descr="002"/>
          <p:cNvPicPr/>
          <p:nvPr/>
        </p:nvPicPr>
        <p:blipFill>
          <a:blip r:embed="rId4"/>
          <a:stretch/>
        </p:blipFill>
        <p:spPr>
          <a:xfrm>
            <a:off x="2895480" y="4419720"/>
            <a:ext cx="3924360" cy="243828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80"/>
                </a:solidFill>
                <a:latin typeface="Arial"/>
              </a:rPr>
              <a:t>Информационные угрозы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Object 3"/>
          <p:cNvGraphicFramePr/>
          <p:nvPr/>
        </p:nvGraphicFramePr>
        <p:xfrm>
          <a:off x="6781680" y="2133720"/>
          <a:ext cx="2362320" cy="4038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81680" y="2133720"/>
                    <a:ext cx="2362320" cy="40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Rectangle 5"/>
          <p:cNvSpPr/>
          <p:nvPr/>
        </p:nvSpPr>
        <p:spPr>
          <a:xfrm>
            <a:off x="0" y="1138320"/>
            <a:ext cx="716292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ехват электронных сообщени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нудительное электромагнитное облучение (подсветка) линий связи с целью получения паразитной модуляции несуще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нение подслушивающих устройств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истанционное фотографирование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ехват акустических излучений и восстановление текста принтер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ищение носителей информации и производственных отход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читывание данных в массивах других пользователе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тение остаточной информации в памяти системы после выполнения санкционированных запрос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пирование носителей информации с преодолением средств их защит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скировка под зарегистрированного пользовател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истификация (маскировка под запросы системы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пользование программных ловушек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пользование недостатков систем программирования операционных систе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ключение в библиотеки программ специальных блоков типа «троянский конь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6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зможные пути вмешательства в чужое информационное пространство (информационные угрозы) могут быть таков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7">
            <a:hlinkClick r:id="rId3"/>
          </p:cNvPr>
          <p:cNvSpPr/>
          <p:nvPr/>
        </p:nvSpPr>
        <p:spPr>
          <a:xfrm>
            <a:off x="6858000" y="617220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80"/>
                </a:solidFill>
                <a:latin typeface="Arial"/>
              </a:rPr>
              <a:t>Информационная безопаснос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0" y="837720"/>
            <a:ext cx="91440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уществуют различные механизмы безопасности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шифровани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ифровая (электронная) подпис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нтроль доступ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еспечение целостности данных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еспечение аутентификаци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становка трафик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правление маршрутизацие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рбитраж (или освидетельствование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8" descr="вирус"/>
          <p:cNvPicPr/>
          <p:nvPr/>
        </p:nvPicPr>
        <p:blipFill>
          <a:blip r:embed="rId1"/>
          <a:stretch/>
        </p:blipFill>
        <p:spPr>
          <a:xfrm>
            <a:off x="5486400" y="1143000"/>
            <a:ext cx="3657600" cy="268596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10"/>
          <p:cNvSpPr/>
          <p:nvPr/>
        </p:nvSpPr>
        <p:spPr>
          <a:xfrm>
            <a:off x="0" y="4326120"/>
            <a:ext cx="56386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се средства защиты данных могут быть отнесены к одной из следующих групп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щита аппаратных составляющих компьютер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щита линий связ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щита баз данных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щита подсистемы управления компьюте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1">
            <a:hlinkClick r:id="rId2"/>
          </p:cNvPr>
          <p:cNvSpPr/>
          <p:nvPr/>
        </p:nvSpPr>
        <p:spPr>
          <a:xfrm>
            <a:off x="6400800" y="60199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629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80"/>
                </a:solidFill>
                <a:latin typeface="Arial"/>
              </a:rPr>
              <a:t>Интернет</a:t>
            </a:r>
            <a:r>
              <a:rPr b="1" lang="en-US" sz="4000" spc="-1" strike="noStrike">
                <a:solidFill>
                  <a:srgbClr val="800080"/>
                </a:solidFill>
                <a:latin typeface="Arial"/>
              </a:rPr>
              <a:t> – </a:t>
            </a:r>
            <a:r>
              <a:rPr b="1" lang="ru-RU" sz="4000" spc="-1" strike="noStrike">
                <a:solidFill>
                  <a:srgbClr val="800080"/>
                </a:solidFill>
                <a:latin typeface="Arial"/>
              </a:rPr>
              <a:t>основной источник информа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10 заповедей этикета Интерне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Помните о человеке! Не забывайте, что даже через посредство мертвой Сети и напичканного электроникой компьютера вы общаетесь с живым человеком. А часто - со многими людьми одновременно... Не позволяйте одурманить себя атмосферой анонимности и вседозволенности - помните, что на другом конце провода такой же человек, как и вы... Сочиняя электронное послание, представьте, что все это говорите человеку прямо в лицо - и старайтесь, чтобы при этом вам не было стыдно за свои слов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Следуйте в Сети тем же правилам, которым вы следуете в реальной жизни. Нарушение законов человеческого общения, моральных правил или норм общественной жизни Сети, возможно, и пройдет для вас относительно безнаказанным... Но будет ли при этом чиста ваша совесть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Помните, что вы находитесь в киберпространстве! Его границы куда шире, чем границы привычного нам человеческого общества, и в разных его частях могут действовать свои законы. Поэтому, сталкиваясь с новым для вас видом общения в Сети, изучайте его законы и признавайте их приоритет. Скажем, в любой группе новостей, форуме или даже канале IRC существуют собственные, локальные правила (rules) - ознакомьтесь с ними, прежде, чем отправлять свое первое сообщение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Бережно относитесь ко времени и мнению других людей! Обращайтесь за помощью только тогда, когда это действительно необходимо - и в этом случае вы всегда можете рассчитывать на помощь и поддержку ваших коллег. Однако не дергайте других пользователей по пустяками - иначе в конце концов с вами просто перестанут общатьс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Старайтесь выглядеть достойно в глазах своих собеседников! Не экономьте свое время на "условностях" типа правил хорошего тона или, скажем, правил грамматики и орфографии. Даже комплименты теряют в весе и убедительности, будучи воплощенными в такой вот форме: "Приэт чувак я тащусь от тебя и тваих книг круто пиши ищо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.Не пренебрегайте советами знатоков и делитесь своими знаниями с другими! Будьте благодарны тем, кто тратит свое время, отвечая на ваши вопросы. Но и сами, получив письмо с вопросом от другого пользователя, не спешите отправлять это послание в мусорную корзину, каким бы нелепым и наивным оно не казалось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.Сдерживайте страсти. Вступать в дискуссии никакой этикет не запрещает, однако не опускайтесь до брани и ругательств - пусть даже ваш визави сознательно провоцирует вас на эт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.Относитесь с уважением не только к своей, но и к чужой приватности! Если вы по каким-то причинам хотите сохранять анонимность в Сети, признавайте эти права и за вашим собеседником. Более того - он имеет право на анонимность и приватность, даже если вы выступаете "с открытым забралом". Побочное следствие из этого правила: не публикуйте информацию из ваших приватных писем без согласия их отправителей, не копайтесь в чужих почтовых ящиках и, в конечном итоге, в чужих компьютерах! Господа хакеры, это относится непосредственно к вам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9.Не злоупотребляйте своей властью и влиянием в Сети! Завоевать доверие трудно, а потерять - так легко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0.Будьте терпимы к недостаткам окружающих вас людей! Не смотрите на то, соблюдают или нет ваши собеседники правила сетевого этикета, соблюдайте их сами! В конце концов, предельно вежливо порекомендуйте собеседнику ознакомиться с этими правилами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6">
            <a:hlinkClick r:id="rId1"/>
          </p:cNvPr>
          <p:cNvSpPr/>
          <p:nvPr/>
        </p:nvSpPr>
        <p:spPr>
          <a:xfrm>
            <a:off x="6858000" y="640080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7" descr="3235802"/>
          <p:cNvPicPr/>
          <p:nvPr/>
        </p:nvPicPr>
        <p:blipFill>
          <a:blip r:embed="rId2"/>
          <a:stretch/>
        </p:blipFill>
        <p:spPr>
          <a:xfrm>
            <a:off x="7162920" y="0"/>
            <a:ext cx="1981080" cy="151272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80"/>
                </a:solidFill>
                <a:latin typeface="Arial"/>
              </a:rPr>
              <a:t>Характеристики </a:t>
            </a:r>
            <a:br>
              <a:rPr sz="4000"/>
            </a:br>
            <a:r>
              <a:rPr b="1" lang="ru-RU" sz="4000" spc="-1" strike="noStrike">
                <a:solidFill>
                  <a:srgbClr val="800080"/>
                </a:solidFill>
                <a:latin typeface="Arial"/>
              </a:rPr>
              <a:t>информационной культур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67" descr="objaz"/>
          <p:cNvPicPr/>
          <p:nvPr/>
        </p:nvPicPr>
        <p:blipFill>
          <a:blip r:embed="rId1"/>
          <a:stretch/>
        </p:blipFill>
        <p:spPr>
          <a:xfrm>
            <a:off x="6562800" y="2286000"/>
            <a:ext cx="2581200" cy="333360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73"/>
          <p:cNvSpPr/>
          <p:nvPr/>
        </p:nvSpPr>
        <p:spPr>
          <a:xfrm>
            <a:off x="0" y="1277640"/>
            <a:ext cx="746748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85760" indent="-1857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ммуникативные ум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пособность эффективного осуществления наблюдения, сравнения, анализа, синтез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мение представлять информацию в различных видах и форм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мение составлять информационные модели объектов окружающей действитель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мение строить схемы и моде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личие эмоционально – волевой сфе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ладение методами информатики, к которым, прежде всего, относятся формализация и моделиров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ладение знаниями о современных информационных и компьютерных технологиях, информационных системах, о процессах управления и познания, о различных видах деятельности человека в информационном обществ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ладение учебными навык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80"/>
                </a:solidFill>
                <a:latin typeface="Arial"/>
              </a:rPr>
              <a:t>Информационная культу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35"/>
          <p:cNvSpPr/>
          <p:nvPr/>
        </p:nvSpPr>
        <p:spPr>
          <a:xfrm>
            <a:off x="0" y="1219680"/>
            <a:ext cx="9153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нформационная культур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умение целенаправленно работать с информацией и использовать для ее получения, обработки и передачи компьютерную информационную технологию, современные технические средства и метод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свободной ориентации в информационном потоке человек должен обладать информационной культурой как одной из составляющих общей культуры. Информационная культура связана с социальной природой человека. Она является продуктом разнообразных творческих способностей человека и проявляется в некоторых аспектах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37" descr="i?id=1373240&amp;tov=6"/>
          <p:cNvPicPr/>
          <p:nvPr/>
        </p:nvPicPr>
        <p:blipFill>
          <a:blip r:embed="rId1"/>
          <a:stretch/>
        </p:blipFill>
        <p:spPr>
          <a:xfrm>
            <a:off x="3276720" y="4267080"/>
            <a:ext cx="2590560" cy="259092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8">
            <a:hlinkClick r:id="rId2"/>
          </p:cNvPr>
          <p:cNvSpPr/>
          <p:nvPr/>
        </p:nvSpPr>
        <p:spPr>
          <a:xfrm>
            <a:off x="6858000" y="617220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257800" cy="24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80"/>
                </a:solidFill>
                <a:latin typeface="Arial"/>
              </a:rPr>
              <a:t>Проявление </a:t>
            </a:r>
            <a:br>
              <a:rPr sz="4000"/>
            </a:br>
            <a:r>
              <a:rPr b="1" lang="ru-RU" sz="4000" spc="-1" strike="noStrike">
                <a:solidFill>
                  <a:srgbClr val="800080"/>
                </a:solidFill>
                <a:latin typeface="Arial"/>
              </a:rPr>
              <a:t>информационной </a:t>
            </a:r>
            <a:br>
              <a:rPr sz="4000"/>
            </a:br>
            <a:r>
              <a:rPr b="1" lang="ru-RU" sz="4000" spc="-1" strike="noStrike">
                <a:solidFill>
                  <a:srgbClr val="800080"/>
                </a:solidFill>
                <a:latin typeface="Arial"/>
              </a:rPr>
              <a:t>культур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0" y="27432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в конкретных навыках по использованию технических устройств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в способности использовать в своей деятельности компьютерную информационную технологию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в умении извлекать информацию из различных источников: как из периодической печати, так и из электронных коммуникаций, представлять ее в понятном виде и уметь ее эффективно использовать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во владении основами аналитической переработки информации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в умении работать с различной информацией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в знании особенностей информационных потоков в своей области деятельности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6" descr=""/>
          <p:cNvPicPr/>
          <p:nvPr/>
        </p:nvPicPr>
        <p:blipFill>
          <a:blip r:embed="rId1"/>
          <a:stretch/>
        </p:blipFill>
        <p:spPr>
          <a:xfrm>
            <a:off x="5410080" y="0"/>
            <a:ext cx="3733920" cy="26622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80"/>
                </a:solidFill>
                <a:latin typeface="Arial"/>
              </a:rPr>
              <a:t>Информационные</a:t>
            </a:r>
            <a:r>
              <a:rPr b="1" lang="en-US" sz="4000" spc="-1" strike="noStrike">
                <a:solidFill>
                  <a:srgbClr val="80008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800080"/>
                </a:solidFill>
                <a:latin typeface="Arial"/>
              </a:rPr>
              <a:t>процесс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7" descr="lan_03"/>
          <p:cNvPicPr/>
          <p:nvPr/>
        </p:nvPicPr>
        <p:blipFill>
          <a:blip r:embed="rId1"/>
          <a:stretch/>
        </p:blipFill>
        <p:spPr>
          <a:xfrm>
            <a:off x="3200400" y="4714920"/>
            <a:ext cx="1771560" cy="21430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8" descr="6"/>
          <p:cNvPicPr/>
          <p:nvPr/>
        </p:nvPicPr>
        <p:blipFill>
          <a:blip r:embed="rId2"/>
          <a:stretch/>
        </p:blipFill>
        <p:spPr>
          <a:xfrm>
            <a:off x="3200400" y="838080"/>
            <a:ext cx="1752480" cy="13496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9" descr=""/>
          <p:cNvPicPr/>
          <p:nvPr/>
        </p:nvPicPr>
        <p:blipFill>
          <a:blip r:embed="rId3"/>
          <a:stretch/>
        </p:blipFill>
        <p:spPr>
          <a:xfrm>
            <a:off x="3200400" y="2362320"/>
            <a:ext cx="1778040" cy="220968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30"/>
          <p:cNvSpPr/>
          <p:nvPr/>
        </p:nvSpPr>
        <p:spPr>
          <a:xfrm>
            <a:off x="308520" y="1143000"/>
            <a:ext cx="294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Создание информ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Обработка информ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34"/>
          <p:cNvSpPr/>
          <p:nvPr/>
        </p:nvSpPr>
        <p:spPr>
          <a:xfrm>
            <a:off x="5718960" y="4114800"/>
            <a:ext cx="280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Хранение информ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5"/>
          <p:cNvSpPr/>
          <p:nvPr/>
        </p:nvSpPr>
        <p:spPr>
          <a:xfrm>
            <a:off x="309600" y="5638680"/>
            <a:ext cx="28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Передача информ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36"/>
          <p:cNvSpPr/>
          <p:nvPr/>
        </p:nvSpPr>
        <p:spPr>
          <a:xfrm>
            <a:off x="5947920" y="1371600"/>
            <a:ext cx="240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Поиск информ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37"/>
          <p:cNvSpPr/>
          <p:nvPr/>
        </p:nvSpPr>
        <p:spPr>
          <a:xfrm>
            <a:off x="4320" y="3048120"/>
            <a:ext cx="323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Кодирование информ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39" descr=""/>
          <p:cNvPicPr/>
          <p:nvPr/>
        </p:nvPicPr>
        <p:blipFill>
          <a:blip r:embed="rId4"/>
          <a:stretch/>
        </p:blipFill>
        <p:spPr>
          <a:xfrm>
            <a:off x="5638680" y="1828800"/>
            <a:ext cx="2895840" cy="17589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40" descr="19"/>
          <p:cNvPicPr/>
          <p:nvPr/>
        </p:nvPicPr>
        <p:blipFill>
          <a:blip r:embed="rId5"/>
          <a:stretch/>
        </p:blipFill>
        <p:spPr>
          <a:xfrm>
            <a:off x="6172200" y="4648320"/>
            <a:ext cx="1752480" cy="162216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41"/>
          <p:cNvSpPr/>
          <p:nvPr/>
        </p:nvSpPr>
        <p:spPr>
          <a:xfrm>
            <a:off x="762840" y="533520"/>
            <a:ext cx="745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это любые процессы, связанные с преобразованием информа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42">
            <a:hlinkClick r:id="rId6"/>
          </p:cNvPr>
          <p:cNvSpPr/>
          <p:nvPr/>
        </p:nvSpPr>
        <p:spPr>
          <a:xfrm>
            <a:off x="6019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0" y="3124080"/>
            <a:ext cx="91440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формационные ресурсы входят в интеллектуальный фонд общества, определяемый накоплением, распределением и практической реализацией знаний квалифицированной рабочей силы, включающей выраженный в информации научный и производственный опыт не только современников из всех стран мира, но и предшественников за все времен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6"/>
          <p:cNvSpPr/>
          <p:nvPr/>
        </p:nvSpPr>
        <p:spPr>
          <a:xfrm>
            <a:off x="0" y="838080"/>
            <a:ext cx="5334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80"/>
                </a:solidFill>
                <a:latin typeface="Arial"/>
              </a:rPr>
              <a:t>Информационные ресурс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10" descr="Картинка 4 из 4435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486400" y="0"/>
            <a:ext cx="3657600" cy="327672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0" y="914040"/>
            <a:ext cx="91440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604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дним из ключевых показателей информатизации является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информационный потенциал,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т.е. способность решать текущие и перспективные задачи информационного обслуживания общественного производства на уровне оптимальных возможностей, определяемых достигнутым в данный период в мире средним уровнем развития информационных технологи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604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80"/>
                </a:solidFill>
                <a:latin typeface="Arial"/>
              </a:rPr>
              <a:t>Информационное взаимодейств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14" descr="Картинка 7 из 813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981080" y="3581280"/>
            <a:ext cx="4438800" cy="3076560"/>
          </a:xfrm>
          <a:prstGeom prst="rect">
            <a:avLst/>
          </a:prstGeom>
          <a:ln w="0">
            <a:noFill/>
          </a:ln>
        </p:spPr>
      </p:pic>
      <p:sp>
        <p:nvSpPr>
          <p:cNvPr id="79" name="Text Box 15">
            <a:hlinkClick r:id="rId3"/>
          </p:cNvPr>
          <p:cNvSpPr/>
          <p:nvPr/>
        </p:nvSpPr>
        <p:spPr>
          <a:xfrm>
            <a:off x="6629400" y="617220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80"/>
                </a:solidFill>
                <a:latin typeface="Arial"/>
              </a:rPr>
              <a:t>Информационная деятельнос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еятельность человека, связанную с процессами получения, преобразования, накопления и передачи информации называют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информационной деятельностью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 мере развития общества, научно-технического прогресса человечество создавало все новые средства и способы сбора, хранения, передачи информации. Но важнейшее в информационных процессах — обработка и целенаправленное преобразование информации — осуществлялось до недавнего времени исключительно человек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днако постоянное совершенствование техники и производства привело к резкому возрастанию объема информации, с которой приходится оперировать человеку в процессе его профессиональной деятельности, постоянно увеличивался также объем информации, необходимой для решения задач планирования и управления производств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5" descr="PH02208U"/>
          <p:cNvPicPr/>
          <p:nvPr/>
        </p:nvPicPr>
        <p:blipFill>
          <a:blip r:embed="rId1"/>
          <a:stretch/>
        </p:blipFill>
        <p:spPr>
          <a:xfrm>
            <a:off x="2971800" y="4890960"/>
            <a:ext cx="2971800" cy="19670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PH02746G"/>
          <p:cNvPicPr/>
          <p:nvPr/>
        </p:nvPicPr>
        <p:blipFill>
          <a:blip r:embed="rId2"/>
          <a:stretch/>
        </p:blipFill>
        <p:spPr>
          <a:xfrm>
            <a:off x="0" y="4870440"/>
            <a:ext cx="2971800" cy="1987560"/>
          </a:xfrm>
          <a:prstGeom prst="rect">
            <a:avLst/>
          </a:prstGeom>
          <a:ln w="0">
            <a:noFill/>
          </a:ln>
        </p:spPr>
      </p:pic>
      <p:pic>
        <p:nvPicPr>
          <p:cNvPr id="84" name="Рисунок 81" descr="48353_3517016470"/>
          <p:cNvPicPr/>
          <p:nvPr/>
        </p:nvPicPr>
        <p:blipFill>
          <a:blip r:embed="rId3">
            <a:lum bright="10000"/>
          </a:blip>
          <a:stretch/>
        </p:blipFill>
        <p:spPr>
          <a:xfrm>
            <a:off x="6324480" y="4876920"/>
            <a:ext cx="2819520" cy="198108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5" descr="BD19582_"/>
          <p:cNvPicPr/>
          <p:nvPr/>
        </p:nvPicPr>
        <p:blipFill>
          <a:blip r:embed="rId1"/>
          <a:stretch/>
        </p:blipFill>
        <p:spPr>
          <a:xfrm>
            <a:off x="7010280" y="2895480"/>
            <a:ext cx="1582920" cy="236232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7150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80"/>
                </a:solidFill>
                <a:latin typeface="Arial"/>
              </a:rPr>
              <a:t>Информационные систе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12" descr="Картинка 22 из 444227"/>
          <p:cNvPicPr/>
          <p:nvPr/>
        </p:nvPicPr>
        <p:blipFill>
          <a:blip r:embed="rId2"/>
          <a:stretch/>
        </p:blipFill>
        <p:spPr>
          <a:xfrm>
            <a:off x="5562720" y="304920"/>
            <a:ext cx="3581280" cy="22446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3" descr=""/>
          <p:cNvPicPr/>
          <p:nvPr/>
        </p:nvPicPr>
        <p:blipFill>
          <a:blip r:embed="rId3"/>
          <a:stretch/>
        </p:blipFill>
        <p:spPr>
          <a:xfrm>
            <a:off x="0" y="3476520"/>
            <a:ext cx="6485040" cy="338148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14"/>
          <p:cNvSpPr/>
          <p:nvPr/>
        </p:nvSpPr>
        <p:spPr>
          <a:xfrm>
            <a:off x="0" y="1294200"/>
            <a:ext cx="55627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формационная система (ИС) — это система, построенная на базе компьютерной техники, предназначенная для хранения, поиска, обработки и передачи значительных объемов информации, имеющая определенную практическую сферу примен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6">
            <a:hlinkClick r:id="rId4"/>
          </p:cNvPr>
          <p:cNvSpPr/>
          <p:nvPr/>
        </p:nvSpPr>
        <p:spPr>
          <a:xfrm>
            <a:off x="6629400" y="617220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556272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80"/>
                </a:solidFill>
                <a:latin typeface="Arial"/>
              </a:rPr>
              <a:t>Информационные технолог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нформационная технология есть совокупность конкретных технических и программных средств, с помощью которых мы выполняем разнообразные операции по обработке информации во всех сферах нашей жизни и деятельности. Иногда информационную технологию называют компьютерной технологией или прикладной информатикой.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8" descr="BS00100_"/>
          <p:cNvPicPr/>
          <p:nvPr/>
        </p:nvPicPr>
        <p:blipFill>
          <a:blip r:embed="rId1"/>
          <a:stretch/>
        </p:blipFill>
        <p:spPr>
          <a:xfrm>
            <a:off x="7238880" y="0"/>
            <a:ext cx="1905120" cy="1584360"/>
          </a:xfrm>
          <a:prstGeom prst="rect">
            <a:avLst/>
          </a:prstGeom>
          <a:ln w="0">
            <a:noFill/>
          </a:ln>
        </p:spPr>
      </p:pic>
      <p:sp>
        <p:nvSpPr>
          <p:cNvPr id="94" name="Text Box 9">
            <a:hlinkClick r:id="rId2"/>
          </p:cNvPr>
          <p:cNvSpPr/>
          <p:nvPr/>
        </p:nvSpPr>
        <p:spPr>
          <a:xfrm>
            <a:off x="6629400" y="617220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44</cp:lastModifiedBy>
  <dcterms:modified xsi:type="dcterms:W3CDTF">2012-06-22T11:51:30Z</dcterms:modified>
  <cp:revision>155</cp:revision>
  <dc:subject/>
  <dc:title>PowerPoint Presentation</dc:title>
</cp:coreProperties>
</file>