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5.jpeg" ContentType="image/jpeg"/>
  <Override PartName="/ppt/media/image14.gif" ContentType="image/gif"/>
  <Override PartName="/ppt/media/image16.png" ContentType="image/png"/>
  <Override PartName="/ppt/media/image1.wmf" ContentType="image/x-wmf"/>
  <Override PartName="/ppt/media/image9.jpeg" ContentType="image/jpeg"/>
  <Override PartName="/ppt/media/image2.jpeg" ContentType="image/jpeg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"Кто вдадеет информацией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3E86-0406-47E5-BE53-F8F976C590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"Кто вдадеет информацией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3D78-8302-4F54-B8B6-B1D76AFC0E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BEAE-7BA5-45E1-B5BD-987B392FF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FB43-4970-4AAC-9DD8-D348A155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59B3-395D-4DEE-9B9C-8A9E0023A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898B-0405-446D-A287-C06BEE883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57E5-4AEE-4F19-9A65-EDF0A53C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9E87-F44C-4FB9-B77C-5417D1FA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715E-CDBE-4640-B522-11CDDF2E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6388-6DBC-47B8-A3FA-B9D6833D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3240-30D8-4DC6-85B8-CAB7B0F1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0397-30B9-4467-BEB4-1C63AC28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4FB8-1682-461C-A9AE-532A17BB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42C4-0D60-4DDF-860B-7EB961E1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259E-8605-48DF-835A-602837682E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hyperlink" Target="file:///tmp/home/.config/libreoffice/4/user/gallery/chimes.wav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ainfo.com/photos/big/178063_1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klad-zakonov.narod.ru/Vlad_st/cals2.files/image006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41144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 к уроку по дисциплине: «Информационные технологии в профессиональной деятельности» спец. 080110 «Экономика и бухгалтерский учет» ГБОУ СПО «Армавирский машиностроительный техникум»КК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подаватель      Закарина Л.Э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586692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1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0" y="15228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Информационные технологии – движущая сила развития 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16"/>
          <p:cNvSpPr txBox="1"/>
          <p:nvPr/>
        </p:nvSpPr>
        <p:spPr>
          <a:xfrm>
            <a:off x="228600" y="1066680"/>
            <a:ext cx="8686800" cy="281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Информационная культура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858000" y="4572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 -0.01227 L -0.95 -0.01227 E">
                                      <p:cBhvr>
                                        <p:cTn id="6" dur="1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800080"/>
                </a:solidFill>
                <a:latin typeface="Arial"/>
              </a:rPr>
              <a:t>Виды информационных технологи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 словом технология принято понимать совокупность условий (режимов), приемов и навыков использования предметов труда (инструментов и материалов) для получения результатов труда в определенном количестве с заданным качеством. Инструментами труда в информатике являются аппаратные и программные средства вычислительной техники, а материалами – носители информации и структуры данн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онная  технология – информационный процесс, в результате которого создается информационный продукт. Коммуникационная технология - информационный процесс, в результате которого происходит передача и обмен информацией. Например, технология электронного документооборота, технология баз данных, коммуникационные технологии, технологии программирования, технологии компьютерной графики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5"/>
          <p:cNvGraphicFramePr/>
          <p:nvPr/>
        </p:nvGraphicFramePr>
        <p:xfrm>
          <a:off x="0" y="4422600"/>
          <a:ext cx="297180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422600"/>
                    <a:ext cx="297180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Picture 7" descr="308760-001"/>
          <p:cNvPicPr/>
          <p:nvPr/>
        </p:nvPicPr>
        <p:blipFill>
          <a:blip r:embed="rId3"/>
          <a:stretch/>
        </p:blipFill>
        <p:spPr>
          <a:xfrm>
            <a:off x="6629400" y="4435560"/>
            <a:ext cx="2514600" cy="2422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002"/>
          <p:cNvPicPr/>
          <p:nvPr/>
        </p:nvPicPr>
        <p:blipFill>
          <a:blip r:embed="rId4"/>
          <a:stretch/>
        </p:blipFill>
        <p:spPr>
          <a:xfrm>
            <a:off x="2895480" y="4419720"/>
            <a:ext cx="392436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Информационные угроз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3"/>
          <p:cNvGraphicFramePr/>
          <p:nvPr/>
        </p:nvGraphicFramePr>
        <p:xfrm>
          <a:off x="6781680" y="2133720"/>
          <a:ext cx="236232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2133720"/>
                    <a:ext cx="236232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Rectangle 5"/>
          <p:cNvSpPr/>
          <p:nvPr/>
        </p:nvSpPr>
        <p:spPr>
          <a:xfrm>
            <a:off x="0" y="1138320"/>
            <a:ext cx="7162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хват электронных сообщ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удительное электромагнитное облучение (подсветка) линий связи с целью получения паразитной модуляции несущ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ение подслушивающих устройст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танционное фотографирован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хват акустических излучений и восстановление текста принте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ищение носителей информации и производственных отход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итывание данных в массивах других пользова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ение остаточной информации в памяти системы после выполнения санкционированных запрос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пирование носителей информации с преодолением средств их защи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кировка под зарегистрированного пользовател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стификация (маскировка под запросы систем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программных ловуше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недостатков систем программирования операционных сист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ение в библиотеки программ специальных блоков типа «троянский кон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0" y="762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ые пути вмешательства в чужое информационное пространство (информационные угрозы) могут быть таков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>
            <a:hlinkClick r:id="rId3"/>
          </p:cNvPr>
          <p:cNvSpPr/>
          <p:nvPr/>
        </p:nvSpPr>
        <p:spPr>
          <a:xfrm>
            <a:off x="6858000" y="61722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Информационная безопас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ют различные механизмы безопаснос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фров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фровая (электронная) подпис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ь доступ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 целостности дан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 аутентифик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тановка траф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маршрутизац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битраж (или освидетельствова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вирус"/>
          <p:cNvPicPr/>
          <p:nvPr/>
        </p:nvPicPr>
        <p:blipFill>
          <a:blip r:embed="rId1"/>
          <a:stretch/>
        </p:blipFill>
        <p:spPr>
          <a:xfrm>
            <a:off x="5486400" y="1143000"/>
            <a:ext cx="3657600" cy="26859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0"/>
          <p:cNvSpPr/>
          <p:nvPr/>
        </p:nvSpPr>
        <p:spPr>
          <a:xfrm>
            <a:off x="0" y="4326120"/>
            <a:ext cx="5638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средства защиты данных могут быть отнесены к одной из следующих групп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щита аппаратных составляющих компьюте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щита линий связ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щита баз данн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щита подсистемы управления компьют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>
            <a:hlinkClick r:id="rId2"/>
          </p:cNvPr>
          <p:cNvSpPr/>
          <p:nvPr/>
        </p:nvSpPr>
        <p:spPr>
          <a:xfrm>
            <a:off x="6400800" y="60199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Интернет</a:t>
            </a: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 – </a:t>
            </a: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основной источник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0 заповедей этикета Интерн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омните о человеке! Не забывайте, что даже через посредство мертвой Сети и напичканного электроникой компьютера вы общаетесь с живым человеком. А часто - со многими людьми одновременно... Не позволяйте одурманить себя атмосферой анонимности и вседозволенности - помните, что на другом конце провода такой же человек, как и вы... Сочиняя электронное послание, представьте, что все это говорите человеку прямо в лицо - и старайтесь, чтобы при этом вам не было стыдно за свои сло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Следуйте в Сети тем же правилам, которым вы следуете в реальной жизни. Нарушение законов человеческого общения, моральных правил или норм общественной жизни Сети, возможно, и пройдет для вас относительно безнаказанным... Но будет ли при этом чиста ваша совесть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Помните, что вы находитесь в киберпространстве! Его границы куда шире, чем границы привычного нам человеческого общества, и в разных его частях могут действовать свои законы. Поэтому, сталкиваясь с новым для вас видом общения в Сети, изучайте его законы и признавайте их приоритет. Скажем, в любой группе новостей, форуме или даже канале IRC существуют собственные, локальные правила (rules) - ознакомьтесь с ними, прежде, чем отправлять свое первое сообщение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Бережно относитесь ко времени и мнению других людей! Обращайтесь за помощью только тогда, когда это действительно необходимо - и в этом случае вы всегда можете рассчитывать на помощь и поддержку ваших коллег. Однако не дергайте других пользователей по пустяками - иначе в конце концов с вами просто перестанут общать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Старайтесь выглядеть достойно в глазах своих собеседников! Не экономьте свое время на "условностях" типа правил хорошего тона или, скажем, правил грамматики и орфографии. Даже комплименты теряют в весе и убедительности, будучи воплощенными в такой вот форме: "Приэт чувак я тащусь от тебя и тваих книг круто пиши ищо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Не пренебрегайте советами знатоков и делитесь своими знаниями с другими! Будьте благодарны тем, кто тратит свое время, отвечая на ваши вопросы. Но и сами, получив письмо с вопросом от другого пользователя, не спешите отправлять это послание в мусорную корзину, каким бы нелепым и наивным оно не казалос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Сдерживайте страсти. Вступать в дискуссии никакой этикет не запрещает, однако не опускайтесь до брани и ругательств - пусть даже ваш визави сознательно провоцирует вас на эт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Относитесь с уважением не только к своей, но и к чужой приватности! Если вы по каким-то причинам хотите сохранять анонимность в Сети, признавайте эти права и за вашим собеседником. Более того - он имеет право на анонимность и приватность, даже если вы выступаете "с открытым забралом". Побочное следствие из этого правила: не публикуйте информацию из ваших приватных писем без согласия их отправителей, не копайтесь в чужих почтовых ящиках и, в конечном итоге, в чужих компьютерах! Господа хакеры, это относится непосредственно к вам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Не злоупотребляйте своей властью и влиянием в Сети! Завоевать доверие трудно, а потерять - так легк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Будьте терпимы к недостаткам окружающих вас людей! Не смотрите на то, соблюдают или нет ваши собеседники правила сетевого этикета, соблюдайте их сами! В конце концов, предельно вежливо порекомендуйте собеседнику ознакомиться с этими правилами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>
            <a:hlinkClick r:id="rId1"/>
          </p:cNvPr>
          <p:cNvSpPr/>
          <p:nvPr/>
        </p:nvSpPr>
        <p:spPr>
          <a:xfrm>
            <a:off x="6858000" y="64008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3235802"/>
          <p:cNvPicPr/>
          <p:nvPr/>
        </p:nvPicPr>
        <p:blipFill>
          <a:blip r:embed="rId2"/>
          <a:stretch/>
        </p:blipFill>
        <p:spPr>
          <a:xfrm>
            <a:off x="7162920" y="0"/>
            <a:ext cx="1981080" cy="1512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Характеристики </a:t>
            </a:r>
            <a:br>
              <a:rPr sz="4000"/>
            </a:b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информационной куль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7" descr="objaz"/>
          <p:cNvPicPr/>
          <p:nvPr/>
        </p:nvPicPr>
        <p:blipFill>
          <a:blip r:embed="rId1"/>
          <a:stretch/>
        </p:blipFill>
        <p:spPr>
          <a:xfrm>
            <a:off x="6562800" y="2286000"/>
            <a:ext cx="2581200" cy="33336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3"/>
          <p:cNvSpPr/>
          <p:nvPr/>
        </p:nvSpPr>
        <p:spPr>
          <a:xfrm>
            <a:off x="0" y="1277640"/>
            <a:ext cx="74674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муникативные ум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собность эффективного осуществления наблюдения, сравнения, анализа, синт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ние представлять информацию в различных видах и форм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ние составлять информационные модели объектов окружающей действи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ние строить схемы и мод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ичие эмоционально – волевой сф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адение методами информатики, к которым, прежде всего, относятся формализация и модел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адение знаниями о современных информационных и компьютерных технологиях, информационных системах, о процессах управления и познания, о различных видах деятельности человека в информационном обще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адение учебными навы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Информационная куль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5"/>
          <p:cNvSpPr/>
          <p:nvPr/>
        </p:nvSpPr>
        <p:spPr>
          <a:xfrm>
            <a:off x="0" y="1219680"/>
            <a:ext cx="9153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формационная культу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умение целенаправленно работать с информацией и использовать для ее получения, обработки и передачи компьютерную информационную технологию, современные технические средства и мет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свободной ориентации в информационном потоке человек должен обладать информационной культурой как одной из составляющих общей культуры. Информационная культура связана с социальной природой человека. Она является продуктом разнообразных творческих способностей человека и проявляется в некоторых аспектах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7" descr="i?id=1373240&amp;tov=6"/>
          <p:cNvPicPr/>
          <p:nvPr/>
        </p:nvPicPr>
        <p:blipFill>
          <a:blip r:embed="rId1"/>
          <a:stretch/>
        </p:blipFill>
        <p:spPr>
          <a:xfrm>
            <a:off x="3276720" y="4267080"/>
            <a:ext cx="2590560" cy="25909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8">
            <a:hlinkClick r:id="rId2"/>
          </p:cNvPr>
          <p:cNvSpPr/>
          <p:nvPr/>
        </p:nvSpPr>
        <p:spPr>
          <a:xfrm>
            <a:off x="6858000" y="61722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2578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Проявление </a:t>
            </a:r>
            <a:br>
              <a:rPr sz="4000"/>
            </a:b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информационной </a:t>
            </a:r>
            <a:br>
              <a:rPr sz="4000"/>
            </a:b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куль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2743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 конкретных навыках по использованию технических устройств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 способности использовать в своей деятельности компьютерную информационную технологию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 умении извлекать информацию из различных источников: как из периодической печати, так и из электронных коммуникаций, представлять ее в понятном виде и уметь ее эффективно использовать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о владении основами аналитической переработки информации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 умении работать с различной информацией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 знании особенностей информационных потоков в своей области деятельности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5410080" y="0"/>
            <a:ext cx="3733920" cy="2662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Информационные</a:t>
            </a: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процес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7" descr="lan_03"/>
          <p:cNvPicPr/>
          <p:nvPr/>
        </p:nvPicPr>
        <p:blipFill>
          <a:blip r:embed="rId1"/>
          <a:stretch/>
        </p:blipFill>
        <p:spPr>
          <a:xfrm>
            <a:off x="3200400" y="4714920"/>
            <a:ext cx="1771560" cy="214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8" descr="6"/>
          <p:cNvPicPr/>
          <p:nvPr/>
        </p:nvPicPr>
        <p:blipFill>
          <a:blip r:embed="rId2"/>
          <a:stretch/>
        </p:blipFill>
        <p:spPr>
          <a:xfrm>
            <a:off x="3200400" y="838080"/>
            <a:ext cx="1752480" cy="1349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9" descr=""/>
          <p:cNvPicPr/>
          <p:nvPr/>
        </p:nvPicPr>
        <p:blipFill>
          <a:blip r:embed="rId3"/>
          <a:stretch/>
        </p:blipFill>
        <p:spPr>
          <a:xfrm>
            <a:off x="3200400" y="2362320"/>
            <a:ext cx="1778040" cy="22096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0"/>
          <p:cNvSpPr/>
          <p:nvPr/>
        </p:nvSpPr>
        <p:spPr>
          <a:xfrm>
            <a:off x="308520" y="1143000"/>
            <a:ext cx="29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Создание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бработка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4"/>
          <p:cNvSpPr/>
          <p:nvPr/>
        </p:nvSpPr>
        <p:spPr>
          <a:xfrm>
            <a:off x="5718960" y="4114800"/>
            <a:ext cx="28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Хранение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5"/>
          <p:cNvSpPr/>
          <p:nvPr/>
        </p:nvSpPr>
        <p:spPr>
          <a:xfrm>
            <a:off x="309600" y="563868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Передача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5947920" y="1371600"/>
            <a:ext cx="24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Поиск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7"/>
          <p:cNvSpPr/>
          <p:nvPr/>
        </p:nvSpPr>
        <p:spPr>
          <a:xfrm>
            <a:off x="4320" y="3048120"/>
            <a:ext cx="323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одирование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9" descr=""/>
          <p:cNvPicPr/>
          <p:nvPr/>
        </p:nvPicPr>
        <p:blipFill>
          <a:blip r:embed="rId4"/>
          <a:stretch/>
        </p:blipFill>
        <p:spPr>
          <a:xfrm>
            <a:off x="5638680" y="1828800"/>
            <a:ext cx="2895840" cy="1758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0" descr="19"/>
          <p:cNvPicPr/>
          <p:nvPr/>
        </p:nvPicPr>
        <p:blipFill>
          <a:blip r:embed="rId5"/>
          <a:stretch/>
        </p:blipFill>
        <p:spPr>
          <a:xfrm>
            <a:off x="6172200" y="4648320"/>
            <a:ext cx="1752480" cy="16221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1"/>
          <p:cNvSpPr/>
          <p:nvPr/>
        </p:nvSpPr>
        <p:spPr>
          <a:xfrm>
            <a:off x="762840" y="533520"/>
            <a:ext cx="74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это любые процессы, связанные с преобразованием информ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2">
            <a:hlinkClick r:id="rId6"/>
          </p:cNvPr>
          <p:cNvSpPr/>
          <p:nvPr/>
        </p:nvSpPr>
        <p:spPr>
          <a:xfrm>
            <a:off x="6019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312408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онные ресурсы входят в интеллектуальный фонд общества, определяемый накоплением, распределением и практической реализацией знаний квалифицированной рабочей силы, включающей выраженный в информации научный и производственный опыт не только современников из всех стран мира, но и предшественников за все време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0" y="838080"/>
            <a:ext cx="5334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Информационные ресур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Картинка 4 из 443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0"/>
            <a:ext cx="365760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91404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из ключевых показателей информатизации являетс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нформационный потенциал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.е. способность решать текущие и перспективные задачи информационного обслуживания общественного производства на уровне оптимальных возможностей, определяемых достигнутым в данный период в мире средним уровнем развития информационных технолог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Информационное взаимодейств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4" descr="Картинка 7 из 81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3581280"/>
            <a:ext cx="4438800" cy="30765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5">
            <a:hlinkClick r:id="rId3"/>
          </p:cNvPr>
          <p:cNvSpPr/>
          <p:nvPr/>
        </p:nvSpPr>
        <p:spPr>
          <a:xfrm>
            <a:off x="6629400" y="61722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Информационная дея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ятельность человека, связанную с процессами получения, преобразования, накопления и передачи информации называю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нформационной деятельность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мере развития общества, научно-технического прогресса человечество создавало все новые средства и способы сбора, хранения, передачи информации. Но важнейшее в информационных процессах — обработка и целенаправленное преобразование информации — осуществлялось до недавнего времени исключительно челове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днако постоянное совершенствование техники и производства привело к резкому возрастанию объема информации, с которой приходится оперировать человеку в процессе его профессиональной деятельности, постоянно увеличивался также объем информации, необходимой для решения задач планирования и управления производ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PH02208U"/>
          <p:cNvPicPr/>
          <p:nvPr/>
        </p:nvPicPr>
        <p:blipFill>
          <a:blip r:embed="rId1"/>
          <a:stretch/>
        </p:blipFill>
        <p:spPr>
          <a:xfrm>
            <a:off x="2971800" y="4890960"/>
            <a:ext cx="2971800" cy="1967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PH02746G"/>
          <p:cNvPicPr/>
          <p:nvPr/>
        </p:nvPicPr>
        <p:blipFill>
          <a:blip r:embed="rId2"/>
          <a:stretch/>
        </p:blipFill>
        <p:spPr>
          <a:xfrm>
            <a:off x="0" y="4870440"/>
            <a:ext cx="2971800" cy="19875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81" descr="48353_3517016470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6324480" y="4876920"/>
            <a:ext cx="281952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BD19582_"/>
          <p:cNvPicPr/>
          <p:nvPr/>
        </p:nvPicPr>
        <p:blipFill>
          <a:blip r:embed="rId1"/>
          <a:stretch/>
        </p:blipFill>
        <p:spPr>
          <a:xfrm>
            <a:off x="7010280" y="2895480"/>
            <a:ext cx="1582920" cy="23623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15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Информацион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2" descr="Картинка 22 из 444227"/>
          <p:cNvPicPr/>
          <p:nvPr/>
        </p:nvPicPr>
        <p:blipFill>
          <a:blip r:embed="rId2"/>
          <a:stretch/>
        </p:blipFill>
        <p:spPr>
          <a:xfrm>
            <a:off x="5562720" y="304920"/>
            <a:ext cx="3581280" cy="2244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"/>
          <p:cNvPicPr/>
          <p:nvPr/>
        </p:nvPicPr>
        <p:blipFill>
          <a:blip r:embed="rId3"/>
          <a:stretch/>
        </p:blipFill>
        <p:spPr>
          <a:xfrm>
            <a:off x="0" y="3476520"/>
            <a:ext cx="6485040" cy="33814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4"/>
          <p:cNvSpPr/>
          <p:nvPr/>
        </p:nvSpPr>
        <p:spPr>
          <a:xfrm>
            <a:off x="0" y="1294200"/>
            <a:ext cx="556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онная система (ИС) — это система, построенная на базе компьютерной техники, предназначенная для хранения, поиска, обработки и передачи значительных объемов информации, имеющая определенную практическую сферу приме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6">
            <a:hlinkClick r:id="rId4"/>
          </p:cNvPr>
          <p:cNvSpPr/>
          <p:nvPr/>
        </p:nvSpPr>
        <p:spPr>
          <a:xfrm>
            <a:off x="6629400" y="61722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5627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ая технология есть совокупность конкретных технических и программных средств, с помощью которых мы выполняем разнообразные операции по обработке информации во всех сферах нашей жизни и деятельности. Иногда информационную технологию называют компьютерной технологией или прикладной информатикой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BS00100_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5843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9">
            <a:hlinkClick r:id="rId2"/>
          </p:cNvPr>
          <p:cNvSpPr/>
          <p:nvPr/>
        </p:nvSpPr>
        <p:spPr>
          <a:xfrm>
            <a:off x="6629400" y="61722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44</cp:lastModifiedBy>
  <dcterms:modified xsi:type="dcterms:W3CDTF">2012-06-22T11:51:30Z</dcterms:modified>
  <cp:revision>155</cp:revision>
  <dc:subject/>
  <dc:title>PowerPoint Presentation</dc:title>
</cp:coreProperties>
</file>