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FA7-6FD5-4CFD-B23F-CA64F188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4AE-7B45-4D8E-ACFF-505836FC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5BD-C627-46CA-87AB-1DCB1116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E7D-B27D-4DE8-AEA2-8651085C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F350-82E8-4655-A397-5F7CA1AB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DB42-6ACB-4EF6-9630-78DB6DF6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5122-E77A-40CC-BA65-BE43C3E1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7EAE-529E-4C40-83FC-DF465E82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BF0C-3517-43DA-A171-B2427AB8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9BE3-FCD7-4B02-8D3A-56518D5A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0323-EAF8-4680-924D-353D05D7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86D-6F01-4876-9686-867419E8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237E-25A2-4BF3-A14D-8F569157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1BA5-33BD-4B52-B585-2367FEE9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9E57-0C43-44B4-BB65-5088765E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DBD1-55DF-4FC7-96B8-A90C185D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7822-950C-40E5-A01B-5A323A56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8D5F0-98B8-46A7-95D7-069CEEE9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01212-15D9-4C2B-AEFE-9A66EF49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0A1B7-7D28-46C4-BF72-9EAB57B3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4A90A-B73A-4C21-A251-1224ADAB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5D88B-1613-4714-BCA8-64CD7A12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A2A-2148-4145-BCBE-EE1C320A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DA3E7-DE4B-41E6-930A-94590519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E27F2-9900-49CB-99AF-F0341A17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01E27-A9B7-4591-A0C9-6CF529D1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DB5C7-B12D-42F3-BCFA-70A1EF8C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12431-E974-4BA0-AAA7-B0644675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F97F3-3420-4183-9AE8-E5CFA70A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10F3E-E520-4FD6-BE7C-E747A94A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67419-100A-444B-A57F-7B9AF648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CF1C3-0170-489C-B20B-A42F603D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C6FD1-848E-4A77-BDE4-97434F24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37C-6038-412C-BF5E-00E2C507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AD449-052F-4AB0-A1A3-7BAAC2AD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59BEF-36C7-4FBE-9502-DBDD70D7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0063C-5A29-485D-90FA-3E0B1434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539EE-2047-48B6-B132-CE6CF6CD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5DB0A-0D4E-4448-B948-F4A14FCD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9256A-AD68-479A-9AA1-D94DD69E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84AF0-2F4E-4AC2-80F3-08165038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2AFF0-D1FD-4987-886F-3A1E5F91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0A292-22BF-4323-99CB-B9F87936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6C7D4-E48B-4D0A-892E-D0511468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97DD-B266-4A25-A1C5-48FF3FDE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B4D2B-EBBB-477C-8BEE-359C7174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22630-5619-428C-8C53-3274F9F3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AF618-3852-47C3-83CE-DEDB0567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62A0B-B231-42B7-8E87-F3F60297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DB472-4282-4919-B5F2-C80AD512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CC820-9055-4A23-8767-68AE6E52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84BBDC-E379-4B04-A95A-6A363927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C260D-AA36-4760-ADF4-CBCEDA81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2E3713-4D49-4477-95BD-55984DE7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D6356-FB0F-4C98-84B6-B79A8310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4D2-D7DE-47DF-8DF0-8A3EE42B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85D25-A0C7-45B6-BAA0-B8C85142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3D8957-37E3-414E-A0AE-18CF64E5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3E382-7850-4A4B-841F-C147E033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148B8-F5E5-4BB1-B0AA-77A2FAC3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93770-0A08-41D4-A82B-8AAC4C22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46734D-3392-40D3-9E36-40799093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BB40D5-C53E-4F36-99F2-92B36969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4A9FEF-E8AB-4D31-BD56-F456BD27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AA5CE5-875B-4644-A114-0F1F6931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54ED5-C732-476B-92B4-DDFBA237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3E5-4856-4608-85A5-AA00EC63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4EE59-4B54-42A4-8C37-B31A4279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1BAD33-9CF1-4273-AB63-F979A207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8D1BB6-8DA1-4F6C-9AB1-A063B9C5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CBEDE-9105-4B2E-BA7F-073ABD31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DB1F7-8330-47B8-AAA7-A538FAB4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3BFF76-B400-43BE-B432-E6603B73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85AF34-43FA-4FC7-B6CF-6B33A114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EC7E69-784E-42EC-A113-0D25D064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555BC6-BCB6-4C7B-963E-6FC415E6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47791-0D8E-4F41-A691-0574B28F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414-767F-4D0A-837B-E1CAC498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B20A8-AA1C-4CF2-9603-C0368668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BE7A5B-1580-4DAC-9CCD-2C3B4114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39B0A0-2C30-4CD8-8416-B8BDEF0D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73198-0E79-4321-878A-B9D521FF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A9716-9DA1-46B9-B936-CFEEB656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442-6FAB-478C-A748-E19AEDC8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D033-7CC2-4361-9CFD-92B71C9472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6F92-EB89-476E-8E32-E2E15838C8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7712-F0D2-4514-93A2-1275BDE0D4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C7BA-5FE2-4470-B1D1-F92FEBFFE5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499C-E35D-40F3-8835-607F6F3B55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48C9-9594-4C47-B71A-D04C78FF00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F493-C258-4E1D-9859-D301467724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916000" y="1341000"/>
            <a:ext cx="57560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КЛИНИЧЕСКАЯ СМЕР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71280" y="4437000"/>
            <a:ext cx="7561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готовила: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подаватель-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ОБЖ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рпова Т.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950760" y="549360"/>
            <a:ext cx="53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ОУ СОШ № 6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РОВСКОГО РАЙОНА  г.САНКТ 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ПМП ПРИ КЛИНИЧЕСКОЙ СМЕРТ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85840" y="1428840"/>
            <a:ext cx="40384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Искусственная вентиляция легких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ля этого необходимо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1.  положить больного на твердую ровную поверхность (лучше на пол)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.  выдвинуть вперед нижнюю челюсть. Для этого положить свою ладонь на лоб реанимируемого, запрокинуть голову, одновременно приподняв подбородок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.удалить съемные зубные протезы и другие инородные предметы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4.в случае отсутствия самостоятельного дыхания плотно зажмите нос больного и производите вдувания воздуха изо рта в рот с частотой 10–12 дыханий в минуту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4143240" y="1905120"/>
            <a:ext cx="4702320" cy="4190760"/>
          </a:xfrm>
          <a:prstGeom prst="rect">
            <a:avLst/>
          </a:prstGeom>
          <a:ln w="0">
            <a:noFill/>
          </a:ln>
        </p:spPr>
      </p:pic>
      <p:sp>
        <p:nvSpPr>
          <p:cNvPr id="401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78596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МП ПРИ КЛИНИЧЕСКОЙ СМЕР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1904760"/>
            <a:ext cx="4768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рытый массаж сердц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начать закрытый массаж сердца. Для этого одну руку положить выступом ладони на нижнюю треть грудины, а вторую выступом ладони на тыльную поверхность первой. При надавливании плечи должны находиться прямо над ладонями, руки в локтях не сгиба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Помните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дувать  воздух в момент сдавления грудной клетки нельз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1"/>
          <a:stretch/>
        </p:blipFill>
        <p:spPr>
          <a:xfrm>
            <a:off x="4357800" y="1905120"/>
            <a:ext cx="4487760" cy="4190760"/>
          </a:xfrm>
          <a:prstGeom prst="rect">
            <a:avLst/>
          </a:prstGeom>
          <a:ln w="0">
            <a:noFill/>
          </a:ln>
        </p:spPr>
      </p:pic>
      <p:sp>
        <p:nvSpPr>
          <p:cNvPr id="407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78596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ЗАПОМНИТЕ, ЧТО РЕАНИМАЦИЯ НЕ ПРОВОДИТСЯ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людям, находящимся в сознан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людям, находящимся в обмороке, когда есть признаки эффективной сердечной деятельности (пульс на сонных артериях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людям, находящимся в терминальной стадии неизлечимого заболевания (например, онкологического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если с момента остановки сердечной деятельности прошло более 30 минут или есть явные признаки биологической смерти – холодность кожных покровов, наличие трупных пятен и трупного окоченения, подсыхание роговицы глаз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178596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БУДЬТЕ  ЗДОРОВЫ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1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78596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СОДЕРЖ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 action="ppaction://hlinksldjump"/>
              </a:rPr>
              <a:t>Определение клинической смер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 action="ppaction://hlinksldjump"/>
              </a:rPr>
              <a:t>Признаки клинической смер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 action="ppaction://hlinksldjump"/>
              </a:rPr>
              <a:t>ПМП при клинической смер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Управляющая кнопка: назад 9">
            <a:hlinkClick r:id="" action="ppaction://hlinkshowjump?jump=previousslide"/>
          </p:cNvPr>
          <p:cNvSpPr/>
          <p:nvPr/>
        </p:nvSpPr>
        <p:spPr>
          <a:xfrm>
            <a:off x="171468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Управляющая кнопка: домой 10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611280" y="1268280"/>
          <a:ext cx="7586640" cy="4032360"/>
        </p:xfrm>
        <a:graphic>
          <a:graphicData uri="http://schemas.openxmlformats.org/drawingml/2006/table">
            <a:tbl>
              <a:tblPr/>
              <a:tblGrid>
                <a:gridCol w="216000"/>
                <a:gridCol w="7370640"/>
              </a:tblGrid>
              <a:tr h="403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0" y="-1214280"/>
          <a:ext cx="8408880" cy="5583240"/>
        </p:xfrm>
        <a:graphic>
          <a:graphicData uri="http://schemas.openxmlformats.org/drawingml/2006/table">
            <a:tbl>
              <a:tblPr/>
              <a:tblGrid>
                <a:gridCol w="8408880"/>
              </a:tblGrid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ническая смерт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i="1" lang="en-US" sz="2400" spc="-1" strike="noStrike" u="sng">
                          <a:solidFill>
                            <a:srgbClr val="fe8637"/>
                          </a:solidFill>
                          <a:uFillTx/>
                          <a:latin typeface="Arial"/>
                        </a:rPr>
                        <a:t>ОПРЕДЕЛЕНИЕ: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ническая смерть - это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воеобразное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ереходное состояние между жизнью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5500800" y="6357960"/>
            <a:ext cx="1071360" cy="285840"/>
          </a:xfrm>
          <a:custGeom>
            <a:avLst/>
            <a:gdLst>
              <a:gd name="textAreaLeft" fmla="*/ 18360 w 1071360"/>
              <a:gd name="textAreaRight" fmla="*/ 1053000 w 10713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885" h="21600">
                <a:moveTo>
                  <a:pt x="0" y="0"/>
                </a:moveTo>
                <a:lnTo>
                  <a:pt x="80885" y="0"/>
                </a:lnTo>
                <a:lnTo>
                  <a:pt x="80885" y="21600"/>
                </a:lnTo>
                <a:lnTo>
                  <a:pt x="0" y="21600"/>
                </a:lnTo>
                <a:close/>
              </a:path>
              <a:path fill="lightenLess" w="80885" h="21600">
                <a:moveTo>
                  <a:pt x="0" y="0"/>
                </a:moveTo>
                <a:lnTo>
                  <a:pt x="80885" y="0"/>
                </a:lnTo>
                <a:lnTo>
                  <a:pt x="79485" y="1400"/>
                </a:lnTo>
                <a:lnTo>
                  <a:pt x="1400" y="1400"/>
                </a:lnTo>
                <a:close/>
              </a:path>
              <a:path fill="darken" w="80885" h="21600">
                <a:moveTo>
                  <a:pt x="80885" y="0"/>
                </a:moveTo>
                <a:lnTo>
                  <a:pt x="80885" y="21600"/>
                </a:lnTo>
                <a:lnTo>
                  <a:pt x="79485" y="20200"/>
                </a:lnTo>
                <a:lnTo>
                  <a:pt x="79485" y="1400"/>
                </a:lnTo>
                <a:close/>
              </a:path>
              <a:path fill="darkenLess" w="80885" h="21600">
                <a:moveTo>
                  <a:pt x="80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85" y="20200"/>
                </a:lnTo>
                <a:close/>
              </a:path>
              <a:path fill="lighten" w="80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85" h="21600">
                <a:moveTo>
                  <a:pt x="33436" y="3794"/>
                </a:moveTo>
                <a:lnTo>
                  <a:pt x="47449" y="10800"/>
                </a:lnTo>
                <a:lnTo>
                  <a:pt x="33436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Управляющая кнопка: назад 18">
            <a:hlinkClick r:id="" action="ppaction://hlinkshowjump?jump=previousslide"/>
          </p:cNvPr>
          <p:cNvSpPr/>
          <p:nvPr/>
        </p:nvSpPr>
        <p:spPr>
          <a:xfrm>
            <a:off x="2000160" y="6357960"/>
            <a:ext cx="1357560" cy="285840"/>
          </a:xfrm>
          <a:custGeom>
            <a:avLst/>
            <a:gdLst>
              <a:gd name="textAreaLeft" fmla="*/ 18360 w 1357560"/>
              <a:gd name="textAreaRight" fmla="*/ 1339200 w 13575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85" h="21600">
                <a:moveTo>
                  <a:pt x="0" y="0"/>
                </a:moveTo>
                <a:lnTo>
                  <a:pt x="102485" y="0"/>
                </a:lnTo>
                <a:lnTo>
                  <a:pt x="102485" y="21600"/>
                </a:lnTo>
                <a:lnTo>
                  <a:pt x="0" y="21600"/>
                </a:lnTo>
                <a:close/>
              </a:path>
              <a:path fill="lightenLess" w="102485" h="21600">
                <a:moveTo>
                  <a:pt x="0" y="0"/>
                </a:moveTo>
                <a:lnTo>
                  <a:pt x="102485" y="0"/>
                </a:lnTo>
                <a:lnTo>
                  <a:pt x="101085" y="1400"/>
                </a:lnTo>
                <a:lnTo>
                  <a:pt x="1400" y="1400"/>
                </a:lnTo>
                <a:close/>
              </a:path>
              <a:path fill="darken" w="102485" h="21600">
                <a:moveTo>
                  <a:pt x="102485" y="0"/>
                </a:moveTo>
                <a:lnTo>
                  <a:pt x="102485" y="21600"/>
                </a:lnTo>
                <a:lnTo>
                  <a:pt x="101085" y="20200"/>
                </a:lnTo>
                <a:lnTo>
                  <a:pt x="101085" y="1400"/>
                </a:lnTo>
                <a:close/>
              </a:path>
              <a:path fill="darkenLess" w="102485" h="21600">
                <a:moveTo>
                  <a:pt x="102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85" y="20200"/>
                </a:lnTo>
                <a:close/>
              </a:path>
              <a:path fill="lighten" w="102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85" h="21600">
                <a:moveTo>
                  <a:pt x="44236" y="10800"/>
                </a:moveTo>
                <a:lnTo>
                  <a:pt x="58249" y="3794"/>
                </a:lnTo>
                <a:lnTo>
                  <a:pt x="582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Управляющая кнопка: домой 19">
            <a:hlinkClick r:id="" action="ppaction://hlinkshowjump?jump=firstslide"/>
          </p:cNvPr>
          <p:cNvSpPr/>
          <p:nvPr/>
        </p:nvSpPr>
        <p:spPr>
          <a:xfrm>
            <a:off x="385776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5"/>
          <p:cNvSpPr/>
          <p:nvPr/>
        </p:nvSpPr>
        <p:spPr>
          <a:xfrm>
            <a:off x="-336960" y="2359080"/>
            <a:ext cx="923364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Признаки клинической смер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.отсутствие пульса на сонной или бедренной артер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. отсутствие дых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3. потеря созн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4. широкие зрачки и отсутствие их реакции на свет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71468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РИЗНАККИ КЛИНИЧЕСКОЙ СМЕР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79280" y="1928520"/>
            <a:ext cx="4251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1.УБЕДИТЬСЯ  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ОТСУТСТВИИ ПУЛЬСА НА СОННОЙ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АРТЕР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6" descr=""/>
          <p:cNvPicPr/>
          <p:nvPr/>
        </p:nvPicPr>
        <p:blipFill>
          <a:blip r:embed="rId1"/>
          <a:stretch/>
        </p:blipFill>
        <p:spPr>
          <a:xfrm>
            <a:off x="4000680" y="1428840"/>
            <a:ext cx="4773600" cy="4190760"/>
          </a:xfrm>
          <a:prstGeom prst="rect">
            <a:avLst/>
          </a:prstGeom>
          <a:ln w="0">
            <a:noFill/>
          </a:ln>
        </p:spPr>
      </p:pic>
      <p:sp>
        <p:nvSpPr>
          <p:cNvPr id="371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171468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РИЗНАКИ КЛИНИЧЕСКОЙ СМЕР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8584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Отсутствие созн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Отсутствие самостоятельного дых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6" descr=""/>
          <p:cNvPicPr/>
          <p:nvPr/>
        </p:nvPicPr>
        <p:blipFill>
          <a:blip r:embed="rId1"/>
          <a:stretch/>
        </p:blipFill>
        <p:spPr>
          <a:xfrm>
            <a:off x="4599000" y="1955880"/>
            <a:ext cx="3989520" cy="4135320"/>
          </a:xfrm>
          <a:prstGeom prst="rect">
            <a:avLst/>
          </a:prstGeom>
          <a:ln w="0">
            <a:noFill/>
          </a:ln>
        </p:spPr>
      </p:pic>
      <p:sp>
        <p:nvSpPr>
          <p:cNvPr id="377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178596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РИЗНАКИ КЛИНИЧЕСКОЙ СМЕР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37720" y="1904760"/>
            <a:ext cx="3930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широкие зрачки и отсутствие их реакции на св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6" descr=""/>
          <p:cNvPicPr/>
          <p:nvPr/>
        </p:nvPicPr>
        <p:blipFill>
          <a:blip r:embed="rId1"/>
          <a:stretch/>
        </p:blipFill>
        <p:spPr>
          <a:xfrm>
            <a:off x="4915080" y="1905120"/>
            <a:ext cx="3930480" cy="4190760"/>
          </a:xfrm>
          <a:prstGeom prst="rect">
            <a:avLst/>
          </a:prstGeom>
          <a:ln w="0">
            <a:noFill/>
          </a:ln>
        </p:spPr>
      </p:pic>
      <p:sp>
        <p:nvSpPr>
          <p:cNvPr id="38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78596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МП ПРИ КЛИНИЧЕСКОЙ СМЕР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5880" y="1785960"/>
            <a:ext cx="393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сто пульсации сонной артер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пульс не определяется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 сознание отсутствует, необходимо нанести прекардиальный удар – однократный сильный удар кулаком по грудине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6" descr=""/>
          <p:cNvPicPr/>
          <p:nvPr/>
        </p:nvPicPr>
        <p:blipFill>
          <a:blip r:embed="rId1"/>
          <a:stretch/>
        </p:blipFill>
        <p:spPr>
          <a:xfrm>
            <a:off x="4915080" y="1905120"/>
            <a:ext cx="3930480" cy="4190760"/>
          </a:xfrm>
          <a:prstGeom prst="rect">
            <a:avLst/>
          </a:prstGeom>
          <a:ln w="0">
            <a:noFill/>
          </a:ln>
        </p:spPr>
      </p:pic>
      <p:sp>
        <p:nvSpPr>
          <p:cNvPr id="38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78596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МП ПРИ КЛИНИЧЕСКОЙ СМЕР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37720" y="1904760"/>
            <a:ext cx="3930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Если удар кулаком по грудине не дал эффекта и признаки клинической смерти сохраняются, начинайте сердечно‑ легочную реанимацию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Вызвать «скорую помощь». Для этого надо позвонить по телефону 03, четко назвать адрес и сказать, что у больного клиническая смерть и проводятся реанимационные мероприятия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entury Schoolbook"/>
                <a:ea typeface="Arial"/>
              </a:rPr>
              <a:t>     </a:t>
            </a:r>
            <a:r>
              <a:rPr b="0" lang="en-US" sz="1600" spc="-1" strike="noStrike">
                <a:solidFill>
                  <a:srgbClr val="ff0000"/>
                </a:solidFill>
                <a:latin typeface="Century Schoolbook"/>
                <a:ea typeface="Arial"/>
              </a:rPr>
              <a:t>Помните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В  подавляющем большинстве случаев без квалифицированной врачебной помощи вернуть больного к жизни не удастся, ваша задача состоит только в том, чтобы поддержать его жизнь до приезда «скорой помощи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714560" y="1785960"/>
            <a:ext cx="404028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78596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7:56:05Z</dcterms:created>
  <dc:creator>Татьяна</dc:creator>
  <dc:description/>
  <dc:language>en-US</dc:language>
  <cp:lastModifiedBy>sc608</cp:lastModifiedBy>
  <dcterms:modified xsi:type="dcterms:W3CDTF">2012-06-21T06:50:19Z</dcterms:modified>
  <cp:revision>14</cp:revision>
  <dc:subject/>
  <dc:title>КЛИНИЧЕСКАЯ СМЕРТЬ</dc:title>
</cp:coreProperties>
</file>