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20C-5CFD-4974-AFD3-45254858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B65-3C0C-4A81-8EC5-26A6782F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850-715D-4DED-9698-1EEC54AE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198-674C-48C2-8068-3B9B9C6C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68CA-5D44-4782-8950-0B5C9FA2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8597-4F4B-46E1-BBF6-4A9CDEC7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A7B4-05E7-4AB2-989A-2B0F3FB8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FD5C-C891-4A6F-A3A5-91E72C7F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09D2-26C6-4369-81A2-F6D126AF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70CB-ED54-4EA0-9AB4-DA2AA4F0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39D5-414D-498A-9E2C-DF8BA561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DD8-32C1-4487-A0D2-D2BE8A76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0882-6196-460B-9E19-1754021E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512F-D2DE-469C-B88B-768FA4A9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62B6-DF52-4541-9014-FBD32999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1191-AE47-433F-8E31-39C9EA2D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EBF3-C411-4CC6-B823-355D3311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4AD5A-36BE-4493-B8F8-7A7EA244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E025F-8A1E-4F05-BFB1-859135BA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6B8B6-1FC3-49FF-B01C-4B3EB7EF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579A1-FE06-4544-A5A3-9620B3B9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19521-377B-4295-BF95-0BFA6E44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FA0-E607-4F24-9A96-1CC1D179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142C2-CC22-4756-BF91-444DF3DF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81532-0A73-4FEE-B9D7-B5FB3588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70C48-1AC6-4C57-BB18-EBE9DBD2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5294B-4178-4411-A568-0FD6C2D1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D86E2-AFBD-4805-A837-0CF41FCD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0C19A-80E6-47A0-BE6C-89638995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146EC-36E3-4674-A906-CE9E5CF7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6DFD2-B778-48E9-B49A-282D364C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0D4AA-C0B8-46B6-A870-A7349AEA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9CE02-9077-4567-B756-E2C0B979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882-FC22-4F82-9449-2EDC6DC7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050E5-23DF-4C71-8D72-E34BCFD1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19D53-5831-4D5B-8542-0F98876F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49AC0-8E8C-4AC2-B15F-A332F200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625D8-8EFB-4FE9-87FC-630439B2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6B66E-94C9-472C-BE32-A0B0B367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CCAC8-D76E-4B75-94E0-38887BDB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98043-2E1D-42C2-8F73-375597EF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D416-594C-4890-B7B2-DA07EA27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2EC01-979C-4991-B41E-8775DB4E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07BA3-A825-4A97-A01F-C1046B72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D9B-EF6B-4AFE-B01F-28DDEECF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8FA4E2-3BB1-4D76-9A1E-E57F3B03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224E3-3A98-481E-893C-96A365C3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FF540-9225-419E-A525-A3B08303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CD8EF8-3256-455A-B539-D56556E7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5C40B6-C01C-459C-81E5-98BB9C91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F60DC-D3D9-4764-9D34-DA894C58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041F6-6E51-414C-8FB8-A6FCC59B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C219F-1E68-4B06-A0FD-224457F4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9CD536-9385-461D-AFBD-B053BB05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1FF87-5F20-458B-8B76-7F43E70A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0C0-6DE4-4C3C-A29A-BE8C3B0F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2E6FE-E59D-4D1F-9775-9F01C76D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8486B7-BEE9-42F4-A752-24BA8E98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021B8-AE45-4566-908B-2759604B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B85B4-92AB-4163-B96E-E3474344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7B572-1AD0-4B3D-BB00-893A4434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675CDD-768A-4991-87AA-FBED50A9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D85B6F-131C-4974-85B6-E0E1DE24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2AC1CC-5265-412F-B9F6-D7ADF9B9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D49B6-68DA-491A-B6A9-1EE1CE46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FEB3B-908F-43D2-A438-8BBACFD1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884-FCF2-4C5B-AE61-21493E85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C29D00-7ED3-452F-9DA9-BAFCC086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5CBB4-2B11-4ECD-9DB1-02634079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860662-C37E-400C-9A0D-13EDFF40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8E73F5-E2A4-4A27-A1D3-568F3A19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54D6B9-AD9C-48C6-87C9-2BDAC1B3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5F34CC-39D9-4FA8-BD69-017D1252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F96114-9C2D-47AC-848F-32A7CF4E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64F31E-D18B-4A01-947B-B77CABA4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4E924D-4653-407C-BA55-934916CF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FFF225-F84E-4D88-8576-F28186F1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944-7DF8-4AA6-8427-10C50AFB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E04AEC-2A93-4CE0-A335-40879502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FA83C7-323D-4425-9498-A091DDC4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3113D7-35D9-4224-80AB-E048FDDD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9BDD19-C0CE-4DE6-824F-22757873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1BA7A-5A90-489A-BB60-B1117B9B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DCD-3EEC-450B-97AA-46C023BE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5D09-3F51-413E-A72A-EBB8D9C512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97D8-DCEC-411A-A59B-8065CE1CF7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4618-2F56-4F40-A28D-DE04165238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C30A-9F02-4148-A3DA-BAE2031B31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697A-1282-4D30-96FF-48BE45D23D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3792-90B6-4AB6-95E8-6E72E383C7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56E8-88C0-4124-A0AF-2C901DB52A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916000" y="1341000"/>
            <a:ext cx="57560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КЛИНИЧЕСКАЯ СМЕР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71280" y="4437000"/>
            <a:ext cx="7561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готовила: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подаватель-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ОБЖ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рпова Т.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950760" y="549360"/>
            <a:ext cx="53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ОУ СОШ № 6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РОВСКОГО РАЙОНА  г.САНКТ 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ПМП ПРИ КЛИНИЧЕСКОЙ СМЕРТ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85840" y="1428840"/>
            <a:ext cx="40384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Искусственная вентиляция легких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ля этого необходимо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1.  положить больного на твердую ровную поверхность (лучше на пол)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2.  выдвинуть вперед нижнюю челюсть. Для этого положить свою ладонь на лоб реанимируемого, запрокинуть голову, одновременно приподняв подбородок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3.удалить съемные зубные протезы и другие инородные предметы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4.в случае отсутствия самостоятельного дыхания плотно зажмите нос больного и производите вдувания воздуха изо рта в рот с частотой 10–12 дыханий в минуту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6" descr=""/>
          <p:cNvPicPr/>
          <p:nvPr/>
        </p:nvPicPr>
        <p:blipFill>
          <a:blip r:embed="rId1"/>
          <a:stretch/>
        </p:blipFill>
        <p:spPr>
          <a:xfrm>
            <a:off x="4143240" y="1905120"/>
            <a:ext cx="4702320" cy="4190760"/>
          </a:xfrm>
          <a:prstGeom prst="rect">
            <a:avLst/>
          </a:prstGeom>
          <a:ln w="0">
            <a:noFill/>
          </a:ln>
        </p:spPr>
      </p:pic>
      <p:sp>
        <p:nvSpPr>
          <p:cNvPr id="401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78596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МП ПРИ КЛИНИЧЕСКОЙ СМЕР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1904760"/>
            <a:ext cx="4768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крытый массаж сердц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начать закрытый массаж сердца. Для этого одну руку положить выступом ладони на нижнюю треть грудины, а вторую выступом ладони на тыльную поверхность первой. При надавливании плечи должны находиться прямо над ладонями, руки в локтях не сгиба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fe8637"/>
                </a:solidFill>
                <a:latin typeface="Century Schoolbook"/>
              </a:rPr>
              <a:t>Помните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дувать  воздух в момент сдавления грудной клетки нельз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6" name="Picture 6" descr=""/>
          <p:cNvPicPr/>
          <p:nvPr/>
        </p:nvPicPr>
        <p:blipFill>
          <a:blip r:embed="rId1"/>
          <a:stretch/>
        </p:blipFill>
        <p:spPr>
          <a:xfrm>
            <a:off x="4357800" y="1905120"/>
            <a:ext cx="4487760" cy="4190760"/>
          </a:xfrm>
          <a:prstGeom prst="rect">
            <a:avLst/>
          </a:prstGeom>
          <a:ln w="0">
            <a:noFill/>
          </a:ln>
        </p:spPr>
      </p:pic>
      <p:sp>
        <p:nvSpPr>
          <p:cNvPr id="407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78596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ЗАПОМНИТЕ, ЧТО РЕАНИМАЦИЯ НЕ ПРОВОДИТСЯ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людям, находящимся в сознан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людям, находящимся в обмороке, когда есть признаки эффективной сердечной деятельности (пульс на сонных артериях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людям, находящимся в терминальной стадии неизлечимого заболевания (например, онкологического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если с момента остановки сердечной деятельности прошло более 30 минут или есть явные признаки биологической смерти – холодность кожных покровов, наличие трупных пятен и трупного окоченения, подсыхание роговицы глаз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178596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БУДЬТЕ  ЗДОРОВЫ!!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1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78596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СОДЕРЖ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 action="ppaction://hlinksldjump"/>
              </a:rPr>
              <a:t>Определение клинической смер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 action="ppaction://hlinksldjump"/>
              </a:rPr>
              <a:t>Признаки клинической смер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 action="ppaction://hlinksldjump"/>
              </a:rPr>
              <a:t>ПМП при клинической смер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Управляющая кнопка: назад 9">
            <a:hlinkClick r:id="" action="ppaction://hlinkshowjump?jump=previousslide"/>
          </p:cNvPr>
          <p:cNvSpPr/>
          <p:nvPr/>
        </p:nvSpPr>
        <p:spPr>
          <a:xfrm>
            <a:off x="171468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Управляющая кнопка: домой 10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611280" y="1268280"/>
          <a:ext cx="7586640" cy="4032360"/>
        </p:xfrm>
        <a:graphic>
          <a:graphicData uri="http://schemas.openxmlformats.org/drawingml/2006/table">
            <a:tbl>
              <a:tblPr/>
              <a:tblGrid>
                <a:gridCol w="216000"/>
                <a:gridCol w="7370640"/>
              </a:tblGrid>
              <a:tr h="403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0" y="-1214280"/>
          <a:ext cx="8408880" cy="5583240"/>
        </p:xfrm>
        <a:graphic>
          <a:graphicData uri="http://schemas.openxmlformats.org/drawingml/2006/table">
            <a:tbl>
              <a:tblPr/>
              <a:tblGrid>
                <a:gridCol w="8408880"/>
              </a:tblGrid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ническая смерт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i="1" lang="en-US" sz="2400" spc="-1" strike="noStrike" u="sng">
                          <a:solidFill>
                            <a:srgbClr val="fe8637"/>
                          </a:solidFill>
                          <a:uFillTx/>
                          <a:latin typeface="Arial"/>
                        </a:rPr>
                        <a:t>ОПРЕДЕЛЕНИЕ: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ническая смерть - это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воеобразное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ереходное состояние между жизнью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5500800" y="6357960"/>
            <a:ext cx="1071360" cy="285840"/>
          </a:xfrm>
          <a:custGeom>
            <a:avLst/>
            <a:gdLst>
              <a:gd name="textAreaLeft" fmla="*/ 18360 w 1071360"/>
              <a:gd name="textAreaRight" fmla="*/ 1053000 w 10713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885" h="21600">
                <a:moveTo>
                  <a:pt x="0" y="0"/>
                </a:moveTo>
                <a:lnTo>
                  <a:pt x="80885" y="0"/>
                </a:lnTo>
                <a:lnTo>
                  <a:pt x="80885" y="21600"/>
                </a:lnTo>
                <a:lnTo>
                  <a:pt x="0" y="21600"/>
                </a:lnTo>
                <a:close/>
              </a:path>
              <a:path fill="lightenLess" w="80885" h="21600">
                <a:moveTo>
                  <a:pt x="0" y="0"/>
                </a:moveTo>
                <a:lnTo>
                  <a:pt x="80885" y="0"/>
                </a:lnTo>
                <a:lnTo>
                  <a:pt x="79485" y="1400"/>
                </a:lnTo>
                <a:lnTo>
                  <a:pt x="1400" y="1400"/>
                </a:lnTo>
                <a:close/>
              </a:path>
              <a:path fill="darken" w="80885" h="21600">
                <a:moveTo>
                  <a:pt x="80885" y="0"/>
                </a:moveTo>
                <a:lnTo>
                  <a:pt x="80885" y="21600"/>
                </a:lnTo>
                <a:lnTo>
                  <a:pt x="79485" y="20200"/>
                </a:lnTo>
                <a:lnTo>
                  <a:pt x="79485" y="1400"/>
                </a:lnTo>
                <a:close/>
              </a:path>
              <a:path fill="darkenLess" w="80885" h="21600">
                <a:moveTo>
                  <a:pt x="80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85" y="20200"/>
                </a:lnTo>
                <a:close/>
              </a:path>
              <a:path fill="lighten" w="80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85" h="21600">
                <a:moveTo>
                  <a:pt x="33436" y="3794"/>
                </a:moveTo>
                <a:lnTo>
                  <a:pt x="47449" y="10800"/>
                </a:lnTo>
                <a:lnTo>
                  <a:pt x="33436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Управляющая кнопка: назад 18">
            <a:hlinkClick r:id="" action="ppaction://hlinkshowjump?jump=previousslide"/>
          </p:cNvPr>
          <p:cNvSpPr/>
          <p:nvPr/>
        </p:nvSpPr>
        <p:spPr>
          <a:xfrm>
            <a:off x="2000160" y="6357960"/>
            <a:ext cx="1357560" cy="285840"/>
          </a:xfrm>
          <a:custGeom>
            <a:avLst/>
            <a:gdLst>
              <a:gd name="textAreaLeft" fmla="*/ 18360 w 1357560"/>
              <a:gd name="textAreaRight" fmla="*/ 1339200 w 13575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85" h="21600">
                <a:moveTo>
                  <a:pt x="0" y="0"/>
                </a:moveTo>
                <a:lnTo>
                  <a:pt x="102485" y="0"/>
                </a:lnTo>
                <a:lnTo>
                  <a:pt x="102485" y="21600"/>
                </a:lnTo>
                <a:lnTo>
                  <a:pt x="0" y="21600"/>
                </a:lnTo>
                <a:close/>
              </a:path>
              <a:path fill="lightenLess" w="102485" h="21600">
                <a:moveTo>
                  <a:pt x="0" y="0"/>
                </a:moveTo>
                <a:lnTo>
                  <a:pt x="102485" y="0"/>
                </a:lnTo>
                <a:lnTo>
                  <a:pt x="101085" y="1400"/>
                </a:lnTo>
                <a:lnTo>
                  <a:pt x="1400" y="1400"/>
                </a:lnTo>
                <a:close/>
              </a:path>
              <a:path fill="darken" w="102485" h="21600">
                <a:moveTo>
                  <a:pt x="102485" y="0"/>
                </a:moveTo>
                <a:lnTo>
                  <a:pt x="102485" y="21600"/>
                </a:lnTo>
                <a:lnTo>
                  <a:pt x="101085" y="20200"/>
                </a:lnTo>
                <a:lnTo>
                  <a:pt x="101085" y="1400"/>
                </a:lnTo>
                <a:close/>
              </a:path>
              <a:path fill="darkenLess" w="102485" h="21600">
                <a:moveTo>
                  <a:pt x="102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85" y="20200"/>
                </a:lnTo>
                <a:close/>
              </a:path>
              <a:path fill="lighten" w="102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85" h="21600">
                <a:moveTo>
                  <a:pt x="44236" y="10800"/>
                </a:moveTo>
                <a:lnTo>
                  <a:pt x="58249" y="3794"/>
                </a:lnTo>
                <a:lnTo>
                  <a:pt x="582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Управляющая кнопка: домой 19">
            <a:hlinkClick r:id="" action="ppaction://hlinkshowjump?jump=firstslide"/>
          </p:cNvPr>
          <p:cNvSpPr/>
          <p:nvPr/>
        </p:nvSpPr>
        <p:spPr>
          <a:xfrm>
            <a:off x="385776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5"/>
          <p:cNvSpPr/>
          <p:nvPr/>
        </p:nvSpPr>
        <p:spPr>
          <a:xfrm>
            <a:off x="-336960" y="2359080"/>
            <a:ext cx="923364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Признаки клинической смер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.отсутствие пульса на сонной или бедренной артер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. отсутствие дых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3. потеря созн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4. широкие зрачки и отсутствие их реакции на свет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71468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РИЗНАККИ КЛИНИЧЕСКОЙ СМЕР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79280" y="1928520"/>
            <a:ext cx="4251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1.УБЕДИТЬСЯ  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ОТСУТСТВИИ ПУЛЬСА НА СОННОЙ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АРТЕР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Picture 6" descr=""/>
          <p:cNvPicPr/>
          <p:nvPr/>
        </p:nvPicPr>
        <p:blipFill>
          <a:blip r:embed="rId1"/>
          <a:stretch/>
        </p:blipFill>
        <p:spPr>
          <a:xfrm>
            <a:off x="4000680" y="1428840"/>
            <a:ext cx="4773600" cy="4190760"/>
          </a:xfrm>
          <a:prstGeom prst="rect">
            <a:avLst/>
          </a:prstGeom>
          <a:ln w="0">
            <a:noFill/>
          </a:ln>
        </p:spPr>
      </p:pic>
      <p:sp>
        <p:nvSpPr>
          <p:cNvPr id="371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171468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РИЗНАКИ КЛИНИЧЕСКОЙ СМЕР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8584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Отсутствие созн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Отсутствие самостоятельного дых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6" descr=""/>
          <p:cNvPicPr/>
          <p:nvPr/>
        </p:nvPicPr>
        <p:blipFill>
          <a:blip r:embed="rId1"/>
          <a:stretch/>
        </p:blipFill>
        <p:spPr>
          <a:xfrm>
            <a:off x="4599000" y="1955880"/>
            <a:ext cx="3989520" cy="4135320"/>
          </a:xfrm>
          <a:prstGeom prst="rect">
            <a:avLst/>
          </a:prstGeom>
          <a:ln w="0">
            <a:noFill/>
          </a:ln>
        </p:spPr>
      </p:pic>
      <p:sp>
        <p:nvSpPr>
          <p:cNvPr id="377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178596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Управляющая кнопка: домой 8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РИЗНАКИ КЛИНИЧЕСКОЙ СМЕР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37720" y="1904760"/>
            <a:ext cx="3930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широкие зрачки и отсутствие их реакции на св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6" descr=""/>
          <p:cNvPicPr/>
          <p:nvPr/>
        </p:nvPicPr>
        <p:blipFill>
          <a:blip r:embed="rId1"/>
          <a:stretch/>
        </p:blipFill>
        <p:spPr>
          <a:xfrm>
            <a:off x="4915080" y="1905120"/>
            <a:ext cx="3930480" cy="4190760"/>
          </a:xfrm>
          <a:prstGeom prst="rect">
            <a:avLst/>
          </a:prstGeom>
          <a:ln w="0">
            <a:noFill/>
          </a:ln>
        </p:spPr>
      </p:pic>
      <p:sp>
        <p:nvSpPr>
          <p:cNvPr id="38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78596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МП ПРИ КЛИНИЧЕСКОЙ СМЕР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5880" y="1785960"/>
            <a:ext cx="3930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сто пульсации сонной артери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пульс не определяется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 сознание отсутствует, необходимо нанести прекардиальный удар – однократный сильный удар кулаком по грудине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6" descr=""/>
          <p:cNvPicPr/>
          <p:nvPr/>
        </p:nvPicPr>
        <p:blipFill>
          <a:blip r:embed="rId1"/>
          <a:stretch/>
        </p:blipFill>
        <p:spPr>
          <a:xfrm>
            <a:off x="4915080" y="1905120"/>
            <a:ext cx="3930480" cy="4190760"/>
          </a:xfrm>
          <a:prstGeom prst="rect">
            <a:avLst/>
          </a:prstGeom>
          <a:ln w="0">
            <a:noFill/>
          </a:ln>
        </p:spPr>
      </p:pic>
      <p:sp>
        <p:nvSpPr>
          <p:cNvPr id="38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78596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ПМП ПРИ КЛИНИЧЕСКОЙ СМЕР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37720" y="1904760"/>
            <a:ext cx="3930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Если удар кулаком по грудине не дал эффекта и признаки клинической смерти сохраняются, начинайте сердечно‑ легочную реанимацию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Вызвать «скорую помощь». Для этого надо позвонить по телефону 03, четко назвать адрес и сказать, что у больного клиническая смерть и проводятся реанимационные мероприятия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entury Schoolbook"/>
                <a:ea typeface="Arial"/>
              </a:rPr>
              <a:t>     </a:t>
            </a:r>
            <a:r>
              <a:rPr b="0" lang="en-US" sz="1600" spc="-1" strike="noStrike">
                <a:solidFill>
                  <a:srgbClr val="ff0000"/>
                </a:solidFill>
                <a:latin typeface="Century Schoolbook"/>
                <a:ea typeface="Arial"/>
              </a:rPr>
              <a:t>Помните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Arial"/>
              </a:rPr>
              <a:t>В  подавляющем большинстве случаев без квалифицированной врачебной помощи вернуть больного к жизни не удастся, ваша задача состоит только в том, чтобы поддержать его жизнь до приезда «скорой помощи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714560" y="1785960"/>
            <a:ext cx="404028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5214960" y="6357960"/>
            <a:ext cx="1071720" cy="285840"/>
          </a:xfrm>
          <a:custGeom>
            <a:avLst/>
            <a:gdLst>
              <a:gd name="textAreaLeft" fmla="*/ 18360 w 1071720"/>
              <a:gd name="textAreaRight" fmla="*/ 1053360 w 1071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80912" h="21600">
                <a:moveTo>
                  <a:pt x="0" y="0"/>
                </a:moveTo>
                <a:lnTo>
                  <a:pt x="80912" y="0"/>
                </a:lnTo>
                <a:lnTo>
                  <a:pt x="80912" y="21600"/>
                </a:lnTo>
                <a:lnTo>
                  <a:pt x="0" y="21600"/>
                </a:lnTo>
                <a:close/>
              </a:path>
              <a:path fill="lightenLess" w="80912" h="21600">
                <a:moveTo>
                  <a:pt x="0" y="0"/>
                </a:moveTo>
                <a:lnTo>
                  <a:pt x="80912" y="0"/>
                </a:lnTo>
                <a:lnTo>
                  <a:pt x="79512" y="1400"/>
                </a:lnTo>
                <a:lnTo>
                  <a:pt x="1400" y="1400"/>
                </a:lnTo>
                <a:close/>
              </a:path>
              <a:path fill="darken" w="80912" h="21600">
                <a:moveTo>
                  <a:pt x="80912" y="0"/>
                </a:moveTo>
                <a:lnTo>
                  <a:pt x="80912" y="21600"/>
                </a:lnTo>
                <a:lnTo>
                  <a:pt x="79512" y="20200"/>
                </a:lnTo>
                <a:lnTo>
                  <a:pt x="79512" y="1400"/>
                </a:lnTo>
                <a:close/>
              </a:path>
              <a:path fill="darkenLess" w="80912" h="21600">
                <a:moveTo>
                  <a:pt x="80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12" y="20200"/>
                </a:lnTo>
                <a:close/>
              </a:path>
              <a:path fill="lighten" w="80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912" h="21600">
                <a:moveTo>
                  <a:pt x="33449" y="3794"/>
                </a:moveTo>
                <a:lnTo>
                  <a:pt x="47462" y="10800"/>
                </a:lnTo>
                <a:lnTo>
                  <a:pt x="33449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785960" y="6357960"/>
            <a:ext cx="1357200" cy="285840"/>
          </a:xfrm>
          <a:custGeom>
            <a:avLst/>
            <a:gdLst>
              <a:gd name="textAreaLeft" fmla="*/ 18360 w 1357200"/>
              <a:gd name="textAreaRight" fmla="*/ 1338840 w 13572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102457" h="21600">
                <a:moveTo>
                  <a:pt x="0" y="0"/>
                </a:moveTo>
                <a:lnTo>
                  <a:pt x="102457" y="0"/>
                </a:lnTo>
                <a:lnTo>
                  <a:pt x="102457" y="21600"/>
                </a:lnTo>
                <a:lnTo>
                  <a:pt x="0" y="21600"/>
                </a:lnTo>
                <a:close/>
              </a:path>
              <a:path fill="lightenLess" w="102457" h="21600">
                <a:moveTo>
                  <a:pt x="0" y="0"/>
                </a:moveTo>
                <a:lnTo>
                  <a:pt x="102457" y="0"/>
                </a:lnTo>
                <a:lnTo>
                  <a:pt x="101057" y="1400"/>
                </a:lnTo>
                <a:lnTo>
                  <a:pt x="1400" y="1400"/>
                </a:lnTo>
                <a:close/>
              </a:path>
              <a:path fill="darken" w="102457" h="21600">
                <a:moveTo>
                  <a:pt x="102457" y="0"/>
                </a:moveTo>
                <a:lnTo>
                  <a:pt x="102457" y="21600"/>
                </a:lnTo>
                <a:lnTo>
                  <a:pt x="101057" y="20200"/>
                </a:lnTo>
                <a:lnTo>
                  <a:pt x="101057" y="1400"/>
                </a:lnTo>
                <a:close/>
              </a:path>
              <a:path fill="darkenLess" w="102457" h="21600">
                <a:moveTo>
                  <a:pt x="102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057" y="20200"/>
                </a:lnTo>
                <a:close/>
              </a:path>
              <a:path fill="lighten" w="102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2457" h="21600">
                <a:moveTo>
                  <a:pt x="44222" y="10800"/>
                </a:moveTo>
                <a:lnTo>
                  <a:pt x="58235" y="3794"/>
                </a:lnTo>
                <a:lnTo>
                  <a:pt x="58235" y="17806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Управляющая кнопка: домой 6">
            <a:hlinkClick r:id="" action="ppaction://hlinkshowjump?jump=firstslide"/>
          </p:cNvPr>
          <p:cNvSpPr/>
          <p:nvPr/>
        </p:nvSpPr>
        <p:spPr>
          <a:xfrm>
            <a:off x="3571920" y="6215040"/>
            <a:ext cx="1071360" cy="428760"/>
          </a:xfrm>
          <a:custGeom>
            <a:avLst/>
            <a:gdLst>
              <a:gd name="textAreaLeft" fmla="*/ 27720 w 1071360"/>
              <a:gd name="textAreaRight" fmla="*/ 1043640 w 10713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53946" h="21600">
                <a:moveTo>
                  <a:pt x="0" y="0"/>
                </a:moveTo>
                <a:lnTo>
                  <a:pt x="53946" y="0"/>
                </a:lnTo>
                <a:lnTo>
                  <a:pt x="53946" y="21600"/>
                </a:lnTo>
                <a:lnTo>
                  <a:pt x="0" y="21600"/>
                </a:lnTo>
                <a:close/>
              </a:path>
              <a:path fill="lightenLess" w="53946" h="21600">
                <a:moveTo>
                  <a:pt x="0" y="0"/>
                </a:moveTo>
                <a:lnTo>
                  <a:pt x="53946" y="0"/>
                </a:lnTo>
                <a:lnTo>
                  <a:pt x="52546" y="1400"/>
                </a:lnTo>
                <a:lnTo>
                  <a:pt x="1400" y="1400"/>
                </a:lnTo>
                <a:close/>
              </a:path>
              <a:path fill="darken" w="53946" h="21600">
                <a:moveTo>
                  <a:pt x="53946" y="0"/>
                </a:moveTo>
                <a:lnTo>
                  <a:pt x="53946" y="21600"/>
                </a:lnTo>
                <a:lnTo>
                  <a:pt x="52546" y="20200"/>
                </a:lnTo>
                <a:lnTo>
                  <a:pt x="52546" y="1400"/>
                </a:lnTo>
                <a:close/>
              </a:path>
              <a:path fill="darkenLess" w="53946" h="21600">
                <a:moveTo>
                  <a:pt x="53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6" y="20200"/>
                </a:lnTo>
                <a:close/>
              </a:path>
              <a:path fill="lighten" w="53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6" h="21600">
                <a:moveTo>
                  <a:pt x="26973" y="3837"/>
                </a:moveTo>
                <a:lnTo>
                  <a:pt x="29549" y="6448"/>
                </a:ln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lnTo>
                  <a:pt x="33936" y="10800"/>
                </a:lnTo>
                <a:lnTo>
                  <a:pt x="32282" y="10800"/>
                </a:lnTo>
                <a:lnTo>
                  <a:pt x="32282" y="17989"/>
                </a:lnTo>
                <a:lnTo>
                  <a:pt x="21664" y="17989"/>
                </a:lnTo>
                <a:lnTo>
                  <a:pt x="21664" y="10800"/>
                </a:lnTo>
                <a:lnTo>
                  <a:pt x="20010" y="10800"/>
                </a:lnTo>
                <a:close/>
              </a:path>
              <a:path fill="darkenLess" w="53946" h="21600">
                <a:moveTo>
                  <a:pt x="29549" y="6448"/>
                </a:moveTo>
                <a:lnTo>
                  <a:pt x="29549" y="4707"/>
                </a:lnTo>
                <a:lnTo>
                  <a:pt x="31325" y="4707"/>
                </a:lnTo>
                <a:lnTo>
                  <a:pt x="31325" y="8224"/>
                </a:lnTo>
                <a:close/>
              </a:path>
              <a:path fill="darkenLess" w="53946" h="21600">
                <a:moveTo>
                  <a:pt x="26050" y="14299"/>
                </a:moveTo>
                <a:lnTo>
                  <a:pt x="27895" y="14299"/>
                </a:lnTo>
                <a:lnTo>
                  <a:pt x="27895" y="17989"/>
                </a:lnTo>
                <a:lnTo>
                  <a:pt x="32282" y="17989"/>
                </a:lnTo>
                <a:lnTo>
                  <a:pt x="32282" y="10800"/>
                </a:lnTo>
                <a:lnTo>
                  <a:pt x="21664" y="10800"/>
                </a:lnTo>
                <a:lnTo>
                  <a:pt x="21664" y="17989"/>
                </a:lnTo>
                <a:lnTo>
                  <a:pt x="26050" y="1798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7:56:05Z</dcterms:created>
  <dc:creator>Татьяна</dc:creator>
  <dc:description/>
  <dc:language>en-US</dc:language>
  <cp:lastModifiedBy>sc608</cp:lastModifiedBy>
  <dcterms:modified xsi:type="dcterms:W3CDTF">2012-06-21T06:50:19Z</dcterms:modified>
  <cp:revision>14</cp:revision>
  <dc:subject/>
  <dc:title>КЛИНИЧЕСКАЯ СМЕРТЬ</dc:title>
</cp:coreProperties>
</file>