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799763" cy="7199313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C48-B4EA-4992-850F-A47E2415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280" y="416484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F02-2B50-49EA-B2A1-4A4A1251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52096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601-EC7A-499E-9F63-C00C7ADF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2644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1360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28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2644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11360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1D1-3F3D-4A48-964D-B73BECB4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F63E-3DF1-4FC5-8D31-77E589E4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68E5-1053-4A6D-9F4A-7133FA32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1110-E6B3-4712-A2AD-EB1E44AB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1A9B-09B6-40B5-8A8A-0B0F365C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ACAB-4CAE-458D-B457-E0081CE2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280" y="291600"/>
            <a:ext cx="97218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ED9D-1C07-42DD-AAC9-36D1799C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3D4F-0D24-4A82-9FC6-18DA250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B3A-F00A-4227-9217-B40507CD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52096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BAF1-3160-42B3-8701-76370C8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A878-20AE-4389-BD51-E86434A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9280" y="416484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710B-D696-447D-AECA-14651D7F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52096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BEF0-665B-4559-98CA-94BF82CB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2644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928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82644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711360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0B7C-3FFB-416C-947F-E1DD7A6C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4C9-9DF8-44DD-B7AF-530510C9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613-AF37-4BC9-A3EB-660473E9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620-1C28-4B2C-8546-96FC73FD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9280" y="291600"/>
            <a:ext cx="97218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FFB-2027-44FC-A73C-C8094583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64D-7AD6-48E5-A5FB-71B4A81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52096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1C6-5EAE-4EE3-9171-18B6BAB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FA1-64B4-448B-8EE4-EFA92D76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10807560" cy="7194240"/>
            <a:chOff x="1440" y="0"/>
            <a:chExt cx="10807560" cy="7194240"/>
          </a:xfrm>
        </p:grpSpPr>
        <p:sp>
          <p:nvSpPr>
            <p:cNvPr id="1" name="Freeform 3"/>
            <p:cNvSpPr/>
            <p:nvPr/>
          </p:nvSpPr>
          <p:spPr>
            <a:xfrm>
              <a:off x="9460440" y="4377240"/>
              <a:ext cx="1348200" cy="2817000"/>
            </a:xfrm>
            <a:custGeom>
              <a:avLst/>
              <a:gdLst>
                <a:gd name="textAreaLeft" fmla="*/ 0 w 1348200"/>
                <a:gd name="textAreaRight" fmla="*/ 1348560 w 13482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0100160" y="6324120"/>
              <a:ext cx="708840" cy="870120"/>
            </a:xfrm>
            <a:custGeom>
              <a:avLst/>
              <a:gdLst>
                <a:gd name="textAreaLeft" fmla="*/ 0 w 708840"/>
                <a:gd name="textAreaRight" fmla="*/ 709200 w 708840"/>
                <a:gd name="textAreaTop" fmla="*/ 0 h 870120"/>
                <a:gd name="textAreaBottom" fmla="*/ 870120 h 8701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0651320" y="7024680"/>
              <a:ext cx="157680" cy="1695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539640" y="0"/>
              <a:ext cx="9560160" cy="7193880"/>
              <a:chOff x="539640" y="0"/>
              <a:chExt cx="9560160" cy="71938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5231520" y="0"/>
                <a:ext cx="134640" cy="71938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794560" y="0"/>
                <a:ext cx="326160" cy="71938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6296760" y="0"/>
                <a:ext cx="635760" cy="719388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95440" y="0"/>
                <a:ext cx="801000" cy="71938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402320" y="0"/>
                <a:ext cx="1046520" cy="719388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962840" y="0"/>
                <a:ext cx="1294560" cy="71938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8479080" y="0"/>
                <a:ext cx="1620720" cy="7193880"/>
              </a:xfrm>
              <a:custGeom>
                <a:avLst/>
                <a:gdLst>
                  <a:gd name="textAreaLeft" fmla="*/ 0 w 1620720"/>
                  <a:gd name="textAreaRight" fmla="*/ 1621080 w 16207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500000" y="0"/>
                <a:ext cx="281160" cy="719388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9280" y="0"/>
                <a:ext cx="564480" cy="719388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937240" y="0"/>
                <a:ext cx="797040" cy="7193880"/>
              </a:xfrm>
              <a:custGeom>
                <a:avLst/>
                <a:gdLst>
                  <a:gd name="textAreaLeft" fmla="*/ 0 w 797040"/>
                  <a:gd name="textAreaRight" fmla="*/ 797400 w 7970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2115360" y="0"/>
                <a:ext cx="1078560" cy="7193880"/>
              </a:xfrm>
              <a:custGeom>
                <a:avLst/>
                <a:gdLst>
                  <a:gd name="textAreaLeft" fmla="*/ 0 w 1078560"/>
                  <a:gd name="textAreaRight" fmla="*/ 1078920 w 10785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316160" y="0"/>
                <a:ext cx="1382400" cy="7193880"/>
              </a:xfrm>
              <a:custGeom>
                <a:avLst/>
                <a:gdLst>
                  <a:gd name="textAreaLeft" fmla="*/ 0 w 1382400"/>
                  <a:gd name="textAreaRight" fmla="*/ 1382760 w 13824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39640" y="0"/>
                <a:ext cx="1575720" cy="719388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10440" y="4835880"/>
              <a:ext cx="1136520" cy="235836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2358360"/>
                <a:gd name="textAreaBottom" fmla="*/ 2358720 h 2358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0440" y="6484320"/>
              <a:ext cx="427680" cy="70992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956080" y="0"/>
              <a:ext cx="1845000" cy="2977200"/>
            </a:xfrm>
            <a:custGeom>
              <a:avLst/>
              <a:gdLst>
                <a:gd name="textAreaLeft" fmla="*/ 0 w 1845000"/>
                <a:gd name="textAreaRight" fmla="*/ 1845360 w 1845000"/>
                <a:gd name="textAreaTop" fmla="*/ 0 h 2977200"/>
                <a:gd name="textAreaBottom" fmla="*/ 2977560 h 29772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9452880" y="0"/>
              <a:ext cx="1348200" cy="1408320"/>
            </a:xfrm>
            <a:custGeom>
              <a:avLst/>
              <a:gdLst>
                <a:gd name="textAreaLeft" fmla="*/ 0 w 1348200"/>
                <a:gd name="textAreaRight" fmla="*/ 1348560 w 134820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0036440" y="0"/>
              <a:ext cx="765000" cy="69012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0440" y="0"/>
              <a:ext cx="1609200" cy="2348640"/>
            </a:xfrm>
            <a:custGeom>
              <a:avLst/>
              <a:gdLst>
                <a:gd name="textAreaLeft" fmla="*/ 0 w 1609200"/>
                <a:gd name="textAreaRight" fmla="*/ 1609560 w 1609200"/>
                <a:gd name="textAreaTop" fmla="*/ 0 h 2348640"/>
                <a:gd name="textAreaBottom" fmla="*/ 2349000 h 23486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0440" y="0"/>
              <a:ext cx="1102680" cy="99828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0440" y="0"/>
              <a:ext cx="506160" cy="4197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582080"/>
              <a:ext cx="107982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927240"/>
              <a:ext cx="107982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5237280"/>
              <a:ext cx="107982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53400"/>
              <a:ext cx="10797840" cy="2617920"/>
              <a:chOff x="1440" y="653400"/>
              <a:chExt cx="10797840" cy="26179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306440"/>
                <a:ext cx="107978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271320"/>
                <a:ext cx="107978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615040"/>
                <a:ext cx="107978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961280"/>
                <a:ext cx="107978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53400"/>
                <a:ext cx="107978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547680"/>
              <a:ext cx="107982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892480"/>
              <a:ext cx="107982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539280" y="6556320"/>
            <a:ext cx="252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691080" y="6561000"/>
            <a:ext cx="34192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740720" y="6556320"/>
            <a:ext cx="252072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33D9-6001-4838-8F11-5B349854EC71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320760"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285920" indent="-257040">
              <a:spcBef>
                <a:spcPts val="9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3" marL="1800360" indent="-257400">
              <a:spcBef>
                <a:spcPts val="9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314440" indent="-257040">
              <a:spcBef>
                <a:spcPts val="90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5" marL="2314440" indent="-25704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6" marL="2314440" indent="-25704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10807200" cy="7194240"/>
            <a:chOff x="0" y="0"/>
            <a:chExt cx="10807200" cy="7194240"/>
          </a:xfrm>
        </p:grpSpPr>
        <p:sp>
          <p:nvSpPr>
            <p:cNvPr id="79" name="Freeform 3"/>
            <p:cNvSpPr/>
            <p:nvPr/>
          </p:nvSpPr>
          <p:spPr>
            <a:xfrm>
              <a:off x="9459000" y="4377240"/>
              <a:ext cx="1348200" cy="2817000"/>
            </a:xfrm>
            <a:custGeom>
              <a:avLst/>
              <a:gdLst>
                <a:gd name="textAreaLeft" fmla="*/ 0 w 1348200"/>
                <a:gd name="textAreaRight" fmla="*/ 1348560 w 13482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10098360" y="6324120"/>
              <a:ext cx="708840" cy="870120"/>
            </a:xfrm>
            <a:custGeom>
              <a:avLst/>
              <a:gdLst>
                <a:gd name="textAreaLeft" fmla="*/ 0 w 708840"/>
                <a:gd name="textAreaRight" fmla="*/ 709200 w 708840"/>
                <a:gd name="textAreaTop" fmla="*/ 0 h 870120"/>
                <a:gd name="textAreaBottom" fmla="*/ 870120 h 8701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10649520" y="7024680"/>
              <a:ext cx="157680" cy="1695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538200" y="0"/>
              <a:ext cx="9555840" cy="7193880"/>
              <a:chOff x="538200" y="0"/>
              <a:chExt cx="9555840" cy="719388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5227920" y="0"/>
                <a:ext cx="138600" cy="719388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790600" y="0"/>
                <a:ext cx="326160" cy="71938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6292800" y="0"/>
                <a:ext cx="635400" cy="7193880"/>
              </a:xfrm>
              <a:custGeom>
                <a:avLst/>
                <a:gdLst>
                  <a:gd name="textAreaLeft" fmla="*/ 0 w 635400"/>
                  <a:gd name="textAreaRight" fmla="*/ 635760 w 6354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891120" y="0"/>
                <a:ext cx="800640" cy="7193880"/>
              </a:xfrm>
              <a:custGeom>
                <a:avLst/>
                <a:gdLst>
                  <a:gd name="textAreaLeft" fmla="*/ 0 w 800640"/>
                  <a:gd name="textAreaRight" fmla="*/ 801000 w 800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7397640" y="0"/>
                <a:ext cx="1045800" cy="719388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958160" y="0"/>
                <a:ext cx="1297800" cy="7193880"/>
              </a:xfrm>
              <a:custGeom>
                <a:avLst/>
                <a:gdLst>
                  <a:gd name="textAreaLeft" fmla="*/ 0 w 1297800"/>
                  <a:gd name="textAreaRight" fmla="*/ 1298160 w 12978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8474040" y="0"/>
                <a:ext cx="1620000" cy="7193880"/>
              </a:xfrm>
              <a:custGeom>
                <a:avLst/>
                <a:gdLst>
                  <a:gd name="textAreaLeft" fmla="*/ 0 w 1620000"/>
                  <a:gd name="textAreaRight" fmla="*/ 1620360 w 1620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496760" y="0"/>
                <a:ext cx="280800" cy="71938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686400" y="0"/>
                <a:ext cx="564120" cy="7193880"/>
              </a:xfrm>
              <a:custGeom>
                <a:avLst/>
                <a:gdLst>
                  <a:gd name="textAreaLeft" fmla="*/ 0 w 564120"/>
                  <a:gd name="textAreaRight" fmla="*/ 564480 w 5641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934720" y="0"/>
                <a:ext cx="796680" cy="7193880"/>
              </a:xfrm>
              <a:custGeom>
                <a:avLst/>
                <a:gdLst>
                  <a:gd name="textAreaLeft" fmla="*/ 0 w 796680"/>
                  <a:gd name="textAreaRight" fmla="*/ 797040 w 7966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2113200" y="0"/>
                <a:ext cx="1080000" cy="7193880"/>
              </a:xfrm>
              <a:custGeom>
                <a:avLst/>
                <a:gdLst>
                  <a:gd name="textAreaLeft" fmla="*/ 0 w 1080000"/>
                  <a:gd name="textAreaRight" fmla="*/ 1080360 w 1080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314360" y="0"/>
                <a:ext cx="1382040" cy="71938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538200" y="0"/>
                <a:ext cx="1575000" cy="7193880"/>
              </a:xfrm>
              <a:custGeom>
                <a:avLst/>
                <a:gdLst>
                  <a:gd name="textAreaLeft" fmla="*/ 0 w 1575000"/>
                  <a:gd name="textAreaRight" fmla="*/ 1575360 w 1575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9000" y="4835880"/>
              <a:ext cx="1136520" cy="235836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2358360"/>
                <a:gd name="textAreaBottom" fmla="*/ 2358720 h 2358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9000" y="6484320"/>
              <a:ext cx="427680" cy="70992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954640" y="0"/>
              <a:ext cx="1845000" cy="2977200"/>
            </a:xfrm>
            <a:custGeom>
              <a:avLst/>
              <a:gdLst>
                <a:gd name="textAreaLeft" fmla="*/ 0 w 1845000"/>
                <a:gd name="textAreaRight" fmla="*/ 1845360 w 1845000"/>
                <a:gd name="textAreaTop" fmla="*/ 0 h 2977200"/>
                <a:gd name="textAreaBottom" fmla="*/ 2977560 h 29772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9451080" y="0"/>
              <a:ext cx="1348200" cy="1408320"/>
            </a:xfrm>
            <a:custGeom>
              <a:avLst/>
              <a:gdLst>
                <a:gd name="textAreaLeft" fmla="*/ 0 w 1348200"/>
                <a:gd name="textAreaRight" fmla="*/ 1348560 w 134820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10034640" y="0"/>
              <a:ext cx="765000" cy="69012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9000" y="0"/>
              <a:ext cx="1608840" cy="2348640"/>
            </a:xfrm>
            <a:custGeom>
              <a:avLst/>
              <a:gdLst>
                <a:gd name="textAreaLeft" fmla="*/ 0 w 1608840"/>
                <a:gd name="textAreaRight" fmla="*/ 1609200 w 1608840"/>
                <a:gd name="textAreaTop" fmla="*/ 0 h 2348640"/>
                <a:gd name="textAreaBottom" fmla="*/ 2349000 h 23486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9000" y="0"/>
              <a:ext cx="1102680" cy="99828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9000" y="0"/>
              <a:ext cx="506160" cy="4197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582080"/>
              <a:ext cx="1079784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927240"/>
              <a:ext cx="1079784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5237280"/>
              <a:ext cx="107978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53400"/>
              <a:ext cx="10797480" cy="2617920"/>
              <a:chOff x="0" y="653400"/>
              <a:chExt cx="10797480" cy="26179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306440"/>
                <a:ext cx="107974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271320"/>
                <a:ext cx="107974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615040"/>
                <a:ext cx="107974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961280"/>
                <a:ext cx="107974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53400"/>
                <a:ext cx="107974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547680"/>
              <a:ext cx="107978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892480"/>
              <a:ext cx="107978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320760"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285920" indent="-257040">
              <a:spcBef>
                <a:spcPts val="9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3" marL="1800360" indent="-257400">
              <a:spcBef>
                <a:spcPts val="9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314440" indent="-257040">
              <a:spcBef>
                <a:spcPts val="90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5" marL="2314440" indent="-25704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6" marL="2314440" indent="-25704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539280" y="6556320"/>
            <a:ext cx="252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691080" y="6561000"/>
            <a:ext cx="34192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740720" y="6556320"/>
            <a:ext cx="252072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ACCB-9DB7-4F5B-959A-71F8079CF09F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Олімпійські ігри зародилися у Стародавній Греції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2" descr="C:\Documents and Settings\Администратор\Рабочий стол\олімпіада\games22.jpg"/>
          <p:cNvPicPr/>
          <p:nvPr/>
        </p:nvPicPr>
        <p:blipFill>
          <a:blip r:embed="rId1"/>
          <a:stretch/>
        </p:blipFill>
        <p:spPr>
          <a:xfrm>
            <a:off x="328680" y="1600200"/>
            <a:ext cx="4551120" cy="3300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614520" y="531504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Макет храму Зевса в Олімпії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329080" y="2529000"/>
            <a:ext cx="4857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Олімпійські ігри зародились у стародавній Греції і регулярно проводилися понад тисячу років. Безпосередньо зародження Олімпійських ігор пов'язують із іменем грецького героя Геракл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Ігри у Стародавній Греції проводились один раз на чотири роки на честь бога Зевса. Всі змагання та конкурси проходили в давньогрецькому поселенні Олімпі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Стадіон в Олімпії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399960" y="1457280"/>
            <a:ext cx="5759640" cy="384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5757840" y="3314880"/>
            <a:ext cx="4810320" cy="36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14640" y="291600"/>
            <a:ext cx="5572080" cy="3808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Уважно розгляньте малюнки, подумайте і скажіть, з яких видів спорту проводились змагання в Стародавній Греції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3686040" y="4386240"/>
            <a:ext cx="3124440" cy="2362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7686720" y="60012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D:\История\HISTORY5 (E)\History\Img\000603.jpg"/>
          <p:cNvPicPr/>
          <p:nvPr/>
        </p:nvPicPr>
        <p:blipFill>
          <a:blip r:embed="rId4"/>
          <a:stretch/>
        </p:blipFill>
        <p:spPr>
          <a:xfrm>
            <a:off x="228600" y="3429000"/>
            <a:ext cx="2133720" cy="3238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5"/>
          <a:stretch/>
        </p:blipFill>
        <p:spPr>
          <a:xfrm>
            <a:off x="8115480" y="3600360"/>
            <a:ext cx="21333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7:19:54Z</dcterms:created>
  <dc:creator>саша</dc:creator>
  <dc:description/>
  <dc:language>en-US</dc:language>
  <cp:lastModifiedBy>Paradise</cp:lastModifiedBy>
  <dcterms:modified xsi:type="dcterms:W3CDTF">2012-06-25T15:21:31Z</dcterms:modified>
  <cp:revision>100</cp:revision>
  <dc:subject/>
  <dc:title>Презентация проекта  «География олимпийских игр»</dc:title>
</cp:coreProperties>
</file>