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799763" cy="7199313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60E1-D618-4F3A-AAD1-C03891C1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972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280" y="4164840"/>
            <a:ext cx="972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88F-73D4-4B67-99B5-C8683568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2096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280" y="416484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520960" y="416484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D5A-87B5-4784-A598-3F7993B0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26440" y="167940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113600" y="167940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9280" y="416484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26440" y="416484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7113600" y="416484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FEDD-0A9F-4ECF-867E-6892DC17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201E-B0F8-4040-8AA0-1903162B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679400"/>
            <a:ext cx="9721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46DB-2EE6-4AFA-816E-86DFE533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972180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37F3-66E1-45B5-AA72-EC151980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474408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520960" y="1679400"/>
            <a:ext cx="474408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E109-4488-42AF-9357-5E677712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B726-4095-4317-9706-B2BDAA39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280" y="291600"/>
            <a:ext cx="97218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5885-4AB2-4651-B1FE-E2F9063F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520960" y="1679400"/>
            <a:ext cx="474408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9280" y="416484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CEBD-1106-4EC7-BE51-0758F8BC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280" y="1679400"/>
            <a:ext cx="9721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FF8C-1CE4-4328-952C-E745D7AE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474408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52096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520960" y="416484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9E79-2C89-4842-8956-9F02B6DD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52096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9280" y="4164840"/>
            <a:ext cx="972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21E4-CC9B-4C9A-940C-8C108659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972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9280" y="4164840"/>
            <a:ext cx="972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BDCA-5A9B-4246-9CF4-03C9CF9F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52096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9280" y="416484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520960" y="416484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C3A0-A130-4478-A115-DD869036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826440" y="167940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113600" y="167940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39280" y="416484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826440" y="416484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7113600" y="4164840"/>
            <a:ext cx="31302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468F-A908-43A0-825D-3C316B90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972180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1BC6-D3C5-46AD-A605-0668A77E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474408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20960" y="1679400"/>
            <a:ext cx="474408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15D2-151D-4BD7-A22F-36B85242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AC3E-6F3B-4858-B2A7-C024B255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9280" y="291600"/>
            <a:ext cx="97218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A6E-3C0C-40DD-B81C-A2C9EE41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520960" y="1679400"/>
            <a:ext cx="474408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9280" y="416484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C45-E879-415F-8E50-E60038CF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474408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96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520960" y="416484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411-F4EA-4682-A800-BFDDA019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960" y="1679400"/>
            <a:ext cx="474408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280" y="4164840"/>
            <a:ext cx="9721800" cy="226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191-C7DE-4000-9A4D-5244C2DC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10807560" cy="7194240"/>
            <a:chOff x="1440" y="0"/>
            <a:chExt cx="10807560" cy="7194240"/>
          </a:xfrm>
        </p:grpSpPr>
        <p:sp>
          <p:nvSpPr>
            <p:cNvPr id="1" name="Freeform 3"/>
            <p:cNvSpPr/>
            <p:nvPr/>
          </p:nvSpPr>
          <p:spPr>
            <a:xfrm>
              <a:off x="9460440" y="4377240"/>
              <a:ext cx="1348200" cy="2817000"/>
            </a:xfrm>
            <a:custGeom>
              <a:avLst/>
              <a:gdLst>
                <a:gd name="textAreaLeft" fmla="*/ 0 w 1348200"/>
                <a:gd name="textAreaRight" fmla="*/ 1348560 w 1348200"/>
                <a:gd name="textAreaTop" fmla="*/ 0 h 2817000"/>
                <a:gd name="textAreaBottom" fmla="*/ 2817360 h 281700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0100160" y="6324120"/>
              <a:ext cx="708840" cy="870120"/>
            </a:xfrm>
            <a:custGeom>
              <a:avLst/>
              <a:gdLst>
                <a:gd name="textAreaLeft" fmla="*/ 0 w 708840"/>
                <a:gd name="textAreaRight" fmla="*/ 709200 w 708840"/>
                <a:gd name="textAreaTop" fmla="*/ 0 h 870120"/>
                <a:gd name="textAreaBottom" fmla="*/ 870120 h 8701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0651320" y="7024680"/>
              <a:ext cx="157680" cy="16956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539640" y="0"/>
              <a:ext cx="9560160" cy="7193880"/>
              <a:chOff x="539640" y="0"/>
              <a:chExt cx="9560160" cy="719388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5231520" y="0"/>
                <a:ext cx="134640" cy="719388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794560" y="0"/>
                <a:ext cx="326160" cy="71938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6296760" y="0"/>
                <a:ext cx="635760" cy="719388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895440" y="0"/>
                <a:ext cx="801000" cy="7193880"/>
              </a:xfrm>
              <a:custGeom>
                <a:avLst/>
                <a:gdLst>
                  <a:gd name="textAreaLeft" fmla="*/ 0 w 801000"/>
                  <a:gd name="textAreaRight" fmla="*/ 801360 w 8010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7402320" y="0"/>
                <a:ext cx="1046520" cy="719388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7962840" y="0"/>
                <a:ext cx="1294560" cy="71938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8479080" y="0"/>
                <a:ext cx="1620720" cy="7193880"/>
              </a:xfrm>
              <a:custGeom>
                <a:avLst/>
                <a:gdLst>
                  <a:gd name="textAreaLeft" fmla="*/ 0 w 1620720"/>
                  <a:gd name="textAreaRight" fmla="*/ 1621080 w 162072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500000" y="0"/>
                <a:ext cx="281160" cy="7193880"/>
              </a:xfrm>
              <a:custGeom>
                <a:avLst/>
                <a:gdLst>
                  <a:gd name="textAreaLeft" fmla="*/ 0 w 281160"/>
                  <a:gd name="textAreaRight" fmla="*/ 281520 w 28116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689280" y="0"/>
                <a:ext cx="564480" cy="7193880"/>
              </a:xfrm>
              <a:custGeom>
                <a:avLst/>
                <a:gdLst>
                  <a:gd name="textAreaLeft" fmla="*/ 0 w 564480"/>
                  <a:gd name="textAreaRight" fmla="*/ 564840 w 56448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937240" y="0"/>
                <a:ext cx="797040" cy="7193880"/>
              </a:xfrm>
              <a:custGeom>
                <a:avLst/>
                <a:gdLst>
                  <a:gd name="textAreaLeft" fmla="*/ 0 w 797040"/>
                  <a:gd name="textAreaRight" fmla="*/ 797400 w 7970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2115360" y="0"/>
                <a:ext cx="1078560" cy="7193880"/>
              </a:xfrm>
              <a:custGeom>
                <a:avLst/>
                <a:gdLst>
                  <a:gd name="textAreaLeft" fmla="*/ 0 w 1078560"/>
                  <a:gd name="textAreaRight" fmla="*/ 1078920 w 107856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316160" y="0"/>
                <a:ext cx="1382400" cy="7193880"/>
              </a:xfrm>
              <a:custGeom>
                <a:avLst/>
                <a:gdLst>
                  <a:gd name="textAreaLeft" fmla="*/ 0 w 1382400"/>
                  <a:gd name="textAreaRight" fmla="*/ 1382760 w 13824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539640" y="0"/>
                <a:ext cx="1575720" cy="7193880"/>
              </a:xfrm>
              <a:custGeom>
                <a:avLst/>
                <a:gdLst>
                  <a:gd name="textAreaLeft" fmla="*/ 0 w 1575720"/>
                  <a:gd name="textAreaRight" fmla="*/ 1576080 w 157572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10440" y="4835880"/>
              <a:ext cx="1136520" cy="235836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2358360"/>
                <a:gd name="textAreaBottom" fmla="*/ 2358720 h 235836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0440" y="6484320"/>
              <a:ext cx="427680" cy="70992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956080" y="0"/>
              <a:ext cx="1845000" cy="2977200"/>
            </a:xfrm>
            <a:custGeom>
              <a:avLst/>
              <a:gdLst>
                <a:gd name="textAreaLeft" fmla="*/ 0 w 1845000"/>
                <a:gd name="textAreaRight" fmla="*/ 1845360 w 1845000"/>
                <a:gd name="textAreaTop" fmla="*/ 0 h 2977200"/>
                <a:gd name="textAreaBottom" fmla="*/ 2977560 h 297720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9452880" y="0"/>
              <a:ext cx="1348200" cy="1408320"/>
            </a:xfrm>
            <a:custGeom>
              <a:avLst/>
              <a:gdLst>
                <a:gd name="textAreaLeft" fmla="*/ 0 w 1348200"/>
                <a:gd name="textAreaRight" fmla="*/ 1348560 w 134820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0036440" y="0"/>
              <a:ext cx="765000" cy="69012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0440" y="0"/>
              <a:ext cx="1609200" cy="2348640"/>
            </a:xfrm>
            <a:custGeom>
              <a:avLst/>
              <a:gdLst>
                <a:gd name="textAreaLeft" fmla="*/ 0 w 1609200"/>
                <a:gd name="textAreaRight" fmla="*/ 1609560 w 1609200"/>
                <a:gd name="textAreaTop" fmla="*/ 0 h 2348640"/>
                <a:gd name="textAreaBottom" fmla="*/ 2349000 h 234864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10440" y="0"/>
              <a:ext cx="1102680" cy="99828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10440" y="0"/>
              <a:ext cx="506160" cy="41976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582080"/>
              <a:ext cx="1079820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927240"/>
              <a:ext cx="1079820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5237280"/>
              <a:ext cx="107982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53400"/>
              <a:ext cx="10797840" cy="2617920"/>
              <a:chOff x="1440" y="653400"/>
              <a:chExt cx="10797840" cy="26179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306440"/>
                <a:ext cx="107978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271320"/>
                <a:ext cx="107978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615040"/>
                <a:ext cx="107978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961280"/>
                <a:ext cx="107978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53400"/>
                <a:ext cx="1079784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547680"/>
              <a:ext cx="107982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892480"/>
              <a:ext cx="1079820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539280" y="6556320"/>
            <a:ext cx="252108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691080" y="6561000"/>
            <a:ext cx="341928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7740720" y="6556320"/>
            <a:ext cx="252072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F7A9-67D8-4607-B680-4E24D9E03307}" type="slidenum">
              <a:rPr b="0" lang="ru-RU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539280" y="1679400"/>
            <a:ext cx="972180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320760"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1285920" indent="-257040">
              <a:spcBef>
                <a:spcPts val="9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3" marL="1800360" indent="-257400">
              <a:spcBef>
                <a:spcPts val="901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314440" indent="-257040">
              <a:spcBef>
                <a:spcPts val="901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5" marL="2314440" indent="-25704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6" marL="2314440" indent="-25704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10807200" cy="7194240"/>
            <a:chOff x="0" y="0"/>
            <a:chExt cx="10807200" cy="7194240"/>
          </a:xfrm>
        </p:grpSpPr>
        <p:sp>
          <p:nvSpPr>
            <p:cNvPr id="79" name="Freeform 3"/>
            <p:cNvSpPr/>
            <p:nvPr/>
          </p:nvSpPr>
          <p:spPr>
            <a:xfrm>
              <a:off x="9459000" y="4377240"/>
              <a:ext cx="1348200" cy="2817000"/>
            </a:xfrm>
            <a:custGeom>
              <a:avLst/>
              <a:gdLst>
                <a:gd name="textAreaLeft" fmla="*/ 0 w 1348200"/>
                <a:gd name="textAreaRight" fmla="*/ 1348560 w 1348200"/>
                <a:gd name="textAreaTop" fmla="*/ 0 h 2817000"/>
                <a:gd name="textAreaBottom" fmla="*/ 2817360 h 281700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10098360" y="6324120"/>
              <a:ext cx="708840" cy="870120"/>
            </a:xfrm>
            <a:custGeom>
              <a:avLst/>
              <a:gdLst>
                <a:gd name="textAreaLeft" fmla="*/ 0 w 708840"/>
                <a:gd name="textAreaRight" fmla="*/ 709200 w 708840"/>
                <a:gd name="textAreaTop" fmla="*/ 0 h 870120"/>
                <a:gd name="textAreaBottom" fmla="*/ 870120 h 8701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10649520" y="7024680"/>
              <a:ext cx="157680" cy="16956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538200" y="0"/>
              <a:ext cx="9555840" cy="7193880"/>
              <a:chOff x="538200" y="0"/>
              <a:chExt cx="9555840" cy="719388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5227920" y="0"/>
                <a:ext cx="138600" cy="719388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5790600" y="0"/>
                <a:ext cx="326160" cy="719388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6292800" y="0"/>
                <a:ext cx="635400" cy="7193880"/>
              </a:xfrm>
              <a:custGeom>
                <a:avLst/>
                <a:gdLst>
                  <a:gd name="textAreaLeft" fmla="*/ 0 w 635400"/>
                  <a:gd name="textAreaRight" fmla="*/ 635760 w 6354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6891120" y="0"/>
                <a:ext cx="800640" cy="7193880"/>
              </a:xfrm>
              <a:custGeom>
                <a:avLst/>
                <a:gdLst>
                  <a:gd name="textAreaLeft" fmla="*/ 0 w 800640"/>
                  <a:gd name="textAreaRight" fmla="*/ 801000 w 80064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7397640" y="0"/>
                <a:ext cx="1045800" cy="719388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7958160" y="0"/>
                <a:ext cx="1297800" cy="7193880"/>
              </a:xfrm>
              <a:custGeom>
                <a:avLst/>
                <a:gdLst>
                  <a:gd name="textAreaLeft" fmla="*/ 0 w 1297800"/>
                  <a:gd name="textAreaRight" fmla="*/ 1298160 w 12978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8474040" y="0"/>
                <a:ext cx="1620000" cy="7193880"/>
              </a:xfrm>
              <a:custGeom>
                <a:avLst/>
                <a:gdLst>
                  <a:gd name="textAreaLeft" fmla="*/ 0 w 1620000"/>
                  <a:gd name="textAreaRight" fmla="*/ 1620360 w 16200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4496760" y="0"/>
                <a:ext cx="280800" cy="719388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686400" y="0"/>
                <a:ext cx="564120" cy="7193880"/>
              </a:xfrm>
              <a:custGeom>
                <a:avLst/>
                <a:gdLst>
                  <a:gd name="textAreaLeft" fmla="*/ 0 w 564120"/>
                  <a:gd name="textAreaRight" fmla="*/ 564480 w 56412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934720" y="0"/>
                <a:ext cx="796680" cy="7193880"/>
              </a:xfrm>
              <a:custGeom>
                <a:avLst/>
                <a:gdLst>
                  <a:gd name="textAreaLeft" fmla="*/ 0 w 796680"/>
                  <a:gd name="textAreaRight" fmla="*/ 797040 w 79668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2113200" y="0"/>
                <a:ext cx="1080000" cy="7193880"/>
              </a:xfrm>
              <a:custGeom>
                <a:avLst/>
                <a:gdLst>
                  <a:gd name="textAreaLeft" fmla="*/ 0 w 1080000"/>
                  <a:gd name="textAreaRight" fmla="*/ 1080360 w 10800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314360" y="0"/>
                <a:ext cx="1382040" cy="71938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538200" y="0"/>
                <a:ext cx="1575000" cy="7193880"/>
              </a:xfrm>
              <a:custGeom>
                <a:avLst/>
                <a:gdLst>
                  <a:gd name="textAreaLeft" fmla="*/ 0 w 1575000"/>
                  <a:gd name="textAreaRight" fmla="*/ 1575360 w 1575000"/>
                  <a:gd name="textAreaTop" fmla="*/ 0 h 7193880"/>
                  <a:gd name="textAreaBottom" fmla="*/ 7193880 h 719388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9000" y="4835880"/>
              <a:ext cx="1136520" cy="235836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2358360"/>
                <a:gd name="textAreaBottom" fmla="*/ 2358720 h 235836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9000" y="6484320"/>
              <a:ext cx="427680" cy="70992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709920"/>
                <a:gd name="textAreaBottom" fmla="*/ 710280 h 70992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8954640" y="0"/>
              <a:ext cx="1845000" cy="2977200"/>
            </a:xfrm>
            <a:custGeom>
              <a:avLst/>
              <a:gdLst>
                <a:gd name="textAreaLeft" fmla="*/ 0 w 1845000"/>
                <a:gd name="textAreaRight" fmla="*/ 1845360 w 1845000"/>
                <a:gd name="textAreaTop" fmla="*/ 0 h 2977200"/>
                <a:gd name="textAreaBottom" fmla="*/ 2977560 h 297720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9451080" y="0"/>
              <a:ext cx="1348200" cy="1408320"/>
            </a:xfrm>
            <a:custGeom>
              <a:avLst/>
              <a:gdLst>
                <a:gd name="textAreaLeft" fmla="*/ 0 w 1348200"/>
                <a:gd name="textAreaRight" fmla="*/ 1348560 w 134820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10034640" y="0"/>
              <a:ext cx="765000" cy="690120"/>
            </a:xfrm>
            <a:custGeom>
              <a:avLst/>
              <a:gdLst>
                <a:gd name="textAreaLeft" fmla="*/ 0 w 765000"/>
                <a:gd name="textAreaRight" fmla="*/ 765360 w 76500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9000" y="0"/>
              <a:ext cx="1608840" cy="2348640"/>
            </a:xfrm>
            <a:custGeom>
              <a:avLst/>
              <a:gdLst>
                <a:gd name="textAreaLeft" fmla="*/ 0 w 1608840"/>
                <a:gd name="textAreaRight" fmla="*/ 1609200 w 1608840"/>
                <a:gd name="textAreaTop" fmla="*/ 0 h 2348640"/>
                <a:gd name="textAreaBottom" fmla="*/ 2349000 h 234864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9000" y="0"/>
              <a:ext cx="1102680" cy="99828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9000" y="0"/>
              <a:ext cx="506160" cy="41976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582080"/>
              <a:ext cx="1079784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927240"/>
              <a:ext cx="1079784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5237280"/>
              <a:ext cx="1079784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53400"/>
              <a:ext cx="10797480" cy="2617920"/>
              <a:chOff x="0" y="653400"/>
              <a:chExt cx="10797480" cy="26179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306440"/>
                <a:ext cx="107974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271320"/>
                <a:ext cx="107974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615040"/>
                <a:ext cx="107974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961280"/>
                <a:ext cx="107974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53400"/>
                <a:ext cx="1079748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547680"/>
              <a:ext cx="1079784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892480"/>
              <a:ext cx="1079784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539280" y="1679400"/>
            <a:ext cx="9721800" cy="4757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320760"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2" marL="1285920" indent="-257040">
              <a:spcBef>
                <a:spcPts val="9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3" marL="1800360" indent="-257400">
              <a:spcBef>
                <a:spcPts val="901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4" marL="2314440" indent="-257040">
              <a:spcBef>
                <a:spcPts val="901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5" marL="2314440" indent="-25704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6" marL="2314440" indent="-257040">
              <a:spcBef>
                <a:spcPts val="9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539280" y="6556320"/>
            <a:ext cx="252108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691080" y="6561000"/>
            <a:ext cx="341928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7740720" y="6556320"/>
            <a:ext cx="2520720" cy="4795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8586-8BFB-46B1-9F99-AFEDCAABA9F2}" type="slidenum">
              <a:rPr b="0" lang="ru-RU" sz="11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Олімпійські ігри зародилися у Стародавній Греції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Picture 2" descr="C:\Documents and Settings\Администратор\Рабочий стол\олімпіада\games22.jpg"/>
          <p:cNvPicPr/>
          <p:nvPr/>
        </p:nvPicPr>
        <p:blipFill>
          <a:blip r:embed="rId1"/>
          <a:stretch/>
        </p:blipFill>
        <p:spPr>
          <a:xfrm>
            <a:off x="328680" y="1600200"/>
            <a:ext cx="4551120" cy="33004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6"/>
          <p:cNvSpPr/>
          <p:nvPr/>
        </p:nvSpPr>
        <p:spPr>
          <a:xfrm>
            <a:off x="614520" y="531504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Макет храму Зевса в Олімпії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5329080" y="2529000"/>
            <a:ext cx="4857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Олімпійські ігри зародились у стародавній Греції і регулярно проводилися понад тисячу років. Безпосередньо зародження Олімпійських ігор пов'язують із іменем грецького героя Геракл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Ігри у Стародавній Греції проводились один раз на чотири роки на честь бога Зевса. Всі змагання та конкурси проходили в давньогрецькому поселенні Олімпі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9721800" cy="1197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Arial"/>
              </a:rPr>
              <a:t>Стадіон в Олімпії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399960" y="1457280"/>
            <a:ext cx="5759640" cy="3843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2"/>
          <a:stretch/>
        </p:blipFill>
        <p:spPr>
          <a:xfrm>
            <a:off x="5757840" y="3314880"/>
            <a:ext cx="4810320" cy="36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14640" y="291600"/>
            <a:ext cx="5572080" cy="3808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 anchorCtr="1">
            <a:noAutofit/>
          </a:bodyPr>
          <a:p>
            <a:pPr indent="0" algn="ctr">
              <a:buNone/>
              <a:tabLst>
                <a:tab algn="l" pos="0"/>
                <a:tab algn="l" pos="376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Уважно розгляньте малюнки, подумайте і скажіть, з яких видів спорту проводились змагання в Стародавній Греції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1676160" cy="2438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2"/>
          <a:stretch/>
        </p:blipFill>
        <p:spPr>
          <a:xfrm>
            <a:off x="3686040" y="4386240"/>
            <a:ext cx="3124440" cy="2362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7686720" y="60012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D:\История\HISTORY5 (E)\History\Img\000603.jpg"/>
          <p:cNvPicPr/>
          <p:nvPr/>
        </p:nvPicPr>
        <p:blipFill>
          <a:blip r:embed="rId4"/>
          <a:stretch/>
        </p:blipFill>
        <p:spPr>
          <a:xfrm>
            <a:off x="228600" y="3429000"/>
            <a:ext cx="2133720" cy="3238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5"/>
          <a:stretch/>
        </p:blipFill>
        <p:spPr>
          <a:xfrm>
            <a:off x="8115480" y="3600360"/>
            <a:ext cx="213336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7:19:54Z</dcterms:created>
  <dc:creator>саша</dc:creator>
  <dc:description/>
  <dc:language>en-US</dc:language>
  <cp:lastModifiedBy>Paradise</cp:lastModifiedBy>
  <dcterms:modified xsi:type="dcterms:W3CDTF">2012-06-25T15:21:31Z</dcterms:modified>
  <cp:revision>100</cp:revision>
  <dc:subject/>
  <dc:title>Презентация проекта  «География олимпийских игр»</dc:title>
</cp:coreProperties>
</file>