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4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  <p:custShowLst>
    <p:custShow name="Произвольный показ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9C71-439C-4880-AAC6-5BB69BE2EE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A6C7-5FD6-4259-A9CD-EADDCCE3A7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E150-7069-4161-A750-A71B8A569B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4A6A-7CB1-4F98-A9F8-CAFBA23DFC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2967-E500-49B7-9E2A-8AFAB38BF5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C928-79DB-4C5E-A732-59370EAA70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9090-39CA-4C1F-8271-BBA0A8F692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17F9-F695-4F7F-BA5D-514E1FC4FD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2A16-1E32-4F40-8D37-5BA2817986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B65B-FE4A-410F-BD43-9B579F4904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94B8-7A09-4378-AB66-8CC408CDF5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9B32-9388-4FE6-9C84-AD20DEDF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C991-A1B7-4B92-969A-51581887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55D-C5AE-4410-9100-A5C8A7E7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461-67FB-45AA-91BA-462D2D08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9C72-DAF6-49E6-AC4F-3A5F223A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5C9-6E16-4677-B127-C8A8F4E6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F34-CE83-4B79-9243-63D509D4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D204-0296-42EC-9312-26EC4129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240-3C6D-486E-B6C7-BB6AFF32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B0B5-2C93-4E45-9531-D4E26906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EC2-A902-41EB-A6D3-82BCDC5F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63CE-0A4F-4348-B06D-0E232D4F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8299-77DF-4E27-8899-C562D335F5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Wie komme ich zum …, zur …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u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heat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ur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Wie komme ich zum …, zur …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u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Gebäud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ur</a:t>
            </a: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>
            <a:hlinkClick r:id="rId1" action="ppaction://hlinksldjump"/>
          </p:cNvPr>
          <p:cNvSpPr/>
          <p:nvPr/>
        </p:nvSpPr>
        <p:spPr>
          <a:xfrm>
            <a:off x="8172360" y="6021360"/>
            <a:ext cx="50328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3290040" y="2063880"/>
            <a:ext cx="45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ush Script MT"/>
              </a:rPr>
              <a:t>Ausgezeichnet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User\Рабочий стол\Соглашающиеся смайлики, смайлики да, кивающие смайлики   Smayli.ru_files\da-54.gif"/>
          <p:cNvPicPr/>
          <p:nvPr/>
        </p:nvPicPr>
        <p:blipFill>
          <a:blip r:embed="rId2"/>
          <a:stretch/>
        </p:blipFill>
        <p:spPr>
          <a:xfrm>
            <a:off x="755640" y="404640"/>
            <a:ext cx="1881360" cy="1881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>
            <a:hlinkClick r:id="rId1" action="ppaction://hlinksldjump"/>
          </p:cNvPr>
          <p:cNvSpPr/>
          <p:nvPr/>
        </p:nvSpPr>
        <p:spPr>
          <a:xfrm>
            <a:off x="8028000" y="5867280"/>
            <a:ext cx="56196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-700560" y="3262320"/>
            <a:ext cx="1047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Leider falsch. Versuche es noch einm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Documents and Settings\User\Рабочий стол\Несогласные смайлики, Смайлики отрицания, Смайлики нет не согласен   Smayli.ru_files\net-89.gif"/>
          <p:cNvPicPr/>
          <p:nvPr/>
        </p:nvPicPr>
        <p:blipFill>
          <a:blip r:embed="rId2"/>
          <a:stretch/>
        </p:blipFill>
        <p:spPr>
          <a:xfrm>
            <a:off x="5372280" y="620640"/>
            <a:ext cx="187308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Wie komme ich zum …, zur …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u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tadtmau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ur</a:t>
            </a: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>
            <a:hlinkClick r:id="rId1" action="ppaction://hlinksldjump"/>
          </p:cNvPr>
          <p:cNvSpPr/>
          <p:nvPr/>
        </p:nvSpPr>
        <p:spPr>
          <a:xfrm>
            <a:off x="7885080" y="6021360"/>
            <a:ext cx="58428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3916440" y="2063880"/>
            <a:ext cx="136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ush Script MT"/>
              </a:rPr>
              <a:t>Toll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Documents and Settings\User\Рабочий стол\Соглашающиеся смайлики, смайлики да, кивающие смайлики   Smayli.ru_files\da-40.gif"/>
          <p:cNvPicPr/>
          <p:nvPr/>
        </p:nvPicPr>
        <p:blipFill>
          <a:blip r:embed="rId2"/>
          <a:stretch/>
        </p:blipFill>
        <p:spPr>
          <a:xfrm>
            <a:off x="1147680" y="476280"/>
            <a:ext cx="1790640" cy="1736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>
            <a:hlinkClick r:id="rId1" action="ppaction://hlinksldjump"/>
          </p:cNvPr>
          <p:cNvSpPr/>
          <p:nvPr/>
        </p:nvSpPr>
        <p:spPr>
          <a:xfrm>
            <a:off x="8028000" y="5867280"/>
            <a:ext cx="56196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-700560" y="3262320"/>
            <a:ext cx="1047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Leider falsch. Versuche es noch einm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C:\Documents and Settings\User\Рабочий стол\Несогласные смайлики, Смайлики отрицания, Смайлики нет не согласен   Smayli.ru_files\net-102.gif"/>
          <p:cNvPicPr/>
          <p:nvPr/>
        </p:nvPicPr>
        <p:blipFill>
          <a:blip r:embed="rId2"/>
          <a:stretch/>
        </p:blipFill>
        <p:spPr>
          <a:xfrm>
            <a:off x="1547640" y="708120"/>
            <a:ext cx="1741680" cy="1425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Wie komme ich zum …, zur …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u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Park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ur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>
            <a:hlinkClick r:id="rId1" action="ppaction://hlinksldjump"/>
          </p:cNvPr>
          <p:cNvSpPr/>
          <p:nvPr/>
        </p:nvSpPr>
        <p:spPr>
          <a:xfrm>
            <a:off x="7956720" y="6093000"/>
            <a:ext cx="512640" cy="385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3972600" y="2063880"/>
            <a:ext cx="119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ush Script MT"/>
              </a:rPr>
              <a:t>OK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C:\Documents and Settings\User\Рабочий стол\Соглашающиеся смайлики, смайлики да, кивающие смайлики   Smayli.ru_files\da-68.gif"/>
          <p:cNvPicPr/>
          <p:nvPr/>
        </p:nvPicPr>
        <p:blipFill>
          <a:blip r:embed="rId2"/>
          <a:stretch/>
        </p:blipFill>
        <p:spPr>
          <a:xfrm>
            <a:off x="1258920" y="907920"/>
            <a:ext cx="2516040" cy="911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>
            <a:hlinkClick r:id="rId1" action="ppaction://hlinksldjump"/>
          </p:cNvPr>
          <p:cNvSpPr/>
          <p:nvPr/>
        </p:nvSpPr>
        <p:spPr>
          <a:xfrm>
            <a:off x="8028000" y="5867280"/>
            <a:ext cx="56196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-700560" y="3262320"/>
            <a:ext cx="1047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Leider falsch. Versuche es noch einm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C:\Documents and Settings\User\Рабочий стол\Несогласные смайлики, Смайлики отрицания, Смайлики нет не согласен   Smayli.ru_files\net-93.gif"/>
          <p:cNvPicPr/>
          <p:nvPr/>
        </p:nvPicPr>
        <p:blipFill>
          <a:blip r:embed="rId2"/>
          <a:stretch/>
        </p:blipFill>
        <p:spPr>
          <a:xfrm>
            <a:off x="1403280" y="836640"/>
            <a:ext cx="2104920" cy="1136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Wie komme ich zum …, zur …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u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Do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ur</a:t>
            </a: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>
            <a:hlinkClick r:id="rId1" action="ppaction://hlinksldjump"/>
          </p:cNvPr>
          <p:cNvSpPr/>
          <p:nvPr/>
        </p:nvSpPr>
        <p:spPr>
          <a:xfrm>
            <a:off x="8244000" y="6021360"/>
            <a:ext cx="50472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C:\Documents and Settings\User\Рабочий стол\Соглашающиеся смайлики, смайлики да, кивающие смайлики   Smayli.ru_files\da-24.gif"/>
          <p:cNvPicPr/>
          <p:nvPr/>
        </p:nvPicPr>
        <p:blipFill>
          <a:blip r:embed="rId2"/>
          <a:stretch/>
        </p:blipFill>
        <p:spPr>
          <a:xfrm>
            <a:off x="1187280" y="511200"/>
            <a:ext cx="2184480" cy="1552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3400560" y="2063880"/>
            <a:ext cx="406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ush Script MT"/>
              </a:rPr>
              <a:t>Gut gemacht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>
            <a:hlinkClick r:id="rId1" action="ppaction://hlinksldjump"/>
          </p:cNvPr>
          <p:cNvSpPr/>
          <p:nvPr/>
        </p:nvSpPr>
        <p:spPr>
          <a:xfrm>
            <a:off x="7956720" y="6021360"/>
            <a:ext cx="51264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3816720" y="2063880"/>
            <a:ext cx="206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ush Script MT"/>
              </a:rPr>
              <a:t>Spitze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C:\Documents and Settings\User\Рабочий стол\Соглашающиеся смайлики, смайлики да, кивающие смайлики   Smayli.ru_files\da-60.gif"/>
          <p:cNvPicPr/>
          <p:nvPr/>
        </p:nvPicPr>
        <p:blipFill>
          <a:blip r:embed="rId2"/>
          <a:stretch/>
        </p:blipFill>
        <p:spPr>
          <a:xfrm>
            <a:off x="1042920" y="476280"/>
            <a:ext cx="2235240" cy="2235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>
            <a:hlinkClick r:id="rId1" action="ppaction://hlinksldjump"/>
          </p:cNvPr>
          <p:cNvSpPr/>
          <p:nvPr/>
        </p:nvSpPr>
        <p:spPr>
          <a:xfrm>
            <a:off x="8244000" y="5867280"/>
            <a:ext cx="34596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-700560" y="3262320"/>
            <a:ext cx="1047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Leider falsch. Versuche es noch einm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C:\Documents and Settings\User\Рабочий стол\Несогласные смайлики, Смайлики отрицания, Смайлики нет не согласен   Smayli.ru_files\net-110.gif"/>
          <p:cNvPicPr/>
          <p:nvPr/>
        </p:nvPicPr>
        <p:blipFill>
          <a:blip r:embed="rId2"/>
          <a:stretch/>
        </p:blipFill>
        <p:spPr>
          <a:xfrm>
            <a:off x="2050920" y="981000"/>
            <a:ext cx="144936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Wie komme ich zum …, zur …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Zu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äul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Zur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8172360" y="5950080"/>
            <a:ext cx="503280" cy="52848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3870360" y="206388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ush Script MT"/>
              </a:rPr>
              <a:t>Gut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C:\Documents and Settings\User\Рабочий стол\Соглашающиеся смайлики, смайлики да, кивающие смайлики   Smayli.ru_files\da-51.gif"/>
          <p:cNvPicPr/>
          <p:nvPr/>
        </p:nvPicPr>
        <p:blipFill>
          <a:blip r:embed="rId1"/>
          <a:stretch/>
        </p:blipFill>
        <p:spPr>
          <a:xfrm>
            <a:off x="1187280" y="476280"/>
            <a:ext cx="1390680" cy="1789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8101080" y="5867280"/>
            <a:ext cx="48888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-700560" y="3262320"/>
            <a:ext cx="1047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Leider falsch. Versuche es noch einm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C:\Documents and Settings\User\Рабочий стол\Несогласные смайлики, Смайлики отрицания, Смайлики нет не согласен   Smayli.ru_files\net-74.gif"/>
          <p:cNvPicPr/>
          <p:nvPr/>
        </p:nvPicPr>
        <p:blipFill>
          <a:blip r:embed="rId1"/>
          <a:stretch/>
        </p:blipFill>
        <p:spPr>
          <a:xfrm>
            <a:off x="1187280" y="1268280"/>
            <a:ext cx="1366920" cy="801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Wie komme ich zum …, zur …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Zu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chlos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Zur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7956720" y="6021360"/>
            <a:ext cx="51264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3798000" y="2063880"/>
            <a:ext cx="215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ush Script MT"/>
              </a:rPr>
              <a:t>Klasse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C:\Documents and Settings\User\Рабочий стол\Соглашающиеся смайлики, смайлики да, кивающие смайлики   Smayli.ru_files\da-56.gif"/>
          <p:cNvPicPr/>
          <p:nvPr/>
        </p:nvPicPr>
        <p:blipFill>
          <a:blip r:embed="rId1"/>
          <a:stretch/>
        </p:blipFill>
        <p:spPr>
          <a:xfrm>
            <a:off x="1181160" y="1197000"/>
            <a:ext cx="120816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8028000" y="5867280"/>
            <a:ext cx="56196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-700560" y="3262320"/>
            <a:ext cx="1047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Leider falsch. Versuche es noch einm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Documents and Settings\User\Рабочий стол\Несогласные смайлики, Смайлики отрицания, Смайлики нет не согласен   Smayli.ru_files\net-79.gif"/>
          <p:cNvPicPr/>
          <p:nvPr/>
        </p:nvPicPr>
        <p:blipFill>
          <a:blip r:embed="rId1"/>
          <a:stretch/>
        </p:blipFill>
        <p:spPr>
          <a:xfrm>
            <a:off x="1763640" y="765000"/>
            <a:ext cx="3121200" cy="1213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Wie komme ich zum …, zur …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Zu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Grünanlag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Zur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7956720" y="6021360"/>
            <a:ext cx="51264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3400560" y="2063880"/>
            <a:ext cx="406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ush Script MT"/>
              </a:rPr>
              <a:t>Gut gemacht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C:\Documents and Settings\User\Рабочий стол\Соглашающиеся смайлики, смайлики да, кивающие смайлики   Smayli.ru_files\da-38.gif"/>
          <p:cNvPicPr/>
          <p:nvPr/>
        </p:nvPicPr>
        <p:blipFill>
          <a:blip r:embed="rId1"/>
          <a:stretch/>
        </p:blipFill>
        <p:spPr>
          <a:xfrm>
            <a:off x="1187280" y="692280"/>
            <a:ext cx="231156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>
            <a:hlinkClick r:id="rId1" action="ppaction://hlinksldjump"/>
          </p:cNvPr>
          <p:cNvSpPr/>
          <p:nvPr/>
        </p:nvSpPr>
        <p:spPr>
          <a:xfrm>
            <a:off x="8244000" y="5867280"/>
            <a:ext cx="50472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C:\Documents and Settings\User\Рабочий стол\Несогласные смайлики, Смайлики отрицания, Смайлики нет не согласен   Smayli.ru_files\net-111.gif"/>
          <p:cNvPicPr/>
          <p:nvPr/>
        </p:nvPicPr>
        <p:blipFill>
          <a:blip r:embed="rId2"/>
          <a:stretch/>
        </p:blipFill>
        <p:spPr>
          <a:xfrm>
            <a:off x="5529240" y="750960"/>
            <a:ext cx="3060720" cy="1900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-700560" y="3262320"/>
            <a:ext cx="1047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Leider falsch. Versuche es noch einm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7956720" y="5867280"/>
            <a:ext cx="63324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-700560" y="3262320"/>
            <a:ext cx="1047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Leider falsch. Versuche es noch einm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C:\Documents and Settings\User\Рабочий стол\Несогласные смайлики, Смайлики отрицания, Смайлики нет не согласен   Smayli.ru_files\net-98.gif"/>
          <p:cNvPicPr/>
          <p:nvPr/>
        </p:nvPicPr>
        <p:blipFill>
          <a:blip r:embed="rId1"/>
          <a:stretch/>
        </p:blipFill>
        <p:spPr>
          <a:xfrm>
            <a:off x="2754360" y="981000"/>
            <a:ext cx="178416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://gif-anim.narod.ru/Salyuti2.gif"/>
          <p:cNvPicPr/>
          <p:nvPr/>
        </p:nvPicPr>
        <p:blipFill>
          <a:blip r:embed="rId1"/>
          <a:stretch/>
        </p:blipFill>
        <p:spPr>
          <a:xfrm>
            <a:off x="2124000" y="836640"/>
            <a:ext cx="417672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Wie komme ich zum …, zur …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u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o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ur</a:t>
            </a: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>
            <a:hlinkClick r:id="rId1" action="ppaction://hlinksldjump"/>
          </p:cNvPr>
          <p:cNvSpPr/>
          <p:nvPr/>
        </p:nvSpPr>
        <p:spPr>
          <a:xfrm>
            <a:off x="8172360" y="6021360"/>
            <a:ext cx="50328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3748680" y="206388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ush Script MT"/>
              </a:rPr>
              <a:t>Stimmt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User\Рабочий стол\Соглашающиеся смайлики, смайлики да, кивающие смайлики   Smayli.ru_files\da-53.gif"/>
          <p:cNvPicPr/>
          <p:nvPr/>
        </p:nvPicPr>
        <p:blipFill>
          <a:blip r:embed="rId2"/>
          <a:stretch/>
        </p:blipFill>
        <p:spPr>
          <a:xfrm>
            <a:off x="588960" y="623880"/>
            <a:ext cx="3044880" cy="1725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>
            <a:hlinkClick r:id="rId1" action="ppaction://hlinksldjump"/>
          </p:cNvPr>
          <p:cNvSpPr/>
          <p:nvPr/>
        </p:nvSpPr>
        <p:spPr>
          <a:xfrm>
            <a:off x="8101080" y="5867280"/>
            <a:ext cx="57456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-700560" y="3262320"/>
            <a:ext cx="1047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Leider falsch. Versuche es noch einm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User\Рабочий стол\Несогласные смайлики, Смайлики отрицания, Смайлики нет не согласен   Smayli.ru_files\net-87.gif"/>
          <p:cNvPicPr/>
          <p:nvPr/>
        </p:nvPicPr>
        <p:blipFill>
          <a:blip r:embed="rId2"/>
          <a:stretch/>
        </p:blipFill>
        <p:spPr>
          <a:xfrm>
            <a:off x="6962760" y="563400"/>
            <a:ext cx="1601640" cy="2027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Wie komme ich zum …, zur …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um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Universitä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ur</a:t>
            </a:r>
            <a:r>
              <a:rPr b="0" lang="en-US" sz="66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>
            <a:hlinkClick r:id="rId1" action="ppaction://hlinksldjump"/>
          </p:cNvPr>
          <p:cNvSpPr/>
          <p:nvPr/>
        </p:nvSpPr>
        <p:spPr>
          <a:xfrm>
            <a:off x="8028000" y="6021360"/>
            <a:ext cx="57636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3755520" y="2063880"/>
            <a:ext cx="209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ush Script MT"/>
              </a:rPr>
              <a:t>Schön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User\Рабочий стол\Соглашающиеся смайлики, смайлики да, кивающие смайлики   Smayli.ru_files\da-59.gif"/>
          <p:cNvPicPr/>
          <p:nvPr/>
        </p:nvPicPr>
        <p:blipFill>
          <a:blip r:embed="rId2"/>
          <a:stretch/>
        </p:blipFill>
        <p:spPr>
          <a:xfrm>
            <a:off x="684360" y="404640"/>
            <a:ext cx="178884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>
            <a:hlinkClick r:id="rId1" action="ppaction://hlinksldjump"/>
          </p:cNvPr>
          <p:cNvSpPr/>
          <p:nvPr/>
        </p:nvSpPr>
        <p:spPr>
          <a:xfrm>
            <a:off x="8101080" y="5867280"/>
            <a:ext cx="488880" cy="45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-700560" y="3262320"/>
            <a:ext cx="1047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Leider falsch. Versuche es noch einm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User\Рабочий стол\Несогласные смайлики, Смайлики отрицания, Смайлики нет не согласен   Smayli.ru_files\net-85.gif"/>
          <p:cNvPicPr/>
          <p:nvPr/>
        </p:nvPicPr>
        <p:blipFill>
          <a:blip r:embed="rId2"/>
          <a:stretch/>
        </p:blipFill>
        <p:spPr>
          <a:xfrm>
            <a:off x="6159600" y="692280"/>
            <a:ext cx="166356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5:17:38Z</dcterms:created>
  <dc:creator>Admin</dc:creator>
  <dc:description/>
  <dc:language>en-US</dc:language>
  <cp:lastModifiedBy>Admin</cp:lastModifiedBy>
  <dcterms:modified xsi:type="dcterms:W3CDTF">2012-06-25T08:51:24Z</dcterms:modified>
  <cp:revision>25</cp:revision>
  <dc:subject/>
  <dc:title>Wie komme ich zum …, zur …?</dc:title>
</cp:coreProperties>
</file>