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Произвольный показ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438-A4B8-47D6-A32C-BC749AA218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0D4D-09F3-4FA4-9D80-A87BA540C7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A40-0C2D-424B-86D3-64A1FCA8B3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B455-7691-4A35-BD29-34EC424DB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C2DC-7688-4F43-92A7-70A6CB2315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549-11C0-485C-93FF-7791CFB3CD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7C0-6561-470C-B22C-A151F25C2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47F-D0E0-4E52-9607-11548AEDF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47A5-06A2-48CF-9ABF-36E536493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DA2-323E-4BE7-A4FD-BA869C84A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565-1FCB-4BAD-8D05-9384ED821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39F-A3FE-47F0-B0E3-37ACD394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7E1-8ACE-4F78-A592-758777D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7B4-EA32-489B-A2AD-76A428D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898-9A04-4B27-A0E1-00330227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0C2-A38E-4552-B878-AE88E49D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BC7-51C1-4245-963A-39452F8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12C-BC1D-4AA0-B4E5-1A5BB0F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B2F-1885-4125-807B-B6213DF8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CD4-8729-4969-BAAF-247E0B4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D23-5BCC-46A6-B3B1-E3039CE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25D-6C29-46BF-904A-58DACF7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538-0EF5-440E-88B4-CACAB1D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5CC-161A-4D0C-A25B-26C7E278A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eat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ebäud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>
            <a:hlinkClick r:id="rId1" action="ppaction://hlinksldjump"/>
          </p:cNvPr>
          <p:cNvSpPr/>
          <p:nvPr/>
        </p:nvSpPr>
        <p:spPr>
          <a:xfrm>
            <a:off x="8172360" y="6021360"/>
            <a:ext cx="503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290040" y="206388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Ausgezeichne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User\Рабочий стол\Соглашающиеся смайлики, смайлики да, кивающие смайлики   Smayli.ru_files\da-54.gif"/>
          <p:cNvPicPr/>
          <p:nvPr/>
        </p:nvPicPr>
        <p:blipFill>
          <a:blip r:embed="rId2"/>
          <a:stretch/>
        </p:blipFill>
        <p:spPr>
          <a:xfrm>
            <a:off x="755640" y="404640"/>
            <a:ext cx="1881360" cy="18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User\Рабочий стол\Несогласные смайлики, Смайлики отрицания, Смайлики нет не согласен   Smayli.ru_files\net-89.gif"/>
          <p:cNvPicPr/>
          <p:nvPr/>
        </p:nvPicPr>
        <p:blipFill>
          <a:blip r:embed="rId2"/>
          <a:stretch/>
        </p:blipFill>
        <p:spPr>
          <a:xfrm>
            <a:off x="5372280" y="620640"/>
            <a:ext cx="187308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tadtmau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>
            <a:hlinkClick r:id="rId1" action="ppaction://hlinksldjump"/>
          </p:cNvPr>
          <p:cNvSpPr/>
          <p:nvPr/>
        </p:nvSpPr>
        <p:spPr>
          <a:xfrm>
            <a:off x="7885080" y="6021360"/>
            <a:ext cx="584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916440" y="2063880"/>
            <a:ext cx="13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Toll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User\Рабочий стол\Соглашающиеся смайлики, смайлики да, кивающие смайлики   Smayli.ru_files\da-40.gif"/>
          <p:cNvPicPr/>
          <p:nvPr/>
        </p:nvPicPr>
        <p:blipFill>
          <a:blip r:embed="rId2"/>
          <a:stretch/>
        </p:blipFill>
        <p:spPr>
          <a:xfrm>
            <a:off x="1147680" y="476280"/>
            <a:ext cx="179064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Documents and Settings\User\Рабочий стол\Несогласные смайлики, Смайлики отрицания, Смайлики нет не согласен   Smayli.ru_files\net-102.gif"/>
          <p:cNvPicPr/>
          <p:nvPr/>
        </p:nvPicPr>
        <p:blipFill>
          <a:blip r:embed="rId2"/>
          <a:stretch/>
        </p:blipFill>
        <p:spPr>
          <a:xfrm>
            <a:off x="1547640" y="708120"/>
            <a:ext cx="17416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ar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>
            <a:hlinkClick r:id="rId1" action="ppaction://hlinksldjump"/>
          </p:cNvPr>
          <p:cNvSpPr/>
          <p:nvPr/>
        </p:nvSpPr>
        <p:spPr>
          <a:xfrm>
            <a:off x="7956720" y="6093000"/>
            <a:ext cx="512640" cy="385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972600" y="2063880"/>
            <a:ext cx="11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C:\Documents and Settings\User\Рабочий стол\Соглашающиеся смайлики, смайлики да, кивающие смайлики   Smayli.ru_files\da-68.gif"/>
          <p:cNvPicPr/>
          <p:nvPr/>
        </p:nvPicPr>
        <p:blipFill>
          <a:blip r:embed="rId2"/>
          <a:stretch/>
        </p:blipFill>
        <p:spPr>
          <a:xfrm>
            <a:off x="1258920" y="907920"/>
            <a:ext cx="2516040" cy="91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Documents and Settings\User\Рабочий стол\Несогласные смайлики, Смайлики отрицания, Смайлики нет не согласен   Smayli.ru_files\net-93.gif"/>
          <p:cNvPicPr/>
          <p:nvPr/>
        </p:nvPicPr>
        <p:blipFill>
          <a:blip r:embed="rId2"/>
          <a:stretch/>
        </p:blipFill>
        <p:spPr>
          <a:xfrm>
            <a:off x="1403280" y="836640"/>
            <a:ext cx="2104920" cy="11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Do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>
            <a:hlinkClick r:id="rId1" action="ppaction://hlinksldjump"/>
          </p:cNvPr>
          <p:cNvSpPr/>
          <p:nvPr/>
        </p:nvSpPr>
        <p:spPr>
          <a:xfrm>
            <a:off x="8244000" y="6021360"/>
            <a:ext cx="5047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Documents and Settings\User\Рабочий стол\Соглашающиеся смайлики, смайлики да, кивающие смайлики   Smayli.ru_files\da-24.gif"/>
          <p:cNvPicPr/>
          <p:nvPr/>
        </p:nvPicPr>
        <p:blipFill>
          <a:blip r:embed="rId2"/>
          <a:stretch/>
        </p:blipFill>
        <p:spPr>
          <a:xfrm>
            <a:off x="1187280" y="511200"/>
            <a:ext cx="2184480" cy="155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400560" y="2063880"/>
            <a:ext cx="40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 gemach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>
            <a:hlinkClick r:id="rId1" action="ppaction://hlinksldjump"/>
          </p:cNvPr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16720" y="2063880"/>
            <a:ext cx="20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pitz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C:\Documents and Settings\User\Рабочий стол\Соглашающиеся смайлики, смайлики да, кивающие смайлики   Smayli.ru_files\da-60.gif"/>
          <p:cNvPicPr/>
          <p:nvPr/>
        </p:nvPicPr>
        <p:blipFill>
          <a:blip r:embed="rId2"/>
          <a:stretch/>
        </p:blipFill>
        <p:spPr>
          <a:xfrm>
            <a:off x="1042920" y="47628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>
            <a:hlinkClick r:id="rId1" action="ppaction://hlinksldjump"/>
          </p:cNvPr>
          <p:cNvSpPr/>
          <p:nvPr/>
        </p:nvSpPr>
        <p:spPr>
          <a:xfrm>
            <a:off x="8244000" y="5867280"/>
            <a:ext cx="34596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Documents and Settings\User\Рабочий стол\Несогласные смайлики, Смайлики отрицания, Смайлики нет не согласен   Smayli.ru_files\net-110.gif"/>
          <p:cNvPicPr/>
          <p:nvPr/>
        </p:nvPicPr>
        <p:blipFill>
          <a:blip r:embed="rId2"/>
          <a:stretch/>
        </p:blipFill>
        <p:spPr>
          <a:xfrm>
            <a:off x="2050920" y="981000"/>
            <a:ext cx="1449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äu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172360" y="5950080"/>
            <a:ext cx="503280" cy="5284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870360" y="206388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Documents and Settings\User\Рабочий стол\Соглашающиеся смайлики, смайлики да, кивающие смайлики   Smayli.ru_files\da-51.gif"/>
          <p:cNvPicPr/>
          <p:nvPr/>
        </p:nvPicPr>
        <p:blipFill>
          <a:blip r:embed="rId1"/>
          <a:stretch/>
        </p:blipFill>
        <p:spPr>
          <a:xfrm>
            <a:off x="1187280" y="476280"/>
            <a:ext cx="139068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8101080" y="5867280"/>
            <a:ext cx="4888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C:\Documents and Settings\User\Рабочий стол\Несогласные смайлики, Смайлики отрицания, Смайлики нет не согласен   Smayli.ru_files\net-74.gif"/>
          <p:cNvPicPr/>
          <p:nvPr/>
        </p:nvPicPr>
        <p:blipFill>
          <a:blip r:embed="rId1"/>
          <a:stretch/>
        </p:blipFill>
        <p:spPr>
          <a:xfrm>
            <a:off x="1187280" y="1268280"/>
            <a:ext cx="1366920" cy="801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chlo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798000" y="2063880"/>
            <a:ext cx="215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Klass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User\Рабочий стол\Соглашающиеся смайлики, смайлики да, кивающие смайлики   Smayli.ru_files\da-56.gif"/>
          <p:cNvPicPr/>
          <p:nvPr/>
        </p:nvPicPr>
        <p:blipFill>
          <a:blip r:embed="rId1"/>
          <a:stretch/>
        </p:blipFill>
        <p:spPr>
          <a:xfrm>
            <a:off x="1181160" y="1197000"/>
            <a:ext cx="12081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Documents and Settings\User\Рабочий стол\Несогласные смайлики, Смайлики отрицания, Смайлики нет не согласен   Smayli.ru_files\net-79.gif"/>
          <p:cNvPicPr/>
          <p:nvPr/>
        </p:nvPicPr>
        <p:blipFill>
          <a:blip r:embed="rId1"/>
          <a:stretch/>
        </p:blipFill>
        <p:spPr>
          <a:xfrm>
            <a:off x="1763640" y="765000"/>
            <a:ext cx="3121200" cy="12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rünanla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400560" y="2063880"/>
            <a:ext cx="40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 gemach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C:\Documents and Settings\User\Рабочий стол\Соглашающиеся смайлики, смайлики да, кивающие смайлики   Smayli.ru_files\da-38.gif"/>
          <p:cNvPicPr/>
          <p:nvPr/>
        </p:nvPicPr>
        <p:blipFill>
          <a:blip r:embed="rId1"/>
          <a:stretch/>
        </p:blipFill>
        <p:spPr>
          <a:xfrm>
            <a:off x="1187280" y="692280"/>
            <a:ext cx="231156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>
            <a:hlinkClick r:id="rId1" action="ppaction://hlinksldjump"/>
          </p:cNvPr>
          <p:cNvSpPr/>
          <p:nvPr/>
        </p:nvSpPr>
        <p:spPr>
          <a:xfrm>
            <a:off x="8244000" y="5867280"/>
            <a:ext cx="5047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User\Рабочий стол\Несогласные смайлики, Смайлики отрицания, Смайлики нет не согласен   Smayli.ru_files\net-111.gif"/>
          <p:cNvPicPr/>
          <p:nvPr/>
        </p:nvPicPr>
        <p:blipFill>
          <a:blip r:embed="rId2"/>
          <a:stretch/>
        </p:blipFill>
        <p:spPr>
          <a:xfrm>
            <a:off x="5529240" y="750960"/>
            <a:ext cx="3060720" cy="190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7956720" y="5867280"/>
            <a:ext cx="6332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C:\Documents and Settings\User\Рабочий стол\Несогласные смайлики, Смайлики отрицания, Смайлики нет не согласен   Smayli.ru_files\net-98.gif"/>
          <p:cNvPicPr/>
          <p:nvPr/>
        </p:nvPicPr>
        <p:blipFill>
          <a:blip r:embed="rId1"/>
          <a:stretch/>
        </p:blipFill>
        <p:spPr>
          <a:xfrm>
            <a:off x="2754360" y="981000"/>
            <a:ext cx="1784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gif-anim.narod.ru/Salyuti2.gif"/>
          <p:cNvPicPr/>
          <p:nvPr/>
        </p:nvPicPr>
        <p:blipFill>
          <a:blip r:embed="rId1"/>
          <a:stretch/>
        </p:blipFill>
        <p:spPr>
          <a:xfrm>
            <a:off x="2124000" y="836640"/>
            <a:ext cx="4176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>
            <a:hlinkClick r:id="rId1" action="ppaction://hlinksldjump"/>
          </p:cNvPr>
          <p:cNvSpPr/>
          <p:nvPr/>
        </p:nvSpPr>
        <p:spPr>
          <a:xfrm>
            <a:off x="8172360" y="6021360"/>
            <a:ext cx="503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748680" y="206388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timm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\Рабочий стол\Соглашающиеся смайлики, смайлики да, кивающие смайлики   Smayli.ru_files\da-53.gif"/>
          <p:cNvPicPr/>
          <p:nvPr/>
        </p:nvPicPr>
        <p:blipFill>
          <a:blip r:embed="rId2"/>
          <a:stretch/>
        </p:blipFill>
        <p:spPr>
          <a:xfrm>
            <a:off x="588960" y="623880"/>
            <a:ext cx="3044880" cy="172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>
            <a:hlinkClick r:id="rId1" action="ppaction://hlinksldjump"/>
          </p:cNvPr>
          <p:cNvSpPr/>
          <p:nvPr/>
        </p:nvSpPr>
        <p:spPr>
          <a:xfrm>
            <a:off x="8101080" y="5867280"/>
            <a:ext cx="5745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User\Рабочий стол\Несогласные смайлики, Смайлики отрицания, Смайлики нет не согласен   Smayli.ru_files\net-87.gif"/>
          <p:cNvPicPr/>
          <p:nvPr/>
        </p:nvPicPr>
        <p:blipFill>
          <a:blip r:embed="rId2"/>
          <a:stretch/>
        </p:blipFill>
        <p:spPr>
          <a:xfrm>
            <a:off x="6962760" y="563400"/>
            <a:ext cx="1601640" cy="202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niversitä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>
            <a:hlinkClick r:id="rId1" action="ppaction://hlinksldjump"/>
          </p:cNvPr>
          <p:cNvSpPr/>
          <p:nvPr/>
        </p:nvSpPr>
        <p:spPr>
          <a:xfrm>
            <a:off x="8028000" y="6021360"/>
            <a:ext cx="5763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755520" y="2063880"/>
            <a:ext cx="209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chön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User\Рабочий стол\Соглашающиеся смайлики, смайлики да, кивающие смайлики   Smayli.ru_files\da-59.gif"/>
          <p:cNvPicPr/>
          <p:nvPr/>
        </p:nvPicPr>
        <p:blipFill>
          <a:blip r:embed="rId2"/>
          <a:stretch/>
        </p:blipFill>
        <p:spPr>
          <a:xfrm>
            <a:off x="684360" y="404640"/>
            <a:ext cx="17888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>
            <a:hlinkClick r:id="rId1" action="ppaction://hlinksldjump"/>
          </p:cNvPr>
          <p:cNvSpPr/>
          <p:nvPr/>
        </p:nvSpPr>
        <p:spPr>
          <a:xfrm>
            <a:off x="8101080" y="5867280"/>
            <a:ext cx="4888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User\Рабочий стол\Несогласные смайлики, Смайлики отрицания, Смайлики нет не согласен   Smayli.ru_files\net-85.gif"/>
          <p:cNvPicPr/>
          <p:nvPr/>
        </p:nvPicPr>
        <p:blipFill>
          <a:blip r:embed="rId2"/>
          <a:stretch/>
        </p:blipFill>
        <p:spPr>
          <a:xfrm>
            <a:off x="6159600" y="692280"/>
            <a:ext cx="16635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17:38Z</dcterms:created>
  <dc:creator>Admin</dc:creator>
  <dc:description/>
  <dc:language>en-US</dc:language>
  <cp:lastModifiedBy>Admin</cp:lastModifiedBy>
  <dcterms:modified xsi:type="dcterms:W3CDTF">2012-06-25T08:51:24Z</dcterms:modified>
  <cp:revision>25</cp:revision>
  <dc:subject/>
  <dc:title>Wie komme ich zum …, zur …?</dc:title>
</cp:coreProperties>
</file>