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8.png" ContentType="image/png"/>
  <Override PartName="/ppt/media/image14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9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17.png" ContentType="image/png"/>
  <Override PartName="/ppt/media/image32.jpeg" ContentType="image/jpeg"/>
  <Override PartName="/ppt/media/image30.jpeg" ContentType="image/jpeg"/>
  <Override PartName="/ppt/media/image15.png" ContentType="image/png"/>
  <Override PartName="/ppt/media/image31.png" ContentType="image/png"/>
  <Override PartName="/ppt/media/image36.png" ContentType="image/png"/>
  <Override PartName="/ppt/media/image18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D09-0AC5-497F-AC6C-D83C0EC6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4BC0-C00A-4893-AAE5-E9EB1441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E2B235-DA9E-490F-A819-67C6528F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3FAB3E-0D13-4796-8941-D45E2AA9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CE9BF5-7A47-4CDA-863C-8A918537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172F4E-B1E8-4AFF-821E-FEDD4199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729EE6-3B7B-4FEA-9C0B-381CABFF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282B89-A15F-4D19-B53A-D92C1388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EB52BD-A08B-484E-9DB4-7AD86D24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9A3291-65CE-488A-A8FE-0DF54F12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B35B28-DEF8-438F-B435-9A5B16EC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6F2-70D1-4626-A596-18472459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226-4077-436B-B30C-897A2498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886D7-C7A2-47E5-B793-8AE4A9CC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75A61-C0C3-45F9-99DB-8BBEF55E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982FB-571C-4FA1-B781-0121EA2D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EE654-AFF8-4EF1-B7A6-6A6255A5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E0C6D-B4E6-4E72-956B-0758FB44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3DF40-D0D8-4A5D-A2A2-AD68F4DA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1285E-6360-4DC0-BE15-2F3C3F83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EE5B-9168-42DD-974E-7BBC5FCC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19372-B026-4228-8795-07E8D0E3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95E7D-096F-4E6C-8657-E6EAF57A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9789A-DE8C-4939-8A40-39FCC926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45804-3578-413B-8E7A-E9D748D2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4179E-3D3F-4F38-BA08-173BF0D4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3BAE8-4EDC-4E50-96E9-39E39C7A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568D5-625A-4A54-BB41-8B749679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F132F-3529-4CCE-91EC-DB67CECA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926A8-8013-45AF-B829-EB697316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93B8F-1FF9-452C-817C-19254166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28B0-F05A-482A-8BA3-C8938694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A038C-0C0B-407A-ADA5-0DE73F65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E0137-4D99-4877-9D61-D35E469B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C2F62-4D4F-4596-A037-D9F3CAB3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8EDE8-01B2-4C5D-BCA4-51D095DF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33A97-4989-4036-92A1-43D4108C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B060F-AB9B-42F5-89C9-36C7D195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A809E-EBDC-4C92-A18F-44722C5D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F229DB-148B-4040-93BE-D2365A20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A5F624-C0B6-4C90-BAD7-9239E09C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AD75CA-C849-4A6E-B2E7-B6311E8D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8C97-72E9-43E5-83B0-EDF8D1D5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68CB45-309C-4209-8931-621B6C69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F820E6-4C1C-4383-96CE-2BA29469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0D46E3-CB5A-4816-888E-A7EFBCBB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1F3B98-C68D-4FEC-86CC-9FCD96E3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39D00D-7F2C-4182-9D77-2194E4D0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8D3A85-8271-44BD-B86D-25D40B51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29C344-0781-463F-8C19-A1580BD6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387C9C-5430-403B-AE2D-5C675A17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620DA5-1E8F-4DDA-B641-DFE24BF0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605AA-90B8-4CDB-B637-C9032AA6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F6F9-9074-49A7-A247-4CACE788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A3084-EB15-4ECF-B6FC-9AA8A94A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28D63-E415-4297-9223-F87A5386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EBD9A-A7E2-4CA6-8A9E-D3838BCC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A16AA-4246-4234-AA8E-985E7EE7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B31DB-FBB7-4552-8EF7-801E8800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BDA53-F8DF-42F3-8768-2BCEB208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5B54C-FBBF-42C8-A964-7CEACCAC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0D5FB-3FA0-4C1D-8746-4630B0DA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D3C50-1C13-49C7-8DBD-FA045F98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8BE56-03C6-49A7-9A2C-53B9BEBD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9B7-D941-4C85-8F47-3ABACBC4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E657B-9897-48B6-A20E-1B228929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22E37-840E-4B9B-9F3D-58A2ED96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210B9-F330-4973-8C87-4386E42A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160CF-D416-4563-A8AB-8C1F5C56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C0821-1448-49CA-B030-84B57029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F6B15-6505-4CBE-BA8E-8CE5F677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61035-0400-49CA-B903-744432F6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4EAF6-439C-4893-9679-DDCF437F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7551B-F7FC-44C1-97D0-62DB8558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F6A6C-BBD6-4B55-91A9-2CD0AB25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445A-7E3C-4954-91B8-9C892C07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CD3C9-0A3C-49AF-AE58-E40DFECF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E7126-E35A-4D15-B9A8-0FF17CED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4AD49-C3D2-44EC-98F2-5CA3A640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2FB83-2B30-4641-9DF1-0AF94F48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83D8B-1263-46FB-89C5-5B422512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6E139-A78D-4EBB-BB2A-9B909492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7AEF5-6A0D-4653-8F48-CFA68E00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0F859-4FDF-4E82-943A-F7C6E84B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5E1E8-B873-4DB1-ACDA-E507CB96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BA260-B523-44DC-B00B-DAA5C2BF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2B2-8203-4F0F-9A87-98107405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123DD-A2AD-4BD9-AA80-4D3B4AB2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F7AF2-E642-4FF2-A948-D8F8812D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14C0C-7A2C-4C3D-AD7C-B57EB346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38740-DFE9-4B44-A72E-F3CACF88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67E81-7EF3-45F6-A077-F4EA460D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1331A6-B3CB-4F8F-92F9-B9B08AF1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01B374-20A9-4EB7-91DF-FEA548A1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59D585-7345-473E-BA19-C361F402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4CFD81-CB93-4210-9DDF-F3A9FF38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921D84-85C3-4899-ACBC-B56F8278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988-CC34-4C7C-A50F-EFFD4CDE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A4AD40-6C8A-413F-BC15-38FD5CD7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C056BE-589D-498D-855B-A61C5205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990509-3CA8-4A43-888F-4BCEB348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D34B13-2064-4BBF-9620-0D1E3BE6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1A3C3C-F757-44D1-9270-F7BA1E09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C4459C-E87C-4D55-87FB-7E814714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3063C1-A879-4D34-952E-AFF31181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8950DD-2937-4ECB-9E44-4A18B4C0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017769-0B59-48C2-80AF-69D80AB8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7F8A96-8965-4CF9-8A8D-7C2F5888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Century Gothic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AF0A-F988-4203-BEF6-81A5A8656619}" type="slidenum">
              <a:rPr b="0" lang="en-US" sz="1600" spc="-1" strike="noStrike">
                <a:solidFill>
                  <a:srgbClr val="d1eaee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Century Gothic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9261-A153-45B3-9756-23738325815E}" type="slidenum">
              <a:rPr b="0" lang="en-US" sz="1600" spc="-1" strike="noStrike">
                <a:solidFill>
                  <a:srgbClr val="d1eaee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Century Gothic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8A6C-8A52-4360-B45F-3A6BBCDC204B}" type="slidenum">
              <a:rPr b="0" lang="en-US" sz="1600" spc="-1" strike="noStrike">
                <a:solidFill>
                  <a:srgbClr val="d1eaee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Century Gothic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A232-DAAD-49A8-9AA8-A80EE096A3D4}" type="slidenum">
              <a:rPr b="0" lang="en-US" sz="1600" spc="-1" strike="noStrike">
                <a:solidFill>
                  <a:srgbClr val="d1eaee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4b8c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4b8c4"/>
                </a:solidFill>
                <a:latin typeface="Century Gothic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1eae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26E9-0E0E-4FCF-9585-2E38DEBE0E5B}" type="slidenum">
              <a:rPr b="0" lang="en-US" sz="1600" spc="-1" strike="noStrike">
                <a:solidFill>
                  <a:srgbClr val="d1eaee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Century Gothic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1B9F-CE57-4E2C-8FA6-6834CFF475B5}" type="slidenum">
              <a:rPr b="0" lang="ru-RU" sz="1600" spc="-1" strike="noStrike">
                <a:solidFill>
                  <a:srgbClr val="d1eaee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Century Gothic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BF8C-DEA7-435C-8607-44669138BA88}" type="slidenum">
              <a:rPr b="0" lang="ru-RU" sz="1600" spc="-1" strike="noStrike">
                <a:solidFill>
                  <a:srgbClr val="d1eaee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Century Gothic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389F-2FFA-4536-9285-66C8467DA8BC}" type="slidenum">
              <a:rPr b="0" lang="ru-RU" sz="1600" spc="-1" strike="noStrike">
                <a:solidFill>
                  <a:srgbClr val="d1eaee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entury Gothic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Century Gothic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38A9-1918-49E0-AF69-558AC389A7D5}" type="slidenum">
              <a:rPr b="0" lang="ru-RU" sz="1600" spc="-1" strike="noStrike">
                <a:solidFill>
                  <a:srgbClr val="d1eaee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682560" y="738360"/>
            <a:ext cx="8070840" cy="2977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583840" cy="1311120"/>
          </a:xfrm>
          <a:prstGeom prst="rect">
            <a:avLst/>
          </a:prstGeom>
          <a:ln w="0">
            <a:noFill/>
          </a:ln>
        </p:spPr>
      </p:pic>
      <p:pic>
        <p:nvPicPr>
          <p:cNvPr id="419" name="Содержимое 3" descr=""/>
          <p:cNvPicPr/>
          <p:nvPr/>
        </p:nvPicPr>
        <p:blipFill>
          <a:blip r:embed="rId3"/>
          <a:stretch/>
        </p:blipFill>
        <p:spPr>
          <a:xfrm>
            <a:off x="324000" y="1639800"/>
            <a:ext cx="8369280" cy="4548240"/>
          </a:xfrm>
          <a:prstGeom prst="rect">
            <a:avLst/>
          </a:prstGeom>
          <a:ln w="0">
            <a:noFill/>
          </a:ln>
        </p:spPr>
      </p:pic>
      <p:sp>
        <p:nvSpPr>
          <p:cNvPr id="420" name="TextBox 4"/>
          <p:cNvSpPr/>
          <p:nvPr/>
        </p:nvSpPr>
        <p:spPr>
          <a:xfrm>
            <a:off x="4929120" y="328608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ыборность распорядительных и исполнительных органов власти на 4-х уровнях(волость, уезд, губерния, импери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5"/>
          <p:cNvSpPr/>
          <p:nvPr/>
        </p:nvSpPr>
        <p:spPr>
          <a:xfrm>
            <a:off x="4214880" y="4857840"/>
            <a:ext cx="38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деление властей власти: законодательная, исполнительная, судеб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2843280" y="1844640"/>
            <a:ext cx="3533760" cy="4343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2"/>
          <a:stretch/>
        </p:blipFill>
        <p:spPr>
          <a:xfrm>
            <a:off x="420840" y="208080"/>
            <a:ext cx="8540640" cy="1163520"/>
          </a:xfrm>
          <a:prstGeom prst="rect">
            <a:avLst/>
          </a:prstGeom>
          <a:ln w="0">
            <a:noFill/>
          </a:ln>
        </p:spPr>
      </p:pic>
      <p:pic>
        <p:nvPicPr>
          <p:cNvPr id="425" name="Группа 34" descr=""/>
          <p:cNvPicPr/>
          <p:nvPr/>
        </p:nvPicPr>
        <p:blipFill>
          <a:blip r:embed="rId3"/>
          <a:stretch/>
        </p:blipFill>
        <p:spPr>
          <a:xfrm>
            <a:off x="274680" y="1414440"/>
            <a:ext cx="8315280" cy="5310360"/>
          </a:xfrm>
          <a:prstGeom prst="rect">
            <a:avLst/>
          </a:prstGeom>
          <a:ln w="0">
            <a:noFill/>
          </a:ln>
        </p:spPr>
      </p:pic>
      <p:sp>
        <p:nvSpPr>
          <p:cNvPr id="426" name="TextBox 35"/>
          <p:cNvSpPr/>
          <p:nvPr/>
        </p:nvSpPr>
        <p:spPr>
          <a:xfrm>
            <a:off x="4000680" y="2928960"/>
            <a:ext cx="150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ператор Николай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(1825-185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2700360" y="1916280"/>
            <a:ext cx="3790800" cy="4286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455320" cy="11588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71520" y="1428840"/>
            <a:ext cx="578628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анифест об отмене крепостного права был подписан 3 марта 1861 года. А 17 марта, в последний день масленицы, по всем российским церквям во время обедни манифест Александра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I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б отмене крепостного права был обнародован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31" name="Рисунок 3" descr="Alexandr-II.jpg"/>
          <p:cNvPicPr/>
          <p:nvPr/>
        </p:nvPicPr>
        <p:blipFill>
          <a:blip r:embed="rId3"/>
          <a:stretch/>
        </p:blipFill>
        <p:spPr>
          <a:xfrm>
            <a:off x="285840" y="1571760"/>
            <a:ext cx="3084480" cy="4089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2"/>
          <a:stretch/>
        </p:blipFill>
        <p:spPr>
          <a:xfrm>
            <a:off x="420840" y="-6480"/>
            <a:ext cx="8454960" cy="115884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2627280" y="1341360"/>
            <a:ext cx="3876840" cy="5124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455320" cy="11588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2340000" y="1484280"/>
            <a:ext cx="4514760" cy="5045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311120"/>
          </a:xfrm>
          <a:prstGeom prst="rect">
            <a:avLst/>
          </a:prstGeom>
          <a:ln w="0">
            <a:noFill/>
          </a:ln>
        </p:spPr>
      </p:pic>
      <p:pic>
        <p:nvPicPr>
          <p:cNvPr id="437" name="Группа 21" descr=""/>
          <p:cNvPicPr/>
          <p:nvPr/>
        </p:nvPicPr>
        <p:blipFill>
          <a:blip r:embed="rId3"/>
          <a:stretch/>
        </p:blipFill>
        <p:spPr>
          <a:xfrm>
            <a:off x="108000" y="1773360"/>
            <a:ext cx="89186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Arial"/>
              </a:rPr>
              <a:t>ЭПИГРАФ</a:t>
            </a:r>
            <a:endParaRPr b="0" lang="en-US" sz="4600" spc="-1" strike="noStrike">
              <a:solidFill>
                <a:srgbClr val="bbfaff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 Век девятнадцатый, железный,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истину жестокий век!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обою в мрак ночной, беззвездный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спечный брошен человек!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знаком равенства и братств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есь зрели тёмные дела…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.Блок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583840" cy="13111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900000" y="1700280"/>
            <a:ext cx="3019680" cy="43527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4788000" y="1700280"/>
            <a:ext cx="2952720" cy="4371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455320" cy="11588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еформы инициировались «сверху» — самодержавием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еформаторы всегда наталкивались на сильное сопротивление контрреформаторских сил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лияние реформ на развитие страны чаще всего было двойственным: успешные преобразования предотвращали революционные потрясения, а непродуманные, не доведенные до конца — их приближал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45532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1692360" y="1773360"/>
            <a:ext cx="5762520" cy="4228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64592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Строганов         Кочубей      Новосильцев   Чарторыйский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5" name="Рисунок 8" descr="kochubey-vp.jpg"/>
          <p:cNvPicPr/>
          <p:nvPr/>
        </p:nvPicPr>
        <p:blipFill>
          <a:blip r:embed="rId2"/>
          <a:stretch/>
        </p:blipFill>
        <p:spPr>
          <a:xfrm>
            <a:off x="2411280" y="1700280"/>
            <a:ext cx="2168640" cy="2571840"/>
          </a:xfrm>
          <a:prstGeom prst="rect">
            <a:avLst/>
          </a:prstGeom>
          <a:ln w="0">
            <a:noFill/>
          </a:ln>
        </p:spPr>
      </p:pic>
      <p:pic>
        <p:nvPicPr>
          <p:cNvPr id="406" name="Рисунок 9" descr="250px-Nikolay_Nikolayevich_Novosiltsev.jpg"/>
          <p:cNvPicPr/>
          <p:nvPr/>
        </p:nvPicPr>
        <p:blipFill>
          <a:blip r:embed="rId3"/>
          <a:stretch/>
        </p:blipFill>
        <p:spPr>
          <a:xfrm>
            <a:off x="4572000" y="1714680"/>
            <a:ext cx="2071800" cy="25714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10" descr="strog_bio3_1.jpg"/>
          <p:cNvPicPr/>
          <p:nvPr/>
        </p:nvPicPr>
        <p:blipFill>
          <a:blip r:embed="rId4"/>
          <a:stretch/>
        </p:blipFill>
        <p:spPr>
          <a:xfrm>
            <a:off x="395280" y="1700280"/>
            <a:ext cx="2068560" cy="257184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11" descr="15_31.jpg"/>
          <p:cNvPicPr/>
          <p:nvPr/>
        </p:nvPicPr>
        <p:blipFill>
          <a:blip r:embed="rId5"/>
          <a:stretch/>
        </p:blipFill>
        <p:spPr>
          <a:xfrm>
            <a:off x="6643800" y="1714680"/>
            <a:ext cx="200016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45532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2843280" y="1916280"/>
            <a:ext cx="3371760" cy="3619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517240" cy="1176120"/>
          </a:xfrm>
          <a:prstGeom prst="rect">
            <a:avLst/>
          </a:prstGeom>
          <a:ln w="0">
            <a:noFill/>
          </a:ln>
        </p:spPr>
      </p:pic>
      <p:pic>
        <p:nvPicPr>
          <p:cNvPr id="412" name="Содержимое 9" descr=""/>
          <p:cNvPicPr/>
          <p:nvPr/>
        </p:nvPicPr>
        <p:blipFill>
          <a:blip r:embed="rId3"/>
          <a:stretch/>
        </p:blipFill>
        <p:spPr>
          <a:xfrm>
            <a:off x="450720" y="1620720"/>
            <a:ext cx="8242560" cy="4341960"/>
          </a:xfrm>
          <a:prstGeom prst="rect">
            <a:avLst/>
          </a:prstGeom>
          <a:ln w="0">
            <a:noFill/>
          </a:ln>
        </p:spPr>
      </p:pic>
      <p:sp>
        <p:nvSpPr>
          <p:cNvPr id="413" name="TextBox 11"/>
          <p:cNvSpPr/>
          <p:nvPr/>
        </p:nvSpPr>
        <p:spPr>
          <a:xfrm>
            <a:off x="642960" y="592920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полнительная в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12"/>
          <p:cNvSpPr/>
          <p:nvPr/>
        </p:nvSpPr>
        <p:spPr>
          <a:xfrm>
            <a:off x="3143160" y="600084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конодательная в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5857920" y="6000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удебная в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583840" cy="1311120"/>
          </a:xfrm>
          <a:prstGeom prst="rect">
            <a:avLst/>
          </a:prstGeom>
          <a:ln w="0">
            <a:noFill/>
          </a:ln>
        </p:spPr>
      </p:pic>
      <p:pic>
        <p:nvPicPr>
          <p:cNvPr id="417" name="Содержимое 5" descr=""/>
          <p:cNvPicPr/>
          <p:nvPr/>
        </p:nvPicPr>
        <p:blipFill>
          <a:blip r:embed="rId3"/>
          <a:stretch/>
        </p:blipFill>
        <p:spPr>
          <a:xfrm>
            <a:off x="353880" y="1639800"/>
            <a:ext cx="839952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8:34:56Z</dcterms:created>
  <dc:creator>Rauma</dc:creator>
  <dc:description/>
  <dc:language>en-US</dc:language>
  <cp:lastModifiedBy>WIN7XP</cp:lastModifiedBy>
  <dcterms:modified xsi:type="dcterms:W3CDTF">2012-06-25T17:17:33Z</dcterms:modified>
  <cp:revision>40</cp:revision>
  <dc:subject/>
  <dc:title>Презентация на тему:  «Реформы и реформаторы в России XIX века»</dc:title>
</cp:coreProperties>
</file>