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17.png" ContentType="image/png"/>
  <Override PartName="/ppt/media/image32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B89-F0B8-4CD4-A46A-B9A14594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2BD-71D5-4B71-878E-04C5FC3F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52ED7D-8ACD-4030-A7BD-2589738B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1730E3-2EAF-41F5-94B4-0C6634BC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CA628C-6DCD-444C-8BC7-523E1699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51C625-B95B-4DFD-AFBD-1B04CB8F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2C98B1-CCC8-4606-85D5-1137C21A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5D34D-EDDB-4F44-A646-20E7A1D5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54DEEF-3F34-42A4-9804-578EB40C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C68EE0-C078-44A8-98A5-1C8C3503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CCED03-D484-4240-A6FD-C5CABEF8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462-BC64-460C-B5EC-830441FE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98E-5D63-4603-A7C3-99D8DE90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262C0-5670-497C-B517-4429794D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1DB42-30A3-43E6-8C11-0C3527D0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7BB75-947E-4F97-8D88-239ADBA3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90357-DD58-4113-BD4B-BEB70F9B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6C01D-6946-42FF-B940-C2229018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AE22F-5118-47BA-A753-B9C50E80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30573-FD88-4930-BD29-854A6154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3B0-7806-4C6D-8EAA-1082CA52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A40BC-D0F1-4953-BCF0-C32A12D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348D5-6456-426C-9022-227ADCC4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D82E6-37CB-4058-9635-71DE3B6A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7452C-D67C-4860-B822-374B57C3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95C0D-219C-4CDA-AA72-1DD108E5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FF60-ED06-4254-BB76-397D07D4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78DF-C6C8-4503-844E-B38BD9B9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6E9F-101E-4A11-8922-0FB0B33A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469C2-AFBB-481E-A4B5-89715E6F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DAE6-88CA-4CF6-9563-DF424D19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BED-7676-47FF-948E-96D617B1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A93C0-1048-4A1F-89F1-97982286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C5B7-097F-404C-831D-CBB0BA51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1AAF-B197-42BC-A53A-B15D1C3E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771AA-E8AC-44EE-8665-8D5EBCA1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57519-A8A5-4E07-B94F-106E0C94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83FDF-D5CD-4734-ADAE-D50C4274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3846-4A92-43CB-8455-8669090C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30B0E-B51E-4C69-98E6-D7058723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C83EE-6024-4EA4-9CFE-6DE15A5E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A93662-8A62-4694-870F-B5A9916B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761-F246-4BC6-B0ED-936709E2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7798D-6CCE-41C1-BD41-AE92027F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2A79B-3AB4-4FCC-A79C-12944C1D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F9137-4426-4B9A-B046-4AFA75D7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08138-222E-402E-9C05-44F4B396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8958C-4306-4606-A8B4-6DD1FE8C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C7A72-8145-4888-A456-90A71C09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F8268-6652-4C20-9B3C-0DF7BB5C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31B7D8-E212-42F2-89EE-A9A40244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E38F95-5064-43A4-8B36-31FFEF54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E25E-EF50-49A0-9CCA-CDDDA639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037-9B46-4E8D-8DF6-22AA91FA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77670-9799-4088-8FCD-5C0E110E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F21CB-49FF-4AB3-BA50-EAF107B5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A857D-83C7-4FC5-9FC0-147E36CA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9F38-47C4-4FFE-B0AA-8666D02E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277A-EABA-46E9-90B0-09C3344B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A22E-E50E-4710-B29D-8CCE0B2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50D3F-E04E-49F5-905F-097A9FA8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8AE29-B0F3-4D6E-8E14-BB39B71F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89340-538A-46AF-97CB-F6923BF6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48649-1037-4944-8C8F-AF278F4B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6E3-8018-4A19-B607-F2631730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944C7-9513-4836-9D4F-695633E9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1ABC3-0069-47BF-A02E-38BD9E1D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58267-23AB-403C-A08A-12DBD369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AC197-FD8B-4E4E-A572-AC107FB3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4D53-3E96-419F-92CA-CF5EB419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F340F-38BD-4D90-A048-B75A03F1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A3C0C-2495-412B-8CDB-14555301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F7DE9-EA01-46C2-BD86-46EBF0E2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C66CC-6B34-4F3B-BABE-141A0635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E7E67-0201-407D-A49E-57B74187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645-EFE5-4036-AE69-FFB51BE9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1CC0B-9E18-46DE-BF66-32223747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6C2B5-FC6A-4BB9-A6DD-7857A71E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79B52-E5DC-4F85-80D4-2952AB45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D9B93-A8DC-46BB-8391-BD1B806A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6A982-275D-4241-A5D6-32AEA5C7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39BA5-69BF-42F4-984E-F52E13E5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C62BF-6834-4664-9BF1-FED9F338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FAB2F-B867-4520-AE02-B98C6F34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79CBB-97FF-40E5-B23B-EE59C915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DBF46-3096-4E65-AB66-E21067FF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798-4CB4-41D9-A3D0-7D945AE9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A402B-65B4-4DD0-A739-EA37FEF1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2CF0E-165B-4278-ACFB-B00EF90B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866A0-C20D-4877-853A-3F841FCE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9CBDA-DB71-4D28-87F9-CD8EB8B9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09494-11DE-41A9-85E6-98AC3DFC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E3736-B836-4FFC-B7FC-CF05E432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E96160-AAA7-4937-A4D8-C03F44F5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97BBB4-7122-48D5-8C56-68E0F0AB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67050-5B9C-4475-81AA-9A18F61E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93C959-B3C2-457E-8E8B-EEB95138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AEE-3AD0-457E-9418-3964A038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9942F1-4BC8-41E6-9A4A-5AC19121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1C31D3-F111-4BDF-91CB-2131C5A1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835CAC-9274-4FE4-BCDA-011A5DDE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662E30-A115-443B-BF23-FBD24E96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2D59A3-A921-47CE-88F0-9C80AE16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35430F-F4F4-41BA-A21B-C6D94547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B38D5F-C4B7-4ED0-9121-1BCE1389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2B12BC-0ACD-486C-8E72-576CFD48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2B1BBE-D4A0-4EEE-9B47-F94BDB87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2B1C4-ECEE-46FB-8294-B6CFC8EC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8D2B-3669-4C53-8C3B-833D626307BE}" type="slidenum">
              <a:rPr b="0" lang="en-US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C5C1-B3F6-4528-8375-3D573E734142}" type="slidenum">
              <a:rPr b="0" lang="en-US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38F3-45F8-4295-BE4D-6C6914BDFB9D}" type="slidenum">
              <a:rPr b="0" lang="en-US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1C4E-E2E6-4F66-A778-7F267F8899EA}" type="slidenum">
              <a:rPr b="0" lang="en-US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36D5-020B-4376-B965-F73598C0008E}" type="slidenum">
              <a:rPr b="0" lang="en-US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CE75-4CA5-44DD-B411-FF53E4340B66}" type="slidenum">
              <a:rPr b="0" lang="ru-RU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DEDE-9DC8-41A7-8931-29CF0A8BC76C}" type="slidenum">
              <a:rPr b="0" lang="ru-RU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E079-E49C-4412-803C-FE0ED70D3AE7}" type="slidenum">
              <a:rPr b="0" lang="ru-RU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8808-3E8F-4EF5-8388-74B31CDEC06E}" type="slidenum">
              <a:rPr b="0" lang="ru-RU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682560" y="738360"/>
            <a:ext cx="8070840" cy="2977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583840" cy="1311120"/>
          </a:xfrm>
          <a:prstGeom prst="rect">
            <a:avLst/>
          </a:prstGeom>
          <a:ln w="0">
            <a:noFill/>
          </a:ln>
        </p:spPr>
      </p:pic>
      <p:pic>
        <p:nvPicPr>
          <p:cNvPr id="419" name="Содержимое 3" descr=""/>
          <p:cNvPicPr/>
          <p:nvPr/>
        </p:nvPicPr>
        <p:blipFill>
          <a:blip r:embed="rId3"/>
          <a:stretch/>
        </p:blipFill>
        <p:spPr>
          <a:xfrm>
            <a:off x="324000" y="1639800"/>
            <a:ext cx="8369280" cy="4548240"/>
          </a:xfrm>
          <a:prstGeom prst="rect">
            <a:avLst/>
          </a:prstGeom>
          <a:ln w="0">
            <a:noFill/>
          </a:ln>
        </p:spPr>
      </p:pic>
      <p:sp>
        <p:nvSpPr>
          <p:cNvPr id="420" name="TextBox 4"/>
          <p:cNvSpPr/>
          <p:nvPr/>
        </p:nvSpPr>
        <p:spPr>
          <a:xfrm>
            <a:off x="4929120" y="328608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ыборность распорядительных и исполнительных органов власти на 4-х уровнях(волость, уезд, губерния, импер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4214880" y="485784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деление властей власти: законодательная, исполнительная, судеб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843280" y="1844640"/>
            <a:ext cx="3533760" cy="4343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2"/>
          <a:stretch/>
        </p:blipFill>
        <p:spPr>
          <a:xfrm>
            <a:off x="420840" y="208080"/>
            <a:ext cx="8540640" cy="1163520"/>
          </a:xfrm>
          <a:prstGeom prst="rect">
            <a:avLst/>
          </a:prstGeom>
          <a:ln w="0">
            <a:noFill/>
          </a:ln>
        </p:spPr>
      </p:pic>
      <p:pic>
        <p:nvPicPr>
          <p:cNvPr id="425" name="Группа 34" descr=""/>
          <p:cNvPicPr/>
          <p:nvPr/>
        </p:nvPicPr>
        <p:blipFill>
          <a:blip r:embed="rId3"/>
          <a:stretch/>
        </p:blipFill>
        <p:spPr>
          <a:xfrm>
            <a:off x="274680" y="1414440"/>
            <a:ext cx="8315280" cy="5310360"/>
          </a:xfrm>
          <a:prstGeom prst="rect">
            <a:avLst/>
          </a:prstGeom>
          <a:ln w="0">
            <a:noFill/>
          </a:ln>
        </p:spPr>
      </p:pic>
      <p:sp>
        <p:nvSpPr>
          <p:cNvPr id="426" name="TextBox 35"/>
          <p:cNvSpPr/>
          <p:nvPr/>
        </p:nvSpPr>
        <p:spPr>
          <a:xfrm>
            <a:off x="4000680" y="292896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ператор Никола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(1825-185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2700360" y="1916280"/>
            <a:ext cx="3790800" cy="4286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71520" y="1428840"/>
            <a:ext cx="57862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анифест об отмене крепостного права был подписан 3 марта 1861 года. А 17 марта, в последний день масленицы, по всем российским церквям во время обедни манифест Александра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б отмене крепостного права был обнародован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1" name="Рисунок 3" descr="Alexandr-II.jpg"/>
          <p:cNvPicPr/>
          <p:nvPr/>
        </p:nvPicPr>
        <p:blipFill>
          <a:blip r:embed="rId3"/>
          <a:stretch/>
        </p:blipFill>
        <p:spPr>
          <a:xfrm>
            <a:off x="285840" y="1571760"/>
            <a:ext cx="3084480" cy="4089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420840" y="-6480"/>
            <a:ext cx="845496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2627280" y="1341360"/>
            <a:ext cx="3876840" cy="5124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2340000" y="1484280"/>
            <a:ext cx="4514760" cy="5045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437" name="Группа 21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89186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Arial"/>
              </a:rPr>
              <a:t>ЭПИГРАФ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 Век девятнадцатый, железный,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истину жестокий век!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бою в мрак ночной, беззвездны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спечный брошен человек!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знаком равенства и братств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зрели тёмные дела…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Блок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583840" cy="13111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3019680" cy="43527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4788000" y="1700280"/>
            <a:ext cx="2952720" cy="4371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еформы инициировались «сверху» — самодержавием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еформаторы всегда наталкивались на сильное сопротивление контрреформаторских сил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лияние реформ на развитие страны чаще всего было двойственным: успешные преобразования предотвращали революционные потрясения, а непродуманные, не доведенные до конца — их приближал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1692360" y="1773360"/>
            <a:ext cx="5762520" cy="4228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5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Строганов         Кочубей      Новосильцев   Чарторыйски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5" name="Рисунок 8" descr="kochubey-vp.jpg"/>
          <p:cNvPicPr/>
          <p:nvPr/>
        </p:nvPicPr>
        <p:blipFill>
          <a:blip r:embed="rId2"/>
          <a:stretch/>
        </p:blipFill>
        <p:spPr>
          <a:xfrm>
            <a:off x="2411280" y="1700280"/>
            <a:ext cx="2168640" cy="257184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9" descr="250px-Nikolay_Nikolayevich_Novosiltsev.jpg"/>
          <p:cNvPicPr/>
          <p:nvPr/>
        </p:nvPicPr>
        <p:blipFill>
          <a:blip r:embed="rId3"/>
          <a:stretch/>
        </p:blipFill>
        <p:spPr>
          <a:xfrm>
            <a:off x="4572000" y="1714680"/>
            <a:ext cx="2071800" cy="25714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0" descr="strog_bio3_1.jpg"/>
          <p:cNvPicPr/>
          <p:nvPr/>
        </p:nvPicPr>
        <p:blipFill>
          <a:blip r:embed="rId4"/>
          <a:stretch/>
        </p:blipFill>
        <p:spPr>
          <a:xfrm>
            <a:off x="395280" y="1700280"/>
            <a:ext cx="2068560" cy="257184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11" descr="15_31.jpg"/>
          <p:cNvPicPr/>
          <p:nvPr/>
        </p:nvPicPr>
        <p:blipFill>
          <a:blip r:embed="rId5"/>
          <a:stretch/>
        </p:blipFill>
        <p:spPr>
          <a:xfrm>
            <a:off x="6643800" y="1714680"/>
            <a:ext cx="20001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2843280" y="1916280"/>
            <a:ext cx="3371760" cy="3619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517240" cy="117612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9" descr=""/>
          <p:cNvPicPr/>
          <p:nvPr/>
        </p:nvPicPr>
        <p:blipFill>
          <a:blip r:embed="rId3"/>
          <a:stretch/>
        </p:blipFill>
        <p:spPr>
          <a:xfrm>
            <a:off x="450720" y="1620720"/>
            <a:ext cx="8242560" cy="434196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1"/>
          <p:cNvSpPr/>
          <p:nvPr/>
        </p:nvSpPr>
        <p:spPr>
          <a:xfrm>
            <a:off x="642960" y="59292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нительная в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12"/>
          <p:cNvSpPr/>
          <p:nvPr/>
        </p:nvSpPr>
        <p:spPr>
          <a:xfrm>
            <a:off x="3143160" y="60008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конодательная в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5857920" y="6000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дебная в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583840" cy="131112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5" descr=""/>
          <p:cNvPicPr/>
          <p:nvPr/>
        </p:nvPicPr>
        <p:blipFill>
          <a:blip r:embed="rId3"/>
          <a:stretch/>
        </p:blipFill>
        <p:spPr>
          <a:xfrm>
            <a:off x="353880" y="1639800"/>
            <a:ext cx="839952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8:34:56Z</dcterms:created>
  <dc:creator>Rauma</dc:creator>
  <dc:description/>
  <dc:language>en-US</dc:language>
  <cp:lastModifiedBy>WIN7XP</cp:lastModifiedBy>
  <dcterms:modified xsi:type="dcterms:W3CDTF">2012-06-25T17:17:33Z</dcterms:modified>
  <cp:revision>40</cp:revision>
  <dc:subject/>
  <dc:title>Презентация на тему:  «Реформы и реформаторы в России XIX века»</dc:title>
</cp:coreProperties>
</file>