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802-C75C-4433-B9C8-365DC036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694-B77C-433C-9BB1-A6E6C39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A4D-75E5-4C14-BB8E-C5B8B41B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93A-F9B7-46E2-B7CE-AFDE59CD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BEE-E6D3-4417-B56F-7C06E423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E947-F216-41BE-A2D3-DF70592A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BB8-C089-47E2-9E19-F739339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00D2-2F25-4413-901F-02639004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D39A-7E31-4267-955F-E2ABA9F8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7F87-822C-4323-9864-34BA89F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71F8-793E-416C-BF29-9CD32B6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1B4-0194-490F-94E4-17BBD25A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F57B-6420-4D5F-A9D8-3E66FFF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35E1-B8A7-451A-83FA-65534E5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A710-718D-47D3-BB47-8481C7BE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61B-9712-4D67-8F60-3E896838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562C-C83E-4197-8FBB-F65DA5C5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6462-4739-4390-91E5-84628147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A9FA-73D4-4254-A63D-F52AABB5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5CC6-A9A4-428F-ABA8-1E9CFC0A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CB86-D685-4950-B718-0B573C7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E192-3436-45FB-9EDB-0A65746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F59-4C71-449A-A19B-FF2B1A4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999E-5CCF-47CD-BFC7-D061C3D1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906B-482D-4416-848F-6C35D6A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613C-DE63-4CB5-AC31-4A7E15F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48E6-1C88-49B2-BDFA-B54732C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7392-67DB-4AF2-8CEA-9C09AE5E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0426-E693-4F3B-B64B-59F5FCD8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1C80-804A-4858-86E6-8345E144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DD26-DF36-4442-A996-62DA0693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8D3D-B412-4E78-A26E-964E9C8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27BC-C4B2-43FF-A5FE-ED6BF62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DB8-3192-47FD-B186-1E833990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6573-8E9A-48E4-AFC9-B61F3778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CC20-E7ED-4B3F-B2D7-965D369E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B6D9-B5C4-4188-9A2A-83E5E3E7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77F7-8A6B-4A7C-8DB8-3A3B5BC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55B9-8144-4A81-8EF0-BEDCD971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7256-D7C8-482D-91D1-637B6B3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F238-EA41-4952-83E6-4600AE7E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2F0C-535A-4FB2-865D-F7E9BEDD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6486A-9FD1-495A-904D-BD4285BA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1F7F-8D9E-451C-9EB8-60109AF9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610-3E74-4AF9-8E99-8E4C7576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6249-8E9B-499B-8542-CEA1168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2218-FE68-4CED-9589-F1DB3965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DC81-DF3F-4949-9BDD-820FC627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F1EF-8586-421B-8F41-A435C38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78FC-4E35-4648-AC63-B604E539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45AC-19C5-446E-8CA6-09F2E705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ABD6-F03B-4159-8A43-520687D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9481-373D-4B55-8CF2-9E7A8F2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E43A2-A2DB-427D-BC1B-9F053E14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BCA2-ABBA-4D56-BF8C-69B2AEF0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DC5-E5A3-4F00-BCCD-02862D14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C4FA6-4DF0-4E5F-ADE3-D13FDF2D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BBC5C9-96C4-4D93-948D-BCAF5B52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E5BD4-3DCD-4744-B4EB-3F8818C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556ED4-B4E7-4699-BD38-50A37A6D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CC711C-7394-49DD-A1BF-283DB857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F00C9-B53B-44BD-8EC0-68E7D08F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5276D-9C05-4923-BD9F-150F55D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28675D-8AD4-4597-8122-88BD9DC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B340E-5D55-4D69-B312-FEE67A0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BB7FD6-E22E-4378-BBEE-0F11A0B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4D8-FA33-4746-ADD3-0ED5D09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16B2F5-1BBF-4D43-A865-F9571B6D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A8243D-3A50-4C1E-BCF9-89FD325B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945AC-14E3-47FE-9021-4D56AFE8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745-D78B-4BEE-B4E2-DDC34BD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F30-1ECC-4DB4-89E8-4E26636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E7FF-B651-4332-B6F0-F6B0E718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2189-2FC1-4B68-95AC-E7E6C21B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29BB-5B5A-48FE-BD6D-EDCC3E944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EB8F-412A-4997-BAD6-F48113FAD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BA2-1DC9-413C-A0DB-5E97A711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16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DC1-053D-4F31-9161-35812958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8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71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74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434280" y="476280"/>
            <a:ext cx="1919160" cy="244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515772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</a:rPr>
              <a:t>Донаурова Наталья Витальевна </a:t>
            </a:r>
            <a:br>
              <a:rPr sz="4400"/>
            </a:br>
            <a:r>
              <a:rPr b="0" lang="ru-RU" sz="3600" spc="-1" strike="noStrike">
                <a:solidFill>
                  <a:srgbClr val="990033"/>
                </a:solidFill>
                <a:latin typeface="Times New Roman"/>
              </a:rPr>
              <a:t>учитель начальных класс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33"/>
                </a:solidFill>
                <a:latin typeface="Times New Roman"/>
              </a:rPr>
              <a:t>средняя школа №1 г.Елабуга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58920" y="692280"/>
            <a:ext cx="70581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 ПЕШЕХ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24720" cy="4797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195640" y="4724280"/>
            <a:ext cx="6562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тболистам должно быть яс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мостовой играть опас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969080" cy="4959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8360" y="333360"/>
            <a:ext cx="828036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т знак-пешеходный переход</a:t>
            </a:r>
            <a:endParaRPr b="1" lang="en-US" sz="5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dou_5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50920" y="5589720"/>
            <a:ext cx="8427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ый безопасный переход-подземны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img"/>
          <p:cNvPicPr/>
          <p:nvPr/>
        </p:nvPicPr>
        <p:blipFill>
          <a:blip r:embed="rId1"/>
          <a:stretch/>
        </p:blipFill>
        <p:spPr>
          <a:xfrm>
            <a:off x="0" y="2565360"/>
            <a:ext cx="8567640" cy="4292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7986960" cy="51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т обычный пере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нему идёт нар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десь специальная размет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Зеброю» зовётся мет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275520" cy="4467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826920" y="4869000"/>
            <a:ext cx="7129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гда иди по тротуару - это дорога для пешехода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840360" cy="4024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420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Красный-стой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 Narrow"/>
              </a:rPr>
              <a:t>Жёлтый-жди</a:t>
            </a:r>
            <a:br>
              <a:rPr sz="4800"/>
            </a:br>
            <a:r>
              <a:rPr b="0" lang="ru-RU" sz="4800" spc="-1" strike="noStrike">
                <a:solidFill>
                  <a:srgbClr val="33cc33"/>
                </a:solidFill>
                <a:latin typeface="Arial Narrow"/>
              </a:rPr>
              <a:t>А зелёный – в путь иди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pic8"/>
          <p:cNvPicPr/>
          <p:nvPr/>
        </p:nvPicPr>
        <p:blipFill>
          <a:blip r:embed="rId1"/>
          <a:stretch/>
        </p:blipFill>
        <p:spPr>
          <a:xfrm>
            <a:off x="611280" y="1268280"/>
            <a:ext cx="7758000" cy="45356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48974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Не играй в прятки с водителем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76360" y="5734080"/>
            <a:ext cx="61531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перебегай дорогу перед движущейся машиной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2:08:00Z</dcterms:created>
  <dc:creator>FuckYouBill</dc:creator>
  <dc:description/>
  <cp:keywords/>
  <dc:language>en-US</dc:language>
  <cp:lastModifiedBy>FuckYouBill</cp:lastModifiedBy>
  <dcterms:modified xsi:type="dcterms:W3CDTF">2012-01-31T15:21:36Z</dcterms:modified>
  <cp:revision>7</cp:revision>
  <dc:subject/>
  <dc:title>Донаурова Наталья Витальевна  учитель начальных классов  средняя школа №1 Г.Елабу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41049</vt:lpwstr>
  </property>
</Properties>
</file>