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4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9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1239-5C29-489E-A856-112F94010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72F7-8B1C-4739-A593-739BF22EE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0C54-90E2-43C0-9B3E-BF06AE497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0036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9140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0932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50036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79140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D783-B7CC-4B9D-BA72-EC2C1C4C1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2FF44-35ED-4F85-A186-F316C2B6C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BA3B4-26ED-4FA8-AE8B-87B9A6E06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734E5-B8B2-4A2E-8915-27AE8464D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A3CC3-913E-4765-A12B-7EE361DDB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49B27-C838-4118-B993-3FB80962A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117880" y="-360"/>
            <a:ext cx="686736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BABC2-7EF2-44FB-A8FB-A1494F09C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E6A9F-82C7-4426-97CC-56E5CA166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D145-8071-4ABC-AFC1-C73DA10B6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4E382-5D61-465C-86FA-335F58AC7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9C265-F765-469C-861A-A4A62525B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4EE48-AD39-421E-BF72-014CC79FB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E2585-7346-4562-BEA4-28F5FFABA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0036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79140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0932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50036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79140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728A2-A714-48B1-BC67-F3186A1DC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3557AA-7908-4F5A-AA2D-79BA09AB3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86B994-525A-4C4C-B53F-ECB60F33F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D632C9-2839-4702-9ADF-5571A6F00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A83804-8040-4BCF-9D6A-D88F4CF2A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7BB493-B385-43AB-9CCF-EAF008824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1FFC-6FCB-4E9E-B7A8-848E6841B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117880" y="-360"/>
            <a:ext cx="686736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DD871F-7322-468C-8347-195C4E560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8FCF39-89B1-4AF0-9451-FAE62E0ED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A80E07-473A-422D-97A6-8728D285B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5B2A6E-ECCD-4881-BD2E-D71024275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1CE3C1-DAFD-42AD-9E53-F02C67EE3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BE8D3F-8997-4D4B-A50C-21195FC38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0036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79140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0932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50036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79140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1CD032-2CD2-419F-9657-502FAC461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12A7D4-E46C-40DF-9C39-CE08B6727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B72CE0-5A79-4588-BD87-01E5363B6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057E41-1C69-4FC2-BA86-ABED9F82F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DD11-3B85-4F64-8A95-65C2456EB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FC73FA-4D30-442F-9835-53F7A0BD1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931C45-EEAF-44C0-8AEF-835BBED83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117880" y="-360"/>
            <a:ext cx="686736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722D0F-F4CC-4856-8F48-60A5C245B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FBCE42-FF50-4ED6-9E09-312264670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2E855B-D89B-4412-B199-9029E08D8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E361AF-7137-400D-9C3B-92365F873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B5DAC4-FA8F-48B7-9970-E1309A386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312DFF-1548-4E41-BFC1-C99CAE4DF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0036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79140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0932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450036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79140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DBA3F3-BB4E-492A-82C1-0D564FEAB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4A9F8C-7265-4646-AC6F-5CF94BAFB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0C50-50B3-4965-996B-722FF92B0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DC1567-09A4-4CEE-B48A-24FDDD224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6A1ACE-2617-4E9F-AF7B-5F9AB4048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2D2D6F-5253-4B42-AAB5-748B58301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85AD45-5FAA-4EEB-BFE7-A4C6881E4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2117880" y="-360"/>
            <a:ext cx="686736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7E6901-2DE7-48EC-A1EE-E9B12DA81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12B9A3-4545-4A9A-B4E4-47CDD66BA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4CBC63-1B1A-4539-8A29-5FCF2059D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486A7C-DABA-4453-B609-213CE08D4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96AFD5-CD5F-464C-AA8A-6D5F3C131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5A1B1D-4E03-4800-9A42-249002F2E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17880" y="-360"/>
            <a:ext cx="686736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8453-A461-420C-8394-9CA68EAB1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50036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79140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220932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450036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79140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D3B923-007B-4F19-8754-95E379F84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C81EFB9-DB8F-49FC-B504-5891128FC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FBA4835-0A7B-4FF6-93B9-344AC7780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A0B0BC8-23EE-4C65-BBA1-5C82CD462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CFCAB1B-6149-4B13-9CF0-3945A4C2A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0DEC204-E78E-4DFC-BDC8-26EB6416D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2117880" y="-360"/>
            <a:ext cx="686736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D1DC683-2AB1-4698-852E-B81635DD9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D04CEC8-DEAE-4EDC-A5E9-DF70EE461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031FE60-D8CF-4D84-AB01-FD4F9DDA6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A1FC475-5A5C-482B-A0A9-02E8C723E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C6CA-3D91-47F9-BBFC-4063A8AA4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F39C34B-A376-40C3-96B2-9EBB0509C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29A2543-ACC6-411B-B6CE-BC8622913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50036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79140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220932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450036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79140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67BEEDC-31FD-4C11-8552-42B91A8BB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2117880" y="-360"/>
            <a:ext cx="686736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B37F-63C3-4C0F-BC59-4DF4AAE53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50036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79140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220932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450036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79140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895A-6476-48E6-B28E-CB46BC7A8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ED13F-851A-433F-91B0-B6E069C7CE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756F0-EFF9-4647-9CA4-992073CFAA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5C3CC-23B3-4299-BA60-BE2370751D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336B7-3BBA-47C4-A19A-A1117D76FA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6415200"/>
            <a:ext cx="9142560" cy="44136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574040" y="5902200"/>
            <a:ext cx="1569960" cy="955800"/>
          </a:xfrm>
          <a:custGeom>
            <a:avLst/>
            <a:gdLst/>
            <a:ahLst/>
            <a:rect l="l" t="t" r="r" b="b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575480" y="6176880"/>
            <a:ext cx="1568520" cy="681120"/>
          </a:xfrm>
          <a:custGeom>
            <a:avLst/>
            <a:gdLst/>
            <a:ahLst/>
            <a:rect l="l" t="t" r="r" b="b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0"/>
            <a:ext cx="9142560" cy="129528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0"/>
            <a:ext cx="2211480" cy="6858000"/>
          </a:xfrm>
          <a:custGeom>
            <a:avLst/>
            <a:gdLst/>
            <a:ahLst/>
            <a:rect l="l" t="t" r="r" b="b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dt" idx="13"/>
          </p:nvPr>
        </p:nvSpPr>
        <p:spPr>
          <a:xfrm>
            <a:off x="57924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ftr" idx="14"/>
          </p:nvPr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-15840"/>
            <a:ext cx="1522440" cy="6873840"/>
          </a:xfrm>
          <a:custGeom>
            <a:avLst/>
            <a:gdLst/>
            <a:ahLst/>
            <a:rect l="l" t="t" r="r" b="b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body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7923240" y="6414840"/>
            <a:ext cx="96984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93110-CEC2-4699-BCF5-E19D279BE0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568520" y="4454640"/>
            <a:ext cx="7574040" cy="952560"/>
          </a:xfrm>
          <a:prstGeom prst="rect">
            <a:avLst/>
          </a:prstGeom>
          <a:solidFill>
            <a:srgbClr val="8686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6415200"/>
            <a:ext cx="9142560" cy="44136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574040" y="5902200"/>
            <a:ext cx="1569960" cy="955800"/>
          </a:xfrm>
          <a:custGeom>
            <a:avLst/>
            <a:gdLst/>
            <a:ahLst/>
            <a:rect l="l" t="t" r="r" b="b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75480" y="6176880"/>
            <a:ext cx="1568520" cy="681120"/>
          </a:xfrm>
          <a:custGeom>
            <a:avLst/>
            <a:gdLst/>
            <a:ahLst/>
            <a:rect l="l" t="t" r="r" b="b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0"/>
            <a:ext cx="9142560" cy="129528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0"/>
            <a:ext cx="2211480" cy="6858000"/>
          </a:xfrm>
          <a:custGeom>
            <a:avLst/>
            <a:gdLst/>
            <a:ahLst/>
            <a:rect l="l" t="t" r="r" b="b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240" y="-15840"/>
            <a:ext cx="1522440" cy="6873840"/>
          </a:xfrm>
          <a:custGeom>
            <a:avLst/>
            <a:gdLst/>
            <a:ahLst/>
            <a:rect l="l" t="t" r="r" b="b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ldNum" idx="16"/>
          </p:nvPr>
        </p:nvSpPr>
        <p:spPr>
          <a:xfrm>
            <a:off x="7772400" y="6414840"/>
            <a:ext cx="137160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7C266-FDC4-4AB9-A040-927AD401D1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ftr" idx="17"/>
          </p:nvPr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dt" idx="18"/>
          </p:nvPr>
        </p:nvSpPr>
        <p:spPr>
          <a:xfrm>
            <a:off x="57924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258" name=""/>
            <p:cNvSpPr/>
            <p:nvPr/>
          </p:nvSpPr>
          <p:spPr>
            <a:xfrm>
              <a:off x="457200" y="76320"/>
              <a:ext cx="8229600" cy="3808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6320" y="457200"/>
              <a:ext cx="380880" cy="59436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57200" y="6400800"/>
              <a:ext cx="8229600" cy="38088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8686800" y="457200"/>
              <a:ext cx="380880" cy="59436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57200" y="457200"/>
              <a:ext cx="8229600" cy="5943600"/>
            </a:xfrm>
            <a:prstGeom prst="rect">
              <a:avLst/>
            </a:prstGeom>
            <a:noFill/>
            <a:ln cap="sq" w="57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6320" y="76320"/>
              <a:ext cx="8991360" cy="6705360"/>
            </a:xfrm>
            <a:prstGeom prst="rect">
              <a:avLst/>
            </a:prstGeom>
            <a:noFill/>
            <a:ln cap="sq"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4" name=""/>
            <p:cNvGrpSpPr/>
            <p:nvPr/>
          </p:nvGrpSpPr>
          <p:grpSpPr>
            <a:xfrm>
              <a:off x="0" y="0"/>
              <a:ext cx="609480" cy="609480"/>
              <a:chOff x="0" y="0"/>
              <a:chExt cx="609480" cy="609480"/>
            </a:xfrm>
          </p:grpSpPr>
          <p:sp>
            <p:nvSpPr>
              <p:cNvPr id="265" name=""/>
              <p:cNvSpPr/>
              <p:nvPr/>
            </p:nvSpPr>
            <p:spPr>
              <a:xfrm>
                <a:off x="0" y="0"/>
                <a:ext cx="609480" cy="60948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60200" y="160200"/>
                <a:ext cx="289080" cy="289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57575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7" name=""/>
            <p:cNvGrpSpPr/>
            <p:nvPr/>
          </p:nvGrpSpPr>
          <p:grpSpPr>
            <a:xfrm>
              <a:off x="0" y="6246720"/>
              <a:ext cx="609480" cy="609840"/>
              <a:chOff x="0" y="6246720"/>
              <a:chExt cx="609480" cy="609840"/>
            </a:xfrm>
          </p:grpSpPr>
          <p:sp>
            <p:nvSpPr>
              <p:cNvPr id="268" name=""/>
              <p:cNvSpPr/>
              <p:nvPr/>
            </p:nvSpPr>
            <p:spPr>
              <a:xfrm>
                <a:off x="0" y="6246720"/>
                <a:ext cx="609480" cy="60984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160200" y="6407280"/>
                <a:ext cx="289080" cy="288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57575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0" name=""/>
            <p:cNvGrpSpPr/>
            <p:nvPr/>
          </p:nvGrpSpPr>
          <p:grpSpPr>
            <a:xfrm>
              <a:off x="8532720" y="6246720"/>
              <a:ext cx="609840" cy="609840"/>
              <a:chOff x="8532720" y="6246720"/>
              <a:chExt cx="609840" cy="609840"/>
            </a:xfrm>
          </p:grpSpPr>
          <p:sp>
            <p:nvSpPr>
              <p:cNvPr id="271" name=""/>
              <p:cNvSpPr/>
              <p:nvPr/>
            </p:nvSpPr>
            <p:spPr>
              <a:xfrm>
                <a:off x="8532720" y="6246720"/>
                <a:ext cx="609840" cy="60984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8693280" y="6407280"/>
                <a:ext cx="288720" cy="288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57575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8532720" y="0"/>
              <a:ext cx="609840" cy="609480"/>
              <a:chOff x="8532720" y="0"/>
              <a:chExt cx="609840" cy="609480"/>
            </a:xfrm>
          </p:grpSpPr>
          <p:sp>
            <p:nvSpPr>
              <p:cNvPr id="274" name=""/>
              <p:cNvSpPr/>
              <p:nvPr/>
            </p:nvSpPr>
            <p:spPr>
              <a:xfrm>
                <a:off x="8532720" y="0"/>
                <a:ext cx="609840" cy="60948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8693280" y="160200"/>
                <a:ext cx="288720" cy="289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57575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1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2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3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4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5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6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7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" descr=""/>
          <p:cNvPicPr/>
          <p:nvPr/>
        </p:nvPicPr>
        <p:blipFill>
          <a:blip r:embed="rId2"/>
          <a:stretch/>
        </p:blipFill>
        <p:spPr>
          <a:xfrm>
            <a:off x="6434280" y="476280"/>
            <a:ext cx="1919160" cy="2448000"/>
          </a:xfrm>
          <a:prstGeom prst="rect">
            <a:avLst/>
          </a:prstGeom>
          <a:ln w="0">
            <a:noFill/>
          </a:ln>
        </p:spPr>
      </p:pic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11280" y="5157720"/>
            <a:ext cx="6400800" cy="1008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33"/>
                </a:solidFill>
                <a:latin typeface="Times New Roman"/>
              </a:rPr>
              <a:t>Донаурова Наталья Витальевна </a:t>
            </a:r>
            <a:br>
              <a:rPr sz="4400"/>
            </a:br>
            <a:r>
              <a:rPr b="0" lang="ru-RU" sz="3600" spc="-1" strike="noStrike">
                <a:solidFill>
                  <a:srgbClr val="990033"/>
                </a:solidFill>
                <a:latin typeface="Times New Roman"/>
              </a:rPr>
              <a:t>учитель начальных классов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990033"/>
                </a:solidFill>
                <a:latin typeface="Times New Roman"/>
              </a:rPr>
              <a:t>средняя школа №1 г.Елабуга</a:t>
            </a:r>
            <a:endParaRPr b="0" lang="en-US" sz="3600" spc="-1" strike="noStrike">
              <a:solidFill>
                <a:srgbClr val="990033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0" y="14400"/>
            <a:ext cx="9144000" cy="68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 txBox="1"/>
          <p:nvPr/>
        </p:nvSpPr>
        <p:spPr>
          <a:xfrm>
            <a:off x="1258920" y="692280"/>
            <a:ext cx="7058160" cy="129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ШКОЛА ПЕШЕХОД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7524720" cy="479736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 txBox="1"/>
          <p:nvPr/>
        </p:nvSpPr>
        <p:spPr>
          <a:xfrm>
            <a:off x="2195640" y="4724280"/>
            <a:ext cx="656244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Футболистам должно быть ясно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На мостовой играть опасно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1908000" y="1413000"/>
            <a:ext cx="4969080" cy="495936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 txBox="1"/>
          <p:nvPr/>
        </p:nvSpPr>
        <p:spPr>
          <a:xfrm>
            <a:off x="468360" y="333360"/>
            <a:ext cx="8280360" cy="10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Этот знак-пешеходный переход</a:t>
            </a:r>
            <a:endParaRPr b="1" lang="en-US" sz="5400" spc="1" strike="noStrike">
              <a:ln w="0">
                <a:noFill/>
              </a:ln>
              <a:solidFill>
                <a:srgbClr val="80008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5" descr="dou_5"/>
          <p:cNvPicPr/>
          <p:nvPr/>
        </p:nvPicPr>
        <p:blipFill>
          <a:blip r:embed="rId1"/>
          <a:stretch/>
        </p:blipFill>
        <p:spPr>
          <a:xfrm>
            <a:off x="0" y="0"/>
            <a:ext cx="9144000" cy="551664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 txBox="1"/>
          <p:nvPr/>
        </p:nvSpPr>
        <p:spPr>
          <a:xfrm>
            <a:off x="250920" y="5589720"/>
            <a:ext cx="84279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амый безопасный переход-подземный</a:t>
            </a:r>
            <a:endParaRPr b="1" lang="en-US" sz="1800" spc="1" strike="noStrike">
              <a:ln w="0">
                <a:noFill/>
              </a:ln>
              <a:solidFill>
                <a:srgbClr val="00008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8" descr="img"/>
          <p:cNvPicPr/>
          <p:nvPr/>
        </p:nvPicPr>
        <p:blipFill>
          <a:blip r:embed="rId1"/>
          <a:stretch/>
        </p:blipFill>
        <p:spPr>
          <a:xfrm>
            <a:off x="0" y="2565360"/>
            <a:ext cx="8567640" cy="42926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1908000" y="333360"/>
            <a:ext cx="7986960" cy="515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от обычный перехо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о нему идёт наро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Здесь специальная размет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«Зеброю» зовётся метк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1258920" y="404640"/>
            <a:ext cx="6275520" cy="446724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 txBox="1"/>
          <p:nvPr/>
        </p:nvSpPr>
        <p:spPr>
          <a:xfrm>
            <a:off x="826920" y="4869000"/>
            <a:ext cx="71298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сегда иди по тротуару - это дорога для пешехода</a:t>
            </a:r>
            <a:endParaRPr b="1" lang="en-US" sz="1800" spc="1" strike="noStrike">
              <a:ln w="0">
                <a:noFill/>
              </a:ln>
              <a:solidFill>
                <a:srgbClr val="00008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1332000" y="476280"/>
            <a:ext cx="6840360" cy="402444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4000" y="836280"/>
            <a:ext cx="8134200" cy="554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ru-RU" sz="4800" spc="-1" strike="noStrike">
                <a:solidFill>
                  <a:srgbClr val="ff0000"/>
                </a:solidFill>
                <a:latin typeface="Arial Narrow"/>
              </a:rPr>
              <a:t>Красный-стой</a:t>
            </a:r>
            <a:br>
              <a:rPr sz="4800"/>
            </a:br>
            <a:r>
              <a:rPr b="0" lang="ru-RU" sz="4800" spc="-1" strike="noStrike">
                <a:solidFill>
                  <a:srgbClr val="ffff00"/>
                </a:solidFill>
                <a:latin typeface="Arial Narrow"/>
              </a:rPr>
              <a:t>Жёлтый-жди</a:t>
            </a:r>
            <a:br>
              <a:rPr sz="4800"/>
            </a:br>
            <a:r>
              <a:rPr b="0" lang="ru-RU" sz="4800" spc="-1" strike="noStrike">
                <a:solidFill>
                  <a:srgbClr val="33cc33"/>
                </a:solidFill>
                <a:latin typeface="Arial Narrow"/>
              </a:rPr>
              <a:t>А зелёный – в путь иди</a:t>
            </a: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5" descr="pic8"/>
          <p:cNvPicPr/>
          <p:nvPr/>
        </p:nvPicPr>
        <p:blipFill>
          <a:blip r:embed="rId1"/>
          <a:stretch/>
        </p:blipFill>
        <p:spPr>
          <a:xfrm>
            <a:off x="611280" y="1268280"/>
            <a:ext cx="7758000" cy="453564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124000" y="980640"/>
            <a:ext cx="489744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3300"/>
                </a:solidFill>
                <a:latin typeface="Times New Roman"/>
              </a:rPr>
              <a:t>Не играй в прятки с водителем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1476360" y="5734080"/>
            <a:ext cx="6153120" cy="98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Не перебегай дорогу перед движущейся машиной</a:t>
            </a:r>
            <a:endParaRPr b="1" lang="en-US" sz="1800" spc="1" strike="noStrike">
              <a:ln w="0">
                <a:noFill/>
              </a:ln>
              <a:solidFill>
                <a:srgbClr val="0000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9T12:08:00Z</dcterms:created>
  <dc:creator>FuckYouBill</dc:creator>
  <dc:description/>
  <cp:keywords/>
  <dc:language>en-US</dc:language>
  <cp:lastModifiedBy>FuckYouBill</cp:lastModifiedBy>
  <dcterms:modified xsi:type="dcterms:W3CDTF">2012-01-31T15:21:36Z</dcterms:modified>
  <cp:revision>7</cp:revision>
  <dc:subject/>
  <dc:title>Донаурова Наталья Витальевна  учитель начальных классов  средняя школа №1 Г.Елабуг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1080241049</vt:lpwstr>
  </property>
</Properties>
</file>