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284-3E03-4758-B1C4-87903C85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44EF-A1E7-445E-9481-0D980F0F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D8C-7C75-409D-829E-3AEE98FD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24F-F2D0-4811-A689-7A7E4FA4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E008-FB75-451E-B417-EC524EFE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1668-A12A-4167-B2DC-D0BFA92E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85D0-EE62-45BC-98E5-FD5513C0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3440-FE1D-4ADB-B590-C61EF9EE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8903-B133-4F84-A957-2CE96625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6063-1B68-42F2-A813-80D0BB8E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2C95-C4D5-40E9-8A69-A6EA1A79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9C6-44A6-4DFA-B609-1F5721D8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F04C-7A14-4E4F-87DD-18BF66A8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6521-979B-4708-9719-2CBF3667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18A7-E399-403E-850A-9DFD602E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7023-9490-4EB2-BE2F-8A65BD38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BD24-7AB0-400D-A053-80BB5A48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A278-169A-4AED-911F-211085F9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469C7-6FB8-4AB0-BA5C-8B2D0B27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4801C-9FC2-4F41-B216-8B733B3D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02803-A065-4770-A181-B0A1B230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521F7-69C3-4170-82B1-DE8EC047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C54-81E3-4262-9D42-692D22B3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1DD19-6E9E-4531-A7B6-0A547DD4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26169-AB3D-45BA-AD93-CF2F9B66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A31DE-71A4-4186-BF5C-A89DD970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3097B-59A9-46D7-AA51-33080353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4F1C2-5E16-4B08-8642-71979CAE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7C945-788B-4053-BF46-BE2024EF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6145F-1F49-4D6A-9412-EEF934C2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2708A-4DAB-4D13-B4FD-D5DC6424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98097-8CF5-467C-992A-2C103ABC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3878E-26AC-4BA4-9D58-46B0B57D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8B1-AE14-45B8-90C4-447C4076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E6E64-8887-479F-A879-A5048534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6AABA-C7C6-4328-94EC-285196FD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F5784-88AA-44ED-A478-9F910943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69CE3-61DB-44FA-BCBF-54E75C90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FC18F-AB47-4598-901A-CBE7059A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D5D2B-395A-4B3A-9480-E9419A4A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94C6E-6905-4314-90A3-AD83F1AB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5FE8B-717A-4ABB-9C97-741BEC06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F0A8A-DA13-49A6-9E17-F50980FD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6FB42-CBA7-493F-88AB-8C41CFD1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67E-FC80-48C5-B55E-71E9D0D1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1E978-CA57-459C-91DA-1B6B7248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7798A-FB7E-48A1-A1B0-8B75D000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2B8AB-3B43-4B54-AF35-21C02562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67AC1-3199-432A-99A9-9E3E4CBD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914EC-AFB2-45FE-90BE-DCC4040A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7B14E-BA86-4629-B455-2DB3D8B7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30FE7-EBE0-45AD-8E25-FCBF95A5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4D520-3284-4AA2-83DB-2A68DA89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0DB36-B10B-4636-BF0D-AE2FEE89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500B9-653C-4CDB-BD45-A3FD7564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5424-EF94-4C35-B875-0003C792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AA3ED-DDDB-4E9E-98F7-E38AE6A8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53D92-0288-409E-815B-C46BA235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7741E-5928-4DB0-AB59-2790CAAC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45E95-83B1-4062-B0E6-4C4A0049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A56F4-C511-4AE6-9032-BEB8148C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5996D-3F84-4506-B73D-B759EDCC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2E495-5022-4E16-804F-C2F55784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2C8E2-3E6A-4EFA-9E2D-545B8E69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171A4-5631-42ED-B3B5-3D5DA435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5C846-7D82-40D6-821B-CB9DE0C6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8A7-9650-4143-BD47-B674EA4D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E5D2F-2D27-4552-83F2-96FDA1EC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247D1-09CE-4BBB-9DBE-74DC34BF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671BB-F727-4D5C-87F7-A7A928E4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5A73-8F45-4CB6-B6B0-3C598BB3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3671-8D4E-43F7-937C-13AC1D2E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10DD-43C8-405E-956D-1C248227371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FA72-2B94-444A-9D31-F2CDC7535F8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FA9E-8310-4057-8E92-B4ED723BBDD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A0D7-77D1-4AC0-8301-632C9A1BD7B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8594-0A70-462C-93F9-5A6E7A7CA2E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8B67-2CB7-4E52-8051-3E6ABB91DEF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0d7"/>
            </a:gs>
            <a:gs pos="100000">
              <a:srgbClr val="fcbb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2643120" y="4500720"/>
            <a:ext cx="625968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cf66"/>
                </a:solidFill>
                <a:latin typeface="Trebuchet MS"/>
              </a:rPr>
              <a:t>Выполнила: Левченко Варвар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cf66"/>
                </a:solidFill>
                <a:latin typeface="Trebuchet MS"/>
              </a:rPr>
              <a:t>Ученица 3 класс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cf66"/>
                </a:solidFill>
                <a:latin typeface="Trebuchet MS"/>
              </a:rPr>
              <a:t>БОУ ДОД «Любинская ДШИ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cf66"/>
                </a:solidFill>
                <a:latin typeface="Trebuchet MS"/>
              </a:rPr>
              <a:t>Руководитель : Лаврентьева Екатерина Анатольевн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TextBox 5" descr=""/>
          <p:cNvPicPr/>
          <p:nvPr/>
        </p:nvPicPr>
        <p:blipFill>
          <a:blip r:embed="rId1"/>
          <a:stretch/>
        </p:blipFill>
        <p:spPr>
          <a:xfrm>
            <a:off x="2981160" y="1504800"/>
            <a:ext cx="6059520" cy="2513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muz_ur"/>
          <p:cNvPicPr/>
          <p:nvPr/>
        </p:nvPicPr>
        <p:blipFill>
          <a:blip r:embed="rId2"/>
          <a:stretch/>
        </p:blipFill>
        <p:spPr>
          <a:xfrm>
            <a:off x="0" y="189000"/>
            <a:ext cx="32796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Заголовок 1" descr=""/>
          <p:cNvPicPr/>
          <p:nvPr/>
        </p:nvPicPr>
        <p:blipFill>
          <a:blip r:embed="rId1"/>
          <a:stretch/>
        </p:blipFill>
        <p:spPr>
          <a:xfrm>
            <a:off x="212760" y="189000"/>
            <a:ext cx="7493040" cy="72540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3" descr="imgB.asp"/>
          <p:cNvPicPr/>
          <p:nvPr/>
        </p:nvPicPr>
        <p:blipFill>
          <a:blip r:embed="rId2"/>
          <a:stretch/>
        </p:blipFill>
        <p:spPr>
          <a:xfrm>
            <a:off x="395280" y="1052640"/>
            <a:ext cx="3387600" cy="2754360"/>
          </a:xfrm>
          <a:prstGeom prst="rect">
            <a:avLst/>
          </a:prstGeom>
          <a:ln w="0">
            <a:noFill/>
          </a:ln>
        </p:spPr>
      </p:pic>
      <p:sp>
        <p:nvSpPr>
          <p:cNvPr id="289" name="Прямоугольник 4"/>
          <p:cNvSpPr/>
          <p:nvPr/>
        </p:nvSpPr>
        <p:spPr>
          <a:xfrm>
            <a:off x="179280" y="465300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В жизни героев этой сказки вальс появился в самый важный, на мой взгляд, момент – когда два человека встретились и полюбили друг дру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Музыка вальса выражала их чувства в тот момент, их ожидания и меч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Рисунок 5" descr="mzl.hsgvpzak.320x480-75.jpg"/>
          <p:cNvPicPr/>
          <p:nvPr/>
        </p:nvPicPr>
        <p:blipFill>
          <a:blip r:embed="rId3"/>
          <a:srcRect l="0" t="0" r="997" b="51170"/>
          <a:stretch/>
        </p:blipFill>
        <p:spPr>
          <a:xfrm>
            <a:off x="3924360" y="1052640"/>
            <a:ext cx="37130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1" descr=""/>
          <p:cNvPicPr/>
          <p:nvPr/>
        </p:nvPicPr>
        <p:blipFill>
          <a:blip r:embed="rId1"/>
          <a:stretch/>
        </p:blipFill>
        <p:spPr>
          <a:xfrm>
            <a:off x="212760" y="219240"/>
            <a:ext cx="7493040" cy="76824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"/>
          <p:cNvSpPr/>
          <p:nvPr/>
        </p:nvSpPr>
        <p:spPr>
          <a:xfrm>
            <a:off x="324000" y="4729680"/>
            <a:ext cx="763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Музыка (песни медведя) здесь носит описательный характер. Но кроме этого, она ещё помогает нам понять чувства героя, его переживания. Таким образом, у музыки в этой сказке 2 функции: описательная и вспомогатель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4" descr="541044.jpg"/>
          <p:cNvPicPr/>
          <p:nvPr/>
        </p:nvPicPr>
        <p:blipFill>
          <a:blip r:embed="rId2"/>
          <a:stretch/>
        </p:blipFill>
        <p:spPr>
          <a:xfrm>
            <a:off x="2771640" y="1197000"/>
            <a:ext cx="23050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1908000" y="182520"/>
            <a:ext cx="3926160" cy="9079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2"/>
          <p:cNvSpPr/>
          <p:nvPr/>
        </p:nvSpPr>
        <p:spPr>
          <a:xfrm>
            <a:off x="468360" y="5667840"/>
            <a:ext cx="75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  <a:ea typeface="Times New Roman"/>
              </a:rPr>
              <a:t>В этой сказке благодаря музыке была спасена главная героиня. Получается, что музыка  может  спасти жизн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Рисунок 5" descr="1305176626_image00126.jpg"/>
          <p:cNvPicPr/>
          <p:nvPr/>
        </p:nvPicPr>
        <p:blipFill>
          <a:blip r:embed="rId2"/>
          <a:stretch/>
        </p:blipFill>
        <p:spPr>
          <a:xfrm>
            <a:off x="2340000" y="1197000"/>
            <a:ext cx="345600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28760" y="428760"/>
            <a:ext cx="72388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52f74"/>
                </a:solidFill>
                <a:latin typeface="Trebuchet MS"/>
              </a:rPr>
              <a:t>Для обобщения полученных результатов я  составила таблицу,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52f74"/>
                </a:solidFill>
                <a:latin typeface="Trebuchet MS"/>
              </a:rPr>
              <a:t>в которой указала,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52f74"/>
                </a:solidFill>
                <a:latin typeface="Trebuchet MS"/>
              </a:rPr>
              <a:t>какую функцию выполняет музыка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852f74"/>
                </a:solidFill>
                <a:latin typeface="Trebuchet MS"/>
              </a:rPr>
              <a:t>в различных сказках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214200" y="142920"/>
          <a:ext cx="7705800" cy="6400800"/>
        </p:xfrm>
        <a:graphic>
          <a:graphicData uri="http://schemas.openxmlformats.org/drawingml/2006/table">
            <a:tbl>
              <a:tblPr/>
              <a:tblGrid>
                <a:gridCol w="2592360"/>
                <a:gridCol w="5113440"/>
              </a:tblGrid>
              <a:tr h="42696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2ed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я музы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2ed"/>
                    </a:solidFill>
                  </a:tcPr>
                </a:tc>
              </a:tr>
              <a:tr h="853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ременские музыкант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стала образом жизни, её смысл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олк и семеро козля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была призвана спасти козлятам жиз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олобо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тельная функция песен Колоб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Золуш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ьс выражал чувство любви, возникшее между героям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едвед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тельная и вспомогательная функция песен медвед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1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негуруш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помогла раскрыть обман, вернула к жизни главную героиню сказк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1" descr=""/>
          <p:cNvPicPr/>
          <p:nvPr/>
        </p:nvPicPr>
        <p:blipFill>
          <a:blip r:embed="rId1"/>
          <a:stretch/>
        </p:blipFill>
        <p:spPr>
          <a:xfrm>
            <a:off x="420840" y="317520"/>
            <a:ext cx="7254720" cy="7254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Trebuchet MS"/>
              </a:rPr>
              <a:t>Гипотеза оказалась неверной. Музыка в сказке имеет большое значени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Trebuchet MS"/>
              </a:rPr>
              <a:t>В сказке музыка иногда выполняет описательную функцию, которая всё же не лишена эмоциональной окрашенности. В некоторых  сказках музыка является их неотъемлемой частью. Для каких-то героев она становится утешением, смыслом и образом жизни, кому–то спасает жизнь, помогает раскрыть обман, победить зло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463680" y="182520"/>
            <a:ext cx="7248240" cy="927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500040" y="1071360"/>
            <a:ext cx="723888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b0f0"/>
                </a:solidFill>
                <a:uFillTx/>
                <a:latin typeface="Trebuchet MS"/>
              </a:rPr>
              <a:t>Русские народные сказки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«Медведь»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«Колобок»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rebuchet MS"/>
              </a:rPr>
              <a:t>«Снегурушка»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500040" y="3071880"/>
            <a:ext cx="723888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f0"/>
                </a:solidFill>
                <a:uFillTx/>
                <a:latin typeface="Arial"/>
              </a:rPr>
              <a:t>Авторские сказ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b0f0"/>
                </a:solidFill>
                <a:latin typeface="Trebuchet MS"/>
              </a:rPr>
              <a:t>«Золушка» Шарль Пер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Trebuchet MS"/>
              </a:rPr>
              <a:t>«Бременские музыканты» братья Грим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b0f0"/>
                </a:solidFill>
                <a:latin typeface="Arial"/>
              </a:rPr>
              <a:t>«Волк и семеро козлят» братья Грим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4"/>
          <p:cNvSpPr/>
          <p:nvPr/>
        </p:nvSpPr>
        <p:spPr>
          <a:xfrm>
            <a:off x="571680" y="471492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f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Arial"/>
              </a:rPr>
              <a:t>Иллюстративный материал взят с обложек книг с русскими народными сказками, произведениями братьев Гримм, Ш.Пер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2236680" y="195120"/>
            <a:ext cx="3554640" cy="7257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68360" y="1628640"/>
            <a:ext cx="748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Trebuchet MS"/>
              </a:rPr>
              <a:t>	</a:t>
            </a:r>
            <a:r>
              <a:rPr b="0" lang="ru-RU" sz="3200" spc="-1" strike="noStrike">
                <a:solidFill>
                  <a:srgbClr val="00b0f0"/>
                </a:solidFill>
                <a:latin typeface="Trebuchet MS"/>
              </a:rPr>
              <a:t>Изучая некоторые примеры музыкальных произведений, написанных на сказочные сюжеты, я  решила выяснить, как сказка может быть связана с музыкой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2419200" y="396720"/>
            <a:ext cx="3945240" cy="9385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571680" y="2285640"/>
            <a:ext cx="72388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rebuchet MS"/>
              </a:rPr>
              <a:t>Музыка не имеет особого   значения в сказках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993600" y="281160"/>
            <a:ext cx="6729480" cy="18716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500040" y="2500200"/>
            <a:ext cx="7267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rebuchet MS"/>
              </a:rPr>
              <a:t>Я прочла сказки с целью ответа на интересующий меня вопрос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Trebuchet MS"/>
              </a:rPr>
              <a:t>Результаты я оформила в виде таблицы: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428760" y="1928880"/>
          <a:ext cx="7429320" cy="4754520"/>
        </p:xfrm>
        <a:graphic>
          <a:graphicData uri="http://schemas.openxmlformats.org/drawingml/2006/table">
            <a:tbl>
              <a:tblPr/>
              <a:tblGrid>
                <a:gridCol w="2676240"/>
                <a:gridCol w="4753080"/>
              </a:tblGrid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сказ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2e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ые жан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2ed"/>
                    </a:solidFill>
                  </a:tcPr>
                </a:tc>
              </a:tr>
              <a:tr h="97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менские музыкант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ни, инструментальная музык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к и 7 козля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н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б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уш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ь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ве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егуруш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сни дудоч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4" name="Рисунок 29" descr="70575025.jpg"/>
          <p:cNvPicPr/>
          <p:nvPr/>
        </p:nvPicPr>
        <p:blipFill>
          <a:blip r:embed="rId1"/>
          <a:stretch/>
        </p:blipFill>
        <p:spPr>
          <a:xfrm rot="20700000">
            <a:off x="891720" y="186840"/>
            <a:ext cx="1208160" cy="17780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30" descr="74_671126.jpg"/>
          <p:cNvPicPr/>
          <p:nvPr/>
        </p:nvPicPr>
        <p:blipFill>
          <a:blip r:embed="rId2"/>
          <a:stretch/>
        </p:blipFill>
        <p:spPr>
          <a:xfrm>
            <a:off x="3348000" y="189000"/>
            <a:ext cx="1224000" cy="169524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33" descr="13181-173959-4-obl-l.jpg"/>
          <p:cNvPicPr/>
          <p:nvPr/>
        </p:nvPicPr>
        <p:blipFill>
          <a:blip r:embed="rId3"/>
          <a:stretch/>
        </p:blipFill>
        <p:spPr>
          <a:xfrm rot="550200">
            <a:off x="5878080" y="234720"/>
            <a:ext cx="12985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96840" y="853920"/>
            <a:ext cx="79009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579600" y="291960"/>
            <a:ext cx="7729200" cy="7257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" descr="Описание: brem"/>
          <p:cNvPicPr/>
          <p:nvPr/>
        </p:nvPicPr>
        <p:blipFill>
          <a:blip r:embed="rId2"/>
          <a:stretch/>
        </p:blipFill>
        <p:spPr>
          <a:xfrm>
            <a:off x="2411280" y="1413000"/>
            <a:ext cx="3125880" cy="331128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4"/>
          <p:cNvSpPr/>
          <p:nvPr/>
        </p:nvSpPr>
        <p:spPr>
          <a:xfrm>
            <a:off x="250920" y="544500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Каждый герой этой сказки искал в музыке утеш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а в итоге музыка стала для них образом, смыслом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725400" y="-6480"/>
            <a:ext cx="7729560" cy="1158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1979640" y="1608120"/>
            <a:ext cx="4095720" cy="32608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250920" y="5337720"/>
            <a:ext cx="774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Музыка здесь должна была сохранить жизнь козлятам, и, если бы не обман, то она бы выполнила свою функцию. Именно по голосу, по песне дети узнавали свою маму, и больше никому не открывали двер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493040" cy="77472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3" descr="Описание: http://allrusbook.3dn.ru/_pu/2/71070729.jpg"/>
          <p:cNvPicPr/>
          <p:nvPr/>
        </p:nvPicPr>
        <p:blipFill>
          <a:blip r:embed="rId2"/>
          <a:stretch/>
        </p:blipFill>
        <p:spPr>
          <a:xfrm>
            <a:off x="1979640" y="126828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"/>
          <p:cNvSpPr/>
          <p:nvPr/>
        </p:nvSpPr>
        <p:spPr>
          <a:xfrm>
            <a:off x="324000" y="4946040"/>
            <a:ext cx="748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13382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Музыка (песни Колобка) носит описательный характер. Колобок так любил петь, что не побоялся исполнить свою песенку на носу у Лисы! Это говорит о том, что для Колобка музыка была очень важна, и он так любил петь свои песенк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7:06:28Z</dcterms:created>
  <dc:creator>daiver</dc:creator>
  <dc:description/>
  <dc:language>en-US</dc:language>
  <cp:lastModifiedBy>Admin</cp:lastModifiedBy>
  <dcterms:modified xsi:type="dcterms:W3CDTF">2012-04-23T10:11:33Z</dcterms:modified>
  <cp:revision>57</cp:revision>
  <dc:subject/>
  <dc:title>Все ли сказки музыкальны?</dc:title>
</cp:coreProperties>
</file>