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3266-829B-4139-8CC1-4E41B9E8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449-5D3B-4F27-87D2-A2474C57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FB29-C09A-4739-8841-ED61C1E3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B337-7152-4DAF-A16E-50F0DDDB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4E94-71E6-41E1-BAE3-422976C0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95A5-8029-4B64-BAF9-1E9E9B3B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B208-EFF8-4964-AA2D-72630414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14FA-E478-48AB-8053-5A6B3CDE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8BA2-CE6F-4E93-914F-CD2ADA57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584C-B1FC-4985-A4F5-7FBCB225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6AC5-347B-4A4C-A1B3-113B08E9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6228-77D4-447B-9A9E-C1570B0B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ECE4-C603-416E-A36A-2721CBF9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FB0A-D2DC-4CAF-BFD1-4EDDB478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5C3E-87C7-4688-B0E6-D12AE307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F4CD-F046-4BE7-83AE-626BA071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55F0-7A8B-4BAD-8BFC-48F7BDBC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D4C6C-939C-4E5D-8D92-CB6E72B7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3B93B-29C0-4752-B3B2-FF09E060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31865-19B3-4722-951A-6A34EC66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9EC98-203C-4CF9-8FF4-B255A00D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C5984-2BF4-494E-80DB-CDA8DB7F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B71-47B2-4182-91BC-FC89C9B7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CB10A-3B68-4223-B59F-12E4C91F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6DA16-004F-4B9C-94B2-8296EE41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590B3-2EA8-4EDA-A927-3426B9D7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E5079-BD52-40FB-B701-9C715D76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24B75-C818-405F-A6F2-932C3985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8A185-C8F7-4591-9294-D24719BF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0DFDD-8C62-4B1A-B5AE-9F6E8248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EB085-804E-431A-AE98-CA5EC71C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4C6EE-B434-4D68-9973-7B5240BF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2206A-E875-4612-B805-491F26F2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B6FC-FDB4-4A41-8C64-57D51938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4210A-CFB9-4CC7-9E69-57B0A945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E4790-9CAF-42FA-951C-D8824AD6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5DCE9-9EB7-4122-AB35-17FCCF9D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0A940-66F1-4D46-8FC5-A68297EC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1EE98-B2BB-4D83-96AF-5A31D732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51F65-D242-483B-ADB7-2C9C748F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A95BD-6C16-4B6E-9105-26600479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7F7C6-729D-4393-838A-4A05C86E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F92A3-55B1-4C4D-B4C5-DC403F59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51D53-4C72-4646-8E1B-5D3827C3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62B-2BB9-4DB7-90BC-F54E483D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19E84-938A-4C48-91E4-D28E2A37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17C28-BE5C-4FF7-8FF1-5EFA069F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4983D-5D5B-4858-8F69-87625C03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F3E8F-9F79-4A2C-AB11-7C5D884A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E3490-F652-4F05-94F7-D9FA0B86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45E4C-D096-444D-B17B-0F974BED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2725E-36FC-4FDF-9751-C9D058AC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926E2-BA62-4628-9E8B-7D472584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FB56D-ED21-4F2E-ACC0-99050FAB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7A9A4-ADE9-4A3C-9A1A-EB97128F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E33-E5B1-4A4C-AE9F-8EDAEEEF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8FAB2-CAB2-4DBC-B79C-C3A198B8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12271-FAFE-45B0-896B-60E0DE31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31818-7AA5-4630-9A9D-53056E26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15177-74E0-490E-A373-BAF9103E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93401-B7C0-4324-8643-93E7B947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32092-A2A5-4104-B5B2-C142F4EC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B583F-A2FA-45DC-B3D7-FB9CAD99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AB651-A1CC-4F37-88B4-2F5DE10F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9106E-EB4B-41A8-AB5A-4C0C29E0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0A184-8EF7-4D52-B2C1-0422E6AE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B3C5-2D6E-4F9B-B65B-EEE7CC79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6E944-6824-4EA4-868E-8CC86CD1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4D195-330F-4E70-88CA-C1B3AC44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CEF4B-740B-4253-8F0F-4A1105E5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6AD5-CF16-4486-9889-7885E34D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B65-709C-4C33-AB5C-90C5D2D3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90C6-9E82-4C8F-8BBE-8C0700B773F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F8BE-8992-48A7-91BD-8BEF4B866B3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D9A6-AABC-4CF8-8C26-C8FBED352D7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4332-A3EA-4B4B-925D-2CDC24A0EB6B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C402-A6B2-4D20-B002-A17435C6DCD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7726-0C2B-4408-8A54-7C8B6EC1074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0d7"/>
            </a:gs>
            <a:gs pos="100000">
              <a:srgbClr val="fcbb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2643120" y="4500720"/>
            <a:ext cx="625968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cf66"/>
                </a:solidFill>
                <a:latin typeface="Trebuchet MS"/>
              </a:rPr>
              <a:t>Выполнила: Левченко Варвара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cf66"/>
                </a:solidFill>
                <a:latin typeface="Trebuchet MS"/>
              </a:rPr>
              <a:t>Ученица 3 класс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cf66"/>
                </a:solidFill>
                <a:latin typeface="Trebuchet MS"/>
              </a:rPr>
              <a:t>БОУ ДОД «Любинская ДШИ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cf66"/>
                </a:solidFill>
                <a:latin typeface="Trebuchet MS"/>
              </a:rPr>
              <a:t>Руководитель : Лаврентьева Екатерина Анатольевна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TextBox 5" descr=""/>
          <p:cNvPicPr/>
          <p:nvPr/>
        </p:nvPicPr>
        <p:blipFill>
          <a:blip r:embed="rId1"/>
          <a:stretch/>
        </p:blipFill>
        <p:spPr>
          <a:xfrm>
            <a:off x="2981160" y="1504800"/>
            <a:ext cx="6059520" cy="2513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muz_ur"/>
          <p:cNvPicPr/>
          <p:nvPr/>
        </p:nvPicPr>
        <p:blipFill>
          <a:blip r:embed="rId2"/>
          <a:stretch/>
        </p:blipFill>
        <p:spPr>
          <a:xfrm>
            <a:off x="0" y="189000"/>
            <a:ext cx="32796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212760" y="189000"/>
            <a:ext cx="7493040" cy="72540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3" descr="imgB.asp"/>
          <p:cNvPicPr/>
          <p:nvPr/>
        </p:nvPicPr>
        <p:blipFill>
          <a:blip r:embed="rId2"/>
          <a:stretch/>
        </p:blipFill>
        <p:spPr>
          <a:xfrm>
            <a:off x="395280" y="1052640"/>
            <a:ext cx="3387600" cy="2754360"/>
          </a:xfrm>
          <a:prstGeom prst="rect">
            <a:avLst/>
          </a:prstGeom>
          <a:ln w="0">
            <a:noFill/>
          </a:ln>
        </p:spPr>
      </p:pic>
      <p:sp>
        <p:nvSpPr>
          <p:cNvPr id="289" name="Прямоугольник 4"/>
          <p:cNvSpPr/>
          <p:nvPr/>
        </p:nvSpPr>
        <p:spPr>
          <a:xfrm>
            <a:off x="179280" y="465300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В жизни героев этой сказки вальс появился в самый важный, на мой взгляд, момент – когда два человека встретились и полюбили друг дру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Музыка вальса выражала их чувства в тот момент, их ожидания и меч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Рисунок 5" descr="mzl.hsgvpzak.320x480-75.jpg"/>
          <p:cNvPicPr/>
          <p:nvPr/>
        </p:nvPicPr>
        <p:blipFill>
          <a:blip r:embed="rId3"/>
          <a:srcRect l="0" t="0" r="997" b="51170"/>
          <a:stretch/>
        </p:blipFill>
        <p:spPr>
          <a:xfrm>
            <a:off x="3924360" y="1052640"/>
            <a:ext cx="37130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1" descr=""/>
          <p:cNvPicPr/>
          <p:nvPr/>
        </p:nvPicPr>
        <p:blipFill>
          <a:blip r:embed="rId1"/>
          <a:stretch/>
        </p:blipFill>
        <p:spPr>
          <a:xfrm>
            <a:off x="212760" y="219240"/>
            <a:ext cx="7493040" cy="76824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1"/>
          <p:cNvSpPr/>
          <p:nvPr/>
        </p:nvSpPr>
        <p:spPr>
          <a:xfrm>
            <a:off x="324000" y="4729680"/>
            <a:ext cx="763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Arial"/>
                <a:ea typeface="Times New Roman"/>
              </a:rPr>
              <a:t>Музыка (песни медведя) здесь носит описательный характер. Но кроме этого, она ещё помогает нам понять чувства героя, его переживания. Таким образом, у музыки в этой сказке 2 функции: описательная и вспомогатель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4" descr="541044.jpg"/>
          <p:cNvPicPr/>
          <p:nvPr/>
        </p:nvPicPr>
        <p:blipFill>
          <a:blip r:embed="rId2"/>
          <a:stretch/>
        </p:blipFill>
        <p:spPr>
          <a:xfrm>
            <a:off x="2771640" y="1197000"/>
            <a:ext cx="23050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1908000" y="182520"/>
            <a:ext cx="3926160" cy="9079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2"/>
          <p:cNvSpPr/>
          <p:nvPr/>
        </p:nvSpPr>
        <p:spPr>
          <a:xfrm>
            <a:off x="468360" y="5667840"/>
            <a:ext cx="75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  <a:ea typeface="Times New Roman"/>
              </a:rPr>
              <a:t>В этой сказке благодаря музыке была спасена главная героиня. Получается, что музыка  может  спасти жизнь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Рисунок 5" descr="1305176626_image00126.jpg"/>
          <p:cNvPicPr/>
          <p:nvPr/>
        </p:nvPicPr>
        <p:blipFill>
          <a:blip r:embed="rId2"/>
          <a:stretch/>
        </p:blipFill>
        <p:spPr>
          <a:xfrm>
            <a:off x="2340000" y="1197000"/>
            <a:ext cx="345600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28760" y="428760"/>
            <a:ext cx="72388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852f74"/>
                </a:solidFill>
                <a:latin typeface="Trebuchet MS"/>
              </a:rPr>
              <a:t>Для обобщения полученных результатов я  составила таблицу,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852f74"/>
                </a:solidFill>
                <a:latin typeface="Trebuchet MS"/>
              </a:rPr>
              <a:t>в которой указала,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852f74"/>
                </a:solidFill>
                <a:latin typeface="Trebuchet MS"/>
              </a:rPr>
              <a:t>какую функцию выполняет музыка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852f74"/>
                </a:solidFill>
                <a:latin typeface="Trebuchet MS"/>
              </a:rPr>
              <a:t>в различных сказках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214200" y="142920"/>
          <a:ext cx="7705800" cy="6400800"/>
        </p:xfrm>
        <a:graphic>
          <a:graphicData uri="http://schemas.openxmlformats.org/drawingml/2006/table">
            <a:tbl>
              <a:tblPr/>
              <a:tblGrid>
                <a:gridCol w="2592360"/>
                <a:gridCol w="5113440"/>
              </a:tblGrid>
              <a:tr h="42696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2ed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музы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2ed"/>
                    </a:solidFill>
                  </a:tcPr>
                </a:tc>
              </a:tr>
              <a:tr h="8535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ременские музыкант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стала образом жизни, её смысл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олк и семеро козля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была призвана спасти козлятам жиз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олобо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тельная функция песен Колоб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олуш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ьс выражал чувство любви, возникшее между героям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1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едвед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тельная и вспомогательная функция песен медвед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1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негуруш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помогла раскрыть обман, вернула к жизни главную героиню сказк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1" descr=""/>
          <p:cNvPicPr/>
          <p:nvPr/>
        </p:nvPicPr>
        <p:blipFill>
          <a:blip r:embed="rId1"/>
          <a:stretch/>
        </p:blipFill>
        <p:spPr>
          <a:xfrm>
            <a:off x="420840" y="317520"/>
            <a:ext cx="7254720" cy="7254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Trebuchet MS"/>
              </a:rPr>
              <a:t>Гипотеза оказалась неверной. Музыка в сказке имеет большое значени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Trebuchet MS"/>
              </a:rPr>
              <a:t>В сказке музыка иногда выполняет описательную функцию, которая всё же не лишена эмоциональной окрашенности. В некоторых  сказках музыка является их неотъемлемой частью. Для каких-то героев она становится утешением, смыслом и образом жизни, кому–то спасает жизнь, помогает раскрыть обман, победить зло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463680" y="182520"/>
            <a:ext cx="7248240" cy="927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500040" y="1071360"/>
            <a:ext cx="723888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b0f0"/>
                </a:solidFill>
                <a:uFillTx/>
                <a:latin typeface="Trebuchet MS"/>
              </a:rPr>
              <a:t>Русские народные сказки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«Медведь»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«Колобок»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«Снегурушка»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500040" y="3071880"/>
            <a:ext cx="72388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b0f0"/>
                </a:solidFill>
                <a:uFillTx/>
                <a:latin typeface="Arial"/>
              </a:rPr>
              <a:t>Авторские сказ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b0f0"/>
                </a:solidFill>
                <a:latin typeface="Trebuchet MS"/>
              </a:rPr>
              <a:t>«Золушка» Шарль Перр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Trebuchet MS"/>
              </a:rPr>
              <a:t>«Бременские музыканты» братья Грим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b0f0"/>
                </a:solidFill>
                <a:latin typeface="Arial"/>
              </a:rPr>
              <a:t>«Волк и семеро козлят» братья Грим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4"/>
          <p:cNvSpPr/>
          <p:nvPr/>
        </p:nvSpPr>
        <p:spPr>
          <a:xfrm>
            <a:off x="571680" y="471492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f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Иллюстративный материал взят с обложек книг с русскими народными сказками, произведениями братьев Гримм, Ш.Пер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2" descr=""/>
          <p:cNvPicPr/>
          <p:nvPr/>
        </p:nvPicPr>
        <p:blipFill>
          <a:blip r:embed="rId1"/>
          <a:stretch/>
        </p:blipFill>
        <p:spPr>
          <a:xfrm>
            <a:off x="2236680" y="195120"/>
            <a:ext cx="3554640" cy="7257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68360" y="1628640"/>
            <a:ext cx="748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Trebuchet MS"/>
              </a:rPr>
              <a:t>Изучая некоторые примеры музыкальных произведений, написанных на сказочные сюжеты, я  решила выяснить, как сказка может быть связана с музыкой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2" descr=""/>
          <p:cNvPicPr/>
          <p:nvPr/>
        </p:nvPicPr>
        <p:blipFill>
          <a:blip r:embed="rId1"/>
          <a:stretch/>
        </p:blipFill>
        <p:spPr>
          <a:xfrm>
            <a:off x="2419200" y="396720"/>
            <a:ext cx="3945240" cy="9385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571680" y="2285640"/>
            <a:ext cx="7238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rebuchet MS"/>
              </a:rPr>
              <a:t>Музыка не имеет особого   значения в сказках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993600" y="281160"/>
            <a:ext cx="6729480" cy="18716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500040" y="2500200"/>
            <a:ext cx="7267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rebuchet MS"/>
              </a:rPr>
              <a:t>Я прочла сказки с целью ответа на интересующий меня вопрос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rebuchet MS"/>
              </a:rPr>
              <a:t>Результаты я оформила в виде таблицы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428760" y="1928880"/>
          <a:ext cx="7429320" cy="4754520"/>
        </p:xfrm>
        <a:graphic>
          <a:graphicData uri="http://schemas.openxmlformats.org/drawingml/2006/table">
            <a:tbl>
              <a:tblPr/>
              <a:tblGrid>
                <a:gridCol w="2676240"/>
                <a:gridCol w="4753080"/>
              </a:tblGrid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сказ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2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ые жан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2ed"/>
                    </a:solidFill>
                  </a:tcPr>
                </a:tc>
              </a:tr>
              <a:tr h="97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менские музыкант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ни, инструментальная музык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к и 7 козля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н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об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н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уш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ь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ве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н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егуруш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ни дудоч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4" name="Рисунок 29" descr="70575025.jpg"/>
          <p:cNvPicPr/>
          <p:nvPr/>
        </p:nvPicPr>
        <p:blipFill>
          <a:blip r:embed="rId1"/>
          <a:stretch/>
        </p:blipFill>
        <p:spPr>
          <a:xfrm rot="20700000">
            <a:off x="891720" y="186840"/>
            <a:ext cx="1208160" cy="17780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30" descr="74_671126.jpg"/>
          <p:cNvPicPr/>
          <p:nvPr/>
        </p:nvPicPr>
        <p:blipFill>
          <a:blip r:embed="rId2"/>
          <a:stretch/>
        </p:blipFill>
        <p:spPr>
          <a:xfrm>
            <a:off x="3348000" y="189000"/>
            <a:ext cx="1224000" cy="169524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33" descr="13181-173959-4-obl-l.jpg"/>
          <p:cNvPicPr/>
          <p:nvPr/>
        </p:nvPicPr>
        <p:blipFill>
          <a:blip r:embed="rId3"/>
          <a:stretch/>
        </p:blipFill>
        <p:spPr>
          <a:xfrm rot="550200">
            <a:off x="5878080" y="234720"/>
            <a:ext cx="12985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96840" y="853920"/>
            <a:ext cx="79009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579600" y="291960"/>
            <a:ext cx="7729200" cy="7257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2" descr="Описание: brem"/>
          <p:cNvPicPr/>
          <p:nvPr/>
        </p:nvPicPr>
        <p:blipFill>
          <a:blip r:embed="rId2"/>
          <a:stretch/>
        </p:blipFill>
        <p:spPr>
          <a:xfrm>
            <a:off x="2411280" y="1413000"/>
            <a:ext cx="3125880" cy="331128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4"/>
          <p:cNvSpPr/>
          <p:nvPr/>
        </p:nvSpPr>
        <p:spPr>
          <a:xfrm>
            <a:off x="250920" y="544500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Каждый герой этой сказки искал в музыке утеш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а в итоге музыка стала для них образом, смыслом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725400" y="-6480"/>
            <a:ext cx="7729560" cy="11588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1979640" y="1608120"/>
            <a:ext cx="4095720" cy="326088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250920" y="5337720"/>
            <a:ext cx="774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Arial"/>
                <a:ea typeface="Times New Roman"/>
              </a:rPr>
              <a:t>Музыка здесь должна была сохранить жизнь козлятам, и, если бы не обман, то она бы выполнила свою функцию. Именно по голосу, по песне дети узнавали свою маму, и больше никому не открывали двер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212760" y="-6480"/>
            <a:ext cx="7493040" cy="77472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3" descr="Описание: http://allrusbook.3dn.ru/_pu/2/71070729.jpg"/>
          <p:cNvPicPr/>
          <p:nvPr/>
        </p:nvPicPr>
        <p:blipFill>
          <a:blip r:embed="rId2"/>
          <a:stretch/>
        </p:blipFill>
        <p:spPr>
          <a:xfrm>
            <a:off x="1979640" y="126828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"/>
          <p:cNvSpPr/>
          <p:nvPr/>
        </p:nvSpPr>
        <p:spPr>
          <a:xfrm>
            <a:off x="324000" y="4946040"/>
            <a:ext cx="748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13382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Arial"/>
                <a:ea typeface="Times New Roman"/>
              </a:rPr>
              <a:t>Музыка (песни Колобка) носит описательный характер. Колобок так любил петь, что не побоялся исполнить свою песенку на носу у Лисы! Это говорит о том, что для Колобка музыка была очень важна, и он так любил петь свои песенк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7:06:28Z</dcterms:created>
  <dc:creator>daiver</dc:creator>
  <dc:description/>
  <dc:language>en-US</dc:language>
  <cp:lastModifiedBy>Admin</cp:lastModifiedBy>
  <dcterms:modified xsi:type="dcterms:W3CDTF">2012-04-23T10:11:33Z</dcterms:modified>
  <cp:revision>57</cp:revision>
  <dc:subject/>
  <dc:title>Все ли сказки музыкальны?</dc:title>
</cp:coreProperties>
</file>