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3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EB4-1D15-454F-B689-05B4D34E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095-9CD7-4497-828B-CD5FEF4D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4F9-1400-457C-B7D5-333B4BB5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0ADC-600C-49ED-BCE8-CA369C90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0487-D7C8-4317-8C90-0953C958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B52B-7D60-4C2D-86C2-C5222320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3DB8-F85B-4EDD-A87D-906930B1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1988-ABD0-4369-B5E9-2FBC2233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92A3-F02C-4FA3-88EB-865FBCE5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7DF7-89E2-4B6A-AEF7-AE45AE12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69D5-9E01-4937-9061-AB019818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9480-D2A6-41D1-9581-77008FD0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3D7E-D2BE-4EDC-B9E0-AC037180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43D3-3CD2-4E0C-A13A-43C6D0F7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2CF7-63D4-4AB2-80C0-AF3A4401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A2A9-63D5-4387-AEBF-1F4460F6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4079-A2F0-405C-AD77-EF359098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5B8-FCEB-4A80-B634-9C5BD236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20CA-D59D-47BE-B6CA-E03D826C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640A-C062-4E4A-9EE5-FF0FCB86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74B-426F-4D32-85DA-46B7E61B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D47-4D17-4573-8EC3-F19C0CAB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3AF-5F5C-43D7-A83E-4B36C10A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D0D0-9423-4300-913C-49991131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2942-E51F-467A-B830-F1E29B43D33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E37F-453E-41F7-BB58-193B5DF8587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Baskerville Old Face"/>
              </a:rPr>
              <a:t>С</a:t>
            </a:r>
            <a:r>
              <a:rPr b="1" i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Ә</a:t>
            </a:r>
            <a:r>
              <a:rPr b="1" i="1" lang="en-US" sz="66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CK</a:t>
            </a:r>
            <a:r>
              <a:rPr b="1" i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Ә</a:t>
            </a:r>
            <a:r>
              <a:rPr b="1" i="1" lang="en-US" sz="66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 AT,</a:t>
            </a:r>
            <a:r>
              <a:rPr b="1" i="1" lang="ru-RU" sz="66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 </a:t>
            </a:r>
            <a:r>
              <a:rPr b="1" i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ҺӨЙӨКЛӨ</a:t>
            </a:r>
            <a:br>
              <a:rPr sz="6600"/>
            </a:br>
            <a:r>
              <a:rPr b="1" i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СПУБЛИКАМ!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cc"/>
                </a:solidFill>
                <a:latin typeface="Times New Roman"/>
              </a:rPr>
              <a:t>Райондар </a:t>
            </a:r>
            <a:r>
              <a:rPr b="1" i="1" lang="ru-RU" sz="4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Һаны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762440" cy="4276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435280" y="1599840"/>
            <a:ext cx="325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c85e"/>
                </a:solidFill>
                <a:latin typeface="Verdana"/>
              </a:rPr>
              <a:t>34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c85e"/>
                </a:solidFill>
                <a:latin typeface="Verdana"/>
              </a:rPr>
              <a:t>44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c85e"/>
                </a:solidFill>
                <a:latin typeface="Verdana"/>
              </a:rPr>
              <a:t>54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) 1950йыл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) 1938 йыл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3) 1937 йыл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Arial"/>
                <a:ea typeface="Arial"/>
              </a:rPr>
              <a:t>Башкортостандың   т</a:t>
            </a:r>
            <a:r>
              <a:rPr b="0" lang="ru-RU" sz="4000" spc="-1" strike="noStrike">
                <a:solidFill>
                  <a:srgbClr val="00ff00"/>
                </a:solidFill>
                <a:latin typeface=""/>
                <a:ea typeface="Arial"/>
              </a:rPr>
              <a:t>ә</a:t>
            </a:r>
            <a:r>
              <a:rPr b="0" lang="ru-RU" sz="4000" spc="-1" strike="noStrike">
                <a:solidFill>
                  <a:srgbClr val="00ff00"/>
                </a:solidFill>
                <a:latin typeface="Arial"/>
                <a:ea typeface="Arial"/>
              </a:rPr>
              <a:t>биғ</a:t>
            </a:r>
            <a:r>
              <a:rPr b="0" lang="ru-RU" sz="4000" spc="-1" strike="noStrike">
                <a:solidFill>
                  <a:srgbClr val="00ff00"/>
                </a:solidFill>
                <a:latin typeface=""/>
                <a:ea typeface="Arial"/>
              </a:rPr>
              <a:t>ә</a:t>
            </a:r>
            <a:r>
              <a:rPr b="0" lang="ru-RU" sz="4000" spc="-1" strike="noStrike">
                <a:solidFill>
                  <a:srgbClr val="00ff00"/>
                </a:solidFill>
                <a:latin typeface="Arial"/>
                <a:ea typeface="Arial"/>
              </a:rPr>
              <a:t>т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3789360"/>
            <a:ext cx="4105080" cy="2738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360" y="1125360"/>
            <a:ext cx="3927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Verdana"/>
              </a:rPr>
              <a:t>270 </a:t>
            </a:r>
            <a:r>
              <a:rPr b="0" lang="ru-RU" sz="4000" spc="-1" strike="noStrike">
                <a:solidFill>
                  <a:srgbClr val="00ff00"/>
                </a:solidFill>
                <a:latin typeface="Verdana"/>
                <a:ea typeface="Arial"/>
              </a:rPr>
              <a:t>т</a:t>
            </a:r>
            <a:r>
              <a:rPr b="0" lang="ru-RU" sz="4000" spc="-1" strike="noStrike">
                <a:solidFill>
                  <a:srgbClr val="00ff00"/>
                </a:solidFill>
                <a:latin typeface=""/>
                <a:ea typeface="Arial"/>
              </a:rPr>
              <a:t>ө</a:t>
            </a:r>
            <a:r>
              <a:rPr b="0" lang="ru-RU" sz="4000" spc="-1" strike="noStrike">
                <a:solidFill>
                  <a:srgbClr val="00ff00"/>
                </a:solidFill>
                <a:latin typeface="Verdana"/>
                <a:ea typeface="Arial"/>
              </a:rPr>
              <a:t>р  кош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a8456"/>
                </a:solidFill>
                <a:latin typeface="Verdana"/>
                <a:ea typeface="Arial"/>
              </a:rPr>
              <a:t>83 т</a:t>
            </a:r>
            <a:r>
              <a:rPr b="0" lang="ru-RU" sz="4000" spc="-1" strike="noStrike">
                <a:solidFill>
                  <a:srgbClr val="aa8456"/>
                </a:solidFill>
                <a:latin typeface=""/>
                <a:ea typeface="Arial"/>
              </a:rPr>
              <a:t>ө</a:t>
            </a:r>
            <a:r>
              <a:rPr b="0" lang="ru-RU" sz="4000" spc="-1" strike="noStrike">
                <a:solidFill>
                  <a:srgbClr val="aa8456"/>
                </a:solidFill>
                <a:latin typeface="Verdana"/>
                <a:ea typeface="Arial"/>
              </a:rPr>
              <a:t>р йәнлек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4174920" cy="2592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917960" y="1268280"/>
            <a:ext cx="3927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40 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  <a:ea typeface="Arial"/>
              </a:rPr>
              <a:t>т</a:t>
            </a:r>
            <a:r>
              <a:rPr b="0" lang="ru-RU" sz="3600" spc="-1" strike="noStrike">
                <a:solidFill>
                  <a:srgbClr val="eaeaea"/>
                </a:solidFill>
                <a:latin typeface=""/>
                <a:ea typeface="Arial"/>
              </a:rPr>
              <a:t>ө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  <a:ea typeface="Arial"/>
              </a:rPr>
              <a:t>р балык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103640" cy="2952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3573360"/>
            <a:ext cx="4032000" cy="2951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917960" y="476280"/>
            <a:ext cx="3927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Verdana"/>
              </a:rPr>
              <a:t>Бер нис</a:t>
            </a:r>
            <a:r>
              <a:rPr b="0" lang="ru-RU" sz="3200" spc="-1" strike="noStrike">
                <a:solidFill>
                  <a:srgbClr val="0033cc"/>
                </a:solidFill>
                <a:latin typeface=""/>
              </a:rPr>
              <a:t>ә мең 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т</a:t>
            </a:r>
            <a:r>
              <a:rPr b="0" lang="ru-RU" sz="3200" spc="-1" strike="noStrike">
                <a:solidFill>
                  <a:srgbClr val="0033cc"/>
                </a:solidFill>
                <a:latin typeface=""/>
                <a:ea typeface="Arial"/>
              </a:rPr>
              <a:t>ө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  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бөжәктәр  һәм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       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60 т</a:t>
            </a:r>
            <a:r>
              <a:rPr b="0" lang="ru-RU" sz="3200" spc="-1" strike="noStrike">
                <a:solidFill>
                  <a:srgbClr val="0033cc"/>
                </a:solidFill>
                <a:latin typeface=""/>
                <a:ea typeface="Arial"/>
              </a:rPr>
              <a:t>ө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моллюскалар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     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и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  <a:ea typeface="Arial"/>
              </a:rPr>
              <a:t>ç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әпләнә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11280" y="3246480"/>
            <a:ext cx="3960720" cy="2881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4032360" cy="2808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959280" cy="2808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" y="3284640"/>
            <a:ext cx="4038480" cy="29527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48320" y="475920"/>
            <a:ext cx="403848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1 млн са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һ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ы кеш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Verdana"/>
                <a:ea typeface="Arial"/>
              </a:rPr>
              <a:t>2) 4 миллиондан ашыу кеш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Verdana"/>
                <a:ea typeface="Arial"/>
              </a:rPr>
              <a:t>3) Якынса 10 млн. кеш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Verdana"/>
                <a:ea typeface="Arial"/>
              </a:rPr>
              <a:t>_________________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Verdana"/>
                <a:ea typeface="Arial"/>
              </a:rPr>
              <a:t>1) 100 милл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  <a:ea typeface="Arial"/>
              </a:rPr>
              <a:t>әт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) якынса 50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  <a:ea typeface="Arial"/>
              </a:rPr>
              <a:t>милл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әт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  <a:ea typeface="Arial"/>
              </a:rPr>
              <a:t>3) 80 - дән ашыу </a:t>
            </a:r>
            <a:r>
              <a:rPr b="0" lang="ru-RU" sz="2800" spc="-1" strike="noStrike">
                <a:solidFill>
                  <a:srgbClr val="0033cc"/>
                </a:solidFill>
                <a:latin typeface="Verdana"/>
                <a:ea typeface="Arial"/>
              </a:rPr>
              <a:t>милл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  <a:ea typeface="Arial"/>
              </a:rPr>
              <a:t>әт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Урманда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3888000" cy="244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00"/>
                </a:solidFill>
                <a:latin typeface="Arial"/>
              </a:rPr>
              <a:t>Кара</a:t>
            </a:r>
            <a:r>
              <a:rPr b="0" i="1" lang="ru-RU" sz="2800" spc="-1" strike="noStrike">
                <a:solidFill>
                  <a:srgbClr val="00ff00"/>
                </a:solidFill>
                <a:latin typeface="Bernard MT Condensed"/>
                <a:ea typeface="Arial"/>
              </a:rPr>
              <a:t>Ғ</a:t>
            </a:r>
            <a:r>
              <a:rPr b="0" i="1" lang="ru-RU" sz="2800" spc="-1" strike="noStrike">
                <a:solidFill>
                  <a:srgbClr val="00ff00"/>
                </a:solidFill>
                <a:latin typeface="Arial"/>
                <a:ea typeface="Arial"/>
              </a:rPr>
              <a:t>ай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  <a:ea typeface="Arial"/>
              </a:rPr>
              <a:t>Й</a:t>
            </a:r>
            <a:r>
              <a:rPr b="0" i="1" lang="ru-RU" sz="2800" spc="-1" strike="noStrike">
                <a:solidFill>
                  <a:srgbClr val="00ff00"/>
                </a:solidFill>
                <a:latin typeface="Verdana"/>
                <a:ea typeface="Arial"/>
              </a:rPr>
              <a:t>үк</a:t>
            </a:r>
            <a:r>
              <a:rPr b="0" i="1" lang="ru-RU" sz="2800" spc="-1" strike="noStrike">
                <a:solidFill>
                  <a:srgbClr val="00ff00"/>
                </a:solidFill>
                <a:latin typeface="Arial"/>
                <a:ea typeface="Arial"/>
              </a:rPr>
              <a:t>ә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00"/>
                </a:solidFill>
                <a:latin typeface="Arial"/>
                <a:ea typeface="Arial"/>
              </a:rPr>
              <a:t>Кайы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57200" y="3941640"/>
            <a:ext cx="4038480" cy="2511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04576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743280" cy="2737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7200" y="3357720"/>
            <a:ext cx="3754440" cy="29509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48320" y="764640"/>
            <a:ext cx="403848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һ</a:t>
            </a:r>
            <a:r>
              <a:rPr b="0" lang="ru-RU" sz="3200" spc="-1" strike="noStrike">
                <a:solidFill>
                  <a:srgbClr val="eaeaea"/>
                </a:solidFill>
                <a:latin typeface=""/>
                <a:ea typeface="Arial"/>
              </a:rPr>
              <a:t>өт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"/>
                <a:ea typeface="Arial"/>
              </a:rPr>
              <a:t>айран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"/>
                <a:ea typeface="Arial"/>
              </a:rPr>
              <a:t>кымыз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48320" y="1125360"/>
            <a:ext cx="403848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) Ш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ә</a:t>
            </a:r>
            <a:r>
              <a:rPr b="0" lang="ru-RU" sz="2800" spc="-1" strike="noStrike">
                <a:solidFill>
                  <a:srgbClr val="eaeaea"/>
                </a:solidFill>
                <a:latin typeface=""/>
                <a:ea typeface="Arial"/>
              </a:rPr>
              <a:t>к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ә</a:t>
            </a:r>
            <a:r>
              <a:rPr b="0" lang="ru-RU" sz="2800" spc="-1" strike="noStrike">
                <a:solidFill>
                  <a:srgbClr val="eaeaea"/>
                </a:solidFill>
                <a:latin typeface=""/>
                <a:ea typeface="Arial"/>
              </a:rPr>
              <a:t>р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"/>
                <a:ea typeface="Arial"/>
              </a:rPr>
              <a:t>2) Буза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"/>
                <a:ea typeface="Arial"/>
              </a:rPr>
              <a:t>3) Бал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745080" cy="2736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4038480" cy="270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78920" y="1197000"/>
            <a:ext cx="403884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1)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Й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Arial"/>
              </a:rPr>
              <a:t>үрүзән;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Arial"/>
                <a:ea typeface="Arial"/>
              </a:rPr>
              <a:t>   </a:t>
            </a:r>
            <a:r>
              <a:rPr b="0" i="1" lang="ru-RU" sz="4000" spc="-1" strike="noStrike">
                <a:solidFill>
                  <a:srgbClr val="0033cc"/>
                </a:solidFill>
                <a:latin typeface="Arial"/>
                <a:ea typeface="Arial"/>
              </a:rPr>
              <a:t>2)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Arial"/>
              </a:rPr>
              <a:t>АҒИЗЕЛ;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Arial"/>
                <a:ea typeface="Arial"/>
              </a:rPr>
              <a:t>   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  <a:ea typeface="Arial"/>
              </a:rPr>
              <a:t>3) </a:t>
            </a:r>
            <a:r>
              <a:rPr b="1" i="1" lang="ru-RU" sz="4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Һ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АКМАР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3280" y="476280"/>
            <a:ext cx="4105440" cy="3024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643280" y="3645000"/>
            <a:ext cx="4176720" cy="2879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743280" cy="2592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3672000" cy="28810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НДРАК</a:t>
            </a:r>
            <a:r>
              <a:rPr b="0" lang="en-US" sz="2800" spc="-1" strike="noStrike">
                <a:solidFill>
                  <a:srgbClr val="eaeaea"/>
                </a:solidFill>
                <a:latin typeface=""/>
              </a:rPr>
              <a:t>Y</a:t>
            </a:r>
            <a:r>
              <a:rPr b="0" lang="ru-RU" sz="2800" spc="-1" strike="noStrike">
                <a:solidFill>
                  <a:srgbClr val="eaeaea"/>
                </a:solidFill>
                <a:latin typeface=""/>
              </a:rPr>
              <a:t>Л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"/>
              </a:rPr>
              <a:t>АСЫЛЫК </a:t>
            </a:r>
            <a:r>
              <a:rPr b="0" lang="en-US" sz="2800" spc="-1" strike="noStrike">
                <a:solidFill>
                  <a:srgbClr val="eaeaea"/>
                </a:solidFill>
                <a:latin typeface=""/>
              </a:rPr>
              <a:t>Y</a:t>
            </a:r>
            <a:r>
              <a:rPr b="0" lang="ru-RU" sz="2800" spc="-1" strike="noStrike">
                <a:solidFill>
                  <a:srgbClr val="eaeaea"/>
                </a:solidFill>
                <a:latin typeface=""/>
              </a:rPr>
              <a:t>Л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"/>
              </a:rPr>
              <a:t>ТАЛКАС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ec85e"/>
                </a:solidFill>
                <a:latin typeface="Arial Unicode MS"/>
              </a:rPr>
              <a:t>Республикам территория</a:t>
            </a:r>
            <a:r>
              <a:rPr b="0" i="1" lang="en-US" sz="4400" spc="-1" strike="noStrike">
                <a:solidFill>
                  <a:srgbClr val="eec85e"/>
                </a:solidFill>
                <a:latin typeface=""/>
              </a:rPr>
              <a:t>һ</a:t>
            </a:r>
            <a:r>
              <a:rPr b="0" i="1" lang="en-US" sz="4400" spc="-1" strike="noStrike">
                <a:solidFill>
                  <a:srgbClr val="eec85e"/>
                </a:solidFill>
                <a:latin typeface="Arial"/>
              </a:rPr>
              <a:t>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000" y="1676520"/>
            <a:ext cx="3660480" cy="4776840"/>
            <a:chOff x="324000" y="1676520"/>
            <a:chExt cx="3660480" cy="477684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324000" y="1676520"/>
              <a:ext cx="3660480" cy="47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 txBox="1"/>
            <p:nvPr/>
          </p:nvSpPr>
          <p:spPr>
            <a:xfrm>
              <a:off x="324000" y="1676520"/>
              <a:ext cx="3660480" cy="477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62480" y="1844280"/>
            <a:ext cx="4324320" cy="39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Verdana"/>
              </a:rPr>
              <a:t>1)143,6 ме</a:t>
            </a:r>
            <a:r>
              <a:rPr b="0" lang="ru-RU" sz="3600" spc="-1" strike="noStrike">
                <a:solidFill>
                  <a:srgbClr val="00ff00"/>
                </a:solidFill>
                <a:latin typeface="Verdana"/>
                <a:ea typeface="Arial"/>
              </a:rPr>
              <a:t>ң кв.м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  <a:ea typeface="Arial"/>
              </a:rPr>
              <a:t>2)160, 5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ме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  <a:ea typeface="Arial"/>
              </a:rPr>
              <a:t>ң кв.м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Verdana"/>
                <a:ea typeface="Arial"/>
              </a:rPr>
              <a:t>3) 200 </a:t>
            </a:r>
            <a:r>
              <a:rPr b="0" lang="ru-RU" sz="3600" spc="-1" strike="noStrike">
                <a:solidFill>
                  <a:srgbClr val="cc3300"/>
                </a:solidFill>
                <a:latin typeface="Verdana"/>
              </a:rPr>
              <a:t>ме</a:t>
            </a:r>
            <a:r>
              <a:rPr b="0" lang="ru-RU" sz="3600" spc="-1" strike="noStrike">
                <a:solidFill>
                  <a:srgbClr val="cc3300"/>
                </a:solidFill>
                <a:latin typeface="Verdana"/>
                <a:ea typeface="Arial"/>
              </a:rPr>
              <a:t>ң кв.м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403848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11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Verdana"/>
              </a:rPr>
              <a:t>ТОРАТАУ;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10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Verdana"/>
              </a:rPr>
              <a:t>ШАХТАУ;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ЯН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  <a:ea typeface="Arial"/>
              </a:rPr>
              <a:t>ҒАНТАУ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8320" y="692280"/>
            <a:ext cx="4038480" cy="2665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648320" y="3500280"/>
            <a:ext cx="4038480" cy="2630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ЙӘШӘҺЕН, СӘСКӘ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ТҺЫН,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ШКОРТОСТАНЫМ!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Дәүләт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символда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4038480" cy="2219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2808360" cy="2087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403280" y="3860280"/>
            <a:ext cx="6840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10 октябрь;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1) 1990 йыл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11 октябрь;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2) 1991 йыл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12 октябрь.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3) 1992 йыл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Парламент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Королтай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Йыйы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708360" y="549360"/>
            <a:ext cx="4967280" cy="52941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24360" y="260280"/>
            <a:ext cx="1923840" cy="2189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08360" y="4508640"/>
            <a:ext cx="2762280" cy="2076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076720" y="2349360"/>
            <a:ext cx="3859200" cy="21891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31687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) К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ә</a:t>
            </a:r>
            <a:r>
              <a:rPr b="0" lang="ru-RU" sz="2800" spc="-1" strike="noStrike">
                <a:solidFill>
                  <a:srgbClr val="eaeaea"/>
                </a:solidFill>
                <a:latin typeface=""/>
                <a:ea typeface="Arial"/>
              </a:rPr>
              <a:t>р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Arial"/>
              </a:rPr>
              <a:t>мов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Arial"/>
              </a:rPr>
              <a:t>  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Arial"/>
              </a:rPr>
              <a:t>2) Шаймиев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Arial"/>
              </a:rPr>
              <a:t>  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Arial"/>
              </a:rPr>
              <a:t>3) Р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әх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Arial"/>
              </a:rPr>
              <a:t>мо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795560" y="-5195520"/>
            <a:ext cx="680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3573360"/>
            <a:ext cx="3311640" cy="2735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00000" y="765000"/>
            <a:ext cx="3311640" cy="24958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7640" y="836280"/>
            <a:ext cx="41940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Р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әхимов М.Ғ. -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Башкортостанды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ң тәүге президенты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2010 йылды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ң 19 июленән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   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бөгөнгө көнгәсә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     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Башкортос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президенты вазифаһы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башкар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Х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әмитов Рөстәм Зәки ул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Аксаков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Чехов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Некрасо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11280" y="3933720"/>
            <a:ext cx="4038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) Мостай К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ә</a:t>
            </a:r>
            <a:r>
              <a:rPr b="0" lang="ru-RU" sz="2800" spc="-1" strike="noStrike">
                <a:solidFill>
                  <a:srgbClr val="eaeaea"/>
                </a:solidFill>
                <a:latin typeface=""/>
                <a:ea typeface="Arial"/>
              </a:rPr>
              <a:t>рим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"/>
                <a:ea typeface="Arial"/>
              </a:rPr>
              <a:t>2) Салауат Юлаев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"/>
                <a:ea typeface="Arial"/>
              </a:rPr>
              <a:t>3) Рим Х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әсән</a:t>
            </a:r>
            <a:r>
              <a:rPr b="0" lang="ru-RU" sz="2800" spc="-1" strike="noStrike">
                <a:solidFill>
                  <a:srgbClr val="eaeaea"/>
                </a:solidFill>
                <a:latin typeface=""/>
                <a:ea typeface="Arial"/>
              </a:rPr>
              <a:t>о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219640" y="765000"/>
            <a:ext cx="3456000" cy="5034240"/>
            <a:chOff x="5219640" y="765000"/>
            <a:chExt cx="3456000" cy="503424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219640" y="765000"/>
              <a:ext cx="3456000" cy="503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 txBox="1"/>
            <p:nvPr/>
          </p:nvSpPr>
          <p:spPr>
            <a:xfrm>
              <a:off x="5219640" y="765000"/>
              <a:ext cx="3456000" cy="503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76720" cy="2952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  <a:ea typeface="Arial"/>
              </a:rPr>
              <a:t>Калалар </a:t>
            </a:r>
            <a:r>
              <a:rPr b="1" i="1" lang="ru-RU" sz="6600" spc="-1" strike="noStrike">
                <a:solidFill>
                  <a:srgbClr val="ff0000"/>
                </a:solidFill>
                <a:latin typeface="Arial"/>
                <a:ea typeface="Times New Roman"/>
              </a:rPr>
              <a:t>Һаны…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  <a:ea typeface="Arial"/>
              </a:rPr>
              <a:t>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  <a:ea typeface="Arial"/>
              </a:rPr>
              <a:t>1)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  <a:ea typeface="Arial"/>
              </a:rPr>
              <a:t>&lt;15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  <a:ea typeface="Arial"/>
              </a:rPr>
              <a:t>;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aeaea"/>
                </a:solidFill>
                <a:latin typeface="Verdana"/>
                <a:ea typeface="Arial"/>
              </a:rPr>
              <a:t> 2) = 15;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aeaea"/>
                </a:solidFill>
                <a:latin typeface="Verdana"/>
                <a:ea typeface="Arial"/>
              </a:rPr>
              <a:t> 3)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  <a:ea typeface="Arial"/>
              </a:rPr>
              <a:t>&gt;1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  <a:ea typeface="Arial"/>
              </a:rPr>
              <a:t>5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176720" cy="2189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284720" y="3941640"/>
            <a:ext cx="4402080" cy="2440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6:59:28Z</dcterms:created>
  <dc:creator>Admin</dc:creator>
  <dc:description/>
  <dc:language>en-US</dc:language>
  <cp:lastModifiedBy>Admin</cp:lastModifiedBy>
  <dcterms:modified xsi:type="dcterms:W3CDTF">2012-06-25T18:35:04Z</dcterms:modified>
  <cp:revision>3</cp:revision>
  <dc:subject/>
  <dc:title>СӘCKӘ AT, ҺӨЙӨКЛӨ РЕСПУБЛИКАМ!</dc:title>
</cp:coreProperties>
</file>