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28.png" ContentType="image/png"/>
  <Override PartName="/ppt/media/image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8DD-ADEA-454F-B321-37C69EBA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6CA-4099-4765-AD36-C010636F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8E6-3835-49DC-8931-B25E7ED4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D27-DFEC-408A-92DB-E2960EBD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2B8D-6262-45F5-80C1-7671453C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CEC1-1DBB-443F-AECA-1230AC9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AF0-B806-4D61-992A-0B7F498E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D00-02A7-458D-8DD3-D095A8E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B90F-E20F-4D94-8203-56789B8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3C0E-2D23-413A-A869-1E61C70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ED72-1E29-4469-8F6A-2B1ECDC9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B64-FB1B-4A3F-9FEA-3F46688B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183-6274-44BD-98B0-6F378FEF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1BBB-0C8C-4674-A3CB-F2C012D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F375-B3F9-44B6-9F03-0D94C095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3D5-631E-40FD-BBDF-4DD8C54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9A19-7A8D-46C0-831E-4F88F1FD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9F5-9903-47BE-B628-D5F67D49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16A-4EB1-4D0E-8009-A48AB925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D8F-4660-4DD8-B9AE-F42CE91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149-09BA-4551-B015-1CA49D8F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F81-7ACF-40CA-8F61-58FDE9DE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F79-DDFB-4D7B-89AC-F21779B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EAB-992D-4CC3-8999-8D4C996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48A-32E6-467D-835A-860599D0D72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AB9B-9F06-4A58-81D4-35B7B0B4A8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Baskerville Old Face"/>
              </a:rPr>
              <a:t>С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</a:t>
            </a:r>
            <a:r>
              <a:rPr b="1" i="1" lang="en-US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CK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Ә</a:t>
            </a:r>
            <a:r>
              <a:rPr b="1" i="1" lang="en-US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 AT,</a:t>
            </a:r>
            <a:r>
              <a:rPr b="1" i="1" lang="ru-RU" sz="6600" spc="-1" strike="noStrike">
                <a:solidFill>
                  <a:srgbClr val="ff0000"/>
                </a:solidFill>
                <a:latin typeface="Baskerville Old Face"/>
                <a:ea typeface="Times New Roman"/>
              </a:rPr>
              <a:t> </a:t>
            </a: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ҺӨЙӨКЛӨ</a:t>
            </a:r>
            <a:br>
              <a:rPr sz="6600"/>
            </a:b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ПУБЛИКАМ!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Times New Roman"/>
              </a:rPr>
              <a:t>Райондар </a:t>
            </a:r>
            <a:r>
              <a:rPr b="1" i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Һаны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762440" cy="4276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35280" y="1599840"/>
            <a:ext cx="325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34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44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54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 1950йы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) 1938 йы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) 1937 йы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Башкортостандың   т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ә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биғ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ә</a:t>
            </a:r>
            <a:r>
              <a:rPr b="0" lang="ru-RU" sz="4000" spc="-1" strike="noStrike">
                <a:solidFill>
                  <a:srgbClr val="00ff00"/>
                </a:solidFill>
                <a:latin typeface="Arial"/>
                <a:ea typeface="Arial"/>
              </a:rPr>
              <a:t>т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4105080" cy="2738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360" y="1125360"/>
            <a:ext cx="3927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00"/>
                </a:solidFill>
                <a:latin typeface="Verdana"/>
              </a:rPr>
              <a:t>270 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  <a:ea typeface="Arial"/>
              </a:rPr>
              <a:t>т</a:t>
            </a:r>
            <a:r>
              <a:rPr b="0" lang="ru-RU" sz="4000" spc="-1" strike="noStrike">
                <a:solidFill>
                  <a:srgbClr val="00ff00"/>
                </a:solidFill>
                <a:latin typeface=""/>
                <a:ea typeface="Arial"/>
              </a:rPr>
              <a:t>ө</a:t>
            </a:r>
            <a:r>
              <a:rPr b="0" lang="ru-RU" sz="4000" spc="-1" strike="noStrike">
                <a:solidFill>
                  <a:srgbClr val="00ff00"/>
                </a:solidFill>
                <a:latin typeface="Verdana"/>
                <a:ea typeface="Arial"/>
              </a:rPr>
              <a:t>р  кош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8456"/>
                </a:solidFill>
                <a:latin typeface="Verdana"/>
                <a:ea typeface="Arial"/>
              </a:rPr>
              <a:t>83 т</a:t>
            </a:r>
            <a:r>
              <a:rPr b="0" lang="ru-RU" sz="4000" spc="-1" strike="noStrike">
                <a:solidFill>
                  <a:srgbClr val="aa8456"/>
                </a:solidFill>
                <a:latin typeface=""/>
                <a:ea typeface="Arial"/>
              </a:rPr>
              <a:t>ө</a:t>
            </a:r>
            <a:r>
              <a:rPr b="0" lang="ru-RU" sz="4000" spc="-1" strike="noStrike">
                <a:solidFill>
                  <a:srgbClr val="aa8456"/>
                </a:solidFill>
                <a:latin typeface="Verdana"/>
                <a:ea typeface="Arial"/>
              </a:rPr>
              <a:t>р йәнлек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1052640"/>
            <a:ext cx="4174920" cy="2592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917960" y="1268280"/>
            <a:ext cx="3927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40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  <a:ea typeface="Arial"/>
              </a:rPr>
              <a:t>т</a:t>
            </a:r>
            <a:r>
              <a:rPr b="0" lang="ru-RU" sz="3600" spc="-1" strike="noStrike">
                <a:solidFill>
                  <a:srgbClr val="eaeaea"/>
                </a:solidFill>
                <a:latin typeface=""/>
                <a:ea typeface="Arial"/>
              </a:rPr>
              <a:t>ө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  <a:ea typeface="Arial"/>
              </a:rPr>
              <a:t>р балык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41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4032000" cy="295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917960" y="476280"/>
            <a:ext cx="39276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</a:rPr>
              <a:t>Бер нис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</a:rPr>
              <a:t>ә мең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т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  <a:ea typeface="Arial"/>
              </a:rPr>
              <a:t>ө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бөжәктәр  һәм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60 т</a:t>
            </a:r>
            <a:r>
              <a:rPr b="0" lang="ru-RU" sz="3200" spc="-1" strike="noStrike">
                <a:solidFill>
                  <a:srgbClr val="0033cc"/>
                </a:solidFill>
                <a:latin typeface=""/>
                <a:ea typeface="Arial"/>
              </a:rPr>
              <a:t>ө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моллюскала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     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и</a:t>
            </a:r>
            <a:r>
              <a:rPr b="0" lang="en-US" sz="3200" spc="-1" strike="noStrike">
                <a:solidFill>
                  <a:srgbClr val="0033cc"/>
                </a:solidFill>
                <a:latin typeface="Verdana"/>
                <a:ea typeface="Arial"/>
              </a:rPr>
              <a:t>ç</a:t>
            </a:r>
            <a:r>
              <a:rPr b="0" lang="ru-RU" sz="3200" spc="-1" strike="noStrike">
                <a:solidFill>
                  <a:srgbClr val="0033cc"/>
                </a:solidFill>
                <a:latin typeface="Verdana"/>
                <a:ea typeface="Arial"/>
              </a:rPr>
              <a:t>әпләнә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3246480"/>
            <a:ext cx="39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403236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328464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48320" y="475920"/>
            <a:ext cx="403848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1 млн са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һ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ы кеш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Verdana"/>
                <a:ea typeface="Arial"/>
              </a:rPr>
              <a:t>2) 4 миллиондан ашыу кеш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  <a:ea typeface="Arial"/>
              </a:rPr>
              <a:t>3) Якынса 10 млн. кеш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Verdana"/>
                <a:ea typeface="Arial"/>
              </a:rPr>
              <a:t>_________________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1) 100 мил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) якынса 50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мил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3) 80 - дән ашыу </a:t>
            </a:r>
            <a:r>
              <a:rPr b="0" lang="ru-RU" sz="2800" spc="-1" strike="noStrike">
                <a:solidFill>
                  <a:srgbClr val="0033cc"/>
                </a:solidFill>
                <a:latin typeface="Verdana"/>
                <a:ea typeface="Arial"/>
              </a:rPr>
              <a:t>милл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ә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рманда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888000" cy="244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Arial"/>
              </a:rPr>
              <a:t>Кара</a:t>
            </a:r>
            <a:r>
              <a:rPr b="0" i="1" lang="ru-RU" sz="2800" spc="-1" strike="noStrike">
                <a:solidFill>
                  <a:srgbClr val="00ff00"/>
                </a:solidFill>
                <a:latin typeface="Bernard MT Condensed"/>
                <a:ea typeface="Arial"/>
              </a:rPr>
              <a:t>Ғ</a:t>
            </a: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а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Й</a:t>
            </a:r>
            <a:r>
              <a:rPr b="0" i="1" lang="ru-RU" sz="2800" spc="-1" strike="noStrike">
                <a:solidFill>
                  <a:srgbClr val="00ff00"/>
                </a:solidFill>
                <a:latin typeface="Verdana"/>
                <a:ea typeface="Arial"/>
              </a:rPr>
              <a:t>үк</a:t>
            </a: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ә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00"/>
                </a:solidFill>
                <a:latin typeface="Arial"/>
                <a:ea typeface="Arial"/>
              </a:rPr>
              <a:t>Кайы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3941640"/>
            <a:ext cx="4038480" cy="2511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0457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743280" cy="2737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3357720"/>
            <a:ext cx="3754440" cy="29509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48320" y="764640"/>
            <a:ext cx="40384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һ</a:t>
            </a: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өт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айран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"/>
                <a:ea typeface="Arial"/>
              </a:rPr>
              <a:t>кымыз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48320" y="1125360"/>
            <a:ext cx="403848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Ш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2) Буза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3) Бал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74508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4038480" cy="270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4038840" cy="53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1)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Й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үрүзән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   </a:t>
            </a:r>
            <a:r>
              <a:rPr b="0" i="1" lang="ru-RU" sz="4000" spc="-1" strike="noStrike">
                <a:solidFill>
                  <a:srgbClr val="0033cc"/>
                </a:solidFill>
                <a:latin typeface="Arial"/>
                <a:ea typeface="Arial"/>
              </a:rPr>
              <a:t>2)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АҒИЗЕЛ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   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  <a:ea typeface="Arial"/>
              </a:rPr>
              <a:t>3) </a:t>
            </a:r>
            <a:r>
              <a:rPr b="1" i="1" lang="ru-RU" sz="4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Һ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АКМАР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105440" cy="3024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4176720" cy="2879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672000" cy="2881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НДРАК</a:t>
            </a:r>
            <a:r>
              <a:rPr b="0" lang="en-US" sz="2800" spc="-1" strike="noStrike">
                <a:solidFill>
                  <a:srgbClr val="eaeaea"/>
                </a:solidFill>
                <a:latin typeface=""/>
              </a:rPr>
              <a:t>Y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АСЫЛЫК </a:t>
            </a:r>
            <a:r>
              <a:rPr b="0" lang="en-US" sz="2800" spc="-1" strike="noStrike">
                <a:solidFill>
                  <a:srgbClr val="eaeaea"/>
                </a:solidFill>
                <a:latin typeface=""/>
              </a:rPr>
              <a:t>Y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Л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</a:rPr>
              <a:t>ТАЛКАС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ec85e"/>
                </a:solidFill>
                <a:latin typeface="Arial Unicode MS"/>
              </a:rPr>
              <a:t>Республикам территория</a:t>
            </a:r>
            <a:r>
              <a:rPr b="0" i="1" lang="en-US" sz="4400" spc="-1" strike="noStrike">
                <a:solidFill>
                  <a:srgbClr val="eec85e"/>
                </a:solidFill>
                <a:latin typeface=""/>
              </a:rPr>
              <a:t>һ</a:t>
            </a:r>
            <a:r>
              <a:rPr b="0" i="1" lang="en-US" sz="4400" spc="-1" strike="noStrike">
                <a:solidFill>
                  <a:srgbClr val="eec85e"/>
                </a:solidFill>
                <a:latin typeface="Arial"/>
              </a:rPr>
              <a:t>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1676520"/>
            <a:ext cx="3660480" cy="4776840"/>
            <a:chOff x="324000" y="1676520"/>
            <a:chExt cx="3660480" cy="477684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324000" y="1676520"/>
              <a:ext cx="3660480" cy="47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324000" y="1676520"/>
              <a:ext cx="3660480" cy="477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62480" y="1844280"/>
            <a:ext cx="432432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Verdana"/>
              </a:rPr>
              <a:t>1)143,6 ме</a:t>
            </a:r>
            <a:r>
              <a:rPr b="0" lang="ru-RU" sz="3600" spc="-1" strike="noStrike">
                <a:solidFill>
                  <a:srgbClr val="00ff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2)160, 5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ме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Verdana"/>
                <a:ea typeface="Arial"/>
              </a:rPr>
              <a:t>3) 200 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</a:rPr>
              <a:t>ме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  <a:ea typeface="Arial"/>
              </a:rPr>
              <a:t>ң кв.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11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Verdana"/>
              </a:rPr>
              <a:t>ТОРАТАУ;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10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Verdana"/>
              </a:rPr>
              <a:t>ШАХТАУ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ЯН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Arial"/>
              </a:rPr>
              <a:t>ҒАНТАУ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692280"/>
            <a:ext cx="4038480" cy="2665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648320" y="3500280"/>
            <a:ext cx="403848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ӘШӘҺЕН, СӘСКӘ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ҺЫН,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ШКОРТОСТАНЫМ!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әүләт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имволдар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4038480" cy="2219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2808360" cy="208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403280" y="3860280"/>
            <a:ext cx="68407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0 октябрь;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1) 1990 йы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1 октябрь;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2) 1991 йыл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12 октябрь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0" lang="ru-RU" sz="2400" spc="-1" strike="noStrike">
                <a:solidFill>
                  <a:srgbClr val="00ff00"/>
                </a:solidFill>
                <a:latin typeface="Verdana"/>
              </a:rPr>
              <a:t>3) 1992 йыл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арламент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Королтай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Йыйы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4967280" cy="5294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1923840" cy="2189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08360" y="4508640"/>
            <a:ext cx="2762280" cy="207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3859200" cy="2189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31687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м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2) Шаймие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3) Р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хи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  <a:ea typeface="Arial"/>
              </a:rPr>
              <a:t>м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95560" y="-5195520"/>
            <a:ext cx="68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3311640" cy="273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3311640" cy="2495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27640" y="836280"/>
            <a:ext cx="4194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Р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әхимов М.Ғ. -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Башкортостанд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ң тәүге президент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2010 йылды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ң 19 июленән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өгөнгө көнгәс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ашкортос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президенты вазифаһы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башка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Х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  <a:ea typeface="Arial"/>
              </a:rPr>
              <a:t>әмитов Рөстәм Зәки улы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ксак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Чехо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Некрас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11280" y="393372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) Мостай К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рим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2) Салауат Юлаев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3) Рим Х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әсән</a:t>
            </a:r>
            <a:r>
              <a:rPr b="0" lang="ru-RU" sz="2800" spc="-1" strike="noStrike">
                <a:solidFill>
                  <a:srgbClr val="eaeaea"/>
                </a:solidFill>
                <a:latin typeface=""/>
                <a:ea typeface="Arial"/>
              </a:rPr>
              <a:t>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219640" y="765000"/>
            <a:ext cx="3456000" cy="5034240"/>
            <a:chOff x="5219640" y="765000"/>
            <a:chExt cx="3456000" cy="503424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219640" y="765000"/>
              <a:ext cx="3456000" cy="503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 txBox="1"/>
            <p:nvPr/>
          </p:nvSpPr>
          <p:spPr>
            <a:xfrm>
              <a:off x="5219640" y="765000"/>
              <a:ext cx="3456000" cy="503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eec85e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Калалар </a:t>
            </a:r>
            <a:r>
              <a:rPr b="1" i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Һаны…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1)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  <a:ea typeface="Arial"/>
              </a:rPr>
              <a:t>&lt;15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2) = 15;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 3)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  <a:ea typeface="Arial"/>
              </a:rPr>
              <a:t>&gt;1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  <a:ea typeface="Arial"/>
              </a:rPr>
              <a:t>5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1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84720" y="3941640"/>
            <a:ext cx="4402080" cy="244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6:59:28Z</dcterms:created>
  <dc:creator>Admin</dc:creator>
  <dc:description/>
  <dc:language>en-US</dc:language>
  <cp:lastModifiedBy>Admin</cp:lastModifiedBy>
  <dcterms:modified xsi:type="dcterms:W3CDTF">2012-06-25T18:35:04Z</dcterms:modified>
  <cp:revision>3</cp:revision>
  <dc:subject/>
  <dc:title>СӘCKӘ AT, ҺӨЙӨКЛӨ РЕСПУБЛИКАМ!</dc:title>
</cp:coreProperties>
</file>