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14E-003C-454B-83D1-F3BDDA5B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6A0-8D96-4C22-9A4D-F07AE551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C99-63DD-4048-A778-F952F93D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0B6-2AF9-4C94-AD9B-1CDE5D7B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381E-91D2-4C4C-995F-A75F1A4D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EDF1-CC6D-4F61-970C-F6BE9350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7EB7-96D3-41B3-BD91-BE030CFE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9943-EA24-4337-B151-ABE23C7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270D-7A8B-4083-B160-0E56C438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6CBF-718D-4265-988A-7B8361AD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B132-9967-4DBF-9C47-B445ECD0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98C-CCE9-462D-A778-370C9FDD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6B60-D6BB-46FC-A208-1054605B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CECB-C310-42D1-82DE-61C76AF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97E4-CD39-41E0-90BA-1500200F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28B3-4375-4C15-A710-0DB1572E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6CE6-2084-4627-BF5E-037C22B7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917-9620-42CE-8981-85EC5C42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ACB-0FC2-4D1E-97C1-90C9F53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980-1122-4F35-BF28-F3730166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4B7-DE03-45FA-A0A7-56112EB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4C9-DBED-401B-BACE-0CA5053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DEE-AF09-4F5D-9507-6986210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224-36C7-4D61-BB0B-30658ED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4D51-BA38-4F9D-B38F-AE59A38755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9CEA-E186-4308-8D83-00C93055E40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1052640"/>
            <a:ext cx="6693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Д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фференцированный подход в обуч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58136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фференцированная работа при чтении художественного произвед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Внутрення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дифференциац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няется в разноуровневых классах, где обычно имеют место три уровня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ысок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ред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изк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Высок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ащиеся свободно усваивают изучаемый материал, выделяют существенное, закономерное, в частном видят общее,  способны самостоятельно развивать раскрытые на уроке положения, легко переносят задания в новые ситу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280" y="214200"/>
            <a:ext cx="7180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Средн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ники усваивают учебный материал после тренировочной работы, выделяют существенное, закономерное не сразу, а после выполнения определенных тренировочных предложений умеют видеть в частном общее; требуется более длительное время для усвоения зна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214200"/>
            <a:ext cx="7035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Низк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сваивают материал после многократных упражнений и не всегда в полном объёме, затрудняются в определении существенного, закономерного после общей тренировочной работы со всем классом, выполняют задания репродуктивного характера; овладевают знаниями за более длительное врем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Алгоритм работы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2852640"/>
            <a:ext cx="7767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шаг. Комплектование групп-уровней, каждая группа получает название, не раскрывающее напрямую дифференциации: «Ёлочки», «Березки», «Дубк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фференциация учащихся 7А класса по уровня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989000"/>
          <a:ext cx="7983360" cy="3961080"/>
        </p:xfrm>
        <a:graphic>
          <a:graphicData uri="http://schemas.openxmlformats.org/drawingml/2006/table">
            <a:tbl>
              <a:tblPr/>
              <a:tblGrid>
                <a:gridCol w="2660400"/>
                <a:gridCol w="2662560"/>
                <a:gridCol w="2660400"/>
              </a:tblGrid>
              <a:tr h="14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ндаренко 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йворон 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каченко 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ндра 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хматов 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ценко 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уромская 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повалов 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йоров 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утов 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8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 шаг – подбор разноуровневых заданий к каждому изучаемому текст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фференциация заданий по уровня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ий уровень – задания репродуктивного характер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тек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дчеркни (отметь) непонятные сло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меть трудные для чтения сло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и расставь удар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дели все гласные  в слове и прочитай без ошибо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смотри каждое слово до конца и назови его целик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все восклицательные, вопросительные. Повествовательные предлож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полни задания, данные после текс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меть главное слово в предложении (абзаце, тексте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осчитай, сколько раз встречается прямая реч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выразительно прямую реч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дели красивые слова и выраж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6:29:58Z</dcterms:created>
  <dc:creator>USER</dc:creator>
  <dc:description/>
  <dc:language>en-US</dc:language>
  <cp:lastModifiedBy>Герберг А.Н.</cp:lastModifiedBy>
  <dcterms:modified xsi:type="dcterms:W3CDTF">2008-12-26T12:10:47Z</dcterms:modified>
  <cp:revision>12</cp:revision>
  <dc:subject/>
  <dc:title> Предложение</dc:title>
</cp:coreProperties>
</file>