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558-A926-4B79-BBE8-5EE3B67E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D04-5639-414A-84E1-C9D326FA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F5C-CFFB-4809-8304-0CFD7243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E0B-25DE-43DA-AA86-91495D57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925-6E12-401B-82EC-747D8E9F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4969-5161-45AE-8C1C-0CBE0CF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CBF0-0571-47F4-9B67-C3D349D9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3CA7-DAD3-4403-83FE-FD315A93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F273-922F-45B5-8703-7D0CE7A2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CB4-6E63-4CB2-8304-EC3EF195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3634-54E6-4B38-AE53-62C20C46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C2C-5D5E-45FB-A775-E6B6F0A1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4BEA-E86F-4F0E-9A1C-66B5FC08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DB7C-EA4E-4DAB-AEEA-D71F8BB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CBD-EBD6-4837-A1FD-FCEFD5AA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AEAB-D7EE-47A5-8947-13B3AD61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47DE-0172-4CB5-B8F9-C2AE3DEC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683-9414-42EF-96DC-7E996958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ABC-3CBA-42DC-8A9E-E4670EA1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463-C59F-4094-9434-B8BF49C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0B2-2551-48AA-9AFD-AEC69254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E84-EEDE-4722-BBB6-916B8A62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42E-0A52-43D8-BD57-BE0EC830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D9A-659D-4AD0-A0A1-F6146CB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2D94-A89A-4EDD-BA17-09C84AF6BDB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F147-6597-474B-8A8F-63EEA62286F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640" y="1052640"/>
            <a:ext cx="6693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Д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фференцированный подход в обуч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58136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фференцированная работа при чтении художественного произвед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Внутрення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дифференциац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няется в разноуровневых классах, где обычно имеют место три уровня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ысок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редний;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изки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Высок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ащиеся свободно усваивают изучаемый материал, выделяют существенное, закономерное, в частном видят общее,  способны самостоятельно развивать раскрытые на уроке положения, легко переносят задания в новые ситу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63280" y="214200"/>
            <a:ext cx="7180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Средн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ники усваивают учебный материал после тренировочной работы, выделяют существенное, закономерное не сразу, а после выполнения определенных тренировочных предложений умеют видеть в частном общее; требуется более длительное время для усвоения зн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214200"/>
            <a:ext cx="7035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Низкий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уровень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421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сваивают материал после многократных упражнений и не всегда в полном объёме, затрудняются в определении существенного, закономерного после общей тренировочной работы со всем классом, выполняют задания репродуктивного характера; овладевают знаниями за более длительное вре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Алгоритм работы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2852640"/>
            <a:ext cx="7767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шаг. Комплектование групп-уровней, каждая группа получает название, не раскрывающее напрямую дифференциации: «Ёлочки», «Березки», «Дубки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фференциация учащихся 7А класса по уровня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989000"/>
          <a:ext cx="7983360" cy="3961080"/>
        </p:xfrm>
        <a:graphic>
          <a:graphicData uri="http://schemas.openxmlformats.org/drawingml/2006/table">
            <a:tbl>
              <a:tblPr/>
              <a:tblGrid>
                <a:gridCol w="2660400"/>
                <a:gridCol w="2662560"/>
                <a:gridCol w="2660400"/>
              </a:tblGrid>
              <a:tr h="14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о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зкий 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ндаренко 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йворон 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каченко Ю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ндра 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хматов 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ценко 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уромская 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аповалов 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йоров 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тов 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8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 шаг – подбор разноуровневых заданий к каждому изучаемому текс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фференциация заданий по уровня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й уровень – задания репродуктивного характер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тек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дчеркни (отметь) непонятные сло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меть трудные для чтения сло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и расставь удар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дели все гласные  в слове и прочитай без ошибо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смотри каждое слово до конца и назови его целик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все восклицательные, вопросительные. Повествовательные пред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полни задания, данные после текст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меть главное слово в предложении (абзаце, тексте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считай, сколько раз встречается прямая реч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читай выразительно прямую реч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дели красивые слова и выраж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6:29:58Z</dcterms:created>
  <dc:creator>USER</dc:creator>
  <dc:description/>
  <dc:language>en-US</dc:language>
  <cp:lastModifiedBy>Герберг А.Н.</cp:lastModifiedBy>
  <dcterms:modified xsi:type="dcterms:W3CDTF">2008-12-26T12:10:47Z</dcterms:modified>
  <cp:revision>12</cp:revision>
  <dc:subject/>
  <dc:title> Предложение</dc:title>
</cp:coreProperties>
</file>