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2068-FB63-48E6-A18D-0ACEB6DF8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6661-D95D-4FF6-B297-E1562625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156C-1717-4AD0-902E-452FA50D5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4DF6-3E5A-476D-BB69-B8229AF09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E1D4-57D0-4466-866A-4422C947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A19B-D69A-4891-A6C6-F179F18E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E189-0D71-4145-A922-1473A540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C7C1-A991-4295-BFC3-A4B26B96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B0A1-ADCD-4EF6-ABDE-55AAEE6F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A281-3FA7-4006-8B97-BD2DE9E8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D298-09D4-4547-91BE-D9344BC0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FD4C-4F4C-49D9-8EF0-C05AEF11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56AA-56EC-4359-9A77-A08C56CC04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2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6600"/>
                </a:solidFill>
                <a:latin typeface="Times New Roman"/>
              </a:rPr>
              <a:t>Урок математики.</a:t>
            </a:r>
            <a:br>
              <a:rPr sz="6000"/>
            </a:br>
            <a:r>
              <a:rPr b="1" i="1" lang="en-US" sz="6000" spc="-1" strike="noStrike">
                <a:solidFill>
                  <a:srgbClr val="006600"/>
                </a:solidFill>
                <a:latin typeface="Times New Roman"/>
              </a:rPr>
              <a:t>2б  класс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835280" y="2133720"/>
            <a:ext cx="56163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00"/>
                </a:solidFill>
                <a:latin typeface="Times New Roman"/>
              </a:rPr>
              <a:t>Понаблюдае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2                   20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                       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 10 = 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                       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10 </a:t>
            </a:r>
            <a:r>
              <a:rPr b="1" i="1" lang="en-US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2 = 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          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20 : 2 = 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                      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0 : 10 =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 rot="16200000">
            <a:off x="4366800" y="249120"/>
            <a:ext cx="338400" cy="309708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Картинка 104 из 109243"/>
          <p:cNvPicPr/>
          <p:nvPr/>
        </p:nvPicPr>
        <p:blipFill>
          <a:blip r:embed="rId1"/>
          <a:stretch/>
        </p:blipFill>
        <p:spPr>
          <a:xfrm>
            <a:off x="250920" y="2349360"/>
            <a:ext cx="395424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2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3240000" cy="306864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13"/>
          <p:cNvSpPr/>
          <p:nvPr/>
        </p:nvSpPr>
        <p:spPr>
          <a:xfrm rot="21429600">
            <a:off x="2050560" y="1413000"/>
            <a:ext cx="505080" cy="574560"/>
          </a:xfrm>
          <a:custGeom>
            <a:avLst/>
            <a:gdLst>
              <a:gd name="textAreaLeft" fmla="*/ 190080 w 505080"/>
              <a:gd name="textAreaRight" fmla="*/ 315000 w 505080"/>
              <a:gd name="textAreaTop" fmla="*/ 216000 h 574560"/>
              <a:gd name="textAreaBottom" fmla="*/ 358560 h 57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296" y="12216"/>
                </a:lnTo>
                <a:lnTo>
                  <a:pt x="3163" y="18437"/>
                </a:lnTo>
                <a:lnTo>
                  <a:pt x="9323" y="14279"/>
                </a:lnTo>
                <a:lnTo>
                  <a:pt x="10800" y="21600"/>
                </a:lnTo>
                <a:lnTo>
                  <a:pt x="12216" y="14304"/>
                </a:lnTo>
                <a:lnTo>
                  <a:pt x="18437" y="18437"/>
                </a:lnTo>
                <a:lnTo>
                  <a:pt x="14279" y="12277"/>
                </a:lnTo>
                <a:lnTo>
                  <a:pt x="21600" y="10800"/>
                </a:lnTo>
                <a:lnTo>
                  <a:pt x="14304" y="9384"/>
                </a:lnTo>
                <a:lnTo>
                  <a:pt x="18437" y="3163"/>
                </a:lnTo>
                <a:lnTo>
                  <a:pt x="12277" y="7321"/>
                </a:lnTo>
                <a:lnTo>
                  <a:pt x="10800" y="0"/>
                </a:lnTo>
                <a:lnTo>
                  <a:pt x="9384" y="7296"/>
                </a:lnTo>
                <a:lnTo>
                  <a:pt x="3163" y="3163"/>
                </a:lnTo>
                <a:lnTo>
                  <a:pt x="7321" y="9323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7" descr=""/>
          <p:cNvPicPr/>
          <p:nvPr/>
        </p:nvPicPr>
        <p:blipFill>
          <a:blip r:embed="rId2"/>
          <a:stretch/>
        </p:blipFill>
        <p:spPr>
          <a:xfrm>
            <a:off x="611280" y="3573360"/>
            <a:ext cx="3274920" cy="302760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13"/>
          <p:cNvSpPr/>
          <p:nvPr/>
        </p:nvSpPr>
        <p:spPr>
          <a:xfrm rot="21429600">
            <a:off x="1907640" y="4221000"/>
            <a:ext cx="505080" cy="574920"/>
          </a:xfrm>
          <a:custGeom>
            <a:avLst/>
            <a:gdLst>
              <a:gd name="textAreaLeft" fmla="*/ 190080 w 505080"/>
              <a:gd name="textAreaRight" fmla="*/ 315000 w 505080"/>
              <a:gd name="textAreaTop" fmla="*/ 216360 h 574920"/>
              <a:gd name="textAreaBottom" fmla="*/ 358560 h 57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296" y="12216"/>
                </a:lnTo>
                <a:lnTo>
                  <a:pt x="3163" y="18437"/>
                </a:lnTo>
                <a:lnTo>
                  <a:pt x="9323" y="14279"/>
                </a:lnTo>
                <a:lnTo>
                  <a:pt x="10800" y="21600"/>
                </a:lnTo>
                <a:lnTo>
                  <a:pt x="12216" y="14304"/>
                </a:lnTo>
                <a:lnTo>
                  <a:pt x="18437" y="18437"/>
                </a:lnTo>
                <a:lnTo>
                  <a:pt x="14279" y="12277"/>
                </a:lnTo>
                <a:lnTo>
                  <a:pt x="21600" y="10800"/>
                </a:lnTo>
                <a:lnTo>
                  <a:pt x="14304" y="9384"/>
                </a:lnTo>
                <a:lnTo>
                  <a:pt x="18437" y="3163"/>
                </a:lnTo>
                <a:lnTo>
                  <a:pt x="12277" y="7321"/>
                </a:lnTo>
                <a:lnTo>
                  <a:pt x="10800" y="0"/>
                </a:lnTo>
                <a:lnTo>
                  <a:pt x="9384" y="7296"/>
                </a:lnTo>
                <a:lnTo>
                  <a:pt x="3163" y="3163"/>
                </a:lnTo>
                <a:lnTo>
                  <a:pt x="7321" y="9323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"/>
          <p:cNvPicPr/>
          <p:nvPr/>
        </p:nvPicPr>
        <p:blipFill>
          <a:blip r:embed="rId3"/>
          <a:stretch/>
        </p:blipFill>
        <p:spPr>
          <a:xfrm>
            <a:off x="7093080" y="3573360"/>
            <a:ext cx="1728720" cy="171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"/>
          <p:cNvPicPr/>
          <p:nvPr/>
        </p:nvPicPr>
        <p:blipFill>
          <a:blip r:embed="rId4"/>
          <a:stretch/>
        </p:blipFill>
        <p:spPr>
          <a:xfrm>
            <a:off x="5580000" y="4941720"/>
            <a:ext cx="1728720" cy="1719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" descr=""/>
          <p:cNvPicPr/>
          <p:nvPr/>
        </p:nvPicPr>
        <p:blipFill>
          <a:blip r:embed="rId5"/>
          <a:stretch/>
        </p:blipFill>
        <p:spPr>
          <a:xfrm>
            <a:off x="4067280" y="3645000"/>
            <a:ext cx="1728720" cy="1719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Картинка 7 из 106449"/>
          <p:cNvPicPr/>
          <p:nvPr/>
        </p:nvPicPr>
        <p:blipFill>
          <a:blip r:embed="rId6"/>
          <a:stretch/>
        </p:blipFill>
        <p:spPr>
          <a:xfrm>
            <a:off x="4932360" y="549360"/>
            <a:ext cx="3024360" cy="22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3300"/>
                </a:solidFill>
                <a:latin typeface="Times New Roman"/>
              </a:rPr>
              <a:t>                 </a:t>
            </a:r>
            <a:r>
              <a:rPr b="1" i="1" lang="en-US" sz="6000" spc="-1" strike="noStrike">
                <a:solidFill>
                  <a:srgbClr val="cc3300"/>
                </a:solidFill>
                <a:latin typeface="Times New Roman"/>
              </a:rPr>
              <a:t>12 апрел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12 апрел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1961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Юрий Алексее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Гагарин соверши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первый пилотируемы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полёт в космо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Картинка 8 из 106555"/>
          <p:cNvPicPr/>
          <p:nvPr/>
        </p:nvPicPr>
        <p:blipFill>
          <a:blip r:embed="rId1"/>
          <a:stretch/>
        </p:blipFill>
        <p:spPr>
          <a:xfrm>
            <a:off x="4716360" y="1700280"/>
            <a:ext cx="4283280" cy="3411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Картинка 6 из 7610"/>
          <p:cNvPicPr/>
          <p:nvPr/>
        </p:nvPicPr>
        <p:blipFill>
          <a:blip r:embed="rId2"/>
          <a:stretch/>
        </p:blipFill>
        <p:spPr>
          <a:xfrm>
            <a:off x="155520" y="46080"/>
            <a:ext cx="326412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626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«Хорошо учитес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Путь к знания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начинается с таблицы умножения и первого диктант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Часто говорят, что космический полёт – это подвиг. А к подвигу готовятся. И на утренней зарядке, и  за партой, и в походе.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                                        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Ю.А.Гагар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Картинка 22 из 4236"/>
          <p:cNvPicPr/>
          <p:nvPr/>
        </p:nvPicPr>
        <p:blipFill>
          <a:blip r:embed="rId1"/>
          <a:stretch/>
        </p:blipFill>
        <p:spPr>
          <a:xfrm>
            <a:off x="5364000" y="189000"/>
            <a:ext cx="305928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00"/>
                </a:solidFill>
                <a:latin typeface="Times New Roman"/>
              </a:rPr>
              <a:t>Устный счё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cc"/>
                </a:solidFill>
                <a:latin typeface="Times New Roman"/>
              </a:rPr>
              <a:t>2  20  3  30  4  40  5  50  6  6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i="1" lang="en-US" sz="6000" spc="-1" strike="noStrike">
                <a:solidFill>
                  <a:srgbClr val="cc3300"/>
                </a:solidFill>
                <a:latin typeface="Times New Roman"/>
              </a:rPr>
              <a:t>7  70</a:t>
            </a:r>
            <a:r>
              <a:rPr b="1" i="1" lang="en-US" sz="5400" spc="-1" strike="noStrike">
                <a:solidFill>
                  <a:srgbClr val="cc3300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Картинка 64 из 18550"/>
          <p:cNvPicPr/>
          <p:nvPr/>
        </p:nvPicPr>
        <p:blipFill>
          <a:blip r:embed="rId1"/>
          <a:stretch/>
        </p:blipFill>
        <p:spPr>
          <a:xfrm>
            <a:off x="4643280" y="3500280"/>
            <a:ext cx="414360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ru-RU" sz="4800" spc="-1" strike="noStrike">
                <a:solidFill>
                  <a:srgbClr val="3333cc"/>
                </a:solidFill>
                <a:latin typeface="Times New Roman"/>
              </a:rPr>
              <a:t>3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3                5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</a:t>
            </a: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9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10              50 : 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</a:t>
            </a: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4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1                3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</a:t>
            </a: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6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</a:t>
            </a: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1                2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«Умножение и делени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i="1" lang="ru-RU" sz="6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на 10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Times New Roman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Чтобы число умножить на 10, надо к нему приписать справа один нол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Сказал веселый, круглый ноль </a:t>
            </a:r>
            <a:br>
              <a:rPr sz="3200"/>
            </a:b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          Соседке единице: </a:t>
            </a:r>
            <a:br>
              <a:rPr sz="3200"/>
            </a:b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          -С тобою рядышком позволь </a:t>
            </a:r>
            <a:br>
              <a:rPr sz="3200"/>
            </a:b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          Стоять мне на странице! 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          Она окинула его </a:t>
            </a:r>
            <a:br>
              <a:rPr sz="3200"/>
            </a:b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          Сердитым гордым взглядом: </a:t>
            </a:r>
            <a:br>
              <a:rPr sz="3200"/>
            </a:b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          -Ты – ноль, не стоишь ничего,</a:t>
            </a:r>
            <a:br>
              <a:rPr sz="3200"/>
            </a:b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          Не стой со мною рядом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Картинка 5 из 102893"/>
          <p:cNvPicPr/>
          <p:nvPr/>
        </p:nvPicPr>
        <p:blipFill>
          <a:blip r:embed="rId1"/>
          <a:stretch/>
        </p:blipFill>
        <p:spPr>
          <a:xfrm>
            <a:off x="0" y="2421000"/>
            <a:ext cx="1692360" cy="2233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Картинка 1 из 105258"/>
          <p:cNvPicPr/>
          <p:nvPr/>
        </p:nvPicPr>
        <p:blipFill>
          <a:blip r:embed="rId2"/>
          <a:stretch/>
        </p:blipFill>
        <p:spPr>
          <a:xfrm>
            <a:off x="7020000" y="3762360"/>
            <a:ext cx="19144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475920"/>
            <a:ext cx="87138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Ответил ноль: </a:t>
            </a:r>
            <a:br>
              <a:rPr sz="3200"/>
            </a:b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- Я признаю, </a:t>
            </a:r>
            <a:br>
              <a:rPr sz="3200"/>
            </a:b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Что ничего не стою, </a:t>
            </a:r>
            <a:br>
              <a:rPr sz="3200"/>
            </a:b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Но можешь стать </a:t>
            </a:r>
            <a:br>
              <a:rPr sz="3200"/>
            </a:b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Ты десятью, </a:t>
            </a:r>
            <a:br>
              <a:rPr sz="3200"/>
            </a:b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Коль буду я с тобою, </a:t>
            </a:r>
            <a:br>
              <a:rPr sz="3200"/>
            </a:b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Так одинока ты сейчас,</a:t>
            </a:r>
            <a:br>
              <a:rPr sz="3200"/>
            </a:b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Мала и худощава, </a:t>
            </a:r>
            <a:br>
              <a:rPr sz="3200"/>
            </a:b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Но будешь больше в 10 раз, </a:t>
            </a:r>
            <a:br>
              <a:rPr sz="3200"/>
            </a:b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Когда я встану справа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Картинка 1 из 105258"/>
          <p:cNvPicPr/>
          <p:nvPr/>
        </p:nvPicPr>
        <p:blipFill>
          <a:blip r:embed="rId1"/>
          <a:stretch/>
        </p:blipFill>
        <p:spPr>
          <a:xfrm>
            <a:off x="5137200" y="1341360"/>
            <a:ext cx="1781280" cy="2879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Картинка 5 из 102893"/>
          <p:cNvPicPr/>
          <p:nvPr/>
        </p:nvPicPr>
        <p:blipFill>
          <a:blip r:embed="rId2"/>
          <a:stretch/>
        </p:blipFill>
        <p:spPr>
          <a:xfrm>
            <a:off x="6516720" y="1557360"/>
            <a:ext cx="169236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Напрасно думают, что н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Играет маленькую роль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Мы двойк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В двадцать превратим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Из троек и четвер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Мы можем, если захоти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Составить 30, 4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Картинка 43 из 111139"/>
          <p:cNvPicPr/>
          <p:nvPr/>
        </p:nvPicPr>
        <p:blipFill>
          <a:blip r:embed="rId1"/>
          <a:stretch/>
        </p:blipFill>
        <p:spPr>
          <a:xfrm>
            <a:off x="684360" y="4508640"/>
            <a:ext cx="1258920" cy="1944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7" descr="Картинка 2 из 104810"/>
          <p:cNvPicPr/>
          <p:nvPr/>
        </p:nvPicPr>
        <p:blipFill>
          <a:blip r:embed="rId2"/>
          <a:stretch/>
        </p:blipFill>
        <p:spPr>
          <a:xfrm>
            <a:off x="5508720" y="1052640"/>
            <a:ext cx="1368360" cy="2420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8" descr="Картинка 5 из 102893"/>
          <p:cNvPicPr/>
          <p:nvPr/>
        </p:nvPicPr>
        <p:blipFill>
          <a:blip r:embed="rId3"/>
          <a:stretch/>
        </p:blipFill>
        <p:spPr>
          <a:xfrm>
            <a:off x="6732720" y="1341360"/>
            <a:ext cx="1295280" cy="1944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9" descr="Картинка 5 из 102893"/>
          <p:cNvPicPr/>
          <p:nvPr/>
        </p:nvPicPr>
        <p:blipFill>
          <a:blip r:embed="rId4"/>
          <a:stretch/>
        </p:blipFill>
        <p:spPr>
          <a:xfrm>
            <a:off x="1908000" y="4508640"/>
            <a:ext cx="1297080" cy="1942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3" descr="Картинка 30 из 103472"/>
          <p:cNvPicPr/>
          <p:nvPr/>
        </p:nvPicPr>
        <p:blipFill>
          <a:blip r:embed="rId5"/>
          <a:stretch/>
        </p:blipFill>
        <p:spPr>
          <a:xfrm>
            <a:off x="4500720" y="4292640"/>
            <a:ext cx="1415880" cy="2232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Картинка 5 из 102893"/>
          <p:cNvPicPr/>
          <p:nvPr/>
        </p:nvPicPr>
        <p:blipFill>
          <a:blip r:embed="rId6"/>
          <a:stretch/>
        </p:blipFill>
        <p:spPr>
          <a:xfrm>
            <a:off x="5867280" y="4365720"/>
            <a:ext cx="12970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3:49:20Z</dcterms:created>
  <dc:creator>Admin</dc:creator>
  <dc:description/>
  <dc:language>en-US</dc:language>
  <cp:lastModifiedBy>Admin</cp:lastModifiedBy>
  <dcterms:modified xsi:type="dcterms:W3CDTF">2012-06-25T14:52:17Z</dcterms:modified>
  <cp:revision>16</cp:revision>
  <dc:subject/>
  <dc:title>Урок математики. 2б  класс.</dc:title>
</cp:coreProperties>
</file>