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423-5194-4695-B843-0A7BAC28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DCD-581C-4068-868D-46E2888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0AA-1A9D-4013-8138-9F991325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DC5-00D1-45AE-B531-BCE3C9D5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832-6407-4A6B-B4A0-2AC72954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AA7-F10A-4B4A-BD90-D19129BE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CFC-CC4C-4DC8-96CF-AFE59A5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835-F935-4D0F-87C3-A1340225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FC0-6686-4EC2-BC59-FD6F7A24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BC2-213E-46CF-9B9C-FD104C1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AFF-4E48-4A87-B2EF-05563B0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41A-C324-4EC3-9980-96727769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03B6-358A-4668-8B84-825259C44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тобы число разделить на 10, надо отброси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2 из 104810"/>
          <p:cNvPicPr/>
          <p:nvPr/>
        </p:nvPicPr>
        <p:blipFill>
          <a:blip r:embed="rId1"/>
          <a:stretch/>
        </p:blipFill>
        <p:spPr>
          <a:xfrm>
            <a:off x="468360" y="2421000"/>
            <a:ext cx="136836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Картинка 43 из 111139"/>
          <p:cNvPicPr/>
          <p:nvPr/>
        </p:nvPicPr>
        <p:blipFill>
          <a:blip r:embed="rId2"/>
          <a:stretch/>
        </p:blipFill>
        <p:spPr>
          <a:xfrm>
            <a:off x="3564000" y="4221000"/>
            <a:ext cx="125892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Картинка 30 из 103472"/>
          <p:cNvPicPr/>
          <p:nvPr/>
        </p:nvPicPr>
        <p:blipFill>
          <a:blip r:embed="rId3"/>
          <a:stretch/>
        </p:blipFill>
        <p:spPr>
          <a:xfrm>
            <a:off x="6156360" y="256536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Картинка 5 из 102893"/>
          <p:cNvPicPr/>
          <p:nvPr/>
        </p:nvPicPr>
        <p:blipFill>
          <a:blip r:embed="rId4"/>
          <a:stretch/>
        </p:blipFill>
        <p:spPr>
          <a:xfrm>
            <a:off x="7524720" y="2637000"/>
            <a:ext cx="129708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а 5 из 102893"/>
          <p:cNvPicPr/>
          <p:nvPr/>
        </p:nvPicPr>
        <p:blipFill>
          <a:blip r:embed="rId5"/>
          <a:stretch/>
        </p:blipFill>
        <p:spPr>
          <a:xfrm>
            <a:off x="4788000" y="4221000"/>
            <a:ext cx="1296720" cy="20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 из 102893"/>
          <p:cNvPicPr/>
          <p:nvPr/>
        </p:nvPicPr>
        <p:blipFill>
          <a:blip r:embed="rId6"/>
          <a:stretch/>
        </p:blipFill>
        <p:spPr>
          <a:xfrm>
            <a:off x="1692360" y="263700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en-US" sz="8800" spc="-1" strike="noStrike">
                <a:solidFill>
                  <a:srgbClr val="006600"/>
                </a:solidFill>
                <a:latin typeface="Times New Roman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17 из 106432"/>
          <p:cNvPicPr/>
          <p:nvPr/>
        </p:nvPicPr>
        <p:blipFill>
          <a:blip r:embed="rId1"/>
          <a:stretch/>
        </p:blipFill>
        <p:spPr>
          <a:xfrm>
            <a:off x="395280" y="3213000"/>
            <a:ext cx="2448000" cy="339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Картинка 20 из 106432"/>
          <p:cNvPicPr/>
          <p:nvPr/>
        </p:nvPicPr>
        <p:blipFill>
          <a:blip r:embed="rId2"/>
          <a:stretch/>
        </p:blipFill>
        <p:spPr>
          <a:xfrm>
            <a:off x="6372360" y="3213000"/>
            <a:ext cx="2393640" cy="336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Картинка 95 из 2296"/>
          <p:cNvPicPr/>
          <p:nvPr/>
        </p:nvPicPr>
        <p:blipFill>
          <a:blip r:embed="rId3"/>
          <a:stretch/>
        </p:blipFill>
        <p:spPr>
          <a:xfrm>
            <a:off x="7236000" y="404640"/>
            <a:ext cx="171576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Картинка 14 из 2752"/>
          <p:cNvPicPr/>
          <p:nvPr/>
        </p:nvPicPr>
        <p:blipFill>
          <a:blip r:embed="rId4"/>
          <a:stretch/>
        </p:blipFill>
        <p:spPr>
          <a:xfrm>
            <a:off x="3492360" y="3213000"/>
            <a:ext cx="21733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Картинка 27 из 4923"/>
          <p:cNvPicPr/>
          <p:nvPr/>
        </p:nvPicPr>
        <p:blipFill>
          <a:blip r:embed="rId5"/>
          <a:stretch/>
        </p:blipFill>
        <p:spPr>
          <a:xfrm>
            <a:off x="179280" y="260280"/>
            <a:ext cx="187164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Картинка 15 из 122191"/>
          <p:cNvPicPr/>
          <p:nvPr/>
        </p:nvPicPr>
        <p:blipFill>
          <a:blip r:embed="rId6"/>
          <a:stretch/>
        </p:blipFill>
        <p:spPr>
          <a:xfrm>
            <a:off x="2627280" y="189000"/>
            <a:ext cx="41292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любую пару чисел и составьте все возможные примеры на умножение и делени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6 , 60               3 , 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7 , 70               9 ,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-0.03885 L 0.00452 -0.37179 E">
                                      <p:cBhvr>
                                        <p:cTn id="3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9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9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+ 9 = 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– 9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16080"/>
            <a:ext cx="878544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Новый космодром имеет квадратную форму со стороной 10 км. Вокруг надо поставить забор. Как узнать длину заб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1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 = 10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4 = 40 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 = а </a:t>
            </a:r>
            <a:r>
              <a:rPr b="1" i="1" lang="en-US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171 из 60083"/>
          <p:cNvPicPr/>
          <p:nvPr/>
        </p:nvPicPr>
        <p:blipFill>
          <a:blip r:embed="rId1"/>
          <a:stretch/>
        </p:blipFill>
        <p:spPr>
          <a:xfrm>
            <a:off x="250920" y="1916280"/>
            <a:ext cx="4249800" cy="3859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867280" y="1916280"/>
            <a:ext cx="2016360" cy="1942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Картинка 114 из 105108"/>
          <p:cNvPicPr/>
          <p:nvPr/>
        </p:nvPicPr>
        <p:blipFill>
          <a:blip r:embed="rId2"/>
          <a:stretch/>
        </p:blipFill>
        <p:spPr>
          <a:xfrm>
            <a:off x="1692360" y="4508640"/>
            <a:ext cx="3168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от Земли на 4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324000" y="3213000"/>
            <a:ext cx="39607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27107 L 0.24618 -0.06204 E">
                                      <p:cBhvr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от Земли на 4см. На какое расстояние она удалится за 10 л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2214720" y="3357720"/>
            <a:ext cx="3960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уравнения, которые относятся к теме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х + 35 = 76          98 – у =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у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50           х : 10 =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х = 16             90 : 10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50 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див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дум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пом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ауч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сомне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повтор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е поня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809800" cy="285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492360" y="333360"/>
            <a:ext cx="2259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Admin</cp:lastModifiedBy>
  <dcterms:modified xsi:type="dcterms:W3CDTF">2012-06-25T14:53:05Z</dcterms:modified>
  <cp:revision>16</cp:revision>
  <dc:subject/>
  <dc:title>Урок математики. 2б  класс.</dc:title>
</cp:coreProperties>
</file>