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5.png" ContentType="image/png"/>
  <Override PartName="/ppt/media/image43.jpeg" ContentType="image/jpeg"/>
  <Override PartName="/ppt/media/image37.jpeg" ContentType="image/jpeg"/>
  <Override PartName="/ppt/media/image40.jpeg" ContentType="image/jpeg"/>
  <Override PartName="/ppt/media/image13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0256-EB9E-446C-8648-6903CD30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9199-AB45-4E36-8897-04CA5B08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2F81-9884-4E4A-BBB7-53DD06B4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D1FA-5008-40C4-9D16-01A7ECBC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6C3F-F0BB-458F-A62A-A116A98D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B33F-E47A-489A-AF0A-FBEA4571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83C0-5F8D-49D1-ACEE-316F8876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160-9FD5-4638-B4FF-FB2F14D1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95E8-1374-4565-A3CD-6F9983B4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08F4-6420-4AB0-A9C7-D9DED5F4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B9D4-18D7-445D-ACE9-86EF16A7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7B14-FFAC-42B6-8BF1-61AC22B2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F718-1263-4130-BAD1-3EA7084C9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slide5.xml"/><Relationship Id="rId4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boffsem.ru/2008/04/21/mezhdunarodnyjj-den-zemli-international.html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0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22.xml"/><Relationship Id="rId7" Type="http://schemas.openxmlformats.org/officeDocument/2006/relationships/slide" Target="slide23.xm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Устный журнал по экологическим проблемам</a:t>
            </a:r>
            <a:br>
              <a:rPr sz="4800"/>
            </a:br>
            <a:br>
              <a:rPr sz="4800"/>
            </a:br>
            <a:r>
              <a:rPr b="0" i="1" lang="en-US" sz="3600" spc="-1" strike="noStrike">
                <a:solidFill>
                  <a:srgbClr val="cc3300"/>
                </a:solidFill>
                <a:latin typeface="Arial"/>
              </a:rPr>
              <a:t>для учащихся начальной шк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Загидуллина Алсу Марат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260280"/>
            <a:ext cx="792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униципальное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«Нурлатская средняя школа» Зеленодольского района 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7778-9F1D-4F69-A74A-6D39EDE3001D}" type="slidenum">
              <a:t>1</a:t>
            </a:fld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Сергей Петрович Капица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доктор физико-математических наук, профессор, академик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«…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День Земли — это день ответственности перед нашей планетой, ответственности перед людьми, которые ее населяют, перед самой природой, частью которой мы являемся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03640" y="2349360"/>
            <a:ext cx="3311640" cy="327672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8172360" y="6093000"/>
            <a:ext cx="540000" cy="504720"/>
          </a:xfrm>
          <a:custGeom>
            <a:avLst/>
            <a:gdLst>
              <a:gd name="textAreaLeft" fmla="*/ 32400 w 540000"/>
              <a:gd name="textAreaRight" fmla="*/ 507600 w 5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109" h="21600">
                <a:moveTo>
                  <a:pt x="0" y="0"/>
                </a:moveTo>
                <a:lnTo>
                  <a:pt x="23109" y="0"/>
                </a:lnTo>
                <a:lnTo>
                  <a:pt x="23109" y="21600"/>
                </a:lnTo>
                <a:lnTo>
                  <a:pt x="0" y="21600"/>
                </a:lnTo>
                <a:close/>
              </a:path>
              <a:path fill="lightenLess" w="23109" h="21600">
                <a:moveTo>
                  <a:pt x="0" y="0"/>
                </a:moveTo>
                <a:lnTo>
                  <a:pt x="23109" y="0"/>
                </a:lnTo>
                <a:lnTo>
                  <a:pt x="21709" y="1400"/>
                </a:lnTo>
                <a:lnTo>
                  <a:pt x="1400" y="1400"/>
                </a:lnTo>
                <a:close/>
              </a:path>
              <a:path fill="darken" w="23109" h="21600">
                <a:moveTo>
                  <a:pt x="23109" y="0"/>
                </a:moveTo>
                <a:lnTo>
                  <a:pt x="23109" y="21600"/>
                </a:lnTo>
                <a:lnTo>
                  <a:pt x="21709" y="20200"/>
                </a:lnTo>
                <a:lnTo>
                  <a:pt x="21709" y="1400"/>
                </a:lnTo>
                <a:close/>
              </a:path>
              <a:path fill="darkenLess" w="23109" h="21600">
                <a:moveTo>
                  <a:pt x="23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9" y="20200"/>
                </a:lnTo>
                <a:close/>
              </a:path>
              <a:path fill="lighten" w="23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9" h="21600">
                <a:moveTo>
                  <a:pt x="4548" y="7493"/>
                </a:moveTo>
                <a:lnTo>
                  <a:pt x="8055" y="7493"/>
                </a:lnTo>
                <a:lnTo>
                  <a:pt x="8055" y="12828"/>
                </a:lnTo>
                <a:cubicBezTo>
                  <a:pt x="8055" y="13751"/>
                  <a:pt x="8856" y="14482"/>
                  <a:pt x="9892" y="14482"/>
                </a:cubicBezTo>
                <a:lnTo>
                  <a:pt x="11554" y="14482"/>
                </a:lnTo>
                <a:cubicBezTo>
                  <a:pt x="12590" y="14482"/>
                  <a:pt x="13391" y="13751"/>
                  <a:pt x="13391" y="12828"/>
                </a:cubicBezTo>
                <a:lnTo>
                  <a:pt x="13391" y="7493"/>
                </a:lnTo>
                <a:lnTo>
                  <a:pt x="11554" y="7493"/>
                </a:lnTo>
                <a:lnTo>
                  <a:pt x="15062" y="3985"/>
                </a:lnTo>
                <a:lnTo>
                  <a:pt x="18735" y="7493"/>
                </a:lnTo>
                <a:lnTo>
                  <a:pt x="16898" y="7493"/>
                </a:lnTo>
                <a:lnTo>
                  <a:pt x="16898" y="12828"/>
                </a:lnTo>
                <a:cubicBezTo>
                  <a:pt x="16898" y="15596"/>
                  <a:pt x="14322" y="18155"/>
                  <a:pt x="11554" y="18155"/>
                </a:cubicBezTo>
                <a:lnTo>
                  <a:pt x="9892" y="18155"/>
                </a:lnTo>
                <a:cubicBezTo>
                  <a:pt x="7124" y="18155"/>
                  <a:pt x="4548" y="15596"/>
                  <a:pt x="4548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68E6-21E0-4B3C-B3F1-C4FE00935C6D}" type="slidenum">
              <a:t>10</a:t>
            </a:fld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Символ Дня Зем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4753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Зелёная греческая буква Θ на белом фо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300720" y="3068280"/>
            <a:ext cx="1152720" cy="1655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8000"/>
                </a:solidFill>
                <a:latin typeface="Arial"/>
              </a:rPr>
              <a:t>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8172360" y="6093000"/>
            <a:ext cx="540000" cy="504720"/>
          </a:xfrm>
          <a:custGeom>
            <a:avLst/>
            <a:gdLst>
              <a:gd name="textAreaLeft" fmla="*/ 32400 w 540000"/>
              <a:gd name="textAreaRight" fmla="*/ 507600 w 5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109" h="21600">
                <a:moveTo>
                  <a:pt x="0" y="0"/>
                </a:moveTo>
                <a:lnTo>
                  <a:pt x="23109" y="0"/>
                </a:lnTo>
                <a:lnTo>
                  <a:pt x="23109" y="21600"/>
                </a:lnTo>
                <a:lnTo>
                  <a:pt x="0" y="21600"/>
                </a:lnTo>
                <a:close/>
              </a:path>
              <a:path fill="lightenLess" w="23109" h="21600">
                <a:moveTo>
                  <a:pt x="0" y="0"/>
                </a:moveTo>
                <a:lnTo>
                  <a:pt x="23109" y="0"/>
                </a:lnTo>
                <a:lnTo>
                  <a:pt x="21709" y="1400"/>
                </a:lnTo>
                <a:lnTo>
                  <a:pt x="1400" y="1400"/>
                </a:lnTo>
                <a:close/>
              </a:path>
              <a:path fill="darken" w="23109" h="21600">
                <a:moveTo>
                  <a:pt x="23109" y="0"/>
                </a:moveTo>
                <a:lnTo>
                  <a:pt x="23109" y="21600"/>
                </a:lnTo>
                <a:lnTo>
                  <a:pt x="21709" y="20200"/>
                </a:lnTo>
                <a:lnTo>
                  <a:pt x="21709" y="1400"/>
                </a:lnTo>
                <a:close/>
              </a:path>
              <a:path fill="darkenLess" w="23109" h="21600">
                <a:moveTo>
                  <a:pt x="23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9" y="20200"/>
                </a:lnTo>
                <a:close/>
              </a:path>
              <a:path fill="lighten" w="23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9" h="21600">
                <a:moveTo>
                  <a:pt x="4548" y="7493"/>
                </a:moveTo>
                <a:lnTo>
                  <a:pt x="8055" y="7493"/>
                </a:lnTo>
                <a:lnTo>
                  <a:pt x="8055" y="12828"/>
                </a:lnTo>
                <a:cubicBezTo>
                  <a:pt x="8055" y="13751"/>
                  <a:pt x="8856" y="14482"/>
                  <a:pt x="9892" y="14482"/>
                </a:cubicBezTo>
                <a:lnTo>
                  <a:pt x="11554" y="14482"/>
                </a:lnTo>
                <a:cubicBezTo>
                  <a:pt x="12590" y="14482"/>
                  <a:pt x="13391" y="13751"/>
                  <a:pt x="13391" y="12828"/>
                </a:cubicBezTo>
                <a:lnTo>
                  <a:pt x="13391" y="7493"/>
                </a:lnTo>
                <a:lnTo>
                  <a:pt x="11554" y="7493"/>
                </a:lnTo>
                <a:lnTo>
                  <a:pt x="15062" y="3985"/>
                </a:lnTo>
                <a:lnTo>
                  <a:pt x="18735" y="7493"/>
                </a:lnTo>
                <a:lnTo>
                  <a:pt x="16898" y="7493"/>
                </a:lnTo>
                <a:lnTo>
                  <a:pt x="16898" y="12828"/>
                </a:lnTo>
                <a:cubicBezTo>
                  <a:pt x="16898" y="15596"/>
                  <a:pt x="14322" y="18155"/>
                  <a:pt x="11554" y="18155"/>
                </a:cubicBezTo>
                <a:lnTo>
                  <a:pt x="9892" y="18155"/>
                </a:lnTo>
                <a:cubicBezTo>
                  <a:pt x="7124" y="18155"/>
                  <a:pt x="4548" y="15596"/>
                  <a:pt x="4548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AE68-EAC2-454D-BC58-3E6680346F85}" type="slidenum">
              <a:t>11</a:t>
            </a:fld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54831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Флаг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0400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связан с Днем Земли и многими другими природоохранными, миротворческими международными мероприяти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не является официальным символом чего-либо, поскольку не существует общепланетного правительства или государ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снимок планеты Земля, изображенный на флаге, сделан астронавтами космичечкого корабля «Аполлон-17» по дороге к Луне.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rcRect l="14122" t="-4346" r="13580" b="-5890"/>
          <a:stretch/>
        </p:blipFill>
        <p:spPr>
          <a:xfrm>
            <a:off x="5796000" y="189000"/>
            <a:ext cx="2014560" cy="122868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8172360" y="6093000"/>
            <a:ext cx="540000" cy="504720"/>
          </a:xfrm>
          <a:custGeom>
            <a:avLst/>
            <a:gdLst>
              <a:gd name="textAreaLeft" fmla="*/ 32400 w 540000"/>
              <a:gd name="textAreaRight" fmla="*/ 507600 w 5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109" h="21600">
                <a:moveTo>
                  <a:pt x="0" y="0"/>
                </a:moveTo>
                <a:lnTo>
                  <a:pt x="23109" y="0"/>
                </a:lnTo>
                <a:lnTo>
                  <a:pt x="23109" y="21600"/>
                </a:lnTo>
                <a:lnTo>
                  <a:pt x="0" y="21600"/>
                </a:lnTo>
                <a:close/>
              </a:path>
              <a:path fill="lightenLess" w="23109" h="21600">
                <a:moveTo>
                  <a:pt x="0" y="0"/>
                </a:moveTo>
                <a:lnTo>
                  <a:pt x="23109" y="0"/>
                </a:lnTo>
                <a:lnTo>
                  <a:pt x="21709" y="1400"/>
                </a:lnTo>
                <a:lnTo>
                  <a:pt x="1400" y="1400"/>
                </a:lnTo>
                <a:close/>
              </a:path>
              <a:path fill="darken" w="23109" h="21600">
                <a:moveTo>
                  <a:pt x="23109" y="0"/>
                </a:moveTo>
                <a:lnTo>
                  <a:pt x="23109" y="21600"/>
                </a:lnTo>
                <a:lnTo>
                  <a:pt x="21709" y="20200"/>
                </a:lnTo>
                <a:lnTo>
                  <a:pt x="21709" y="1400"/>
                </a:lnTo>
                <a:close/>
              </a:path>
              <a:path fill="darkenLess" w="23109" h="21600">
                <a:moveTo>
                  <a:pt x="23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9" y="20200"/>
                </a:lnTo>
                <a:close/>
              </a:path>
              <a:path fill="lighten" w="23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9" h="21600">
                <a:moveTo>
                  <a:pt x="4548" y="7493"/>
                </a:moveTo>
                <a:lnTo>
                  <a:pt x="8055" y="7493"/>
                </a:lnTo>
                <a:lnTo>
                  <a:pt x="8055" y="12828"/>
                </a:lnTo>
                <a:cubicBezTo>
                  <a:pt x="8055" y="13751"/>
                  <a:pt x="8856" y="14482"/>
                  <a:pt x="9892" y="14482"/>
                </a:cubicBezTo>
                <a:lnTo>
                  <a:pt x="11554" y="14482"/>
                </a:lnTo>
                <a:cubicBezTo>
                  <a:pt x="12590" y="14482"/>
                  <a:pt x="13391" y="13751"/>
                  <a:pt x="13391" y="12828"/>
                </a:cubicBezTo>
                <a:lnTo>
                  <a:pt x="13391" y="7493"/>
                </a:lnTo>
                <a:lnTo>
                  <a:pt x="11554" y="7493"/>
                </a:lnTo>
                <a:lnTo>
                  <a:pt x="15062" y="3985"/>
                </a:lnTo>
                <a:lnTo>
                  <a:pt x="18735" y="7493"/>
                </a:lnTo>
                <a:lnTo>
                  <a:pt x="16898" y="7493"/>
                </a:lnTo>
                <a:lnTo>
                  <a:pt x="16898" y="12828"/>
                </a:lnTo>
                <a:cubicBezTo>
                  <a:pt x="16898" y="15596"/>
                  <a:pt x="14322" y="18155"/>
                  <a:pt x="11554" y="18155"/>
                </a:cubicBezTo>
                <a:lnTo>
                  <a:pt x="9892" y="18155"/>
                </a:lnTo>
                <a:cubicBezTo>
                  <a:pt x="7124" y="18155"/>
                  <a:pt x="4548" y="15596"/>
                  <a:pt x="4548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172360" y="6093000"/>
            <a:ext cx="540000" cy="504720"/>
          </a:xfrm>
          <a:custGeom>
            <a:avLst/>
            <a:gdLst>
              <a:gd name="textAreaLeft" fmla="*/ 32400 w 540000"/>
              <a:gd name="textAreaRight" fmla="*/ 507600 w 5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109" h="21600">
                <a:moveTo>
                  <a:pt x="0" y="0"/>
                </a:moveTo>
                <a:lnTo>
                  <a:pt x="23109" y="0"/>
                </a:lnTo>
                <a:lnTo>
                  <a:pt x="23109" y="21600"/>
                </a:lnTo>
                <a:lnTo>
                  <a:pt x="0" y="21600"/>
                </a:lnTo>
                <a:close/>
              </a:path>
              <a:path fill="lightenLess" w="23109" h="21600">
                <a:moveTo>
                  <a:pt x="0" y="0"/>
                </a:moveTo>
                <a:lnTo>
                  <a:pt x="23109" y="0"/>
                </a:lnTo>
                <a:lnTo>
                  <a:pt x="21709" y="1400"/>
                </a:lnTo>
                <a:lnTo>
                  <a:pt x="1400" y="1400"/>
                </a:lnTo>
                <a:close/>
              </a:path>
              <a:path fill="darken" w="23109" h="21600">
                <a:moveTo>
                  <a:pt x="23109" y="0"/>
                </a:moveTo>
                <a:lnTo>
                  <a:pt x="23109" y="21600"/>
                </a:lnTo>
                <a:lnTo>
                  <a:pt x="21709" y="20200"/>
                </a:lnTo>
                <a:lnTo>
                  <a:pt x="21709" y="1400"/>
                </a:lnTo>
                <a:close/>
              </a:path>
              <a:path fill="darkenLess" w="23109" h="21600">
                <a:moveTo>
                  <a:pt x="23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9" y="20200"/>
                </a:lnTo>
                <a:close/>
              </a:path>
              <a:path fill="lighten" w="23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9" h="21600">
                <a:moveTo>
                  <a:pt x="4548" y="7493"/>
                </a:moveTo>
                <a:lnTo>
                  <a:pt x="8055" y="7493"/>
                </a:lnTo>
                <a:lnTo>
                  <a:pt x="8055" y="12828"/>
                </a:lnTo>
                <a:cubicBezTo>
                  <a:pt x="8055" y="13751"/>
                  <a:pt x="8856" y="14482"/>
                  <a:pt x="9892" y="14482"/>
                </a:cubicBezTo>
                <a:lnTo>
                  <a:pt x="11554" y="14482"/>
                </a:lnTo>
                <a:cubicBezTo>
                  <a:pt x="12590" y="14482"/>
                  <a:pt x="13391" y="13751"/>
                  <a:pt x="13391" y="12828"/>
                </a:cubicBezTo>
                <a:lnTo>
                  <a:pt x="13391" y="7493"/>
                </a:lnTo>
                <a:lnTo>
                  <a:pt x="11554" y="7493"/>
                </a:lnTo>
                <a:lnTo>
                  <a:pt x="15062" y="3985"/>
                </a:lnTo>
                <a:lnTo>
                  <a:pt x="18735" y="7493"/>
                </a:lnTo>
                <a:lnTo>
                  <a:pt x="16898" y="7493"/>
                </a:lnTo>
                <a:lnTo>
                  <a:pt x="16898" y="12828"/>
                </a:lnTo>
                <a:cubicBezTo>
                  <a:pt x="16898" y="15596"/>
                  <a:pt x="14322" y="18155"/>
                  <a:pt x="11554" y="18155"/>
                </a:cubicBezTo>
                <a:lnTo>
                  <a:pt x="9892" y="18155"/>
                </a:lnTo>
                <a:cubicBezTo>
                  <a:pt x="7124" y="18155"/>
                  <a:pt x="4548" y="15596"/>
                  <a:pt x="4548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986C-7FAD-4EC1-8A61-4E8707EBCC03}" type="slidenum">
              <a:t>12</a:t>
            </a:fld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Колокол 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3860280"/>
            <a:ext cx="814716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 День Земли в разных странах по традиции звучит Колокол Мира, призывая людей Земли приложить усилия к защите мира на планете и сохранению красоты нашего общего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2879640" cy="216360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58920" y="1413000"/>
            <a:ext cx="2863800" cy="215100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8244000" y="595008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C739-23AD-4F76-A119-0B303E0E7E03}" type="slidenum">
              <a:t>13</a:t>
            </a:fld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716000" y="259920"/>
            <a:ext cx="4186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Традиц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3236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В этот день все желающие принимают участие в благоустройстве и озеленении своих дворов и улиц, в различных экологических мероприятиях, фестивалях и акц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4071960" cy="583236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1D8A-8546-47DF-B389-D603062048A6}" type="slidenum">
              <a:t>14</a:t>
            </a:fld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Всемирное дви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880560"/>
            <a:ext cx="4788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Во многих странах проходят праздничные мероприятия и акции, призывающие обратить внимание на проблемы эк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На сегодняшний день, 147 стран мира зарегистрированы во Всемирном движении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3845160" cy="383220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C567-3675-4F2B-BE28-2720330F0BD0}" type="slidenum">
              <a:t>15</a:t>
            </a:fld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В России проводится экологический фестиваль </a:t>
            </a:r>
            <a:br>
              <a:rPr sz="3600"/>
            </a:b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«День Земл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3645000"/>
            <a:ext cx="57610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Под девизо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«Цветущая Земля — процветающая Росс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588000" y="1700280"/>
            <a:ext cx="1997280" cy="388944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C138-E722-4939-8440-C99AC7D44E99}" type="slidenum">
              <a:t>16</a:t>
            </a:fld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В Венгрии проходит экологический велопробег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58920" y="2421000"/>
            <a:ext cx="5905440" cy="393696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75C6-A019-48BF-99A3-519A4BAD2792}" type="slidenum">
              <a:t>17</a:t>
            </a:fld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В Северной Корее на улицах Сеула </a:t>
            </a:r>
            <a:br>
              <a:rPr sz="3600"/>
            </a:b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акция «Без автомоби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Международный День Земли (International Earth Day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16000" y="1844640"/>
            <a:ext cx="6553080" cy="444204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AA45-A86B-4DFD-A128-27E48A46B9D0}" type="slidenum">
              <a:t>18</a:t>
            </a:fld>
          </a:p>
        </p:txBody>
      </p: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В Индонезии,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на территории американского посольства,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проходят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спортивные состязани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038480" cy="284472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43280" y="2997360"/>
            <a:ext cx="4038840" cy="284472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946D-E244-4217-ACE4-7FA103E21A7F}" type="slidenum">
              <a:t>19</a:t>
            </a:fld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66760" y="1989000"/>
            <a:ext cx="68104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ы уберечь </a:t>
            </a:r>
            <a:endParaRPr b="0" lang="en-US" sz="1800" spc="1" strike="noStrike"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шу Землю</a:t>
            </a:r>
            <a:endParaRPr b="0" lang="en-US" sz="1800" spc="1" strike="noStrike"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лжны</a:t>
            </a:r>
            <a:endParaRPr b="0" lang="en-US" sz="1800" spc="1" strike="noStrike"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6CFC-FB0B-4AFC-81AD-E6BB9F47F04C}" type="slidenum">
              <a:t>2</a:t>
            </a:fld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В Маниле на Филиппинах - демонстрация движения по защите животн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340000" y="2276640"/>
            <a:ext cx="4033800" cy="3101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535104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Участники пропагандируют вегетарианство ради спасения план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86EF-B1EC-4090-B84D-AD5A35E59D03}" type="slidenum">
              <a:t>20</a:t>
            </a:fld>
          </a:p>
        </p:txBody>
      </p:sp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«Про всех на свете»</a:t>
            </a: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Б. Заход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258920" y="1700280"/>
            <a:ext cx="6624720" cy="440856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4" name=""/>
          <p:cNvSpPr/>
          <p:nvPr/>
        </p:nvSpPr>
        <p:spPr>
          <a:xfrm>
            <a:off x="8172360" y="6093000"/>
            <a:ext cx="540000" cy="504720"/>
          </a:xfrm>
          <a:custGeom>
            <a:avLst/>
            <a:gdLst>
              <a:gd name="textAreaLeft" fmla="*/ 32400 w 540000"/>
              <a:gd name="textAreaRight" fmla="*/ 507600 w 5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109" h="21600">
                <a:moveTo>
                  <a:pt x="0" y="0"/>
                </a:moveTo>
                <a:lnTo>
                  <a:pt x="23109" y="0"/>
                </a:lnTo>
                <a:lnTo>
                  <a:pt x="23109" y="21600"/>
                </a:lnTo>
                <a:lnTo>
                  <a:pt x="0" y="21600"/>
                </a:lnTo>
                <a:close/>
              </a:path>
              <a:path fill="lightenLess" w="23109" h="21600">
                <a:moveTo>
                  <a:pt x="0" y="0"/>
                </a:moveTo>
                <a:lnTo>
                  <a:pt x="23109" y="0"/>
                </a:lnTo>
                <a:lnTo>
                  <a:pt x="21709" y="1400"/>
                </a:lnTo>
                <a:lnTo>
                  <a:pt x="1400" y="1400"/>
                </a:lnTo>
                <a:close/>
              </a:path>
              <a:path fill="darken" w="23109" h="21600">
                <a:moveTo>
                  <a:pt x="23109" y="0"/>
                </a:moveTo>
                <a:lnTo>
                  <a:pt x="23109" y="21600"/>
                </a:lnTo>
                <a:lnTo>
                  <a:pt x="21709" y="20200"/>
                </a:lnTo>
                <a:lnTo>
                  <a:pt x="21709" y="1400"/>
                </a:lnTo>
                <a:close/>
              </a:path>
              <a:path fill="darkenLess" w="23109" h="21600">
                <a:moveTo>
                  <a:pt x="23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9" y="20200"/>
                </a:lnTo>
                <a:close/>
              </a:path>
              <a:path fill="lighten" w="23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9" h="21600">
                <a:moveTo>
                  <a:pt x="4548" y="7493"/>
                </a:moveTo>
                <a:lnTo>
                  <a:pt x="8055" y="7493"/>
                </a:lnTo>
                <a:lnTo>
                  <a:pt x="8055" y="12828"/>
                </a:lnTo>
                <a:cubicBezTo>
                  <a:pt x="8055" y="13751"/>
                  <a:pt x="8856" y="14482"/>
                  <a:pt x="9892" y="14482"/>
                </a:cubicBezTo>
                <a:lnTo>
                  <a:pt x="11554" y="14482"/>
                </a:lnTo>
                <a:cubicBezTo>
                  <a:pt x="12590" y="14482"/>
                  <a:pt x="13391" y="13751"/>
                  <a:pt x="13391" y="12828"/>
                </a:cubicBezTo>
                <a:lnTo>
                  <a:pt x="13391" y="7493"/>
                </a:lnTo>
                <a:lnTo>
                  <a:pt x="11554" y="7493"/>
                </a:lnTo>
                <a:lnTo>
                  <a:pt x="15062" y="3985"/>
                </a:lnTo>
                <a:lnTo>
                  <a:pt x="18735" y="7493"/>
                </a:lnTo>
                <a:lnTo>
                  <a:pt x="16898" y="7493"/>
                </a:lnTo>
                <a:lnTo>
                  <a:pt x="16898" y="12828"/>
                </a:lnTo>
                <a:cubicBezTo>
                  <a:pt x="16898" y="15596"/>
                  <a:pt x="14322" y="18155"/>
                  <a:pt x="11554" y="18155"/>
                </a:cubicBezTo>
                <a:lnTo>
                  <a:pt x="9892" y="18155"/>
                </a:lnTo>
                <a:cubicBezTo>
                  <a:pt x="7124" y="18155"/>
                  <a:pt x="4548" y="15596"/>
                  <a:pt x="4548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1F39-A03B-4B9E-8027-DA4AA4643BE6}" type="slidenum">
              <a:t>21</a:t>
            </a:fld>
          </a:p>
        </p:txBody>
      </p:sp>
    </p:spTree>
  </p:cSld>
  <p:transition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6840720" cy="363060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6" name=""/>
          <p:cNvSpPr txBox="1"/>
          <p:nvPr/>
        </p:nvSpPr>
        <p:spPr>
          <a:xfrm>
            <a:off x="900000" y="404640"/>
            <a:ext cx="7344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зкультминутка-игра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Да, нет»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8172360" y="595008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7493"/>
                </a:moveTo>
                <a:lnTo>
                  <a:pt x="8833" y="7493"/>
                </a:lnTo>
                <a:lnTo>
                  <a:pt x="8833" y="12828"/>
                </a:lnTo>
                <a:cubicBezTo>
                  <a:pt x="8833" y="13751"/>
                  <a:pt x="9634" y="14482"/>
                  <a:pt x="10669" y="14482"/>
                </a:cubicBezTo>
                <a:lnTo>
                  <a:pt x="12332" y="14482"/>
                </a:lnTo>
                <a:cubicBezTo>
                  <a:pt x="13368" y="14482"/>
                  <a:pt x="14168" y="13751"/>
                  <a:pt x="14168" y="12828"/>
                </a:cubicBezTo>
                <a:lnTo>
                  <a:pt x="14168" y="7493"/>
                </a:lnTo>
                <a:lnTo>
                  <a:pt x="12332" y="7493"/>
                </a:lnTo>
                <a:lnTo>
                  <a:pt x="15839" y="3985"/>
                </a:lnTo>
                <a:lnTo>
                  <a:pt x="19512" y="7493"/>
                </a:lnTo>
                <a:lnTo>
                  <a:pt x="17676" y="7493"/>
                </a:lnTo>
                <a:lnTo>
                  <a:pt x="17676" y="12828"/>
                </a:lnTo>
                <a:cubicBezTo>
                  <a:pt x="17676" y="15596"/>
                  <a:pt x="15100" y="18155"/>
                  <a:pt x="12332" y="18155"/>
                </a:cubicBezTo>
                <a:lnTo>
                  <a:pt x="10669" y="18155"/>
                </a:lnTo>
                <a:cubicBezTo>
                  <a:pt x="7902" y="18155"/>
                  <a:pt x="5325" y="15596"/>
                  <a:pt x="5325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4BA6-B150-4174-9067-0D7D76D16FB2}" type="slidenum">
              <a:t>22</a:t>
            </a:fld>
          </a:p>
        </p:txBody>
      </p:sp>
    </p:spTree>
  </p:cSld>
  <p:transition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50000">
              <a:srgbClr val="ccff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ИКТОР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050920" y="2828880"/>
            <a:ext cx="5040360" cy="335268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0" name=""/>
          <p:cNvSpPr/>
          <p:nvPr/>
        </p:nvSpPr>
        <p:spPr>
          <a:xfrm>
            <a:off x="8172360" y="6021360"/>
            <a:ext cx="540000" cy="504720"/>
          </a:xfrm>
          <a:custGeom>
            <a:avLst/>
            <a:gdLst>
              <a:gd name="textAreaLeft" fmla="*/ 32400 w 540000"/>
              <a:gd name="textAreaRight" fmla="*/ 507600 w 5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109" h="21600">
                <a:moveTo>
                  <a:pt x="0" y="0"/>
                </a:moveTo>
                <a:lnTo>
                  <a:pt x="23109" y="0"/>
                </a:lnTo>
                <a:lnTo>
                  <a:pt x="23109" y="21600"/>
                </a:lnTo>
                <a:lnTo>
                  <a:pt x="0" y="21600"/>
                </a:lnTo>
                <a:close/>
              </a:path>
              <a:path fill="lightenLess" w="23109" h="21600">
                <a:moveTo>
                  <a:pt x="0" y="0"/>
                </a:moveTo>
                <a:lnTo>
                  <a:pt x="23109" y="0"/>
                </a:lnTo>
                <a:lnTo>
                  <a:pt x="21709" y="1400"/>
                </a:lnTo>
                <a:lnTo>
                  <a:pt x="1400" y="1400"/>
                </a:lnTo>
                <a:close/>
              </a:path>
              <a:path fill="darken" w="23109" h="21600">
                <a:moveTo>
                  <a:pt x="23109" y="0"/>
                </a:moveTo>
                <a:lnTo>
                  <a:pt x="23109" y="21600"/>
                </a:lnTo>
                <a:lnTo>
                  <a:pt x="21709" y="20200"/>
                </a:lnTo>
                <a:lnTo>
                  <a:pt x="21709" y="1400"/>
                </a:lnTo>
                <a:close/>
              </a:path>
              <a:path fill="darkenLess" w="23109" h="21600">
                <a:moveTo>
                  <a:pt x="23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9" y="20200"/>
                </a:lnTo>
                <a:close/>
              </a:path>
              <a:path fill="lighten" w="23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9" h="21600">
                <a:moveTo>
                  <a:pt x="4548" y="7493"/>
                </a:moveTo>
                <a:lnTo>
                  <a:pt x="8055" y="7493"/>
                </a:lnTo>
                <a:lnTo>
                  <a:pt x="8055" y="12828"/>
                </a:lnTo>
                <a:cubicBezTo>
                  <a:pt x="8055" y="13751"/>
                  <a:pt x="8856" y="14482"/>
                  <a:pt x="9892" y="14482"/>
                </a:cubicBezTo>
                <a:lnTo>
                  <a:pt x="11554" y="14482"/>
                </a:lnTo>
                <a:cubicBezTo>
                  <a:pt x="12590" y="14482"/>
                  <a:pt x="13391" y="13751"/>
                  <a:pt x="13391" y="12828"/>
                </a:cubicBezTo>
                <a:lnTo>
                  <a:pt x="13391" y="7493"/>
                </a:lnTo>
                <a:lnTo>
                  <a:pt x="11554" y="7493"/>
                </a:lnTo>
                <a:lnTo>
                  <a:pt x="15062" y="3985"/>
                </a:lnTo>
                <a:lnTo>
                  <a:pt x="18735" y="7493"/>
                </a:lnTo>
                <a:lnTo>
                  <a:pt x="16898" y="7493"/>
                </a:lnTo>
                <a:lnTo>
                  <a:pt x="16898" y="12828"/>
                </a:lnTo>
                <a:cubicBezTo>
                  <a:pt x="16898" y="15596"/>
                  <a:pt x="14322" y="18155"/>
                  <a:pt x="11554" y="18155"/>
                </a:cubicBezTo>
                <a:lnTo>
                  <a:pt x="9892" y="18155"/>
                </a:lnTo>
                <a:cubicBezTo>
                  <a:pt x="7124" y="18155"/>
                  <a:pt x="4548" y="15596"/>
                  <a:pt x="4548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0AF7-46B2-4D89-A6BC-CFCF4AA02BB1}" type="slidenum">
              <a:t>23</a:t>
            </a:fld>
          </a:p>
        </p:txBody>
      </p:sp>
    </p:spTree>
  </p:cSld>
  <p:transition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172360" y="6021360"/>
            <a:ext cx="540000" cy="504720"/>
          </a:xfrm>
          <a:custGeom>
            <a:avLst/>
            <a:gdLst>
              <a:gd name="textAreaLeft" fmla="*/ 32400 w 540000"/>
              <a:gd name="textAreaRight" fmla="*/ 507600 w 5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109" h="21600">
                <a:moveTo>
                  <a:pt x="0" y="0"/>
                </a:moveTo>
                <a:lnTo>
                  <a:pt x="23109" y="0"/>
                </a:lnTo>
                <a:lnTo>
                  <a:pt x="23109" y="21600"/>
                </a:lnTo>
                <a:lnTo>
                  <a:pt x="0" y="21600"/>
                </a:lnTo>
                <a:close/>
              </a:path>
              <a:path fill="lightenLess" w="23109" h="21600">
                <a:moveTo>
                  <a:pt x="0" y="0"/>
                </a:moveTo>
                <a:lnTo>
                  <a:pt x="23109" y="0"/>
                </a:lnTo>
                <a:lnTo>
                  <a:pt x="21709" y="1400"/>
                </a:lnTo>
                <a:lnTo>
                  <a:pt x="1400" y="1400"/>
                </a:lnTo>
                <a:close/>
              </a:path>
              <a:path fill="darken" w="23109" h="21600">
                <a:moveTo>
                  <a:pt x="23109" y="0"/>
                </a:moveTo>
                <a:lnTo>
                  <a:pt x="23109" y="21600"/>
                </a:lnTo>
                <a:lnTo>
                  <a:pt x="21709" y="20200"/>
                </a:lnTo>
                <a:lnTo>
                  <a:pt x="21709" y="1400"/>
                </a:lnTo>
                <a:close/>
              </a:path>
              <a:path fill="darkenLess" w="23109" h="21600">
                <a:moveTo>
                  <a:pt x="23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9" y="20200"/>
                </a:lnTo>
                <a:close/>
              </a:path>
              <a:path fill="lighten" w="23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9" h="21600">
                <a:moveTo>
                  <a:pt x="4548" y="7493"/>
                </a:moveTo>
                <a:lnTo>
                  <a:pt x="8055" y="7493"/>
                </a:lnTo>
                <a:lnTo>
                  <a:pt x="8055" y="12828"/>
                </a:lnTo>
                <a:cubicBezTo>
                  <a:pt x="8055" y="13751"/>
                  <a:pt x="8856" y="14482"/>
                  <a:pt x="9892" y="14482"/>
                </a:cubicBezTo>
                <a:lnTo>
                  <a:pt x="11554" y="14482"/>
                </a:lnTo>
                <a:cubicBezTo>
                  <a:pt x="12590" y="14482"/>
                  <a:pt x="13391" y="13751"/>
                  <a:pt x="13391" y="12828"/>
                </a:cubicBezTo>
                <a:lnTo>
                  <a:pt x="13391" y="7493"/>
                </a:lnTo>
                <a:lnTo>
                  <a:pt x="11554" y="7493"/>
                </a:lnTo>
                <a:lnTo>
                  <a:pt x="15062" y="3985"/>
                </a:lnTo>
                <a:lnTo>
                  <a:pt x="18735" y="7493"/>
                </a:lnTo>
                <a:lnTo>
                  <a:pt x="16898" y="7493"/>
                </a:lnTo>
                <a:lnTo>
                  <a:pt x="16898" y="12828"/>
                </a:lnTo>
                <a:cubicBezTo>
                  <a:pt x="16898" y="15596"/>
                  <a:pt x="14322" y="18155"/>
                  <a:pt x="11554" y="18155"/>
                </a:cubicBezTo>
                <a:lnTo>
                  <a:pt x="9892" y="18155"/>
                </a:lnTo>
                <a:cubicBezTo>
                  <a:pt x="7124" y="18155"/>
                  <a:pt x="4548" y="15596"/>
                  <a:pt x="4548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68360" y="260280"/>
            <a:ext cx="45388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УЗНАВАЙ-КА"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339640" y="907560"/>
            <a:ext cx="2459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онорова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40000" y="1268280"/>
            <a:ext cx="1944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йеволо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43280" y="907920"/>
            <a:ext cx="1584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ари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43280" y="1268280"/>
            <a:ext cx="1584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кши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40000" y="1628640"/>
            <a:ext cx="1944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кшукук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1916280"/>
            <a:ext cx="136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летяд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2276640"/>
            <a:ext cx="1152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арг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43280" y="1700280"/>
            <a:ext cx="1513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ырбо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3280" y="2421000"/>
            <a:ext cx="1152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олс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43280" y="1989000"/>
            <a:ext cx="136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рбок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732720" y="4221000"/>
            <a:ext cx="2020680" cy="142272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116000" y="5229360"/>
            <a:ext cx="2016000" cy="145872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340000" y="2997360"/>
            <a:ext cx="1428840" cy="195876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250920" y="189000"/>
            <a:ext cx="1800000" cy="129996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250920" y="1700280"/>
            <a:ext cx="1485720" cy="165744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6948360" y="260280"/>
            <a:ext cx="1979640" cy="148428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4211640" y="3213000"/>
            <a:ext cx="2016000" cy="139716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6588000" y="2060640"/>
            <a:ext cx="2195640" cy="166680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1" name="" descr=""/>
          <p:cNvPicPr/>
          <p:nvPr/>
        </p:nvPicPr>
        <p:blipFill>
          <a:blip r:embed="rId10"/>
          <a:stretch/>
        </p:blipFill>
        <p:spPr>
          <a:xfrm>
            <a:off x="4284720" y="5084640"/>
            <a:ext cx="2016000" cy="151128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2" name="" descr=""/>
          <p:cNvPicPr/>
          <p:nvPr/>
        </p:nvPicPr>
        <p:blipFill>
          <a:blip r:embed="rId11"/>
          <a:stretch/>
        </p:blipFill>
        <p:spPr>
          <a:xfrm>
            <a:off x="179280" y="3573360"/>
            <a:ext cx="1908360" cy="146844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A139-7463-4A39-A6C4-6DC4F50A762F}" type="slidenum">
              <a:t>24</a:t>
            </a:fld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Благополучие и процветание Земли в Ваших руках, ребят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340000" y="1773360"/>
            <a:ext cx="4680000" cy="413676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5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317080" y="5013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CC6B-2D55-47F9-87EF-CE06135C850E}" type="slidenum">
              <a:t>25</a:t>
            </a:fld>
          </a:p>
        </p:txBody>
      </p:sp>
    </p:spTree>
  </p:cSld>
  <p:transition>
    <p:circle/>
  </p:transition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94676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050920" y="2133720"/>
            <a:ext cx="4969080" cy="360504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2455-5D6D-44BB-80E7-1BA389901880}" type="slidenum">
              <a:t>26</a:t>
            </a:fld>
          </a:p>
        </p:txBody>
      </p:sp>
    </p:spTree>
  </p:cSld>
  <p:transition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690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Дорогая планета, Земля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Поздравляем тебя с праздником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Прости нас за наши ошиб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Мы обеща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сохранить твою красот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771640" y="3213000"/>
            <a:ext cx="3384720" cy="337500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70D3-A5D1-447C-91A2-BC4B2E5B97DD}" type="slidenum">
              <a:t>27</a:t>
            </a:fld>
          </a:p>
        </p:txBody>
      </p:sp>
    </p:spTree>
  </p:cSld>
  <p:transition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451640" y="907920"/>
            <a:ext cx="1346400" cy="955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604360" y="6353280"/>
            <a:ext cx="539640" cy="504720"/>
          </a:xfrm>
          <a:custGeom>
            <a:avLst/>
            <a:gdLst>
              <a:gd name="textAreaLeft" fmla="*/ 32400 w 539640"/>
              <a:gd name="textAreaRight" fmla="*/ 507240 w 53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093" h="21600">
                <a:moveTo>
                  <a:pt x="0" y="0"/>
                </a:moveTo>
                <a:lnTo>
                  <a:pt x="23093" y="0"/>
                </a:lnTo>
                <a:lnTo>
                  <a:pt x="23093" y="21600"/>
                </a:lnTo>
                <a:lnTo>
                  <a:pt x="0" y="21600"/>
                </a:lnTo>
                <a:close/>
              </a:path>
              <a:path fill="lightenLess" w="23093" h="21600">
                <a:moveTo>
                  <a:pt x="0" y="0"/>
                </a:moveTo>
                <a:lnTo>
                  <a:pt x="23093" y="0"/>
                </a:lnTo>
                <a:lnTo>
                  <a:pt x="21693" y="1400"/>
                </a:lnTo>
                <a:lnTo>
                  <a:pt x="1400" y="1400"/>
                </a:lnTo>
                <a:close/>
              </a:path>
              <a:path fill="darken" w="23093" h="21600">
                <a:moveTo>
                  <a:pt x="23093" y="0"/>
                </a:moveTo>
                <a:lnTo>
                  <a:pt x="23093" y="21600"/>
                </a:lnTo>
                <a:lnTo>
                  <a:pt x="21693" y="20200"/>
                </a:lnTo>
                <a:lnTo>
                  <a:pt x="21693" y="1400"/>
                </a:lnTo>
                <a:close/>
              </a:path>
              <a:path fill="darkenLess" w="23093" h="21600">
                <a:moveTo>
                  <a:pt x="23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3" y="20200"/>
                </a:lnTo>
                <a:close/>
              </a:path>
              <a:path fill="lighten" w="23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3" h="21600">
                <a:moveTo>
                  <a:pt x="4540" y="7493"/>
                </a:moveTo>
                <a:lnTo>
                  <a:pt x="8048" y="7493"/>
                </a:lnTo>
                <a:lnTo>
                  <a:pt x="8048" y="12828"/>
                </a:lnTo>
                <a:cubicBezTo>
                  <a:pt x="8048" y="13751"/>
                  <a:pt x="8849" y="14482"/>
                  <a:pt x="9884" y="14482"/>
                </a:cubicBezTo>
                <a:lnTo>
                  <a:pt x="11547" y="14482"/>
                </a:lnTo>
                <a:cubicBezTo>
                  <a:pt x="12582" y="14482"/>
                  <a:pt x="13383" y="13751"/>
                  <a:pt x="13383" y="12828"/>
                </a:cubicBezTo>
                <a:lnTo>
                  <a:pt x="13383" y="7493"/>
                </a:lnTo>
                <a:lnTo>
                  <a:pt x="11547" y="7493"/>
                </a:lnTo>
                <a:lnTo>
                  <a:pt x="15054" y="3985"/>
                </a:lnTo>
                <a:lnTo>
                  <a:pt x="18727" y="7493"/>
                </a:lnTo>
                <a:lnTo>
                  <a:pt x="16891" y="7493"/>
                </a:lnTo>
                <a:lnTo>
                  <a:pt x="16891" y="12828"/>
                </a:lnTo>
                <a:cubicBezTo>
                  <a:pt x="16891" y="15596"/>
                  <a:pt x="14314" y="18155"/>
                  <a:pt x="11547" y="18155"/>
                </a:cubicBezTo>
                <a:lnTo>
                  <a:pt x="9884" y="18155"/>
                </a:lnTo>
                <a:cubicBezTo>
                  <a:pt x="7117" y="18155"/>
                  <a:pt x="4540" y="15596"/>
                  <a:pt x="4540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792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B187-E668-43FD-BF7D-D58241C35E76}" type="slidenum">
              <a:t>28</a:t>
            </a:fld>
          </a:p>
        </p:txBody>
      </p:sp>
    </p:spTree>
  </p:cSld>
  <p:transition>
    <p:circl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304722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Подведём итог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акому празднику был посвящён наш устный журна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огда он отмечает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акой знак является символом праздн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Что изображено на флаге Зем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акие мероприятия проводятся в России и других странах к этому празднику - «День Земл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Что мы с Вами можем сделать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 деле защиты окружающей среды?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605E-9CF5-4EA5-94F1-F72B99DBA899}" type="slidenum">
              <a:t>29</a:t>
            </a:fld>
          </a:p>
        </p:txBody>
      </p:sp>
    </p:spTree>
  </p:cSld>
  <p:transition>
    <p:circle/>
    <p:sndAc>
      <p:stSnd>
        <p:snd r:embed="rId2" name="chimes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6048360" cy="573264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62200" y="260280"/>
            <a:ext cx="504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2 апреля</a:t>
            </a:r>
            <a:r>
              <a:rPr b="1" i="1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– День</a:t>
            </a:r>
            <a:r>
              <a:rPr b="1" i="1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8491-720F-4CE6-938F-9298A86AF3C3}" type="slidenum">
              <a:t>3</a:t>
            </a:fld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ДОМАШНЕЕ ЗАДАНИЕ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31640" y="2205000"/>
            <a:ext cx="620244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нарисуйте плака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или рисунок на тему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«День Земл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708E-DD86-4BB7-93ED-075D0AA79A41}" type="slidenum">
              <a:t>30</a:t>
            </a:fld>
          </a:p>
        </p:txBody>
      </p:sp>
    </p:spTree>
  </p:cSld>
  <p:transition>
    <p:circle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5950080"/>
            <a:ext cx="7812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4154760" cy="525636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3" name=""/>
          <p:cNvSpPr/>
          <p:nvPr/>
        </p:nvSpPr>
        <p:spPr>
          <a:xfrm>
            <a:off x="5292720" y="285264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плак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«Красная книг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9E2E-B6AD-496B-A6F9-DE74ED97A22A}" type="slidenum">
              <a:t>31</a:t>
            </a:fld>
          </a:p>
        </p:txBody>
      </p:sp>
    </p:spTree>
  </p:cSld>
  <p:transition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94920" y="5805000"/>
            <a:ext cx="7056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4000320" cy="532764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7" name=""/>
          <p:cNvSpPr/>
          <p:nvPr/>
        </p:nvSpPr>
        <p:spPr>
          <a:xfrm>
            <a:off x="4643280" y="2492280"/>
            <a:ext cx="45007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рису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"Мне трудно дышать"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3E06-9509-46C9-98D9-0000BF2B63D6}" type="slidenum">
              <a:t>32</a:t>
            </a:fld>
          </a:p>
        </p:txBody>
      </p:sp>
    </p:spTree>
  </p:cSld>
  <p:transition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Плакат "День Земли"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050920" y="1197000"/>
            <a:ext cx="5112000" cy="416412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5516280"/>
            <a:ext cx="82296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B3B5-E00B-4F9F-A6E3-C89E1989B84D}" type="slidenum">
              <a:t>33</a:t>
            </a:fld>
          </a:p>
        </p:txBody>
      </p:sp>
    </p:spTree>
  </p:cSld>
  <p:transition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05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«Красота Земли мое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908000" y="1413000"/>
            <a:ext cx="5329440" cy="398448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5" name=""/>
          <p:cNvSpPr/>
          <p:nvPr/>
        </p:nvSpPr>
        <p:spPr>
          <a:xfrm>
            <a:off x="395280" y="5661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8360" y="6165720"/>
            <a:ext cx="504720" cy="4302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338" h="21600">
                <a:moveTo>
                  <a:pt x="0" y="0"/>
                </a:moveTo>
                <a:lnTo>
                  <a:pt x="25338" y="0"/>
                </a:lnTo>
                <a:lnTo>
                  <a:pt x="25338" y="21600"/>
                </a:lnTo>
                <a:lnTo>
                  <a:pt x="0" y="21600"/>
                </a:lnTo>
                <a:close/>
              </a:path>
              <a:path fill="lightenLess" w="25338" h="21600">
                <a:moveTo>
                  <a:pt x="0" y="0"/>
                </a:moveTo>
                <a:lnTo>
                  <a:pt x="25338" y="0"/>
                </a:lnTo>
                <a:lnTo>
                  <a:pt x="23938" y="1400"/>
                </a:lnTo>
                <a:lnTo>
                  <a:pt x="1400" y="1400"/>
                </a:lnTo>
                <a:close/>
              </a:path>
              <a:path fill="darken" w="25338" h="21600">
                <a:moveTo>
                  <a:pt x="25338" y="0"/>
                </a:moveTo>
                <a:lnTo>
                  <a:pt x="25338" y="21600"/>
                </a:lnTo>
                <a:lnTo>
                  <a:pt x="23938" y="20200"/>
                </a:lnTo>
                <a:lnTo>
                  <a:pt x="23938" y="1400"/>
                </a:lnTo>
                <a:close/>
              </a:path>
              <a:path fill="darkenLess" w="25338" h="21600">
                <a:moveTo>
                  <a:pt x="25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38" y="20200"/>
                </a:lnTo>
                <a:close/>
              </a:path>
              <a:path fill="lighten" w="25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38" h="21600">
                <a:moveTo>
                  <a:pt x="12669" y="3837"/>
                </a:moveTo>
                <a:lnTo>
                  <a:pt x="15246" y="6448"/>
                </a:lnTo>
                <a:lnTo>
                  <a:pt x="15246" y="4707"/>
                </a:lnTo>
                <a:lnTo>
                  <a:pt x="17021" y="4707"/>
                </a:lnTo>
                <a:lnTo>
                  <a:pt x="17021" y="8224"/>
                </a:lnTo>
                <a:lnTo>
                  <a:pt x="19632" y="10800"/>
                </a:lnTo>
                <a:lnTo>
                  <a:pt x="17978" y="10800"/>
                </a:lnTo>
                <a:lnTo>
                  <a:pt x="17978" y="17989"/>
                </a:lnTo>
                <a:lnTo>
                  <a:pt x="7360" y="17989"/>
                </a:lnTo>
                <a:lnTo>
                  <a:pt x="7360" y="10800"/>
                </a:lnTo>
                <a:lnTo>
                  <a:pt x="5706" y="10800"/>
                </a:lnTo>
                <a:close/>
              </a:path>
              <a:path fill="darkenLess" w="25338" h="21600">
                <a:moveTo>
                  <a:pt x="15246" y="6448"/>
                </a:moveTo>
                <a:lnTo>
                  <a:pt x="15246" y="4707"/>
                </a:lnTo>
                <a:lnTo>
                  <a:pt x="17021" y="4707"/>
                </a:lnTo>
                <a:lnTo>
                  <a:pt x="17021" y="8224"/>
                </a:lnTo>
                <a:close/>
              </a:path>
              <a:path fill="darkenLess" w="25338" h="21600">
                <a:moveTo>
                  <a:pt x="11747" y="14299"/>
                </a:moveTo>
                <a:lnTo>
                  <a:pt x="13592" y="14299"/>
                </a:lnTo>
                <a:lnTo>
                  <a:pt x="13592" y="17989"/>
                </a:lnTo>
                <a:lnTo>
                  <a:pt x="17978" y="17989"/>
                </a:lnTo>
                <a:lnTo>
                  <a:pt x="17978" y="10800"/>
                </a:lnTo>
                <a:lnTo>
                  <a:pt x="7360" y="10800"/>
                </a:lnTo>
                <a:lnTo>
                  <a:pt x="7360" y="17989"/>
                </a:lnTo>
                <a:lnTo>
                  <a:pt x="11747" y="17989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C780-2FA9-4BED-B0FD-42648CDE5AF4}" type="slidenum">
              <a:t>34</a:t>
            </a:fld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776920"/>
            <a:ext cx="777564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дьба планеты Земля в наших руках!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82BA-5D28-4F22-9F6A-3FFB022990D9}" type="slidenum">
              <a:t>4</a:t>
            </a:fld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539640" y="333360"/>
            <a:ext cx="2376720" cy="936720"/>
          </a:xfrm>
          <a:custGeom>
            <a:avLst/>
            <a:gdLst>
              <a:gd name="textAreaLeft" fmla="*/ 60480 w 2376720"/>
              <a:gd name="textAreaRight" fmla="*/ 2316240 w 2376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54792" h="21600">
                <a:moveTo>
                  <a:pt x="0" y="0"/>
                </a:moveTo>
                <a:lnTo>
                  <a:pt x="54792" y="0"/>
                </a:lnTo>
                <a:lnTo>
                  <a:pt x="54792" y="21600"/>
                </a:lnTo>
                <a:lnTo>
                  <a:pt x="0" y="21600"/>
                </a:lnTo>
                <a:close/>
              </a:path>
              <a:path fill="lightenLess" w="54792" h="21600">
                <a:moveTo>
                  <a:pt x="0" y="0"/>
                </a:moveTo>
                <a:lnTo>
                  <a:pt x="54792" y="0"/>
                </a:lnTo>
                <a:lnTo>
                  <a:pt x="53393" y="1400"/>
                </a:lnTo>
                <a:lnTo>
                  <a:pt x="1400" y="1400"/>
                </a:lnTo>
                <a:close/>
              </a:path>
              <a:path fill="darken" w="54792" h="21600">
                <a:moveTo>
                  <a:pt x="54792" y="0"/>
                </a:moveTo>
                <a:lnTo>
                  <a:pt x="54792" y="21600"/>
                </a:lnTo>
                <a:lnTo>
                  <a:pt x="53393" y="20200"/>
                </a:lnTo>
                <a:lnTo>
                  <a:pt x="53393" y="1400"/>
                </a:lnTo>
                <a:close/>
              </a:path>
              <a:path fill="darkenLess" w="54792" h="21600">
                <a:moveTo>
                  <a:pt x="54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93" y="20200"/>
                </a:lnTo>
                <a:close/>
              </a:path>
              <a:path fill="lighten" w="54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О праздн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«День зем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539640" y="1484280"/>
            <a:ext cx="2376720" cy="936720"/>
          </a:xfrm>
          <a:custGeom>
            <a:avLst/>
            <a:gdLst>
              <a:gd name="textAreaLeft" fmla="*/ 60480 w 2376720"/>
              <a:gd name="textAreaRight" fmla="*/ 2316240 w 2376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54792" h="21600">
                <a:moveTo>
                  <a:pt x="0" y="0"/>
                </a:moveTo>
                <a:lnTo>
                  <a:pt x="54792" y="0"/>
                </a:lnTo>
                <a:lnTo>
                  <a:pt x="54792" y="21600"/>
                </a:lnTo>
                <a:lnTo>
                  <a:pt x="0" y="21600"/>
                </a:lnTo>
                <a:close/>
              </a:path>
              <a:path fill="lightenLess" w="54792" h="21600">
                <a:moveTo>
                  <a:pt x="0" y="0"/>
                </a:moveTo>
                <a:lnTo>
                  <a:pt x="54792" y="0"/>
                </a:lnTo>
                <a:lnTo>
                  <a:pt x="53393" y="1400"/>
                </a:lnTo>
                <a:lnTo>
                  <a:pt x="1400" y="1400"/>
                </a:lnTo>
                <a:close/>
              </a:path>
              <a:path fill="darken" w="54792" h="21600">
                <a:moveTo>
                  <a:pt x="54792" y="0"/>
                </a:moveTo>
                <a:lnTo>
                  <a:pt x="54792" y="21600"/>
                </a:lnTo>
                <a:lnTo>
                  <a:pt x="53393" y="20200"/>
                </a:lnTo>
                <a:lnTo>
                  <a:pt x="53393" y="1400"/>
                </a:lnTo>
                <a:close/>
              </a:path>
              <a:path fill="darkenLess" w="54792" h="21600">
                <a:moveTo>
                  <a:pt x="54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93" y="20200"/>
                </a:lnTo>
                <a:close/>
              </a:path>
              <a:path fill="lighten" w="54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Симво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празд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3" action="ppaction://hlinksldjump"/>
          </p:cNvPr>
          <p:cNvSpPr/>
          <p:nvPr/>
        </p:nvSpPr>
        <p:spPr>
          <a:xfrm>
            <a:off x="539640" y="2708280"/>
            <a:ext cx="2376720" cy="936720"/>
          </a:xfrm>
          <a:custGeom>
            <a:avLst/>
            <a:gdLst>
              <a:gd name="textAreaLeft" fmla="*/ 60480 w 2376720"/>
              <a:gd name="textAreaRight" fmla="*/ 2316240 w 2376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54792" h="21600">
                <a:moveTo>
                  <a:pt x="0" y="0"/>
                </a:moveTo>
                <a:lnTo>
                  <a:pt x="54792" y="0"/>
                </a:lnTo>
                <a:lnTo>
                  <a:pt x="54792" y="21600"/>
                </a:lnTo>
                <a:lnTo>
                  <a:pt x="0" y="21600"/>
                </a:lnTo>
                <a:close/>
              </a:path>
              <a:path fill="lightenLess" w="54792" h="21600">
                <a:moveTo>
                  <a:pt x="0" y="0"/>
                </a:moveTo>
                <a:lnTo>
                  <a:pt x="54792" y="0"/>
                </a:lnTo>
                <a:lnTo>
                  <a:pt x="53393" y="1400"/>
                </a:lnTo>
                <a:lnTo>
                  <a:pt x="1400" y="1400"/>
                </a:lnTo>
                <a:close/>
              </a:path>
              <a:path fill="darken" w="54792" h="21600">
                <a:moveTo>
                  <a:pt x="54792" y="0"/>
                </a:moveTo>
                <a:lnTo>
                  <a:pt x="54792" y="21600"/>
                </a:lnTo>
                <a:lnTo>
                  <a:pt x="53393" y="20200"/>
                </a:lnTo>
                <a:lnTo>
                  <a:pt x="53393" y="1400"/>
                </a:lnTo>
                <a:close/>
              </a:path>
              <a:path fill="darkenLess" w="54792" h="21600">
                <a:moveTo>
                  <a:pt x="54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93" y="20200"/>
                </a:lnTo>
                <a:close/>
              </a:path>
              <a:path fill="lighten" w="54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Флаг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4" action="ppaction://hlinksldjump"/>
          </p:cNvPr>
          <p:cNvSpPr/>
          <p:nvPr/>
        </p:nvSpPr>
        <p:spPr>
          <a:xfrm>
            <a:off x="539640" y="3933720"/>
            <a:ext cx="2376720" cy="936720"/>
          </a:xfrm>
          <a:custGeom>
            <a:avLst/>
            <a:gdLst>
              <a:gd name="textAreaLeft" fmla="*/ 60480 w 2376720"/>
              <a:gd name="textAreaRight" fmla="*/ 2316240 w 2376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54792" h="21600">
                <a:moveTo>
                  <a:pt x="0" y="0"/>
                </a:moveTo>
                <a:lnTo>
                  <a:pt x="54792" y="0"/>
                </a:lnTo>
                <a:lnTo>
                  <a:pt x="54792" y="21600"/>
                </a:lnTo>
                <a:lnTo>
                  <a:pt x="0" y="21600"/>
                </a:lnTo>
                <a:close/>
              </a:path>
              <a:path fill="lightenLess" w="54792" h="21600">
                <a:moveTo>
                  <a:pt x="0" y="0"/>
                </a:moveTo>
                <a:lnTo>
                  <a:pt x="54792" y="0"/>
                </a:lnTo>
                <a:lnTo>
                  <a:pt x="53393" y="1400"/>
                </a:lnTo>
                <a:lnTo>
                  <a:pt x="1400" y="1400"/>
                </a:lnTo>
                <a:close/>
              </a:path>
              <a:path fill="darken" w="54792" h="21600">
                <a:moveTo>
                  <a:pt x="54792" y="0"/>
                </a:moveTo>
                <a:lnTo>
                  <a:pt x="54792" y="21600"/>
                </a:lnTo>
                <a:lnTo>
                  <a:pt x="53393" y="20200"/>
                </a:lnTo>
                <a:lnTo>
                  <a:pt x="53393" y="1400"/>
                </a:lnTo>
                <a:close/>
              </a:path>
              <a:path fill="darkenLess" w="54792" h="21600">
                <a:moveTo>
                  <a:pt x="54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93" y="20200"/>
                </a:lnTo>
                <a:close/>
              </a:path>
              <a:path fill="lighten" w="54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Колокол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5" action="ppaction://hlinksldjump"/>
          </p:cNvPr>
          <p:cNvSpPr/>
          <p:nvPr/>
        </p:nvSpPr>
        <p:spPr>
          <a:xfrm>
            <a:off x="539640" y="5157720"/>
            <a:ext cx="2376720" cy="936720"/>
          </a:xfrm>
          <a:custGeom>
            <a:avLst/>
            <a:gdLst>
              <a:gd name="textAreaLeft" fmla="*/ 60480 w 2376720"/>
              <a:gd name="textAreaRight" fmla="*/ 2316240 w 2376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54792" h="21600">
                <a:moveTo>
                  <a:pt x="0" y="0"/>
                </a:moveTo>
                <a:lnTo>
                  <a:pt x="54792" y="0"/>
                </a:lnTo>
                <a:lnTo>
                  <a:pt x="54792" y="21600"/>
                </a:lnTo>
                <a:lnTo>
                  <a:pt x="0" y="21600"/>
                </a:lnTo>
                <a:close/>
              </a:path>
              <a:path fill="lightenLess" w="54792" h="21600">
                <a:moveTo>
                  <a:pt x="0" y="0"/>
                </a:moveTo>
                <a:lnTo>
                  <a:pt x="54792" y="0"/>
                </a:lnTo>
                <a:lnTo>
                  <a:pt x="53393" y="1400"/>
                </a:lnTo>
                <a:lnTo>
                  <a:pt x="1400" y="1400"/>
                </a:lnTo>
                <a:close/>
              </a:path>
              <a:path fill="darken" w="54792" h="21600">
                <a:moveTo>
                  <a:pt x="54792" y="0"/>
                </a:moveTo>
                <a:lnTo>
                  <a:pt x="54792" y="21600"/>
                </a:lnTo>
                <a:lnTo>
                  <a:pt x="53393" y="20200"/>
                </a:lnTo>
                <a:lnTo>
                  <a:pt x="53393" y="1400"/>
                </a:lnTo>
                <a:close/>
              </a:path>
              <a:path fill="darkenLess" w="54792" h="21600">
                <a:moveTo>
                  <a:pt x="54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93" y="20200"/>
                </a:lnTo>
                <a:close/>
              </a:path>
              <a:path fill="lighten" w="54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рад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6" action="ppaction://hlinksldjump"/>
          </p:cNvPr>
          <p:cNvSpPr/>
          <p:nvPr/>
        </p:nvSpPr>
        <p:spPr>
          <a:xfrm>
            <a:off x="4500720" y="333360"/>
            <a:ext cx="3960720" cy="936720"/>
          </a:xfrm>
          <a:custGeom>
            <a:avLst/>
            <a:gdLst>
              <a:gd name="textAreaLeft" fmla="*/ 60480 w 3960720"/>
              <a:gd name="textAreaRight" fmla="*/ 3900240 w 3960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91304" h="21600">
                <a:moveTo>
                  <a:pt x="0" y="0"/>
                </a:moveTo>
                <a:lnTo>
                  <a:pt x="91304" y="0"/>
                </a:lnTo>
                <a:lnTo>
                  <a:pt x="91304" y="21600"/>
                </a:lnTo>
                <a:lnTo>
                  <a:pt x="0" y="21600"/>
                </a:lnTo>
                <a:close/>
              </a:path>
              <a:path fill="lightenLess" w="91304" h="21600">
                <a:moveTo>
                  <a:pt x="0" y="0"/>
                </a:moveTo>
                <a:lnTo>
                  <a:pt x="91304" y="0"/>
                </a:lnTo>
                <a:lnTo>
                  <a:pt x="89904" y="1400"/>
                </a:lnTo>
                <a:lnTo>
                  <a:pt x="1400" y="1400"/>
                </a:lnTo>
                <a:close/>
              </a:path>
              <a:path fill="darken" w="91304" h="21600">
                <a:moveTo>
                  <a:pt x="91304" y="0"/>
                </a:moveTo>
                <a:lnTo>
                  <a:pt x="91304" y="21600"/>
                </a:lnTo>
                <a:lnTo>
                  <a:pt x="89904" y="20200"/>
                </a:lnTo>
                <a:lnTo>
                  <a:pt x="89904" y="1400"/>
                </a:lnTo>
                <a:close/>
              </a:path>
              <a:path fill="darkenLess" w="91304" h="21600">
                <a:moveTo>
                  <a:pt x="91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904" y="20200"/>
                </a:lnTo>
                <a:close/>
              </a:path>
              <a:path fill="lighten" w="91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Физкультминутка-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«Да, н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7" action="ppaction://hlinksldjump"/>
          </p:cNvPr>
          <p:cNvSpPr/>
          <p:nvPr/>
        </p:nvSpPr>
        <p:spPr>
          <a:xfrm>
            <a:off x="5219640" y="1484280"/>
            <a:ext cx="3241800" cy="936720"/>
          </a:xfrm>
          <a:custGeom>
            <a:avLst/>
            <a:gdLst>
              <a:gd name="textAreaLeft" fmla="*/ 60480 w 3241800"/>
              <a:gd name="textAreaRight" fmla="*/ 3181320 w 324180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74733" h="21600">
                <a:moveTo>
                  <a:pt x="0" y="0"/>
                </a:moveTo>
                <a:lnTo>
                  <a:pt x="74733" y="0"/>
                </a:lnTo>
                <a:lnTo>
                  <a:pt x="74733" y="21600"/>
                </a:lnTo>
                <a:lnTo>
                  <a:pt x="0" y="21600"/>
                </a:lnTo>
                <a:close/>
              </a:path>
              <a:path fill="lightenLess" w="74733" h="21600">
                <a:moveTo>
                  <a:pt x="0" y="0"/>
                </a:moveTo>
                <a:lnTo>
                  <a:pt x="74733" y="0"/>
                </a:lnTo>
                <a:lnTo>
                  <a:pt x="73333" y="1400"/>
                </a:lnTo>
                <a:lnTo>
                  <a:pt x="1400" y="1400"/>
                </a:lnTo>
                <a:close/>
              </a:path>
              <a:path fill="darken" w="74733" h="21600">
                <a:moveTo>
                  <a:pt x="74733" y="0"/>
                </a:moveTo>
                <a:lnTo>
                  <a:pt x="74733" y="21600"/>
                </a:lnTo>
                <a:lnTo>
                  <a:pt x="73333" y="20200"/>
                </a:lnTo>
                <a:lnTo>
                  <a:pt x="73333" y="1400"/>
                </a:lnTo>
                <a:close/>
              </a:path>
              <a:path fill="darkenLess" w="74733" h="21600">
                <a:moveTo>
                  <a:pt x="747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333" y="20200"/>
                </a:lnTo>
                <a:close/>
              </a:path>
              <a:path fill="lighten" w="747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Викто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«Знатоки приро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2000" y="3716280"/>
            <a:ext cx="2376360" cy="936720"/>
          </a:xfrm>
          <a:custGeom>
            <a:avLst/>
            <a:gdLst>
              <a:gd name="textAreaLeft" fmla="*/ 60480 w 2376360"/>
              <a:gd name="textAreaRight" fmla="*/ 2315880 w 2376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54784" h="21600">
                <a:moveTo>
                  <a:pt x="0" y="0"/>
                </a:moveTo>
                <a:lnTo>
                  <a:pt x="54784" y="0"/>
                </a:lnTo>
                <a:lnTo>
                  <a:pt x="54784" y="21600"/>
                </a:lnTo>
                <a:lnTo>
                  <a:pt x="0" y="21600"/>
                </a:lnTo>
                <a:close/>
              </a:path>
              <a:path fill="lightenLess" w="54784" h="21600">
                <a:moveTo>
                  <a:pt x="0" y="0"/>
                </a:moveTo>
                <a:lnTo>
                  <a:pt x="54784" y="0"/>
                </a:lnTo>
                <a:lnTo>
                  <a:pt x="53384" y="1400"/>
                </a:lnTo>
                <a:lnTo>
                  <a:pt x="1400" y="1400"/>
                </a:lnTo>
                <a:close/>
              </a:path>
              <a:path fill="darken" w="54784" h="21600">
                <a:moveTo>
                  <a:pt x="54784" y="0"/>
                </a:moveTo>
                <a:lnTo>
                  <a:pt x="54784" y="21600"/>
                </a:lnTo>
                <a:lnTo>
                  <a:pt x="53384" y="20200"/>
                </a:lnTo>
                <a:lnTo>
                  <a:pt x="53384" y="1400"/>
                </a:lnTo>
                <a:close/>
              </a:path>
              <a:path fill="darkenLess" w="54784" h="21600">
                <a:moveTo>
                  <a:pt x="54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84" y="20200"/>
                </a:lnTo>
                <a:close/>
              </a:path>
              <a:path fill="lighten" w="54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С праздни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Земл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0360" y="4797360"/>
            <a:ext cx="2448000" cy="935280"/>
          </a:xfrm>
          <a:custGeom>
            <a:avLst/>
            <a:gdLst>
              <a:gd name="textAreaLeft" fmla="*/ 60480 w 2448000"/>
              <a:gd name="textAreaRight" fmla="*/ 2387520 w 244800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56522" h="21600">
                <a:moveTo>
                  <a:pt x="0" y="0"/>
                </a:moveTo>
                <a:lnTo>
                  <a:pt x="56522" y="0"/>
                </a:lnTo>
                <a:lnTo>
                  <a:pt x="56522" y="21600"/>
                </a:lnTo>
                <a:lnTo>
                  <a:pt x="0" y="21600"/>
                </a:lnTo>
                <a:close/>
              </a:path>
              <a:path fill="lightenLess" w="56522" h="21600">
                <a:moveTo>
                  <a:pt x="0" y="0"/>
                </a:moveTo>
                <a:lnTo>
                  <a:pt x="56522" y="0"/>
                </a:lnTo>
                <a:lnTo>
                  <a:pt x="55122" y="1400"/>
                </a:lnTo>
                <a:lnTo>
                  <a:pt x="1400" y="1400"/>
                </a:lnTo>
                <a:close/>
              </a:path>
              <a:path fill="darken" w="56522" h="21600">
                <a:moveTo>
                  <a:pt x="56522" y="0"/>
                </a:moveTo>
                <a:lnTo>
                  <a:pt x="56522" y="21600"/>
                </a:lnTo>
                <a:lnTo>
                  <a:pt x="55122" y="20200"/>
                </a:lnTo>
                <a:lnTo>
                  <a:pt x="55122" y="1400"/>
                </a:lnTo>
                <a:close/>
              </a:path>
              <a:path fill="darkenLess" w="56522" h="21600">
                <a:moveTo>
                  <a:pt x="565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122" y="20200"/>
                </a:lnTo>
                <a:close/>
              </a:path>
              <a:path fill="lighten" w="565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Подведём ит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3564000" y="2997360"/>
            <a:ext cx="1800000" cy="126036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3" name=""/>
          <p:cNvSpPr/>
          <p:nvPr/>
        </p:nvSpPr>
        <p:spPr>
          <a:xfrm>
            <a:off x="8388360" y="6165720"/>
            <a:ext cx="504720" cy="4302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338" h="21600">
                <a:moveTo>
                  <a:pt x="0" y="0"/>
                </a:moveTo>
                <a:lnTo>
                  <a:pt x="25338" y="0"/>
                </a:lnTo>
                <a:lnTo>
                  <a:pt x="25338" y="21600"/>
                </a:lnTo>
                <a:lnTo>
                  <a:pt x="0" y="21600"/>
                </a:lnTo>
                <a:close/>
              </a:path>
              <a:path fill="lightenLess" w="25338" h="21600">
                <a:moveTo>
                  <a:pt x="0" y="0"/>
                </a:moveTo>
                <a:lnTo>
                  <a:pt x="25338" y="0"/>
                </a:lnTo>
                <a:lnTo>
                  <a:pt x="23938" y="1400"/>
                </a:lnTo>
                <a:lnTo>
                  <a:pt x="1400" y="1400"/>
                </a:lnTo>
                <a:close/>
              </a:path>
              <a:path fill="darken" w="25338" h="21600">
                <a:moveTo>
                  <a:pt x="25338" y="0"/>
                </a:moveTo>
                <a:lnTo>
                  <a:pt x="25338" y="21600"/>
                </a:lnTo>
                <a:lnTo>
                  <a:pt x="23938" y="20200"/>
                </a:lnTo>
                <a:lnTo>
                  <a:pt x="23938" y="1400"/>
                </a:lnTo>
                <a:close/>
              </a:path>
              <a:path fill="darkenLess" w="25338" h="21600">
                <a:moveTo>
                  <a:pt x="25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38" y="20200"/>
                </a:lnTo>
                <a:close/>
              </a:path>
              <a:path fill="lighten" w="25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38" h="21600">
                <a:moveTo>
                  <a:pt x="12669" y="3837"/>
                </a:moveTo>
                <a:lnTo>
                  <a:pt x="15246" y="6448"/>
                </a:lnTo>
                <a:lnTo>
                  <a:pt x="15246" y="4707"/>
                </a:lnTo>
                <a:lnTo>
                  <a:pt x="17021" y="4707"/>
                </a:lnTo>
                <a:lnTo>
                  <a:pt x="17021" y="8224"/>
                </a:lnTo>
                <a:lnTo>
                  <a:pt x="19632" y="10800"/>
                </a:lnTo>
                <a:lnTo>
                  <a:pt x="17978" y="10800"/>
                </a:lnTo>
                <a:lnTo>
                  <a:pt x="17978" y="17989"/>
                </a:lnTo>
                <a:lnTo>
                  <a:pt x="7360" y="17989"/>
                </a:lnTo>
                <a:lnTo>
                  <a:pt x="7360" y="10800"/>
                </a:lnTo>
                <a:lnTo>
                  <a:pt x="5706" y="10800"/>
                </a:lnTo>
                <a:close/>
              </a:path>
              <a:path fill="darkenLess" w="25338" h="21600">
                <a:moveTo>
                  <a:pt x="15246" y="6448"/>
                </a:moveTo>
                <a:lnTo>
                  <a:pt x="15246" y="4707"/>
                </a:lnTo>
                <a:lnTo>
                  <a:pt x="17021" y="4707"/>
                </a:lnTo>
                <a:lnTo>
                  <a:pt x="17021" y="8224"/>
                </a:lnTo>
                <a:close/>
              </a:path>
              <a:path fill="darkenLess" w="25338" h="21600">
                <a:moveTo>
                  <a:pt x="11747" y="14299"/>
                </a:moveTo>
                <a:lnTo>
                  <a:pt x="13592" y="14299"/>
                </a:lnTo>
                <a:lnTo>
                  <a:pt x="13592" y="17989"/>
                </a:lnTo>
                <a:lnTo>
                  <a:pt x="17978" y="17989"/>
                </a:lnTo>
                <a:lnTo>
                  <a:pt x="17978" y="10800"/>
                </a:lnTo>
                <a:lnTo>
                  <a:pt x="7360" y="10800"/>
                </a:lnTo>
                <a:lnTo>
                  <a:pt x="7360" y="17989"/>
                </a:lnTo>
                <a:lnTo>
                  <a:pt x="11747" y="17989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80000" y="2637000"/>
            <a:ext cx="2879640" cy="865080"/>
          </a:xfrm>
          <a:custGeom>
            <a:avLst/>
            <a:gdLst>
              <a:gd name="textAreaLeft" fmla="*/ 55800 w 2879640"/>
              <a:gd name="textAreaRight" fmla="*/ 2823840 w 287964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71880" h="21600">
                <a:moveTo>
                  <a:pt x="0" y="0"/>
                </a:moveTo>
                <a:lnTo>
                  <a:pt x="71880" y="0"/>
                </a:lnTo>
                <a:lnTo>
                  <a:pt x="71880" y="21600"/>
                </a:lnTo>
                <a:lnTo>
                  <a:pt x="0" y="21600"/>
                </a:lnTo>
                <a:close/>
              </a:path>
              <a:path fill="lightenLess" w="71880" h="21600">
                <a:moveTo>
                  <a:pt x="0" y="0"/>
                </a:moveTo>
                <a:lnTo>
                  <a:pt x="71880" y="0"/>
                </a:lnTo>
                <a:lnTo>
                  <a:pt x="70480" y="1400"/>
                </a:lnTo>
                <a:lnTo>
                  <a:pt x="1400" y="1400"/>
                </a:lnTo>
                <a:close/>
              </a:path>
              <a:path fill="darken" w="71880" h="21600">
                <a:moveTo>
                  <a:pt x="71880" y="0"/>
                </a:moveTo>
                <a:lnTo>
                  <a:pt x="71880" y="21600"/>
                </a:lnTo>
                <a:lnTo>
                  <a:pt x="70480" y="20200"/>
                </a:lnTo>
                <a:lnTo>
                  <a:pt x="70480" y="1400"/>
                </a:lnTo>
                <a:close/>
              </a:path>
              <a:path fill="darkenLess" w="71880" h="21600">
                <a:moveTo>
                  <a:pt x="71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80" y="20200"/>
                </a:lnTo>
                <a:close/>
              </a:path>
              <a:path fill="lighten" w="71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Игра «Угадай-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668-1A46-43FC-9090-224C366AFF01}" type="slidenum">
              <a:t>5</a:t>
            </a:fld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229600" cy="30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День Земл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это гражданская инициати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которая призвана объединять всё население планеты в деле защиты окружающей среды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484360" y="2782800"/>
            <a:ext cx="3743280" cy="373248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6A07-BE3A-4127-BE06-354EC7E36391}" type="slidenum">
              <a:t>6</a:t>
            </a:fld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4680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Названи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День Зем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(англ. </a:t>
            </a:r>
            <a:r>
              <a:rPr b="0" i="1" lang="en" sz="2800" spc="-1" strike="noStrike">
                <a:solidFill>
                  <a:srgbClr val="003399"/>
                </a:solidFill>
                <a:latin typeface="Arial"/>
              </a:rPr>
              <a:t>Earth Day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—используется по отношению к различным мероприятиям, проводящимся весной 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призванным побудить людей быть внимательнее к хрупкой и уязвимой окружающей среде на планете Зем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4056120" cy="405576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0" name=""/>
          <p:cNvSpPr/>
          <p:nvPr/>
        </p:nvSpPr>
        <p:spPr>
          <a:xfrm>
            <a:off x="8532720" y="4437000"/>
            <a:ext cx="360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2C75-32F2-4C4D-9068-D375D757F4A9}" type="slidenum">
              <a:t>7</a:t>
            </a:fld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195640" y="333360"/>
            <a:ext cx="5327640" cy="3422520"/>
          </a:xfrm>
          <a:prstGeom prst="rect">
            <a:avLst/>
          </a:prstGeom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ервая всемирная ак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«День Земли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рошла в США 22 апреля 1970 года, в  память об экологической катастрофе на территории США в 1969 г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743F-6C6E-49BB-A628-008E00701C93}" type="slidenum">
              <a:t>8</a:t>
            </a:fld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Международный день Земли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провозглашен Генеральным секретарем ООН в марте 1971 года. Отмечается ежегодно в день весеннего равноденствия 22 апреля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979640" y="2637000"/>
            <a:ext cx="5040360" cy="378144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C0DE-EB21-4FEA-8D70-B51976566DB3}" type="slidenum">
              <a:t>9</a:t>
            </a:fld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4:25:43Z</dcterms:created>
  <dc:creator>Елена</dc:creator>
  <dc:description/>
  <dc:language>en-US</dc:language>
  <cp:lastModifiedBy>Алсу</cp:lastModifiedBy>
  <dcterms:modified xsi:type="dcterms:W3CDTF">2011-04-25T17:24:25Z</dcterms:modified>
  <cp:revision>224</cp:revision>
  <dc:subject/>
  <dc:title>День Земли</dc:title>
</cp:coreProperties>
</file>