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1C7-B952-4E43-A9BF-98517BA1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FA4-1400-4C4C-958F-22640759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252-B54C-4A5D-9596-9B7BA29F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384-8907-4F92-A695-8ABB9FFE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360C-90E3-4850-B304-5FC2DAFC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D70-9045-48CA-BB11-FC81A249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488-A56E-42D8-8441-42AB034F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C813-5E8A-4E95-ADAA-CB34E3C9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239-BA25-47A6-B289-CC52E3ED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E4B3-798F-4EFD-A6BB-FDC451C7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6338-88E6-4F56-9A2D-81EC08B6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69E-2FB0-4A5B-BF23-A571BC4C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9063-D25C-4FB2-BA9E-6C5B7B70E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slide5.xml"/><Relationship Id="rId4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boffsem.ru/2008/04/21/mezhdunarodnyjj-den-zemli-international.html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3.jpeg"/><Relationship Id="rId1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0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22.xml"/><Relationship Id="rId7" Type="http://schemas.openxmlformats.org/officeDocument/2006/relationships/slide" Target="slide23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Устный журнал по экологическим проблемам</a:t>
            </a:r>
            <a:br>
              <a:rPr sz="4800"/>
            </a:br>
            <a:br>
              <a:rPr sz="4800"/>
            </a:br>
            <a:r>
              <a:rPr b="0" i="1" lang="en-US" sz="3600" spc="-1" strike="noStrike">
                <a:solidFill>
                  <a:srgbClr val="cc3300"/>
                </a:solidFill>
                <a:latin typeface="Arial"/>
              </a:rPr>
              <a:t>для учащихся начальн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Загидуллина Алсу Марат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260280"/>
            <a:ext cx="79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Нурлатская средняя школа» Зеленодольского района 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043-2DD6-49FB-BC61-F16D887C9FB6}" type="slidenum">
              <a:t>1</a:t>
            </a:fld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ергей Петрович Капица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доктор физико-математических наук, профессор, академик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«…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День Земли — это день ответственности перед нашей планетой, ответственности перед людьми, которые ее населяют, перед самой природой, частью которой мы являемся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03640" y="2349360"/>
            <a:ext cx="3311640" cy="327672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E64-0F99-44E5-A65B-6129CE897428}" type="slidenum">
              <a:t>10</a:t>
            </a:fld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Символ Дня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4753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Зелёная греческая буква Θ на белом ф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300720" y="3068280"/>
            <a:ext cx="1152720" cy="1655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8000"/>
                </a:solidFill>
                <a:latin typeface="Arial"/>
              </a:rPr>
              <a:t>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C44-7A3F-4D1D-B807-1B75083D67B2}" type="slidenum">
              <a:t>11</a:t>
            </a:fld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5483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Флаг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0400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вязан с Днем Земли и многими другими природоохранными, миротворческими международными мероприят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е является официальным символом чего-либо, поскольку не существует общепланетного правительства или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нимок планеты Земля, изображенный на флаге, сделан астронавтами космичечкого корабля «Аполлон-17» по дороге к Луне.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14122" t="-4346" r="13580" b="-5890"/>
          <a:stretch/>
        </p:blipFill>
        <p:spPr>
          <a:xfrm>
            <a:off x="5796000" y="189000"/>
            <a:ext cx="2014560" cy="122868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1D0E-C62A-4C3D-891D-0C4E3930C089}" type="slidenum">
              <a:t>12</a:t>
            </a:fld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3860280"/>
            <a:ext cx="8147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День Земли в разных странах по традиции звучит Колокол Мира, призывая людей Земли приложить усилия к защите мира на планете и сохранению красоты нашего общего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879640" cy="216360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863800" cy="215100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8244000" y="595008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B47-CA7F-45F9-9D9D-D65E978166CF}" type="slidenum">
              <a:t>13</a:t>
            </a:fld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186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Традици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3236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В этот день все желающие принимают участие в благоустройстве и озеленении своих дворов и улиц, в различных экологических мероприятиях, фестивалях и акц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4071960" cy="58323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3D2-D2DC-4B3D-9E95-475033EF688E}" type="slidenum">
              <a:t>14</a:t>
            </a:fld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Всемирное дви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880560"/>
            <a:ext cx="4788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Во многих странах проходят праздничные мероприятия и акции, призывающие обратить внимание на проблемы эк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На сегодняшний день, 147 стран мира зарегистрированы во Всемирном движении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845160" cy="383220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25FE-DF5E-4EED-AB27-3DC5030FE6E3}" type="slidenum">
              <a:t>15</a:t>
            </a:fld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В России проводится экологический фестиваль 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«День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3645000"/>
            <a:ext cx="5761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Под девиз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«Цветущая Земля — процветающая Росс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88000" y="1700280"/>
            <a:ext cx="1997280" cy="388944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E0A4-2408-4ED6-A45D-06C3378382CC}" type="slidenum">
              <a:t>16</a:t>
            </a:fld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В Венгрии проходит экологический велопробег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58920" y="2421000"/>
            <a:ext cx="5905440" cy="393696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B1F-BBF9-4036-B1BB-0F36D20816BB}" type="slidenum">
              <a:t>17</a:t>
            </a:fld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В Северной Корее на улицах Сеула 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акция «Без автомоби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Международный День Земли (International Earth Day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1844640"/>
            <a:ext cx="6553080" cy="444204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C92-1114-42FC-9766-1B805607BDF8}" type="slidenum">
              <a:t>18</a:t>
            </a:fld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В Индонезии,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на территории американского посольства,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проходят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спортивные состязани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038480" cy="284472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3280" y="2997360"/>
            <a:ext cx="4038840" cy="284472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C2B-A213-4E48-B72A-DB22DB572AFC}" type="slidenum">
              <a:t>19</a:t>
            </a:fld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66760" y="1989000"/>
            <a:ext cx="68104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 уберечь </a:t>
            </a:r>
            <a:endParaRPr b="0" lang="en-US" sz="18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у Землю</a:t>
            </a:r>
            <a:endParaRPr b="0" lang="en-US" sz="18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лжны</a:t>
            </a:r>
            <a:endParaRPr b="0" lang="en-US" sz="1800" spc="1" strike="noStrike"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208-5549-48ED-B5E5-5EF6A9E5BDAA}" type="slidenum">
              <a:t>2</a:t>
            </a:fld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В Маниле на Филиппинах - демонстрация движения по защите животны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340000" y="2276640"/>
            <a:ext cx="4033800" cy="3101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535104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Участники пропагандируют вегетарианство ради спасения план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879-698E-4F9C-9E14-10B2FEA92627}" type="slidenum">
              <a:t>20</a:t>
            </a:fld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Про всех на свете»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Б. Заход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624720" cy="440856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F15-4170-43FA-83D3-5C84F1290ABF}" type="slidenum">
              <a:t>21</a:t>
            </a:fld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840720" cy="363060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6" name=""/>
          <p:cNvSpPr txBox="1"/>
          <p:nvPr/>
        </p:nvSpPr>
        <p:spPr>
          <a:xfrm>
            <a:off x="900000" y="404640"/>
            <a:ext cx="734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-игр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Да, нет»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8172360" y="595008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AF6-FC44-4C6B-B6AA-C5FA893B9C52}" type="slidenum">
              <a:t>22</a:t>
            </a:fld>
          </a:p>
        </p:txBody>
      </p:sp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0920" y="2828880"/>
            <a:ext cx="5040360" cy="335268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0" name=""/>
          <p:cNvSpPr/>
          <p:nvPr/>
        </p:nvSpPr>
        <p:spPr>
          <a:xfrm>
            <a:off x="8172360" y="602136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635-22AF-488A-A0AE-461C13399F2E}" type="slidenum">
              <a:t>23</a:t>
            </a:fld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172360" y="602136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68360" y="260280"/>
            <a:ext cx="4538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УЗНАВАЙ-КА"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339640" y="907560"/>
            <a:ext cx="2459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норова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40000" y="1268280"/>
            <a:ext cx="1944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йевол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43280" y="907920"/>
            <a:ext cx="158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ари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3280" y="1268280"/>
            <a:ext cx="158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кш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1628640"/>
            <a:ext cx="1944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кшукук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1916280"/>
            <a:ext cx="136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летяд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2276640"/>
            <a:ext cx="115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арг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3280" y="1700280"/>
            <a:ext cx="1513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ырбо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2421000"/>
            <a:ext cx="1152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олс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1989000"/>
            <a:ext cx="136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рбок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732720" y="4221000"/>
            <a:ext cx="2020680" cy="142272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116000" y="5229360"/>
            <a:ext cx="2016000" cy="145872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340000" y="2997360"/>
            <a:ext cx="1428840" cy="195876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1800000" cy="129996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250920" y="1700280"/>
            <a:ext cx="1485720" cy="165744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6948360" y="260280"/>
            <a:ext cx="1979640" cy="148428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4211640" y="3213000"/>
            <a:ext cx="2016000" cy="139716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6588000" y="2060640"/>
            <a:ext cx="2195640" cy="166680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1" name="" descr=""/>
          <p:cNvPicPr/>
          <p:nvPr/>
        </p:nvPicPr>
        <p:blipFill>
          <a:blip r:embed="rId10"/>
          <a:stretch/>
        </p:blipFill>
        <p:spPr>
          <a:xfrm>
            <a:off x="4284720" y="5084640"/>
            <a:ext cx="2016000" cy="151128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2" name="" descr=""/>
          <p:cNvPicPr/>
          <p:nvPr/>
        </p:nvPicPr>
        <p:blipFill>
          <a:blip r:embed="rId11"/>
          <a:stretch/>
        </p:blipFill>
        <p:spPr>
          <a:xfrm>
            <a:off x="179280" y="3573360"/>
            <a:ext cx="1908360" cy="146844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579-EB71-44EA-963F-5CFAD1096360}" type="slidenum">
              <a:t>24</a:t>
            </a:fld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Благополучие и процветание Земли в Ваших руках, ребя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40000" y="1773360"/>
            <a:ext cx="4680000" cy="41367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317080" y="501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E4EB-CCE7-4B38-BE45-887DB18AA39D}" type="slidenum">
              <a:t>25</a:t>
            </a:fld>
          </a:p>
        </p:txBody>
      </p:sp>
    </p:spTree>
  </p:cSld>
  <p:transition>
    <p:circle/>
  </p:transition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9467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050920" y="2133720"/>
            <a:ext cx="4969080" cy="360504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753-66B4-4B6A-AE41-9060740EB8B5}" type="slidenum">
              <a:t>26</a:t>
            </a:fld>
          </a:p>
        </p:txBody>
      </p:sp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Дорогая планета, Земля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Поздравляем тебя с праздником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Прости нас за наши ошиб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Мы обещ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сохранить твою крас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771640" y="3213000"/>
            <a:ext cx="3384720" cy="337500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B75-C96B-4295-BB3B-994D4EF6120D}" type="slidenum">
              <a:t>27</a:t>
            </a:fld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451640" y="907920"/>
            <a:ext cx="1346400" cy="95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604360" y="635328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4540" y="7493"/>
                </a:moveTo>
                <a:lnTo>
                  <a:pt x="8048" y="7493"/>
                </a:lnTo>
                <a:lnTo>
                  <a:pt x="8048" y="12828"/>
                </a:lnTo>
                <a:cubicBezTo>
                  <a:pt x="8048" y="13751"/>
                  <a:pt x="8849" y="14482"/>
                  <a:pt x="9884" y="14482"/>
                </a:cubicBezTo>
                <a:lnTo>
                  <a:pt x="11547" y="14482"/>
                </a:lnTo>
                <a:cubicBezTo>
                  <a:pt x="12582" y="14482"/>
                  <a:pt x="13383" y="13751"/>
                  <a:pt x="13383" y="12828"/>
                </a:cubicBezTo>
                <a:lnTo>
                  <a:pt x="13383" y="7493"/>
                </a:lnTo>
                <a:lnTo>
                  <a:pt x="11547" y="7493"/>
                </a:lnTo>
                <a:lnTo>
                  <a:pt x="15054" y="3985"/>
                </a:lnTo>
                <a:lnTo>
                  <a:pt x="18727" y="7493"/>
                </a:lnTo>
                <a:lnTo>
                  <a:pt x="16891" y="7493"/>
                </a:lnTo>
                <a:lnTo>
                  <a:pt x="16891" y="12828"/>
                </a:lnTo>
                <a:cubicBezTo>
                  <a:pt x="16891" y="15596"/>
                  <a:pt x="14314" y="18155"/>
                  <a:pt x="11547" y="18155"/>
                </a:cubicBezTo>
                <a:lnTo>
                  <a:pt x="9884" y="18155"/>
                </a:lnTo>
                <a:cubicBezTo>
                  <a:pt x="7117" y="18155"/>
                  <a:pt x="4540" y="15596"/>
                  <a:pt x="4540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9280" y="685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E83-C895-471C-A74F-F0E49FCEB244}" type="slidenum">
              <a:t>28</a:t>
            </a:fld>
          </a:p>
        </p:txBody>
      </p:sp>
    </p:spTree>
  </p:cSld>
  <p:transition>
    <p:circl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304722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Подведём итог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акому празднику был посвящён наш устный журн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огда он отме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акой знак является символом празд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Что изображено на флаге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акие мероприятия проводятся в России и других странах к этому празднику - «День Земл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Что мы с Вами можем сделать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 деле защиты окружающей среды?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236-3629-4E36-B95E-F73345187794}" type="slidenum">
              <a:t>29</a:t>
            </a:fld>
          </a:p>
        </p:txBody>
      </p:sp>
    </p:spTree>
  </p:cSld>
  <p:transition>
    <p:circle/>
    <p:sndAc>
      <p:stSnd>
        <p:snd r:embed="rId2" name="chimes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048360" cy="573264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62200" y="260280"/>
            <a:ext cx="50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2 апреля</a:t>
            </a: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– День</a:t>
            </a: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314-5F8B-4E44-BC9D-55D0CBAC840F}" type="slidenum">
              <a:t>3</a:t>
            </a:fld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31640" y="2205000"/>
            <a:ext cx="620244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рисуйте плак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ли рисунок на тему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«День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473-7647-4AE5-A7B3-C154B1950EE5}" type="slidenum">
              <a:t>30</a:t>
            </a:fld>
          </a:p>
        </p:txBody>
      </p:sp>
    </p:spTree>
  </p:cSld>
  <p:transition>
    <p:circle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5950080"/>
            <a:ext cx="781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4154760" cy="52563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3" name=""/>
          <p:cNvSpPr/>
          <p:nvPr/>
        </p:nvSpPr>
        <p:spPr>
          <a:xfrm>
            <a:off x="5292720" y="2852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плак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«Красная книг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F23-040A-4142-8524-84885EB2C952}" type="slidenum">
              <a:t>31</a:t>
            </a:fld>
          </a:p>
        </p:txBody>
      </p:sp>
    </p:spTree>
  </p:cSld>
  <p:transition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4920" y="5805000"/>
            <a:ext cx="7056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4000320" cy="532764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7" name=""/>
          <p:cNvSpPr/>
          <p:nvPr/>
        </p:nvSpPr>
        <p:spPr>
          <a:xfrm>
            <a:off x="4643280" y="2492280"/>
            <a:ext cx="45007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"Мне трудно дышать"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0CB-6083-4A20-9398-94A4C4AE7BC3}" type="slidenum">
              <a:t>32</a:t>
            </a:fld>
          </a:p>
        </p:txBody>
      </p:sp>
    </p:spTree>
  </p:cSld>
  <p:transition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Плакат "День Земли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5112000" cy="416412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551628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F3A-D7AF-42B3-A946-3708004149A9}" type="slidenum">
              <a:t>33</a:t>
            </a:fld>
          </a:p>
        </p:txBody>
      </p:sp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05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«Красота Земли мо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5329440" cy="398448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5" name=""/>
          <p:cNvSpPr/>
          <p:nvPr/>
        </p:nvSpPr>
        <p:spPr>
          <a:xfrm>
            <a:off x="395280" y="5661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8360" y="6165720"/>
            <a:ext cx="504720" cy="4302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338" h="21600">
                <a:moveTo>
                  <a:pt x="0" y="0"/>
                </a:moveTo>
                <a:lnTo>
                  <a:pt x="25338" y="0"/>
                </a:lnTo>
                <a:lnTo>
                  <a:pt x="25338" y="21600"/>
                </a:lnTo>
                <a:lnTo>
                  <a:pt x="0" y="21600"/>
                </a:lnTo>
                <a:close/>
              </a:path>
              <a:path fill="lightenLess" w="25338" h="21600">
                <a:moveTo>
                  <a:pt x="0" y="0"/>
                </a:moveTo>
                <a:lnTo>
                  <a:pt x="25338" y="0"/>
                </a:lnTo>
                <a:lnTo>
                  <a:pt x="23938" y="1400"/>
                </a:lnTo>
                <a:lnTo>
                  <a:pt x="1400" y="1400"/>
                </a:lnTo>
                <a:close/>
              </a:path>
              <a:path fill="darken" w="25338" h="21600">
                <a:moveTo>
                  <a:pt x="25338" y="0"/>
                </a:moveTo>
                <a:lnTo>
                  <a:pt x="25338" y="21600"/>
                </a:lnTo>
                <a:lnTo>
                  <a:pt x="23938" y="20200"/>
                </a:lnTo>
                <a:lnTo>
                  <a:pt x="23938" y="1400"/>
                </a:lnTo>
                <a:close/>
              </a:path>
              <a:path fill="darkenLess" w="25338" h="21600">
                <a:moveTo>
                  <a:pt x="25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8" y="20200"/>
                </a:lnTo>
                <a:close/>
              </a:path>
              <a:path fill="lighten" w="25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8" h="21600">
                <a:moveTo>
                  <a:pt x="12669" y="3837"/>
                </a:moveTo>
                <a:lnTo>
                  <a:pt x="15246" y="6448"/>
                </a:ln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lnTo>
                  <a:pt x="19632" y="10800"/>
                </a:lnTo>
                <a:lnTo>
                  <a:pt x="17978" y="10800"/>
                </a:lnTo>
                <a:lnTo>
                  <a:pt x="17978" y="17989"/>
                </a:lnTo>
                <a:lnTo>
                  <a:pt x="7360" y="17989"/>
                </a:lnTo>
                <a:lnTo>
                  <a:pt x="7360" y="10800"/>
                </a:lnTo>
                <a:lnTo>
                  <a:pt x="5706" y="10800"/>
                </a:lnTo>
                <a:close/>
              </a:path>
              <a:path fill="darkenLess" w="25338" h="21600">
                <a:moveTo>
                  <a:pt x="15246" y="6448"/>
                </a:move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close/>
              </a:path>
              <a:path fill="darkenLess" w="25338" h="21600">
                <a:moveTo>
                  <a:pt x="11747" y="14299"/>
                </a:moveTo>
                <a:lnTo>
                  <a:pt x="13592" y="14299"/>
                </a:lnTo>
                <a:lnTo>
                  <a:pt x="13592" y="17989"/>
                </a:lnTo>
                <a:lnTo>
                  <a:pt x="17978" y="17989"/>
                </a:lnTo>
                <a:lnTo>
                  <a:pt x="17978" y="10800"/>
                </a:lnTo>
                <a:lnTo>
                  <a:pt x="7360" y="10800"/>
                </a:lnTo>
                <a:lnTo>
                  <a:pt x="7360" y="17989"/>
                </a:lnTo>
                <a:lnTo>
                  <a:pt x="11747" y="1798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EE6-8749-4219-AF23-17329E815588}" type="slidenum">
              <a:t>34</a:t>
            </a:fld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776920"/>
            <a:ext cx="777564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дьба планеты Земля в наших руках!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D59-2C78-44D0-A3EC-42C51BBCFEDF}" type="slidenum">
              <a:t>4</a:t>
            </a:fld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539640" y="33336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О празд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«День зем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539640" y="148428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имв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праз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539640" y="270828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Флаг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4" action="ppaction://hlinksldjump"/>
          </p:cNvPr>
          <p:cNvSpPr/>
          <p:nvPr/>
        </p:nvSpPr>
        <p:spPr>
          <a:xfrm>
            <a:off x="539640" y="393372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5" action="ppaction://hlinksldjump"/>
          </p:cNvPr>
          <p:cNvSpPr/>
          <p:nvPr/>
        </p:nvSpPr>
        <p:spPr>
          <a:xfrm>
            <a:off x="539640" y="515772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6" action="ppaction://hlinksldjump"/>
          </p:cNvPr>
          <p:cNvSpPr/>
          <p:nvPr/>
        </p:nvSpPr>
        <p:spPr>
          <a:xfrm>
            <a:off x="4500720" y="333360"/>
            <a:ext cx="3960720" cy="936720"/>
          </a:xfrm>
          <a:custGeom>
            <a:avLst/>
            <a:gdLst>
              <a:gd name="textAreaLeft" fmla="*/ 60480 w 3960720"/>
              <a:gd name="textAreaRight" fmla="*/ 3900240 w 3960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91304" h="21600">
                <a:moveTo>
                  <a:pt x="0" y="0"/>
                </a:moveTo>
                <a:lnTo>
                  <a:pt x="91304" y="0"/>
                </a:lnTo>
                <a:lnTo>
                  <a:pt x="91304" y="21600"/>
                </a:lnTo>
                <a:lnTo>
                  <a:pt x="0" y="21600"/>
                </a:lnTo>
                <a:close/>
              </a:path>
              <a:path fill="lightenLess" w="91304" h="21600">
                <a:moveTo>
                  <a:pt x="0" y="0"/>
                </a:moveTo>
                <a:lnTo>
                  <a:pt x="91304" y="0"/>
                </a:lnTo>
                <a:lnTo>
                  <a:pt x="89904" y="1400"/>
                </a:lnTo>
                <a:lnTo>
                  <a:pt x="1400" y="1400"/>
                </a:lnTo>
                <a:close/>
              </a:path>
              <a:path fill="darken" w="91304" h="21600">
                <a:moveTo>
                  <a:pt x="91304" y="0"/>
                </a:moveTo>
                <a:lnTo>
                  <a:pt x="91304" y="21600"/>
                </a:lnTo>
                <a:lnTo>
                  <a:pt x="89904" y="20200"/>
                </a:lnTo>
                <a:lnTo>
                  <a:pt x="89904" y="1400"/>
                </a:lnTo>
                <a:close/>
              </a:path>
              <a:path fill="darkenLess" w="91304" h="21600">
                <a:moveTo>
                  <a:pt x="91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904" y="20200"/>
                </a:lnTo>
                <a:close/>
              </a:path>
              <a:path fill="lighten" w="91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Физкультминутка-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«Да, н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7" action="ppaction://hlinksldjump"/>
          </p:cNvPr>
          <p:cNvSpPr/>
          <p:nvPr/>
        </p:nvSpPr>
        <p:spPr>
          <a:xfrm>
            <a:off x="5219640" y="1484280"/>
            <a:ext cx="3241800" cy="936720"/>
          </a:xfrm>
          <a:custGeom>
            <a:avLst/>
            <a:gdLst>
              <a:gd name="textAreaLeft" fmla="*/ 60480 w 3241800"/>
              <a:gd name="textAreaRight" fmla="*/ 3181320 w 32418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74733" h="21600">
                <a:moveTo>
                  <a:pt x="0" y="0"/>
                </a:moveTo>
                <a:lnTo>
                  <a:pt x="74733" y="0"/>
                </a:lnTo>
                <a:lnTo>
                  <a:pt x="74733" y="21600"/>
                </a:lnTo>
                <a:lnTo>
                  <a:pt x="0" y="21600"/>
                </a:lnTo>
                <a:close/>
              </a:path>
              <a:path fill="lightenLess" w="74733" h="21600">
                <a:moveTo>
                  <a:pt x="0" y="0"/>
                </a:moveTo>
                <a:lnTo>
                  <a:pt x="74733" y="0"/>
                </a:lnTo>
                <a:lnTo>
                  <a:pt x="73333" y="1400"/>
                </a:lnTo>
                <a:lnTo>
                  <a:pt x="1400" y="1400"/>
                </a:lnTo>
                <a:close/>
              </a:path>
              <a:path fill="darken" w="74733" h="21600">
                <a:moveTo>
                  <a:pt x="74733" y="0"/>
                </a:moveTo>
                <a:lnTo>
                  <a:pt x="74733" y="21600"/>
                </a:lnTo>
                <a:lnTo>
                  <a:pt x="73333" y="20200"/>
                </a:lnTo>
                <a:lnTo>
                  <a:pt x="73333" y="1400"/>
                </a:lnTo>
                <a:close/>
              </a:path>
              <a:path fill="darkenLess" w="74733" h="21600">
                <a:moveTo>
                  <a:pt x="747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333" y="20200"/>
                </a:lnTo>
                <a:close/>
              </a:path>
              <a:path fill="lighten" w="747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«Знатоки прир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3716280"/>
            <a:ext cx="2376360" cy="936720"/>
          </a:xfrm>
          <a:custGeom>
            <a:avLst/>
            <a:gdLst>
              <a:gd name="textAreaLeft" fmla="*/ 60480 w 2376360"/>
              <a:gd name="textAreaRight" fmla="*/ 2315880 w 2376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84" h="21600">
                <a:moveTo>
                  <a:pt x="0" y="0"/>
                </a:moveTo>
                <a:lnTo>
                  <a:pt x="54784" y="0"/>
                </a:lnTo>
                <a:lnTo>
                  <a:pt x="54784" y="21600"/>
                </a:lnTo>
                <a:lnTo>
                  <a:pt x="0" y="21600"/>
                </a:lnTo>
                <a:close/>
              </a:path>
              <a:path fill="lightenLess" w="54784" h="21600">
                <a:moveTo>
                  <a:pt x="0" y="0"/>
                </a:moveTo>
                <a:lnTo>
                  <a:pt x="54784" y="0"/>
                </a:lnTo>
                <a:lnTo>
                  <a:pt x="53384" y="1400"/>
                </a:lnTo>
                <a:lnTo>
                  <a:pt x="1400" y="1400"/>
                </a:lnTo>
                <a:close/>
              </a:path>
              <a:path fill="darken" w="54784" h="21600">
                <a:moveTo>
                  <a:pt x="54784" y="0"/>
                </a:moveTo>
                <a:lnTo>
                  <a:pt x="54784" y="21600"/>
                </a:lnTo>
                <a:lnTo>
                  <a:pt x="53384" y="20200"/>
                </a:lnTo>
                <a:lnTo>
                  <a:pt x="53384" y="1400"/>
                </a:lnTo>
                <a:close/>
              </a:path>
              <a:path fill="darkenLess" w="54784" h="21600">
                <a:moveTo>
                  <a:pt x="54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84" y="20200"/>
                </a:lnTo>
                <a:close/>
              </a:path>
              <a:path fill="lighten" w="54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 праздн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Земл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4797360"/>
            <a:ext cx="2448000" cy="935280"/>
          </a:xfrm>
          <a:custGeom>
            <a:avLst/>
            <a:gdLst>
              <a:gd name="textAreaLeft" fmla="*/ 60480 w 2448000"/>
              <a:gd name="textAreaRight" fmla="*/ 2387520 w 244800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6522" h="21600">
                <a:moveTo>
                  <a:pt x="0" y="0"/>
                </a:moveTo>
                <a:lnTo>
                  <a:pt x="56522" y="0"/>
                </a:lnTo>
                <a:lnTo>
                  <a:pt x="56522" y="21600"/>
                </a:lnTo>
                <a:lnTo>
                  <a:pt x="0" y="21600"/>
                </a:lnTo>
                <a:close/>
              </a:path>
              <a:path fill="lightenLess" w="56522" h="21600">
                <a:moveTo>
                  <a:pt x="0" y="0"/>
                </a:moveTo>
                <a:lnTo>
                  <a:pt x="56522" y="0"/>
                </a:lnTo>
                <a:lnTo>
                  <a:pt x="55122" y="1400"/>
                </a:lnTo>
                <a:lnTo>
                  <a:pt x="1400" y="1400"/>
                </a:lnTo>
                <a:close/>
              </a:path>
              <a:path fill="darken" w="56522" h="21600">
                <a:moveTo>
                  <a:pt x="56522" y="0"/>
                </a:moveTo>
                <a:lnTo>
                  <a:pt x="56522" y="21600"/>
                </a:lnTo>
                <a:lnTo>
                  <a:pt x="55122" y="20200"/>
                </a:lnTo>
                <a:lnTo>
                  <a:pt x="55122" y="1400"/>
                </a:lnTo>
                <a:close/>
              </a:path>
              <a:path fill="darkenLess" w="56522" h="21600">
                <a:moveTo>
                  <a:pt x="565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122" y="20200"/>
                </a:lnTo>
                <a:close/>
              </a:path>
              <a:path fill="lighten" w="565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Подведём ит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3564000" y="2997360"/>
            <a:ext cx="1800000" cy="12603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3" name=""/>
          <p:cNvSpPr/>
          <p:nvPr/>
        </p:nvSpPr>
        <p:spPr>
          <a:xfrm>
            <a:off x="8388360" y="6165720"/>
            <a:ext cx="504720" cy="4302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338" h="21600">
                <a:moveTo>
                  <a:pt x="0" y="0"/>
                </a:moveTo>
                <a:lnTo>
                  <a:pt x="25338" y="0"/>
                </a:lnTo>
                <a:lnTo>
                  <a:pt x="25338" y="21600"/>
                </a:lnTo>
                <a:lnTo>
                  <a:pt x="0" y="21600"/>
                </a:lnTo>
                <a:close/>
              </a:path>
              <a:path fill="lightenLess" w="25338" h="21600">
                <a:moveTo>
                  <a:pt x="0" y="0"/>
                </a:moveTo>
                <a:lnTo>
                  <a:pt x="25338" y="0"/>
                </a:lnTo>
                <a:lnTo>
                  <a:pt x="23938" y="1400"/>
                </a:lnTo>
                <a:lnTo>
                  <a:pt x="1400" y="1400"/>
                </a:lnTo>
                <a:close/>
              </a:path>
              <a:path fill="darken" w="25338" h="21600">
                <a:moveTo>
                  <a:pt x="25338" y="0"/>
                </a:moveTo>
                <a:lnTo>
                  <a:pt x="25338" y="21600"/>
                </a:lnTo>
                <a:lnTo>
                  <a:pt x="23938" y="20200"/>
                </a:lnTo>
                <a:lnTo>
                  <a:pt x="23938" y="1400"/>
                </a:lnTo>
                <a:close/>
              </a:path>
              <a:path fill="darkenLess" w="25338" h="21600">
                <a:moveTo>
                  <a:pt x="25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8" y="20200"/>
                </a:lnTo>
                <a:close/>
              </a:path>
              <a:path fill="lighten" w="25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8" h="21600">
                <a:moveTo>
                  <a:pt x="12669" y="3837"/>
                </a:moveTo>
                <a:lnTo>
                  <a:pt x="15246" y="6448"/>
                </a:ln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lnTo>
                  <a:pt x="19632" y="10800"/>
                </a:lnTo>
                <a:lnTo>
                  <a:pt x="17978" y="10800"/>
                </a:lnTo>
                <a:lnTo>
                  <a:pt x="17978" y="17989"/>
                </a:lnTo>
                <a:lnTo>
                  <a:pt x="7360" y="17989"/>
                </a:lnTo>
                <a:lnTo>
                  <a:pt x="7360" y="10800"/>
                </a:lnTo>
                <a:lnTo>
                  <a:pt x="5706" y="10800"/>
                </a:lnTo>
                <a:close/>
              </a:path>
              <a:path fill="darkenLess" w="25338" h="21600">
                <a:moveTo>
                  <a:pt x="15246" y="6448"/>
                </a:move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close/>
              </a:path>
              <a:path fill="darkenLess" w="25338" h="21600">
                <a:moveTo>
                  <a:pt x="11747" y="14299"/>
                </a:moveTo>
                <a:lnTo>
                  <a:pt x="13592" y="14299"/>
                </a:lnTo>
                <a:lnTo>
                  <a:pt x="13592" y="17989"/>
                </a:lnTo>
                <a:lnTo>
                  <a:pt x="17978" y="17989"/>
                </a:lnTo>
                <a:lnTo>
                  <a:pt x="17978" y="10800"/>
                </a:lnTo>
                <a:lnTo>
                  <a:pt x="7360" y="10800"/>
                </a:lnTo>
                <a:lnTo>
                  <a:pt x="7360" y="17989"/>
                </a:lnTo>
                <a:lnTo>
                  <a:pt x="11747" y="1798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2637000"/>
            <a:ext cx="2879640" cy="865080"/>
          </a:xfrm>
          <a:custGeom>
            <a:avLst/>
            <a:gdLst>
              <a:gd name="textAreaLeft" fmla="*/ 55800 w 2879640"/>
              <a:gd name="textAreaRight" fmla="*/ 2823840 w 287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71880" h="21600">
                <a:moveTo>
                  <a:pt x="0" y="0"/>
                </a:moveTo>
                <a:lnTo>
                  <a:pt x="71880" y="0"/>
                </a:lnTo>
                <a:lnTo>
                  <a:pt x="71880" y="21600"/>
                </a:lnTo>
                <a:lnTo>
                  <a:pt x="0" y="21600"/>
                </a:lnTo>
                <a:close/>
              </a:path>
              <a:path fill="lightenLess" w="71880" h="21600">
                <a:moveTo>
                  <a:pt x="0" y="0"/>
                </a:moveTo>
                <a:lnTo>
                  <a:pt x="71880" y="0"/>
                </a:lnTo>
                <a:lnTo>
                  <a:pt x="70480" y="1400"/>
                </a:lnTo>
                <a:lnTo>
                  <a:pt x="1400" y="1400"/>
                </a:lnTo>
                <a:close/>
              </a:path>
              <a:path fill="darken" w="71880" h="21600">
                <a:moveTo>
                  <a:pt x="71880" y="0"/>
                </a:moveTo>
                <a:lnTo>
                  <a:pt x="71880" y="21600"/>
                </a:lnTo>
                <a:lnTo>
                  <a:pt x="70480" y="20200"/>
                </a:lnTo>
                <a:lnTo>
                  <a:pt x="70480" y="1400"/>
                </a:lnTo>
                <a:close/>
              </a:path>
              <a:path fill="darkenLess" w="71880" h="21600">
                <a:moveTo>
                  <a:pt x="71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80" y="20200"/>
                </a:lnTo>
                <a:close/>
              </a:path>
              <a:path fill="lighten" w="71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Игра «Угадай-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46E-820F-4438-AAA1-BFDFF2ECDA7F}" type="slidenum">
              <a:t>5</a:t>
            </a:fld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30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День Зем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это гражданская инициати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которая призвана объединять всё население планеты в деле защиты окружающей среды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484360" y="2782800"/>
            <a:ext cx="3743280" cy="373248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A2D-6DE4-4F20-AC60-40DF2152AB51}" type="slidenum">
              <a:t>6</a:t>
            </a:fld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680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азвани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ень Зем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(англ. </a:t>
            </a:r>
            <a:r>
              <a:rPr b="0" i="1" lang="en" sz="2800" spc="-1" strike="noStrike">
                <a:solidFill>
                  <a:srgbClr val="003399"/>
                </a:solidFill>
                <a:latin typeface="Arial"/>
              </a:rPr>
              <a:t>Earth Day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—используется по отношению к различным мероприятиям, проводящимся весной 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призванным побудить людей быть внимательнее к хрупкой и уязвимой окружающей среде на планете Зем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4056120" cy="40557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"/>
          <p:cNvSpPr/>
          <p:nvPr/>
        </p:nvSpPr>
        <p:spPr>
          <a:xfrm>
            <a:off x="8532720" y="4437000"/>
            <a:ext cx="360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A6D-051E-459C-97D0-3D46BE9E0AC9}" type="slidenum">
              <a:t>7</a:t>
            </a:fld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5327640" cy="342252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ервая всемирная а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ошла в США 22 апреля 1970 года, в  память об экологической катастрофе на территории США в 1969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2E2-A8C5-4FF4-B592-AC3D5153D4D7}" type="slidenum">
              <a:t>8</a:t>
            </a:fld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Международный день Земли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провозглашен Генеральным секретарем ООН в марте 1971 года. Отмечается ежегодно в день весеннего равноденствия 22 апреля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79640" y="2637000"/>
            <a:ext cx="5040360" cy="378144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7AE-74AC-4FD1-9646-E483DD2BDE65}" type="slidenum">
              <a:t>9</a:t>
            </a:fld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5:43Z</dcterms:created>
  <dc:creator>Елена</dc:creator>
  <dc:description/>
  <dc:language>en-US</dc:language>
  <cp:lastModifiedBy>Алсу</cp:lastModifiedBy>
  <dcterms:modified xsi:type="dcterms:W3CDTF">2011-04-25T17:24:25Z</dcterms:modified>
  <cp:revision>224</cp:revision>
  <dc:subject/>
  <dc:title>День Земли</dc:title>
</cp:coreProperties>
</file>