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7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1D5-E0AB-42A3-B43C-591E2401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C0D-CF0C-4F63-B2E7-C315E392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372-B38F-492C-B94E-44AC5602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AAD-7CF9-428C-9DA9-B42D2D52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A5BD-1048-407A-AD59-D3C35A48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F95C-5454-4ADA-9F59-BF05CD40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DD7A-36DD-45B8-9080-2838B919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96DD-9966-446D-8AB8-2468DA4C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7013-B651-4693-9B3D-306EFCCC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09ED-E751-41F6-A614-AA462051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EBD1-0D3F-42CD-A905-5F9C4EA0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750F-8E74-4D16-882D-BCB04E49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0E80-96C7-4B2E-B5E2-43C003DE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3259-E34D-4E8F-A228-4D12B58B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FF26-6B2C-4E39-9789-7B21A75C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EF4A-E583-4D33-8661-7F669C62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4055-0DA3-4375-8DDB-438A1FC1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FE6A7-529D-4A9D-849B-C02B3A07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DE945-3DD6-40C4-8A7C-44D57C2F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6CCFA-8378-46DE-BB18-3304B80A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B5A0F-9357-42A2-9F42-8063848F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50C23-6F8B-4751-AC7F-D5D0C4AF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1AC-E1FE-4958-A828-E1A42FFA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AA6D-19A3-416A-A62F-C6D69C6D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2B65E-22EB-44E1-8635-B5B84EE6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E9C62-3A72-4443-AD58-432D79AC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61FD-C89C-44DC-A4B2-9696CAD2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1348C-2889-455C-829F-9EB48F29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028CA-4582-48D0-845D-3EB8CC96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8CDA-9AD6-415A-B586-F4576D43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60E34-5639-4B6E-BCDF-0051AA10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B722F-D900-485E-B9BE-C5C74044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14488-36B4-4539-AF60-A76060C3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0E1-A1B4-46DB-A219-E73C7941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DEBC0-D1BF-4AF9-95CB-4374D16F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50AB5-11F2-4D11-B119-6129C0E7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5BAC0-3101-43E6-8927-043BD152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5596C-9566-4696-B0FF-E3172865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876FB-C694-4D0F-8E6A-7469CAEF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42B7C-1206-471D-B3D1-7C6A8738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1D31C-6F17-4849-B98A-346F091E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8F93F-A4A4-4AB1-BBA4-02069E8D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CE6DF-820F-4180-B3F8-E06C7425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BFCE0-7AA7-4CE4-A95F-F7E59D4D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CAC3-33B8-4D8E-AC2A-C0B77E34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78577-AAA0-4BEC-B3B4-40D59F99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AD5B8-F070-40B9-80E1-3A6F277D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8CC92-B522-4D19-82BE-B3C90878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1073A-A5E2-4F0E-B3CF-D30D4991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898B6-F473-4BBD-BA19-3C8EC069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BE8F1-8ED0-463F-AB63-1F9B898D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95766-7529-46BA-9409-95759F10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E1A62-72C9-44A8-A40B-18A38CFD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2907D-06CF-4107-87BB-183FF900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F0EA9-9421-482A-BD9F-BF831107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F56B-A0BB-41EE-90ED-AE6B6000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82447-79CA-457F-A387-0E62659C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1A5C5-A7C5-4ACA-9906-2402B3F3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2C818-7E95-4165-A765-C360374D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0C0FF-6E38-44B6-B99B-0CCB2568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5D433-D627-488C-BA82-E367C77B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93595-BE58-4128-B2B1-C0AA18A9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F7997-1307-4284-A1F1-30D276BF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89564-4968-41BC-B04B-87A793A1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9473F-7DA2-48BE-AB1B-48DB62C6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74E57-9B6F-4337-BB45-CA9A463D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D64-9C88-4CF6-B2B0-5389FF75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90285-30DA-4636-858E-BB2E31F0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F2063-02CC-40CB-8DC7-C23806BD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24E33-E3BE-4D42-BBA5-B99BDA95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6E028-1849-40C2-AF55-AE3DE285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7B4E0-A8E9-423E-BC29-1B74BA1C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9DDA8-6717-4B66-A145-D7FF4A59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20EC4-F9A5-4C0D-AB49-E4CDAA6F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420A6-110B-4C25-A384-957C6250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20E32-36B0-47CD-908C-42AE30BE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12639-05C3-4B76-9A8F-FDC1F3B5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B5C-FABB-44C5-8359-974FCBD5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30AA2-26A8-4320-BD2D-93C78A51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E636D-11F3-44A7-BDA8-CDBC2B10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AE294-041B-4626-9375-1518AA57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58CE6-2EC1-4090-9FEB-93B0931E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88ECB-21F2-4A13-92C4-4884F127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893-F498-4300-B78E-3C5F3E77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81B4-0095-4103-8565-4FE6FDBF011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5A87-B8BC-447A-B00F-53063FC9D4D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E52D-892E-444E-8571-5AE7813668B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1AE4-C2FE-432A-9A01-E29AB94E0B8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B5BA-5140-4041-B73C-21CC732B764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1488-7ACF-4443-A595-268DC4E1B9F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08BE-65F1-4337-8F37-1221E7AD9C9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23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480" y="1071360"/>
            <a:ext cx="77151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4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Народный коми орнамент.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13920" y="4785840"/>
            <a:ext cx="792972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читель начальных классов МБОУ «СОШ №1» г.Емвы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шакова Ирина Рызеевн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4592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спредели орнаменты по группам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TextBox 2"/>
          <p:cNvSpPr/>
          <p:nvPr/>
        </p:nvSpPr>
        <p:spPr>
          <a:xfrm>
            <a:off x="1285920" y="12859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3"/>
          <p:cNvSpPr/>
          <p:nvPr/>
        </p:nvSpPr>
        <p:spPr>
          <a:xfrm>
            <a:off x="4143240" y="12859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4"/>
          <p:cNvSpPr/>
          <p:nvPr/>
        </p:nvSpPr>
        <p:spPr>
          <a:xfrm>
            <a:off x="6357960" y="128592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143000" y="1928880"/>
            <a:ext cx="1079640" cy="12747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2357280" y="1928880"/>
            <a:ext cx="1000440" cy="1285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"/>
          <p:cNvPicPr/>
          <p:nvPr/>
        </p:nvPicPr>
        <p:blipFill>
          <a:blip r:embed="rId3"/>
          <a:stretch/>
        </p:blipFill>
        <p:spPr>
          <a:xfrm>
            <a:off x="3500280" y="192888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"/>
          <p:cNvPicPr/>
          <p:nvPr/>
        </p:nvPicPr>
        <p:blipFill>
          <a:blip r:embed="rId4"/>
          <a:srcRect l="-2935" t="0" r="0" b="0"/>
          <a:stretch/>
        </p:blipFill>
        <p:spPr>
          <a:xfrm>
            <a:off x="4714920" y="19288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"/>
          <p:cNvPicPr/>
          <p:nvPr/>
        </p:nvPicPr>
        <p:blipFill>
          <a:blip r:embed="rId5"/>
          <a:stretch/>
        </p:blipFill>
        <p:spPr>
          <a:xfrm>
            <a:off x="6143760" y="192888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"/>
          <p:cNvPicPr/>
          <p:nvPr/>
        </p:nvPicPr>
        <p:blipFill>
          <a:blip r:embed="rId6"/>
          <a:stretch/>
        </p:blipFill>
        <p:spPr>
          <a:xfrm>
            <a:off x="7500960" y="1928880"/>
            <a:ext cx="1000080" cy="12859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"/>
          <p:cNvPicPr/>
          <p:nvPr/>
        </p:nvPicPr>
        <p:blipFill>
          <a:blip r:embed="rId7"/>
          <a:stretch/>
        </p:blipFill>
        <p:spPr>
          <a:xfrm>
            <a:off x="1643040" y="3500280"/>
            <a:ext cx="1143000" cy="1500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9" descr=""/>
          <p:cNvPicPr/>
          <p:nvPr/>
        </p:nvPicPr>
        <p:blipFill>
          <a:blip r:embed="rId8"/>
          <a:stretch/>
        </p:blipFill>
        <p:spPr>
          <a:xfrm>
            <a:off x="4929120" y="3500280"/>
            <a:ext cx="1071720" cy="15004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"/>
          <p:cNvPicPr/>
          <p:nvPr/>
        </p:nvPicPr>
        <p:blipFill>
          <a:blip r:embed="rId9"/>
          <a:stretch/>
        </p:blipFill>
        <p:spPr>
          <a:xfrm>
            <a:off x="3214800" y="3500280"/>
            <a:ext cx="1214280" cy="1500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1" descr=""/>
          <p:cNvPicPr/>
          <p:nvPr/>
        </p:nvPicPr>
        <p:blipFill>
          <a:blip r:embed="rId10"/>
          <a:stretch/>
        </p:blipFill>
        <p:spPr>
          <a:xfrm>
            <a:off x="6572160" y="3500280"/>
            <a:ext cx="114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45920" y="285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спредели орнаменты по группам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1143000" y="128592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ы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4000680" y="1285920"/>
            <a:ext cx="19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"/>
          <p:cNvSpPr/>
          <p:nvPr/>
        </p:nvSpPr>
        <p:spPr>
          <a:xfrm>
            <a:off x="6357960" y="1285920"/>
            <a:ext cx="22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7786800" y="4000680"/>
            <a:ext cx="1079280" cy="1285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5143680" y="19288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3"/>
          <a:stretch/>
        </p:blipFill>
        <p:spPr>
          <a:xfrm>
            <a:off x="7786800" y="19288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"/>
          <p:cNvPicPr/>
          <p:nvPr/>
        </p:nvPicPr>
        <p:blipFill>
          <a:blip r:embed="rId4"/>
          <a:srcRect l="-2924" t="0" r="0" b="0"/>
          <a:stretch/>
        </p:blipFill>
        <p:spPr>
          <a:xfrm>
            <a:off x="6500880" y="19288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5"/>
          <a:stretch/>
        </p:blipFill>
        <p:spPr>
          <a:xfrm>
            <a:off x="5286240" y="3929040"/>
            <a:ext cx="1000440" cy="12859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"/>
          <p:cNvPicPr/>
          <p:nvPr/>
        </p:nvPicPr>
        <p:blipFill>
          <a:blip r:embed="rId6"/>
          <a:stretch/>
        </p:blipFill>
        <p:spPr>
          <a:xfrm>
            <a:off x="3929040" y="4000680"/>
            <a:ext cx="1000080" cy="1285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7"/>
          <a:stretch/>
        </p:blipFill>
        <p:spPr>
          <a:xfrm>
            <a:off x="3857760" y="1928880"/>
            <a:ext cx="1000080" cy="1357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"/>
          <p:cNvPicPr/>
          <p:nvPr/>
        </p:nvPicPr>
        <p:blipFill>
          <a:blip r:embed="rId8"/>
          <a:stretch/>
        </p:blipFill>
        <p:spPr>
          <a:xfrm>
            <a:off x="6643800" y="4000680"/>
            <a:ext cx="857160" cy="1285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" descr=""/>
          <p:cNvPicPr/>
          <p:nvPr/>
        </p:nvPicPr>
        <p:blipFill>
          <a:blip r:embed="rId9"/>
          <a:stretch/>
        </p:blipFill>
        <p:spPr>
          <a:xfrm>
            <a:off x="1857240" y="1928880"/>
            <a:ext cx="1000440" cy="1285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"/>
          <p:cNvPicPr/>
          <p:nvPr/>
        </p:nvPicPr>
        <p:blipFill>
          <a:blip r:embed="rId10"/>
          <a:stretch/>
        </p:blipFill>
        <p:spPr>
          <a:xfrm>
            <a:off x="1857240" y="4000680"/>
            <a:ext cx="1000440" cy="13572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15"/>
          <p:cNvSpPr/>
          <p:nvPr/>
        </p:nvSpPr>
        <p:spPr>
          <a:xfrm>
            <a:off x="1863000" y="328608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жч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6"/>
          <p:cNvSpPr/>
          <p:nvPr/>
        </p:nvSpPr>
        <p:spPr>
          <a:xfrm>
            <a:off x="1857240" y="542916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нщ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7"/>
          <p:cNvSpPr/>
          <p:nvPr/>
        </p:nvSpPr>
        <p:spPr>
          <a:xfrm>
            <a:off x="3636720" y="3286080"/>
            <a:ext cx="145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га молод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е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8"/>
          <p:cNvSpPr/>
          <p:nvPr/>
        </p:nvSpPr>
        <p:spPr>
          <a:xfrm>
            <a:off x="6648840" y="542916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п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9"/>
          <p:cNvSpPr/>
          <p:nvPr/>
        </p:nvSpPr>
        <p:spPr>
          <a:xfrm>
            <a:off x="3711240" y="5429160"/>
            <a:ext cx="144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га взрос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е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0"/>
          <p:cNvSpPr/>
          <p:nvPr/>
        </p:nvSpPr>
        <p:spPr>
          <a:xfrm>
            <a:off x="5146920" y="542916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вьи р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1"/>
          <p:cNvSpPr/>
          <p:nvPr/>
        </p:nvSpPr>
        <p:spPr>
          <a:xfrm>
            <a:off x="5003280" y="328608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раньи р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2"/>
          <p:cNvSpPr/>
          <p:nvPr/>
        </p:nvSpPr>
        <p:spPr>
          <a:xfrm>
            <a:off x="7655040" y="542916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шейник оле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3"/>
          <p:cNvSpPr/>
          <p:nvPr/>
        </p:nvSpPr>
        <p:spPr>
          <a:xfrm>
            <a:off x="7551000" y="32860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шейник коро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4"/>
          <p:cNvSpPr/>
          <p:nvPr/>
        </p:nvSpPr>
        <p:spPr>
          <a:xfrm>
            <a:off x="6570720" y="328608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вез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Роспись рукавички элементами коми орнамента (работа учащихся)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4" name="Рисунок 2" descr="G:\Изображение.jpg"/>
          <p:cNvPicPr/>
          <p:nvPr/>
        </p:nvPicPr>
        <p:blipFill>
          <a:blip r:embed="rId1"/>
          <a:stretch/>
        </p:blipFill>
        <p:spPr>
          <a:xfrm>
            <a:off x="1714680" y="1714680"/>
            <a:ext cx="3071520" cy="235728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" descr="G:\Изображение 001.jpg"/>
          <p:cNvPicPr/>
          <p:nvPr/>
        </p:nvPicPr>
        <p:blipFill>
          <a:blip r:embed="rId2"/>
          <a:stretch/>
        </p:blipFill>
        <p:spPr>
          <a:xfrm>
            <a:off x="4000680" y="4214880"/>
            <a:ext cx="2643120" cy="214308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4" descr="G:\Изображение 002.jpg"/>
          <p:cNvPicPr/>
          <p:nvPr/>
        </p:nvPicPr>
        <p:blipFill>
          <a:blip r:embed="rId3"/>
          <a:stretch/>
        </p:blipFill>
        <p:spPr>
          <a:xfrm>
            <a:off x="5572080" y="1714680"/>
            <a:ext cx="3071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56840" y="785880"/>
            <a:ext cx="74977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Грибова Л.С. Декоративно-прикладное искусство народа коми.1980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сторико-культурный атлас Республики Коми. Москва. 1997.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.Традиционная культура народа коми. Этнографические очерки Сыктывкар.1994.</a:t>
            </a:r>
            <a:br>
              <a:rPr sz="2200"/>
            </a:br>
            <a:r>
              <a:rPr b="0" lang="ru-RU" sz="2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4.Климова Г. Текстильный орнамент коми.</a:t>
            </a:r>
            <a:br>
              <a:rPr sz="22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ы:</a:t>
            </a:r>
            <a:br>
              <a:rPr sz="2000"/>
            </a:br>
            <a:r>
              <a:rPr b="0" i="1" lang="ru-RU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to.mail.ru › Фото › НАЦИОНАЛЬНЫЕ КОСТЮМЫ 1/6 части 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85560" y="642600"/>
            <a:ext cx="7497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лубить представление учащихся о знаках-символах в народном коми орнаменте. </a:t>
            </a:r>
            <a:br>
              <a:rPr sz="2800"/>
            </a:br>
            <a:r>
              <a:rPr b="1" i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Развивающие задачи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 Развивать навык составления узоров из различных элемент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 Способствовать развитию воображения.</a:t>
            </a:r>
            <a:br>
              <a:rPr sz="2800"/>
            </a:br>
            <a:r>
              <a:rPr b="1" i="1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Воспитательные задачи: </a:t>
            </a:r>
            <a:r>
              <a:rPr b="0" lang="ru-RU" sz="3200" spc="-1" strike="noStrike">
                <a:solidFill>
                  <a:srgbClr val="35436a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Воспитывать аккуратнос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Вызвать интерес к искусству коми народа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142800" y="142920"/>
            <a:ext cx="4357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на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украшение изделия (вещи) различными геометрическими, растительными, животными элементами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centralImgId" descr="Фото Национальный костюм коми"/>
          <p:cNvPicPr/>
          <p:nvPr/>
        </p:nvPicPr>
        <p:blipFill>
          <a:blip r:embed="rId1"/>
          <a:srcRect l="11535" t="12482" r="21151" b="0"/>
          <a:stretch/>
        </p:blipFill>
        <p:spPr>
          <a:xfrm>
            <a:off x="1143000" y="142920"/>
            <a:ext cx="2214720" cy="478620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3" descr="D:\Мои документы\Дневник классного руководителя\Изображение.jpg"/>
          <p:cNvPicPr/>
          <p:nvPr/>
        </p:nvPicPr>
        <p:blipFill>
          <a:blip r:embed="rId2">
            <a:lum bright="-10000"/>
          </a:blip>
          <a:srcRect l="8657" t="10220" r="58472" b="64464"/>
          <a:stretch/>
        </p:blipFill>
        <p:spPr>
          <a:xfrm>
            <a:off x="7358040" y="2143080"/>
            <a:ext cx="1357200" cy="157176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4" descr="D:\Мои документы\Дневник классного руководителя\Копия Изображение.jpg"/>
          <p:cNvPicPr/>
          <p:nvPr/>
        </p:nvPicPr>
        <p:blipFill>
          <a:blip r:embed="rId3">
            <a:lum bright="-10000"/>
          </a:blip>
          <a:srcRect l="9462" t="40303" r="58794" b="31359"/>
          <a:stretch/>
        </p:blipFill>
        <p:spPr>
          <a:xfrm>
            <a:off x="7358040" y="285840"/>
            <a:ext cx="1357200" cy="15714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5" descr="D:\Мои документы\Дневник классного руководителя\Изображение 001.jpg"/>
          <p:cNvPicPr/>
          <p:nvPr/>
        </p:nvPicPr>
        <p:blipFill>
          <a:blip r:embed="rId4">
            <a:lum bright="-10000"/>
          </a:blip>
          <a:srcRect l="1448" t="45967" r="69384" b="5374"/>
          <a:stretch/>
        </p:blipFill>
        <p:spPr>
          <a:xfrm>
            <a:off x="3571920" y="4286160"/>
            <a:ext cx="1414440" cy="22860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6" descr="D:\Мои документы\Дневник классного руководителя\Изображение 001.jpg"/>
          <p:cNvPicPr/>
          <p:nvPr/>
        </p:nvPicPr>
        <p:blipFill>
          <a:blip r:embed="rId5">
            <a:lum bright="-10000"/>
          </a:blip>
          <a:srcRect l="37592" t="46969" r="35631" b="3689"/>
          <a:stretch/>
        </p:blipFill>
        <p:spPr>
          <a:xfrm>
            <a:off x="5429160" y="4286160"/>
            <a:ext cx="1440000" cy="228600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7" descr="D:\Мои документы\Дневник классного руководителя\Изображение 001.jpg"/>
          <p:cNvPicPr/>
          <p:nvPr/>
        </p:nvPicPr>
        <p:blipFill>
          <a:blip r:embed="rId6">
            <a:lum bright="-10000"/>
          </a:blip>
          <a:srcRect l="70828" t="47410" r="1742" b="3689"/>
          <a:stretch/>
        </p:blipFill>
        <p:spPr>
          <a:xfrm>
            <a:off x="7286760" y="4286160"/>
            <a:ext cx="1439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намент служил не только украшением, он выполнял и другие роли: предохранял от сглаза, выполнял магическое значение;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Рисунок 2" descr="G:\Изображение 003.jpg"/>
          <p:cNvPicPr/>
          <p:nvPr/>
        </p:nvPicPr>
        <p:blipFill>
          <a:blip r:embed="rId1"/>
          <a:srcRect l="10916" t="24611" r="13731" b="14818"/>
          <a:stretch/>
        </p:blipFill>
        <p:spPr>
          <a:xfrm>
            <a:off x="1643040" y="1857240"/>
            <a:ext cx="6715080" cy="328644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1000080" y="5208840"/>
            <a:ext cx="792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дельницы украшали орнаментом пояса. Пояс оберегал от нечистой силы, а охотнику помогал не заблудиться в лесу. Пояса были вязаные из шерсти, тканые из ниток, плетёные, кожаные; узкие и широ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3636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наментах встречаются простые геометрические элементы (мотивы): точки, квадраты, прямоугольники, ромбики, крестики, треугольники, диагональные линии. В более сложных узорах эти элементы комбинируются.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Рисунок 2" descr="G:\Изображение 004.jpg"/>
          <p:cNvPicPr/>
          <p:nvPr/>
        </p:nvPicPr>
        <p:blipFill>
          <a:blip r:embed="rId1"/>
          <a:srcRect l="12298" t="16152" r="24663" b="11652"/>
          <a:stretch/>
        </p:blipFill>
        <p:spPr>
          <a:xfrm>
            <a:off x="5643720" y="642960"/>
            <a:ext cx="27860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распространено было узорное вязание. Узор выглядит так, словно элементы орнамента разных цветов вкладываются один в другой. А для чего вывязывали узор? Вещь становилась теплее, и узор выполнял роль оберега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Рисунок 2" descr="G:\Изображение 005.jpg"/>
          <p:cNvPicPr/>
          <p:nvPr/>
        </p:nvPicPr>
        <p:blipFill>
          <a:blip r:embed="rId1"/>
          <a:stretch/>
        </p:blipFill>
        <p:spPr>
          <a:xfrm>
            <a:off x="1714680" y="2643120"/>
            <a:ext cx="1936440" cy="36003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G:\Изображение 007.jpg"/>
          <p:cNvPicPr/>
          <p:nvPr/>
        </p:nvPicPr>
        <p:blipFill>
          <a:blip r:embed="rId2"/>
          <a:stretch/>
        </p:blipFill>
        <p:spPr>
          <a:xfrm>
            <a:off x="4214880" y="2643120"/>
            <a:ext cx="1809720" cy="3600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4" descr="G:\Изображение 008.jpg"/>
          <p:cNvPicPr/>
          <p:nvPr/>
        </p:nvPicPr>
        <p:blipFill>
          <a:blip r:embed="rId3"/>
          <a:stretch/>
        </p:blipFill>
        <p:spPr>
          <a:xfrm>
            <a:off x="6643800" y="2643120"/>
            <a:ext cx="185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рнаменты можно разделить на несколько основных групп: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одни связаны с орудиями труда и другими предметами(зубья, пилы, крест,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мпас…)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1428840" y="3429000"/>
            <a:ext cx="7286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ругие относятся к представителям животного мира (рог, насекомые,…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643040" y="1357200"/>
            <a:ext cx="6715080" cy="249732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3"/>
          <p:cNvSpPr/>
          <p:nvPr/>
        </p:nvSpPr>
        <p:spPr>
          <a:xfrm>
            <a:off x="1143000" y="392904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етьи являются изображением растений (ёлочный узор, цветок, зерно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1428840" y="5072040"/>
            <a:ext cx="70722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четвёртые являлись изображением фигур людей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3071880" y="2357280"/>
            <a:ext cx="2714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8:30:11Z</dcterms:created>
  <dc:creator>Admin</dc:creator>
  <dc:description/>
  <dc:language>en-US</dc:language>
  <cp:lastModifiedBy>Учитель</cp:lastModifiedBy>
  <dcterms:modified xsi:type="dcterms:W3CDTF">2012-02-08T06:59:02Z</dcterms:modified>
  <cp:revision>19</cp:revision>
  <dc:subject/>
  <dc:title>Народный коми орнамент.</dc:title>
</cp:coreProperties>
</file>