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201-BEAF-4E87-AD47-B5D53F1A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2B5-EEA6-4CED-98BE-2FF3D41F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46A-30BE-4F99-9413-02A91FE7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821-B9A4-482E-84C0-9E89EE27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7AFC-28B1-40C4-9732-BF93D0DE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080E-E9B9-498E-8C39-97081F41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ECEC-1B89-4143-9316-7D85BC9D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D4E4-4A6D-45CF-A9FA-62D934F9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A5E4-CC31-4BDD-950E-69F9B363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933B-5C33-42B6-AC2C-55A5935D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0837-0195-4D3C-AE7B-112EFCD1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F9B-6D8F-4907-8F8C-97C6A32B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2063-7E47-4EE2-8711-20E74A07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8578-9324-478B-AB3E-A9153B40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2375-6A8F-4BF5-AF12-FA3FAFF1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2EED-CFB4-4044-9F19-095458C9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4487-E19B-49D7-8358-BF2B52BA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B3555-3A0C-4728-8A54-E73D5D48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6355-5E3B-4282-84A2-25B50F22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0FFED-A759-4A11-9631-F35ABE00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FED3-93DD-465F-B4DF-2DBC7179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2D6A-C64C-40FE-A61E-2900D210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736-28B4-42D9-AC23-89E4D560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2612-00E8-4C38-B2CA-79B53988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9048-5167-4275-A9D2-B5DFDD59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E87F-2B36-4210-8A25-E915AE5F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DC8F3-57EE-446E-A782-491AD43E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6F5D3-C959-4F6E-8FC2-6026E3CF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4A0C8-3643-4238-AF3D-5513C155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5624-D4BC-40EE-87B4-75DF55F4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7B41-C0E2-4663-A13C-75874C76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1325A-A512-4D66-82DF-E7DD4297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7FBE0-E942-470B-BED9-7F4B5726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2DC-C2C5-4BF8-BBDC-A1F5CEC1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DC32-95C0-4E94-A1D0-B224B56A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FD573-787B-4AD2-8830-45CDECC0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0CD58-E9EE-4781-92C7-B3CB62BF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C8FF-253D-43F8-8055-08469536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98C2B-8F87-4E2D-B5C5-086EC67D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43AC-367F-410D-8EB0-0B73D6E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F83C-552D-47B9-A871-A404AD3D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5A0A1-1B3C-493B-A4AF-B101832B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6B16-11E4-4523-9295-A54D2E60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FC205-94C0-4D71-89B0-9377C15F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DBC-99A0-4D76-9140-1A796C03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A5D1-9D6F-49B8-92E9-515604C2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13C6-12E2-4B4A-B5E5-3F588944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D8F3-FE47-463C-9CF6-A8550CB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15225-96AD-4525-9ECC-C0B9A7E6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CF567-07E8-47EF-83F9-B13C9DDF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F60A-13B6-41DF-A2AC-0696D56C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EDF63-864F-4DD7-BAE1-8C78C0FE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5EB90-2D2B-479F-821E-148E60A6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566B8-6AF3-4716-82B5-D2E3CB00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934F-3E89-41DD-AC1F-412A7702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CF1-6F73-497A-A094-99892B8B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ECAC9-D3E6-4A4A-AF32-03A05146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8CD12-C86C-4A8B-93B7-87B07ADF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E3A05-181A-4BFF-88A4-46792BF7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472E-19C0-4275-BD85-8CBF0946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F36ED-9087-4799-A0C2-F5371FF5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175F3-1FA8-4BB8-B98D-FA84B737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4F91-740B-47E4-8149-3597646F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E8367-F8B7-43E7-990B-0ED112DD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70F6A-2D91-40B1-BF7D-9BDB49EE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0E10C-BCA7-4E42-AD4A-256180F5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A2B-0F4A-4C61-991E-6DA62EE6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0BC6E-C385-459D-9A2D-78381535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A690C-E880-4E37-BC0C-B81B7645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0CB1C-034D-499B-B8D7-8283AE5E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AF238-BEF1-43B6-8531-C109593B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9EFFF-A580-45A1-B9C7-1ACD72F1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FC31E-E9F0-4FD2-9BBA-02E33E43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1157-43AD-4A61-B59A-CB099492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77809-B5A3-4D81-A17C-743D625C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ABB29-D43A-464B-8AC6-C59BE2BE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1751C-21F7-4F98-B0E7-CC091716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5E6-F4E6-4F51-96EB-FD2C4A5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4F834-56F3-434E-9A0B-FD041039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9C10B-7209-44E8-B346-117A3D27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A9604-649C-42DA-91AC-EDE85715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D661-948D-441F-96FC-8D873072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A3CB6-11D2-48EB-8509-6E254C39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341-A0A8-4525-AEF1-E79F7991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9408-B554-4020-8E39-4FCE67015C9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C49D-635F-49BD-AF22-FBAB362775A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AF5A-AE84-462E-BC4F-B0674BBD37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850B-C254-416C-815D-79AF2DA6D6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4828-A9BA-4FFE-B9D6-EA419A1E3BC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E4B0-5BD6-4380-8D78-F3EA922F97E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F6A1-CB05-49BB-B474-2E6C42AEF7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3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480" y="1071360"/>
            <a:ext cx="77151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Народный коми орнамент.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13920" y="4785840"/>
            <a:ext cx="79297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начальных классов МБОУ «СОШ №1» г.Емвы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шакова Ирина Рызеевн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4592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предели орнаменты по группам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1285920" y="12859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4143240" y="12859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6357960" y="12859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1079640" cy="1274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2357280" y="192888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3500280" y="192888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4"/>
          <a:srcRect l="-2935" t="0" r="0" b="0"/>
          <a:stretch/>
        </p:blipFill>
        <p:spPr>
          <a:xfrm>
            <a:off x="4714920" y="19288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5"/>
          <a:stretch/>
        </p:blipFill>
        <p:spPr>
          <a:xfrm>
            <a:off x="6143760" y="192888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"/>
          <p:cNvPicPr/>
          <p:nvPr/>
        </p:nvPicPr>
        <p:blipFill>
          <a:blip r:embed="rId6"/>
          <a:stretch/>
        </p:blipFill>
        <p:spPr>
          <a:xfrm>
            <a:off x="7500960" y="1928880"/>
            <a:ext cx="1000080" cy="1285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7"/>
          <a:stretch/>
        </p:blipFill>
        <p:spPr>
          <a:xfrm>
            <a:off x="1643040" y="3500280"/>
            <a:ext cx="1143000" cy="1500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8"/>
          <a:stretch/>
        </p:blipFill>
        <p:spPr>
          <a:xfrm>
            <a:off x="4929120" y="3500280"/>
            <a:ext cx="1071720" cy="1500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"/>
          <p:cNvPicPr/>
          <p:nvPr/>
        </p:nvPicPr>
        <p:blipFill>
          <a:blip r:embed="rId9"/>
          <a:stretch/>
        </p:blipFill>
        <p:spPr>
          <a:xfrm>
            <a:off x="3214800" y="3500280"/>
            <a:ext cx="1214280" cy="1500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"/>
          <p:cNvPicPr/>
          <p:nvPr/>
        </p:nvPicPr>
        <p:blipFill>
          <a:blip r:embed="rId10"/>
          <a:stretch/>
        </p:blipFill>
        <p:spPr>
          <a:xfrm>
            <a:off x="6572160" y="3500280"/>
            <a:ext cx="114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4592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предели орнаменты по группам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1143000" y="128592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ы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4000680" y="128592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6357960" y="12859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7786800" y="4000680"/>
            <a:ext cx="1079280" cy="1285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514368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3"/>
          <a:stretch/>
        </p:blipFill>
        <p:spPr>
          <a:xfrm>
            <a:off x="778680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4"/>
          <a:srcRect l="-2924" t="0" r="0" b="0"/>
          <a:stretch/>
        </p:blipFill>
        <p:spPr>
          <a:xfrm>
            <a:off x="650088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5"/>
          <a:stretch/>
        </p:blipFill>
        <p:spPr>
          <a:xfrm>
            <a:off x="5286240" y="392904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"/>
          <p:cNvPicPr/>
          <p:nvPr/>
        </p:nvPicPr>
        <p:blipFill>
          <a:blip r:embed="rId6"/>
          <a:stretch/>
        </p:blipFill>
        <p:spPr>
          <a:xfrm>
            <a:off x="3929040" y="4000680"/>
            <a:ext cx="1000080" cy="1285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7"/>
          <a:stretch/>
        </p:blipFill>
        <p:spPr>
          <a:xfrm>
            <a:off x="385776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"/>
          <p:cNvPicPr/>
          <p:nvPr/>
        </p:nvPicPr>
        <p:blipFill>
          <a:blip r:embed="rId8"/>
          <a:stretch/>
        </p:blipFill>
        <p:spPr>
          <a:xfrm>
            <a:off x="6643800" y="4000680"/>
            <a:ext cx="857160" cy="1285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"/>
          <p:cNvPicPr/>
          <p:nvPr/>
        </p:nvPicPr>
        <p:blipFill>
          <a:blip r:embed="rId9"/>
          <a:stretch/>
        </p:blipFill>
        <p:spPr>
          <a:xfrm>
            <a:off x="1857240" y="192888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"/>
          <p:cNvPicPr/>
          <p:nvPr/>
        </p:nvPicPr>
        <p:blipFill>
          <a:blip r:embed="rId10"/>
          <a:stretch/>
        </p:blipFill>
        <p:spPr>
          <a:xfrm>
            <a:off x="1857240" y="4000680"/>
            <a:ext cx="1000440" cy="1357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15"/>
          <p:cNvSpPr/>
          <p:nvPr/>
        </p:nvSpPr>
        <p:spPr>
          <a:xfrm>
            <a:off x="1863000" y="32860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жч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6"/>
          <p:cNvSpPr/>
          <p:nvPr/>
        </p:nvSpPr>
        <p:spPr>
          <a:xfrm>
            <a:off x="1857240" y="5429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нщ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7"/>
          <p:cNvSpPr/>
          <p:nvPr/>
        </p:nvSpPr>
        <p:spPr>
          <a:xfrm>
            <a:off x="3636720" y="3286080"/>
            <a:ext cx="145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га молод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8"/>
          <p:cNvSpPr/>
          <p:nvPr/>
        </p:nvSpPr>
        <p:spPr>
          <a:xfrm>
            <a:off x="6648840" y="542916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9"/>
          <p:cNvSpPr/>
          <p:nvPr/>
        </p:nvSpPr>
        <p:spPr>
          <a:xfrm>
            <a:off x="3711240" y="542916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га взрос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0"/>
          <p:cNvSpPr/>
          <p:nvPr/>
        </p:nvSpPr>
        <p:spPr>
          <a:xfrm>
            <a:off x="5146920" y="542916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вьи 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1"/>
          <p:cNvSpPr/>
          <p:nvPr/>
        </p:nvSpPr>
        <p:spPr>
          <a:xfrm>
            <a:off x="5003280" y="32860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раньи 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2"/>
          <p:cNvSpPr/>
          <p:nvPr/>
        </p:nvSpPr>
        <p:spPr>
          <a:xfrm>
            <a:off x="7655040" y="54291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шейник 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7551000" y="3286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шейник коро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570720" y="328608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вез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Роспись рукавички элементами коми орнамента (работа учащихся)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Рисунок 2" descr="G:\Изображение.jpg"/>
          <p:cNvPicPr/>
          <p:nvPr/>
        </p:nvPicPr>
        <p:blipFill>
          <a:blip r:embed="rId1"/>
          <a:stretch/>
        </p:blipFill>
        <p:spPr>
          <a:xfrm>
            <a:off x="1714680" y="1714680"/>
            <a:ext cx="3071520" cy="235728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G:\Изображение 001.jpg"/>
          <p:cNvPicPr/>
          <p:nvPr/>
        </p:nvPicPr>
        <p:blipFill>
          <a:blip r:embed="rId2"/>
          <a:stretch/>
        </p:blipFill>
        <p:spPr>
          <a:xfrm>
            <a:off x="4000680" y="421488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4" descr="G:\Изображение 002.jpg"/>
          <p:cNvPicPr/>
          <p:nvPr/>
        </p:nvPicPr>
        <p:blipFill>
          <a:blip r:embed="rId3"/>
          <a:stretch/>
        </p:blipFill>
        <p:spPr>
          <a:xfrm>
            <a:off x="5572080" y="1714680"/>
            <a:ext cx="3071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56840" y="785880"/>
            <a:ext cx="7497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ибова Л.С. Декоративно-прикладное искусство народа коми.1980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сторико-культурный атлас Республики Коми. Москва. 1997.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Традиционная культура народа коми. Этнографические очерки Сыктывкар.1994.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Климова Г. Текстильный орнамент коми.</a:t>
            </a:r>
            <a:br>
              <a:rPr sz="2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:</a:t>
            </a:r>
            <a:br>
              <a:rPr sz="2000"/>
            </a:br>
            <a:r>
              <a:rPr b="0" i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.mail.ru › Фото › НАЦИОНАЛЬНЫЕ КОСТЮМЫ 1/6 части 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85560" y="642600"/>
            <a:ext cx="7497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лубить представление учащихся о знаках-символах в народном коми орнаменте. </a:t>
            </a:r>
            <a:br>
              <a:rPr sz="2800"/>
            </a:br>
            <a:r>
              <a:rPr b="1" i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Развивающие 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 Развивать навык составления узоров из различных элемент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 Способствовать развитию воображения.</a:t>
            </a:r>
            <a:br>
              <a:rPr sz="2800"/>
            </a:br>
            <a:r>
              <a:rPr b="1" i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Воспитательные задачи: </a:t>
            </a:r>
            <a:r>
              <a:rPr b="0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оспитывать аккуратнос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Вызвать интерес к искусству коми народа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42800" y="142920"/>
            <a:ext cx="4357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а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украшение изделия (вещи) различными геометрическими, растительными, животными элементами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centralImgId" descr="Фото Национальный костюм коми"/>
          <p:cNvPicPr/>
          <p:nvPr/>
        </p:nvPicPr>
        <p:blipFill>
          <a:blip r:embed="rId1"/>
          <a:srcRect l="11535" t="12482" r="21151" b="0"/>
          <a:stretch/>
        </p:blipFill>
        <p:spPr>
          <a:xfrm>
            <a:off x="1143000" y="142920"/>
            <a:ext cx="2214720" cy="478620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" descr="D:\Мои документы\Дневник классного руководителя\Изображение.jpg"/>
          <p:cNvPicPr/>
          <p:nvPr/>
        </p:nvPicPr>
        <p:blipFill>
          <a:blip r:embed="rId2">
            <a:lum bright="-10000"/>
          </a:blip>
          <a:srcRect l="8657" t="10220" r="58472" b="64464"/>
          <a:stretch/>
        </p:blipFill>
        <p:spPr>
          <a:xfrm>
            <a:off x="7358040" y="2143080"/>
            <a:ext cx="1357200" cy="15717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D:\Мои документы\Дневник классного руководителя\Копия Изображение.jpg"/>
          <p:cNvPicPr/>
          <p:nvPr/>
        </p:nvPicPr>
        <p:blipFill>
          <a:blip r:embed="rId3">
            <a:lum bright="-10000"/>
          </a:blip>
          <a:srcRect l="9462" t="40303" r="58794" b="31359"/>
          <a:stretch/>
        </p:blipFill>
        <p:spPr>
          <a:xfrm>
            <a:off x="7358040" y="285840"/>
            <a:ext cx="1357200" cy="15714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D:\Мои документы\Дневник классного руководителя\Изображение 001.jpg"/>
          <p:cNvPicPr/>
          <p:nvPr/>
        </p:nvPicPr>
        <p:blipFill>
          <a:blip r:embed="rId4">
            <a:lum bright="-10000"/>
          </a:blip>
          <a:srcRect l="1448" t="45967" r="69384" b="5374"/>
          <a:stretch/>
        </p:blipFill>
        <p:spPr>
          <a:xfrm>
            <a:off x="3571920" y="4286160"/>
            <a:ext cx="1414440" cy="22860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6" descr="D:\Мои документы\Дневник классного руководителя\Изображение 001.jpg"/>
          <p:cNvPicPr/>
          <p:nvPr/>
        </p:nvPicPr>
        <p:blipFill>
          <a:blip r:embed="rId5">
            <a:lum bright="-10000"/>
          </a:blip>
          <a:srcRect l="37592" t="46969" r="35631" b="3689"/>
          <a:stretch/>
        </p:blipFill>
        <p:spPr>
          <a:xfrm>
            <a:off x="5429160" y="4286160"/>
            <a:ext cx="1440000" cy="228600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7" descr="D:\Мои документы\Дневник классного руководителя\Изображение 001.jpg"/>
          <p:cNvPicPr/>
          <p:nvPr/>
        </p:nvPicPr>
        <p:blipFill>
          <a:blip r:embed="rId6">
            <a:lum bright="-10000"/>
          </a:blip>
          <a:srcRect l="70828" t="47410" r="1742" b="3689"/>
          <a:stretch/>
        </p:blipFill>
        <p:spPr>
          <a:xfrm>
            <a:off x="7286760" y="4286160"/>
            <a:ext cx="1439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амент служил не только украшением, он выполнял и другие роли: предохранял от сглаза, выполнял магическое значение;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Рисунок 2" descr="G:\Изображение 003.jpg"/>
          <p:cNvPicPr/>
          <p:nvPr/>
        </p:nvPicPr>
        <p:blipFill>
          <a:blip r:embed="rId1"/>
          <a:srcRect l="10916" t="24611" r="13731" b="14818"/>
          <a:stretch/>
        </p:blipFill>
        <p:spPr>
          <a:xfrm>
            <a:off x="1643040" y="1857240"/>
            <a:ext cx="6715080" cy="32864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1000080" y="5208840"/>
            <a:ext cx="792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дельницы украшали орнаментом пояса. Пояс оберегал от нечистой силы, а охотнику помогал не заблудиться в лесу. Пояса были вязаные из шерсти, тканые из ниток, плетёные, кожаные; узкие и широ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3636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наментах встречаются простые геометрические элементы (мотивы): точки, квадраты, прямоугольники, ромбики, крестики, треугольники, диагональные линии. В более сложных узорах эти элементы комбинируются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Рисунок 2" descr="G:\Изображение 004.jpg"/>
          <p:cNvPicPr/>
          <p:nvPr/>
        </p:nvPicPr>
        <p:blipFill>
          <a:blip r:embed="rId1"/>
          <a:srcRect l="12298" t="16152" r="24663" b="11652"/>
          <a:stretch/>
        </p:blipFill>
        <p:spPr>
          <a:xfrm>
            <a:off x="5643720" y="642960"/>
            <a:ext cx="2786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распространено было узорное вязание. Узор выглядит так, словно элементы орнамента разных цветов вкладываются один в другой. А для чего вывязывали узор? Вещь становилась теплее, и узор выполнял роль оберега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Рисунок 2" descr="G:\Изображение 005.jpg"/>
          <p:cNvPicPr/>
          <p:nvPr/>
        </p:nvPicPr>
        <p:blipFill>
          <a:blip r:embed="rId1"/>
          <a:stretch/>
        </p:blipFill>
        <p:spPr>
          <a:xfrm>
            <a:off x="1714680" y="2643120"/>
            <a:ext cx="1936440" cy="36003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G:\Изображение 007.jpg"/>
          <p:cNvPicPr/>
          <p:nvPr/>
        </p:nvPicPr>
        <p:blipFill>
          <a:blip r:embed="rId2"/>
          <a:stretch/>
        </p:blipFill>
        <p:spPr>
          <a:xfrm>
            <a:off x="4214880" y="2643120"/>
            <a:ext cx="1809720" cy="3600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G:\Изображение 008.jpg"/>
          <p:cNvPicPr/>
          <p:nvPr/>
        </p:nvPicPr>
        <p:blipFill>
          <a:blip r:embed="rId3"/>
          <a:stretch/>
        </p:blipFill>
        <p:spPr>
          <a:xfrm>
            <a:off x="6643800" y="2643120"/>
            <a:ext cx="185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рнаменты можно разделить на несколько основных групп: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одни связаны с орудиями труда и другими предметами(зубья, пилы, крест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мпас…)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428840" y="3429000"/>
            <a:ext cx="7286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ругие относятся к представителям животного мира (рог, насекомые,…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6715080" cy="24973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"/>
          <p:cNvSpPr/>
          <p:nvPr/>
        </p:nvSpPr>
        <p:spPr>
          <a:xfrm>
            <a:off x="1143000" y="392904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тьи являются изображением растений (ёлочный узор, цветок, зерно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1428840" y="5072040"/>
            <a:ext cx="7072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четвёртые являлись изображением фигур людей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3071880" y="2357280"/>
            <a:ext cx="2714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8:30:11Z</dcterms:created>
  <dc:creator>Admin</dc:creator>
  <dc:description/>
  <dc:language>en-US</dc:language>
  <cp:lastModifiedBy>Учитель</cp:lastModifiedBy>
  <dcterms:modified xsi:type="dcterms:W3CDTF">2012-02-08T06:59:02Z</dcterms:modified>
  <cp:revision>19</cp:revision>
  <dc:subject/>
  <dc:title>Народный коми орнамент.</dc:title>
</cp:coreProperties>
</file>