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7.jpeg" ContentType="image/jpeg"/>
  <Override PartName="/ppt/media/image48.jpeg" ContentType="image/jpeg"/>
  <Override PartName="/ppt/media/image75.gif" ContentType="image/gif"/>
  <Override PartName="/ppt/media/image46.wmf" ContentType="image/x-wmf"/>
  <Override PartName="/ppt/media/image69.jpeg" ContentType="image/jpeg"/>
  <Override PartName="/ppt/media/image45.jpeg" ContentType="image/jpeg"/>
  <Override PartName="/ppt/media/image44.jpeg" ContentType="image/jpeg"/>
  <Override PartName="/ppt/media/image57.jpeg" ContentType="image/jpeg"/>
  <Override PartName="/ppt/media/image42.gif" ContentType="image/gif"/>
  <Override PartName="/ppt/media/image37.jpeg" ContentType="image/jpeg"/>
  <Override PartName="/ppt/media/image74.gif" ContentType="image/gif"/>
  <Override PartName="/ppt/media/image3.jpeg" ContentType="image/jpeg"/>
  <Override PartName="/ppt/media/image60.jpeg" ContentType="image/jpeg"/>
  <Override PartName="/ppt/media/image15.jpeg" ContentType="image/jpeg"/>
  <Override PartName="/ppt/media/image59.gif" ContentType="image/gif"/>
  <Override PartName="/ppt/media/image18.jpeg" ContentType="image/jpeg"/>
  <Override PartName="/ppt/media/image21.jpeg" ContentType="image/jpeg"/>
  <Override PartName="/ppt/media/image2.wmf" ContentType="image/x-wmf"/>
  <Override PartName="/ppt/media/image22.jpeg" ContentType="image/jpeg"/>
  <Override PartName="/ppt/media/image25.png" ContentType="image/png"/>
  <Override PartName="/ppt/media/image19.jpeg" ContentType="image/jpeg"/>
  <Override PartName="/ppt/media/image23.jpeg" ContentType="image/jpeg"/>
  <Override PartName="/ppt/media/image72.wmf" ContentType="image/x-wmf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14.png" ContentType="image/png"/>
  <Override PartName="/ppt/media/image67.jpeg" ContentType="image/jpeg"/>
  <Override PartName="/ppt/media/image64.jpeg" ContentType="image/jpeg"/>
  <Override PartName="/ppt/media/image38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0.jpeg" ContentType="image/jpeg"/>
  <Override PartName="/ppt/media/image12.wmf" ContentType="image/x-wm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8.jpeg" ContentType="image/jpeg"/>
  <Override PartName="/ppt/media/image26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13.wmf" ContentType="image/x-wmf"/>
  <Override PartName="/ppt/media/image40.jpeg" ContentType="image/jpeg"/>
  <Override PartName="/ppt/media/image4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FFC55-32E9-416C-90C6-6855A1650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BE43-4F4B-4ACB-A8B6-BF59E7628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DC49-E21F-443A-B562-2EA0B35A3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12615-AB4E-4614-855D-2E85BB6AF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CEE19-9FD6-4B0F-93DF-C5952D83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31200-A9D3-4A8D-BA38-7A49607B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F079-566F-457A-8E7F-EA8A1A95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9221B-3E26-49E7-B345-C080FB8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6162F-B598-45B9-A608-4767AFA1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-65772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F6874-BFC2-48A3-91EB-83E126FB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26011-E1BD-41B0-9E9E-59DF0A32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B34C-2EFC-452B-A607-C7B636DC8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FB288-E5F3-4B98-B233-633497B2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38DEE-F8FC-4691-8202-1DD080A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66DD9-4225-4538-8C2F-ACBF1BA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BDCE8-7DBE-4802-8022-94C54523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89786-9504-4559-BB8C-42CB00F4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17EE-21DB-48DE-A19B-7FCF423FC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2E67-D6E7-426F-B570-5EEB4F8D5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470E-B06C-4A95-A9E6-43D15A593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-657720"/>
            <a:ext cx="7770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4F60-B8A3-4329-BE1D-FEECF37C5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E979-8FB0-4FAD-9A15-775874233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690C-E733-418C-8CB2-D48A51B34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7BDB2-E626-4A3E-9E92-B9B9615EF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1120" cy="6856560"/>
              <a:chOff x="0" y="0"/>
              <a:chExt cx="914112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1120" cy="6398640"/>
                <a:chOff x="0" y="304920"/>
                <a:chExt cx="9141120" cy="63986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6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1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77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26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2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17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66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088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58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0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49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69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4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78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3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8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26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7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560" y="0"/>
                <a:ext cx="8530920" cy="6856560"/>
                <a:chOff x="304560" y="0"/>
                <a:chExt cx="85309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8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3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2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28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73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22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64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14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59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05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5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0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4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69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782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3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87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22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68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17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59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08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54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00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294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40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1960" y="0"/>
              <a:ext cx="579024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7640" y="0"/>
              <a:ext cx="144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3640" y="1415880"/>
              <a:ext cx="1782360" cy="2322360"/>
              <a:chOff x="413640" y="1415880"/>
              <a:chExt cx="1782360" cy="23223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3640" y="1512360"/>
                <a:ext cx="178236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8760"/>
                <a:ext cx="108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920" y="1415880"/>
                <a:ext cx="383760" cy="385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6168960"/>
            <a:ext cx="190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1"/>
          </p:nvPr>
        </p:nvSpPr>
        <p:spPr>
          <a:xfrm>
            <a:off x="2895120" y="6245280"/>
            <a:ext cx="33512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0DF59D-055D-4D24-8854-980E2C4C637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2200" cy="6856560"/>
              <a:chOff x="0" y="0"/>
              <a:chExt cx="9142200" cy="685656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1960" y="0"/>
                <a:ext cx="579024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1120" cy="6856560"/>
                <a:chOff x="0" y="0"/>
                <a:chExt cx="9141120" cy="68565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8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5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0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0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75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7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1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6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1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60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0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5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00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4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898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44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399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42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1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8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7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2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7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16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6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1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56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0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5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796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4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89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37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398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3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07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2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17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2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6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1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6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7640" y="0"/>
                <a:ext cx="144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2800" cy="2849400"/>
              <a:chOff x="4680" y="887400"/>
              <a:chExt cx="6652800" cy="28494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880" y="887400"/>
                <a:ext cx="144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1360"/>
                <a:ext cx="509688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760" y="1486800"/>
                <a:ext cx="604872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118880"/>
                <a:ext cx="494640" cy="49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2640"/>
                <a:ext cx="604368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08720" y="3098880"/>
                <a:ext cx="108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7842240" y="5064480"/>
                <a:ext cx="494640" cy="49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7902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680C31-D686-463D-ADC1-7A86ECC5EF0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gi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gif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70.jpeg"/><Relationship Id="rId10" Type="http://schemas.openxmlformats.org/officeDocument/2006/relationships/image" Target="../media/image71.jpe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package" Target="../embeddings/oleObject1.ppt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29.jpeg"/><Relationship Id="rId4" Type="http://schemas.openxmlformats.org/officeDocument/2006/relationships/image" Target="../media/image13.wmf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920000" cy="25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Кто он, учитель: вожак, исследователь, друг, диктатор?      Как и зачем пришёл в профессию?  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Monotype Corsiva"/>
              </a:rPr>
              <a:t>Кто я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6840" y="4571640"/>
            <a:ext cx="7543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Презентация  учител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русского языка и литературы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рловой Н.С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МОУ СОШ №1 г.Дятьково Брянской области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278160" cy="760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77080" y="2492280"/>
            <a:ext cx="1838160" cy="244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2110B-55CD-47A6-AC7A-3EF6BEE91F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2643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Только мел и тряпка –</a:t>
            </a:r>
            <a:br>
              <a:rPr sz="3200"/>
            </a:b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для ленивых!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09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омпьютер!!! Велико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зобретение!  Без него никуда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Диски серии «Кирилл и Мефодий», «ИДДК»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(справочники школьника), «Просвещени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Медиа», «В помощь учителю», «Новый диск»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«Руссобит- М», «1С», энциклопеди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о предмету, по живописи, музыке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Музыкальный центр, телевизор, видео. Несколько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лет назад, ещё до появления возможн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ользоваться компьютерными материалами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ачала записывать передачи с канал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«Культура». Сейчас  в видеотек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                        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около двухсот кассет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04000" y="5116680"/>
            <a:ext cx="2211480" cy="1552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944720" cy="1368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8720" cy="12826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7711920" y="2708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7236000" y="1012680"/>
            <a:ext cx="17557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Интерактивные диктанты</a:t>
            </a:r>
            <a:br>
              <a:rPr sz="4000"/>
            </a:b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с последующей проверко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1676520"/>
            <a:ext cx="70261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по разным темам,    связанным с орфографией и пунктуацией (зрительные и слуховые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3871800" cy="27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49D2-8155-4A89-9D83-08445F7611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Тестирование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676520"/>
            <a:ext cx="7026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ahoma"/>
              </a:rPr>
              <a:t>Тесты по типу Единого государственного экзамена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781440" cy="27068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4689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603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Результаты </a:t>
            </a:r>
            <a:br>
              <a:rPr sz="4000"/>
            </a:b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ЕГЭ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618920" y="1557360"/>
            <a:ext cx="5678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2009</a:t>
            </a:r>
            <a:r>
              <a:rPr b="1" i="1" lang="ru-RU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год: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дали 100%,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ачество – 64%, средний балл – 64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2011 год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: сдали 100%, качество – 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100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%, средний балл - 7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867280" y="3716280"/>
            <a:ext cx="2737080" cy="2073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651640" y="5877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пробный ЕГЭ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           </a:t>
            </a: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2011 год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2879640" cy="2094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42920" y="587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Выпуск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7d113f"/>
                </a:solidFill>
                <a:latin typeface="Times New Roman"/>
              </a:rPr>
              <a:t>2009 года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1663560" cy="2235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6948360" y="260280"/>
            <a:ext cx="2014560" cy="17510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179280" y="260280"/>
            <a:ext cx="1667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0920" y="-105264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Сделал – оформи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11280" y="5013000"/>
            <a:ext cx="6732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25 больших регистраторов, рассказыва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ющих о моей работе, уже оформлены и за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имают целый шкаф в школе. Кроме того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все фото и видеоматериалы с уроков, вне-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классных мероприятий — на дисках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065320" cy="3267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55640" y="907920"/>
            <a:ext cx="779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Творческие работы детей, даже если они и не очень выдающиеся, обязательно оформляю. Следую спартанскому лозунгу: «Главное не победа, а учас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тие»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555920" cy="20894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97880" y="2658960"/>
            <a:ext cx="718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Есть ли победы? Есть.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Из последних особенно дорог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результат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Кожедуб Елены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два года подряд она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является победителем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68040b"/>
                </a:solidFill>
                <a:latin typeface="Times New Roman"/>
              </a:rPr>
              <a:t>Ломоносовского турнира по литературе</a:t>
            </a:r>
            <a:r>
              <a:rPr b="1" i="1" lang="ru-RU" sz="2400" spc="-1" strike="noStrike">
                <a:solidFill>
                  <a:srgbClr val="40458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612720" y="333360"/>
            <a:ext cx="784872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ahoma"/>
              </a:rPr>
              <a:t>Литературно- музыкальный</a:t>
            </a:r>
            <a:br>
              <a:rPr sz="2800"/>
            </a:br>
            <a:r>
              <a:rPr b="1" i="1" lang="ru-RU" sz="2800" spc="-1" strike="noStrike">
                <a:solidFill>
                  <a:srgbClr val="660066"/>
                </a:solidFill>
                <a:latin typeface="Tahoma"/>
              </a:rPr>
              <a:t>клуб</a:t>
            </a: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«Встреча»</a:t>
            </a: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(год основания – 2000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32000" y="1904760"/>
            <a:ext cx="6480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Внеклассная работа – литературно- музыкальное краеведение. Изучаем творчество классиков и современных местных поэтов, художников и музыкантов: Козловой Т.И., Листуровой З.П., Якубовича Б.И., Дашко И.И.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Сорокина И., Сычёва.А.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820880" cy="1613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952640" cy="13842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627280" y="5157720"/>
            <a:ext cx="2095560" cy="1552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859280" y="5157720"/>
            <a:ext cx="2048040" cy="1511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179280" y="2421000"/>
            <a:ext cx="1571760" cy="2095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740720" y="2852640"/>
            <a:ext cx="1168200" cy="17431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>
            <a:lum bright="20000"/>
          </a:blip>
          <a:stretch/>
        </p:blipFill>
        <p:spPr>
          <a:xfrm>
            <a:off x="179280" y="5157720"/>
            <a:ext cx="23050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73080"/>
            <a:ext cx="838188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Наказы молодым специалистам  </a:t>
            </a:r>
            <a:br>
              <a:rPr sz="3200"/>
            </a:b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(из Книги Мудрости)</a:t>
            </a:r>
            <a:br>
              <a:rPr sz="32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ишёл в школу – не жди лёгкой жизни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гореть – никого не зажжёшь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искать – ничего не найдёшь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биться – не познаешь истины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будешь тратить себя – не жди от детей отдачи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Самому неинтересно – не жди интереса к своему предмету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Только мел и тряпка – для ленивых и посредственных  учителей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Иди за страницы учебника – сделай мир изучаемого живым и ярким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Не умеешь держать дисциплину – уходи из школы, не мучай себя и детей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Если на уроке считаешь минуты до звонка, твоя жизнь не удалась, ибо в ней нет  одной составляющей счастья – любимой работы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76720" y="692280"/>
            <a:ext cx="2160360" cy="865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080120" y="765000"/>
            <a:ext cx="166212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C5E1-D252-4293-B619-0911B845A54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1770120" cy="2400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867280" y="3213000"/>
            <a:ext cx="1743120" cy="2362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1771920" cy="24004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588000" y="3933720"/>
            <a:ext cx="1667160" cy="23432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1187280" y="4005360"/>
            <a:ext cx="1743120" cy="2305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2124000" y="4365720"/>
            <a:ext cx="1695600" cy="22762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7308720" y="4365720"/>
            <a:ext cx="1667160" cy="23050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8"/>
          <a:stretch/>
        </p:blipFill>
        <p:spPr>
          <a:xfrm>
            <a:off x="1042920" y="404640"/>
            <a:ext cx="1808280" cy="2521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6496200" y="333360"/>
            <a:ext cx="2016000" cy="2678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69880" y="620640"/>
            <a:ext cx="2795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33 года счастья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муж, дети, вну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              </a:t>
            </a: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и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68040b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любимая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работа!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0"/>
          <a:srcRect l="1785" t="2678" r="1785" b="1339"/>
          <a:stretch/>
        </p:blipFill>
        <p:spPr>
          <a:xfrm>
            <a:off x="4027320" y="4497480"/>
            <a:ext cx="1737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279440" cy="1295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11280" y="1484280"/>
            <a:ext cx="79912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чителя бывают разные: </a:t>
            </a:r>
            <a:br>
              <a:rPr sz="2400"/>
            </a:b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добрые, сердитые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Одни понимают всё, други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не хотят понимать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Одни оставили в памяти учеников  свет, а другие стали пятнышком. </a:t>
            </a:r>
            <a:r>
              <a:rPr b="1" i="1" lang="ru-RU" sz="2400" spc="-1" strike="noStrike">
                <a:solidFill>
                  <a:srgbClr val="808080"/>
                </a:solidFill>
                <a:latin typeface="Times New Roman"/>
              </a:rPr>
              <a:t>Серым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пятнышком…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ёрным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пятнышком…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ёрной дырой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Лев Николаевич Толстой писал: «Если учитель соединяет в себе любовь к предмету и ученику, он совершенный учитель»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важаемые коллеги, себе и вам желаю совершенства! Спасибо за внимание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311880" y="260280"/>
            <a:ext cx="2362320" cy="24480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835280" y="333360"/>
            <a:ext cx="461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«А     напоследок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        </a:t>
            </a:r>
            <a:r>
              <a:rPr b="1" i="1" lang="ru-RU" sz="3200" spc="-1" strike="noStrike">
                <a:solidFill>
                  <a:srgbClr val="660066"/>
                </a:solidFill>
                <a:latin typeface="Times New Roman"/>
              </a:rPr>
              <a:t>я скажу…»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A839B-D3E9-418C-BB2E-93EB20E5802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-657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Творческих вам успехов!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280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7d113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48800" cy="49687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268360" y="1700280"/>
            <a:ext cx="3241800" cy="1904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268360" y="49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,  повенчанный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 творчество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ременно  приведёт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  успеху!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Из Книги Мудрости</a:t>
            </a: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4400"/>
            </a:br>
            <a:r>
              <a:rPr b="1" i="1" lang="ru-RU" sz="2400" spc="-1" strike="noStrike">
                <a:solidFill>
                  <a:srgbClr val="660066"/>
                </a:solidFill>
                <a:latin typeface="Tahoma"/>
              </a:rPr>
              <a:t>(сайт  «Про школу.ру»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 algn="ctr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Родилась 7.10.1955 года на Рязанщине. Как только познакомилась с первой учительницей, решила стать педагогом. Читать любила страстно: под одеялом с фонариком, при свете уличного фонаря, в платяном шкафу… Любимый день недели был – воскресенье, любимое место отдыха – читальный зал детской библиотеки.  В школе повезло больше всего с русоведами, поэтому факультет выбрала легко –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русский язык и литература.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-327600" algn="ctr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7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С 1973 по 1977 годы училась в Рязанском педагогическом институте им. Есенина.  С 1977 по 1980 годы работала в сельской школе, а в 1980 году приехала в г.Дятьково ( к месту работы мужа – завод ДЗЭП ) и с этого года и по настоящее время преподаю русский язык и литературу в средней школе №1.  Учитель высшей категори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аботу люблю: она для меня 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работа, и хобб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Моё педагогическое кредо:</a:t>
            </a:r>
            <a:r>
              <a:rPr b="1" lang="ru-RU" sz="2000" spc="-1" strike="noStrike">
                <a:solidFill>
                  <a:srgbClr val="660066"/>
                </a:solidFill>
                <a:latin typeface="Tahoma"/>
              </a:rPr>
              <a:t>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Учитель, воспитай ученика, который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евзойдёт   тебя!»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76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59640" y="360360"/>
            <a:ext cx="2160360" cy="1170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20000" y="5373720"/>
            <a:ext cx="19396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B810-87A9-429C-BCC8-0B00591679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0332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Tahoma"/>
              </a:rPr>
              <a:t>Три уровня мотивации творчест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1800360"/>
            <a:ext cx="9055080" cy="50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-социальная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– награды, аплодисменты, портреты в газетах;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личностная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– удовольствие, получаемое группой людей от совместного творчества;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этическая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– чёткое осознание того, что дело, которое ты делаешь, необходимо людям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тало быть,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дело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которое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лаешь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ты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должно быть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йствительно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необходим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твоим ученикам.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А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работ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торую производят </a:t>
            </a: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они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олжна быть действительно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значима для тебя и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ae00"/>
                </a:solidFill>
                <a:latin typeface="Tahoma"/>
              </a:rPr>
              <a:t>окружающих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79280"/>
            <a:ext cx="52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3024000" cy="20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A3BF-645E-490A-AD5E-12E917A789D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67500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Приоритеты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0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нформационные технологи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ворческие проект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сследовательские работ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09880" cy="2219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4360" y="4292640"/>
            <a:ext cx="431640" cy="43164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4797360"/>
            <a:ext cx="431640" cy="43200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5373720"/>
            <a:ext cx="431640" cy="431640"/>
          </a:xfrm>
          <a:prstGeom prst="star5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482920" cy="170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2735280" cy="1820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132000" y="1484280"/>
            <a:ext cx="2987640" cy="1979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2592360" cy="195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0" name=""/>
          <p:cNvGraphicFramePr/>
          <p:nvPr/>
        </p:nvGraphicFramePr>
        <p:xfrm>
          <a:off x="7164360" y="5911920"/>
          <a:ext cx="1260360" cy="946080"/>
        </p:xfrm>
        <a:graphic>
          <a:graphicData uri="http://schemas.openxmlformats.org/presentationml/2006/ole">
            <p:oleObj progId="PowerPoint.Show.12" r:id="rId6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64360" y="5911920"/>
                    <a:ext cx="12603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-338040"/>
            <a:ext cx="80773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Monotype Corsiva"/>
              </a:rPr>
              <a:t>Единственный путь, ведущий к знанию, деятельность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14240" y="3809520"/>
            <a:ext cx="571500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Учебно-исследовательская деятельность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 технология развивающего обучения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144880" cy="24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C3478-14DD-437C-A318-E22965E6EB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95280" y="4292640"/>
            <a:ext cx="4032360" cy="16239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частвовать в работе, ненавязчиво направляя и организуя работу всех участников (помочь организовать встречу, посещение редакции и т.п.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51200" y="4521240"/>
            <a:ext cx="4105440" cy="162396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о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рганизуя,  корректируя деятельность своих подопечных, учитель также считается участником проекта, о чем должны  знать  учащиеся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907920"/>
            <a:ext cx="35812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В процессе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проектов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учитель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663300"/>
                  </a:solidFill>
                  <a:miter/>
                </a:ln>
                <a:solidFill>
                  <a:srgbClr val="66ff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atura MT Script Capitals"/>
              </a:rPr>
              <a:t>может </a:t>
            </a:r>
            <a:endParaRPr b="0" lang="en-US" sz="2400" spc="1" strike="noStrike">
              <a:ln w="12600">
                <a:solidFill>
                  <a:srgbClr val="663300"/>
                </a:solidFill>
                <a:miter/>
              </a:ln>
              <a:solidFill>
                <a:srgbClr val="66ff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atura MT Script Capitals"/>
              <a:ea typeface="Matura MT Script Capital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920" y="0"/>
            <a:ext cx="86421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оектная деятельност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250920" y="907920"/>
            <a:ext cx="2017440" cy="1368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187280" y="1844640"/>
            <a:ext cx="1944720" cy="12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6877080" y="836640"/>
            <a:ext cx="1892160" cy="1368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156360" y="1989000"/>
            <a:ext cx="1800360" cy="1346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6877080" y="2924280"/>
            <a:ext cx="1900080" cy="1380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179280" y="2708280"/>
            <a:ext cx="20890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Tahoma"/>
              </a:rPr>
              <a:t>Примеры учебных проектов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 «Осень на страницах школьного учебника» (Осенний урок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в 5 кл. по учебнику Львовых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 «Пунктуация – система правил»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 «Публицистика Горького – его гражданская позиция» («Несвоевременные мысли»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Мультимедийный проект «Сын Земли и звёзд» ( о Ю.А.Гагарине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SzPct val="126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Проект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«Русская литература 20 века»  (темы, проблемы, герои…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 rot="1474200">
            <a:off x="6675120" y="4546080"/>
            <a:ext cx="1846080" cy="2016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 rot="19956600">
            <a:off x="436320" y="4505400"/>
            <a:ext cx="1753920" cy="2089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 rot="20655000">
            <a:off x="2428920" y="4270320"/>
            <a:ext cx="1851120" cy="2166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 rot="652200">
            <a:off x="4462560" y="4381560"/>
            <a:ext cx="1977840" cy="21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881C2-15CB-49A3-9AC6-9B9C410E53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68320" y="179280"/>
            <a:ext cx="77724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айты, на которых размещены работы мои и моих учеников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79280" y="4132440"/>
            <a:ext cx="3384720" cy="2571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00000" y="1440000"/>
            <a:ext cx="8075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«Стихи.ру», «Проза.ру», «Про школу.ру»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сайт БИПКРО, «Открытый класс», «Педсовет.</a:t>
            </a:r>
            <a:r>
              <a:rPr b="1" i="1" lang="en-US" sz="2400" spc="-1" strike="noStrike">
                <a:solidFill>
                  <a:srgbClr val="94006b"/>
                </a:solidFill>
                <a:latin typeface="Times New Roman"/>
              </a:rPr>
              <a:t>org</a:t>
            </a: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»,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4006b"/>
                </a:solidFill>
                <a:latin typeface="Times New Roman"/>
              </a:rPr>
              <a:t>«Стенгазета»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908000" cy="1812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3276720" y="4630680"/>
            <a:ext cx="3528720" cy="22273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6499080" y="4724280"/>
            <a:ext cx="2644920" cy="19605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6"/>
          <a:stretch/>
        </p:blipFill>
        <p:spPr>
          <a:xfrm>
            <a:off x="395280" y="2492280"/>
            <a:ext cx="2592360" cy="1501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7"/>
          <a:stretch/>
        </p:blipFill>
        <p:spPr>
          <a:xfrm>
            <a:off x="3276720" y="2565360"/>
            <a:ext cx="1898640" cy="2233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8"/>
          <a:stretch/>
        </p:blipFill>
        <p:spPr>
          <a:xfrm>
            <a:off x="5219640" y="2565360"/>
            <a:ext cx="194148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DF9F-1C03-4286-80C6-CEEF5F856AC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-675000"/>
            <a:ext cx="77706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Tahoma"/>
              </a:rPr>
              <a:t>Вклад в методическую копилку области</a:t>
            </a:r>
            <a:br>
              <a:rPr sz="3200"/>
            </a:br>
            <a:r>
              <a:rPr b="0" lang="ru-RU" sz="2000" spc="-1" strike="noStrike">
                <a:solidFill>
                  <a:srgbClr val="660066"/>
                </a:solidFill>
                <a:latin typeface="Tahoma"/>
              </a:rPr>
              <a:t>(диски, переданные в БИПКРО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3384360" cy="2536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3384720" cy="2363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916360" y="4365720"/>
            <a:ext cx="3024000" cy="22730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380360" y="1413000"/>
            <a:ext cx="1608120" cy="2303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250920" y="4797360"/>
            <a:ext cx="2501640" cy="1876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6084720" y="450864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179280" y="4365720"/>
            <a:ext cx="1471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08:43:51Z</dcterms:created>
  <dc:creator>Ирина</dc:creator>
  <dc:description/>
  <dc:language>en-US</dc:language>
  <cp:lastModifiedBy>Натали</cp:lastModifiedBy>
  <dcterms:modified xsi:type="dcterms:W3CDTF">2011-10-17T20:00:38Z</dcterms:modified>
  <cp:revision>189</cp:revision>
  <dc:subject/>
  <dc:title>Презентация PowerPoint</dc:title>
</cp:coreProperties>
</file>