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6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49.jpeg" ContentType="image/jpeg"/>
  <Override PartName="/ppt/media/image47.jpeg" ContentType="image/jpeg"/>
  <Override PartName="/ppt/media/image48.jpeg" ContentType="image/jpeg"/>
  <Override PartName="/ppt/media/image75.gif" ContentType="image/gif"/>
  <Override PartName="/ppt/media/image46.wmf" ContentType="image/x-wmf"/>
  <Override PartName="/ppt/media/image69.jpeg" ContentType="image/jpeg"/>
  <Override PartName="/ppt/media/image45.jpeg" ContentType="image/jpeg"/>
  <Override PartName="/ppt/media/image44.jpeg" ContentType="image/jpeg"/>
  <Override PartName="/ppt/media/image57.jpeg" ContentType="image/jpeg"/>
  <Override PartName="/ppt/media/image42.gif" ContentType="image/gif"/>
  <Override PartName="/ppt/media/image37.jpeg" ContentType="image/jpeg"/>
  <Override PartName="/ppt/media/image74.gif" ContentType="image/gif"/>
  <Override PartName="/ppt/media/image3.jpeg" ContentType="image/jpeg"/>
  <Override PartName="/ppt/media/image60.jpeg" ContentType="image/jpeg"/>
  <Override PartName="/ppt/media/image15.jpeg" ContentType="image/jpeg"/>
  <Override PartName="/ppt/media/image59.gif" ContentType="image/gif"/>
  <Override PartName="/ppt/media/image18.jpeg" ContentType="image/jpeg"/>
  <Override PartName="/ppt/media/image21.jpeg" ContentType="image/jpeg"/>
  <Override PartName="/ppt/media/image2.wmf" ContentType="image/x-wmf"/>
  <Override PartName="/ppt/media/image22.jpeg" ContentType="image/jpeg"/>
  <Override PartName="/ppt/media/image25.png" ContentType="image/png"/>
  <Override PartName="/ppt/media/image19.jpeg" ContentType="image/jpeg"/>
  <Override PartName="/ppt/media/image23.jpeg" ContentType="image/jpeg"/>
  <Override PartName="/ppt/media/image72.wmf" ContentType="image/x-wmf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39.jpeg" ContentType="image/jpeg"/>
  <Override PartName="/ppt/media/image73.jpeg" ContentType="image/jpeg"/>
  <Override PartName="/ppt/media/image24.png" ContentType="image/png"/>
  <Override PartName="/ppt/media/image68.jpeg" ContentType="image/jpeg"/>
  <Override PartName="/ppt/media/image14.png" ContentType="image/png"/>
  <Override PartName="/ppt/media/image67.jpeg" ContentType="image/jpeg"/>
  <Override PartName="/ppt/media/image64.jpeg" ContentType="image/jpeg"/>
  <Override PartName="/ppt/media/image38.jpeg" ContentType="image/jpeg"/>
  <Override PartName="/ppt/media/image63.jpeg" ContentType="image/jpeg"/>
  <Override PartName="/ppt/media/image6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20.jpeg" ContentType="image/jpeg"/>
  <Override PartName="/ppt/media/image12.wmf" ContentType="image/x-wmf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4.png" ContentType="image/png"/>
  <Override PartName="/ppt/media/image29.jpeg" ContentType="image/jpeg"/>
  <Override PartName="/ppt/media/image1.png" ContentType="image/png"/>
  <Override PartName="/ppt/media/image52.jpeg" ContentType="image/jpeg"/>
  <Override PartName="/ppt/media/image8.jpeg" ContentType="image/jpeg"/>
  <Override PartName="/ppt/media/image26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13.wmf" ContentType="image/x-wmf"/>
  <Override PartName="/ppt/media/image40.jpeg" ContentType="image/jpeg"/>
  <Override PartName="/ppt/media/image4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EB3CA-B875-44E4-89D4-27E684036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D5393-A473-49A9-8BB8-976201435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85372-7BF5-44A6-8B71-D9A9A5553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6E957-B9CF-4896-B18E-70E6AD321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2C347-1C3E-441A-8E49-720CB352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8089E-6AE0-4855-BCD2-B5532DAC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C246D-62FE-4DE9-8AB5-FA96C679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73A2D-E207-4320-9867-9303D51B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0DE07-A7B9-4B5B-BD27-3B5CB618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-657720"/>
            <a:ext cx="77709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ED893-E0C6-49DD-B587-93D343EB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4239C-D4AE-4E82-B966-846C9525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BC5FE-E613-4052-9B2A-A6A28E7533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0AD8B-D325-4B75-88AE-2FBAE772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5C998-1DF2-4176-BF6F-AF81F461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A40BE-2F08-482D-BCFF-02CCE7DC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9ED5A-2EE1-479F-B7A2-B1E2B085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A5570-85DD-4711-A76F-DE07892C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7209D-9F73-40DD-AB62-D1E2B9CC0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ABBBB-316E-443C-B5C6-4A76A561A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360AB-B4CE-4295-88D5-B1C4CB5AA9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-657720"/>
            <a:ext cx="77709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88341-C96C-4048-87AA-05BB52F552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FF818-363C-44B1-AF94-DD2C3A3E7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79122-7476-4E1D-825E-AD7CAB9DE6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F13E0-4215-4869-A48C-8A8D42D60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1120" cy="6856560"/>
              <a:chOff x="0" y="0"/>
              <a:chExt cx="9141120" cy="685656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1120" cy="6398640"/>
                <a:chOff x="0" y="304920"/>
                <a:chExt cx="9141120" cy="63986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12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04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860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16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772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264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720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176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668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088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580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036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492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6984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440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7896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352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8844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264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39756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248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560" y="0"/>
                <a:ext cx="8530920" cy="6856560"/>
                <a:chOff x="304560" y="0"/>
                <a:chExt cx="8530920" cy="685656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5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876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368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824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280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73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228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648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140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59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052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508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000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420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6912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404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7824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31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8772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228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39684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17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0596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088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1544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000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45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2948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404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1960" y="0"/>
              <a:ext cx="579024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7640" y="0"/>
              <a:ext cx="144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3640" y="1415880"/>
              <a:ext cx="1782360" cy="2322360"/>
              <a:chOff x="413640" y="1415880"/>
              <a:chExt cx="1782360" cy="23223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3640" y="1512360"/>
                <a:ext cx="1782360" cy="1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8760"/>
                <a:ext cx="1080" cy="23194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920" y="1415880"/>
                <a:ext cx="383760" cy="38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6168960"/>
            <a:ext cx="1905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1"/>
          </p:nvPr>
        </p:nvSpPr>
        <p:spPr>
          <a:xfrm>
            <a:off x="2895120" y="6245280"/>
            <a:ext cx="33512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E6EF75-808C-4D02-ABE7-C7EAFD8BCAB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2200" cy="6856560"/>
              <a:chOff x="0" y="0"/>
              <a:chExt cx="9142200" cy="685656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1960" y="0"/>
                <a:ext cx="579024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1120" cy="6856560"/>
                <a:chOff x="0" y="0"/>
                <a:chExt cx="9141120" cy="68565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56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12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04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896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52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08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00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756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248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740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196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652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144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600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092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584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004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496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8988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444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39936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428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5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12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04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860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16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08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00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720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212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704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160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61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108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564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05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512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7968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460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891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372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39864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35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0776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268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1760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216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672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164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620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7640" y="0"/>
                <a:ext cx="144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2800" cy="2849400"/>
              <a:chOff x="4680" y="887400"/>
              <a:chExt cx="6652800" cy="28494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880" y="887400"/>
                <a:ext cx="1440" cy="2849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1360"/>
                <a:ext cx="5096880" cy="4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760" y="1486800"/>
                <a:ext cx="6048720" cy="4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118880"/>
                <a:ext cx="494640" cy="49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3680" cy="2874960"/>
              <a:chOff x="2349360" y="3098880"/>
              <a:chExt cx="6043680" cy="287496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2640"/>
                <a:ext cx="6043680" cy="1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08720" y="3098880"/>
                <a:ext cx="1080" cy="287496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7842240" y="5064480"/>
                <a:ext cx="494640" cy="49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790200"/>
            <a:ext cx="77706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3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4B8DCAE-DF4B-41CA-9D82-A506D2424CA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gif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59.gif"/><Relationship Id="rId7" Type="http://schemas.openxmlformats.org/officeDocument/2006/relationships/image" Target="../media/image60.jpe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image" Target="../media/image69.jpeg"/><Relationship Id="rId9" Type="http://schemas.openxmlformats.org/officeDocument/2006/relationships/image" Target="../media/image70.jpeg"/><Relationship Id="rId10" Type="http://schemas.openxmlformats.org/officeDocument/2006/relationships/image" Target="../media/image71.jpeg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4.gif"/><Relationship Id="rId2" Type="http://schemas.openxmlformats.org/officeDocument/2006/relationships/image" Target="../media/image7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package" Target="../embeddings/oleObject1.pptx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29.jpeg"/><Relationship Id="rId4" Type="http://schemas.openxmlformats.org/officeDocument/2006/relationships/image" Target="../media/image13.wmf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920000" cy="25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Кто он, учитель: вожак, исследователь, друг, диктатор?      Как и зачем пришёл в профессию?    </a:t>
            </a:r>
            <a:br>
              <a:rPr sz="3200"/>
            </a:b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Кто я?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6840" y="4571640"/>
            <a:ext cx="754380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Презентация  учителя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русского языка и литературы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Орловой Н.С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МОУ СОШ №1 г.Дятьково Брянской област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743200" y="3581280"/>
            <a:ext cx="3278160" cy="760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877080" y="2492280"/>
            <a:ext cx="1838160" cy="244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0B8C5-C00D-412F-98AD-E4B8D688FA8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62643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ahoma"/>
              </a:rPr>
              <a:t>Только мел и тряпка –</a:t>
            </a:r>
            <a:br>
              <a:rPr sz="3200"/>
            </a:br>
            <a:r>
              <a:rPr b="1" i="1" lang="ru-RU" sz="3200" spc="-1" strike="noStrike">
                <a:solidFill>
                  <a:srgbClr val="660066"/>
                </a:solidFill>
                <a:latin typeface="Tahoma"/>
              </a:rPr>
              <a:t>для ленивых!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7709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Компьютер!!! Велико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изобретение!  Без него никуда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Диски серии «Кирилл и Мефодий», «ИДДК»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(справочники школьника), «Просвещение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Медиа», «В помощь учителю», «Новый диск»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«Руссобит- М», «1С», энциклопедии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по предмету, по живописи, музыке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Музыкальный центр, телевизор, видео. Несколько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лет назад, ещё до появления возможност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пользоваться компьютерными материалами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начала записывать передачи с канала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             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«Культура». Сейчас  в видеотек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                          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около двухсот кассет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804000" y="5116680"/>
            <a:ext cx="2211480" cy="15523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1944720" cy="1368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1728720" cy="12826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7711920" y="2708280"/>
            <a:ext cx="1224000" cy="13683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7236000" y="1012680"/>
            <a:ext cx="17557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Tahoma"/>
              </a:rPr>
              <a:t>Интерактивные диктанты</a:t>
            </a:r>
            <a:br>
              <a:rPr sz="4000"/>
            </a:br>
            <a:r>
              <a:rPr b="1" i="1" lang="ru-RU" sz="2400" spc="-1" strike="noStrike">
                <a:solidFill>
                  <a:srgbClr val="660066"/>
                </a:solidFill>
                <a:latin typeface="Tahoma"/>
              </a:rPr>
              <a:t>с последующей проверко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1676520"/>
            <a:ext cx="702612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по разным темам,    связанным с орфографией и пунктуацией (зрительные и слуховые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3871800" cy="270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329DE-B22C-4565-A12F-845AC7571D2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Tahoma"/>
              </a:rPr>
              <a:t>Тестирование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1676520"/>
            <a:ext cx="7026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ahoma"/>
              </a:rPr>
              <a:t>Тесты по типу Единого государственного экзамена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3781440" cy="27068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364000" y="3573360"/>
            <a:ext cx="34689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603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Tahoma"/>
              </a:rPr>
              <a:t>Результаты </a:t>
            </a:r>
            <a:br>
              <a:rPr sz="4000"/>
            </a:br>
            <a:r>
              <a:rPr b="1" i="1" lang="ru-RU" sz="4000" spc="-1" strike="noStrike">
                <a:solidFill>
                  <a:srgbClr val="660066"/>
                </a:solidFill>
                <a:latin typeface="Tahoma"/>
              </a:rPr>
              <a:t>ЕГЭ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618920" y="1557360"/>
            <a:ext cx="5678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2009</a:t>
            </a:r>
            <a:r>
              <a:rPr b="1" i="1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год: 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сдали 100%,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качество – 64%, средний балл – 64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2011 год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: сдали 100%, качество –  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100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%, средний балл - 7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867280" y="3716280"/>
            <a:ext cx="2737080" cy="20732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651640" y="5877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d113f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7d113f"/>
                </a:solidFill>
                <a:latin typeface="Times New Roman"/>
              </a:rPr>
              <a:t>пробный ЕГЭ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d113f"/>
                </a:solidFill>
                <a:latin typeface="Times New Roman"/>
              </a:rPr>
              <a:t>           </a:t>
            </a:r>
            <a:r>
              <a:rPr b="1" i="1" lang="ru-RU" sz="2400" spc="-1" strike="noStrike">
                <a:solidFill>
                  <a:srgbClr val="7d113f"/>
                </a:solidFill>
                <a:latin typeface="Times New Roman"/>
              </a:rPr>
              <a:t>2011 год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755640" y="3716280"/>
            <a:ext cx="2879640" cy="2094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042920" y="5877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d113f"/>
                </a:solidFill>
                <a:latin typeface="Times New Roman"/>
              </a:rPr>
              <a:t>Выпуск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d113f"/>
                </a:solidFill>
                <a:latin typeface="Times New Roman"/>
              </a:rPr>
              <a:t>2009 год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3851280" y="4437000"/>
            <a:ext cx="1663560" cy="22352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6948360" y="260280"/>
            <a:ext cx="2014560" cy="17510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5"/>
          <a:stretch/>
        </p:blipFill>
        <p:spPr>
          <a:xfrm>
            <a:off x="179280" y="260280"/>
            <a:ext cx="16671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10920" y="-1052640"/>
            <a:ext cx="77706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Tahoma"/>
              </a:rPr>
              <a:t>Сделал – оформи!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411280" y="5013000"/>
            <a:ext cx="67327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25 больших регистраторов, рассказыва-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ющих о моей работе, уже оформлены и за-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нимают целый шкаф в школе. Кроме того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все фото и видеоматериалы с уроков, вне-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классных мероприятий — на дисках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065320" cy="32670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55640" y="907920"/>
            <a:ext cx="779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Творческие работы детей, даже если они и не очень выдающиеся, обязательно оформляю. Следую спартанскому лозунгу: «Главное не победа, а учас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тие»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7164360" y="2349360"/>
            <a:ext cx="1555920" cy="20894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397880" y="2658960"/>
            <a:ext cx="7187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                       </a:t>
            </a: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Есть ли победы? Есть.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Из последних особенно дорог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                     </a:t>
            </a: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результат </a:t>
            </a:r>
            <a:r>
              <a:rPr b="1" i="1" lang="ru-RU" sz="2400" spc="-1" strike="noStrike">
                <a:solidFill>
                  <a:srgbClr val="68040b"/>
                </a:solidFill>
                <a:latin typeface="Times New Roman"/>
              </a:rPr>
              <a:t>Кожедуб Елены</a:t>
            </a: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                     </a:t>
            </a:r>
            <a:r>
              <a:rPr b="1" i="1" lang="ru-RU" sz="2400" spc="-1" strike="noStrike">
                <a:solidFill>
                  <a:srgbClr val="68040b"/>
                </a:solidFill>
                <a:latin typeface="Times New Roman"/>
              </a:rPr>
              <a:t>два года подряд она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68040b"/>
                </a:solidFill>
                <a:latin typeface="Times New Roman"/>
              </a:rPr>
              <a:t>                     </a:t>
            </a:r>
            <a:r>
              <a:rPr b="1" i="1" lang="ru-RU" sz="2400" spc="-1" strike="noStrike">
                <a:solidFill>
                  <a:srgbClr val="68040b"/>
                </a:solidFill>
                <a:latin typeface="Times New Roman"/>
              </a:rPr>
              <a:t>является победителем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68040b"/>
                </a:solidFill>
                <a:latin typeface="Times New Roman"/>
              </a:rPr>
              <a:t>                 </a:t>
            </a:r>
            <a:r>
              <a:rPr b="1" i="1" lang="ru-RU" sz="2400" spc="-1" strike="noStrike">
                <a:solidFill>
                  <a:srgbClr val="68040b"/>
                </a:solidFill>
                <a:latin typeface="Times New Roman"/>
              </a:rPr>
              <a:t>Ломоносовского турнира по литературе</a:t>
            </a: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612720" y="333360"/>
            <a:ext cx="78487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Tahoma"/>
              </a:rPr>
              <a:t>Литературно- музыкальный</a:t>
            </a:r>
            <a:br>
              <a:rPr sz="2800"/>
            </a:br>
            <a:r>
              <a:rPr b="1" i="1" lang="ru-RU" sz="2800" spc="-1" strike="noStrike">
                <a:solidFill>
                  <a:srgbClr val="660066"/>
                </a:solidFill>
                <a:latin typeface="Tahoma"/>
              </a:rPr>
              <a:t>клуб</a:t>
            </a:r>
            <a:r>
              <a:rPr b="1" i="1" lang="ru-RU" sz="4000" spc="-1" strike="noStrike">
                <a:solidFill>
                  <a:srgbClr val="660066"/>
                </a:solidFill>
                <a:latin typeface="Tahoma"/>
              </a:rPr>
              <a:t>«Встреча»</a:t>
            </a:r>
            <a:r>
              <a:rPr b="1" i="1" lang="ru-RU" sz="20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2000"/>
            </a:br>
            <a:r>
              <a:rPr b="1" i="1" lang="ru-RU" sz="2000" spc="-1" strike="noStrike">
                <a:solidFill>
                  <a:srgbClr val="660066"/>
                </a:solidFill>
                <a:latin typeface="Tahoma"/>
              </a:rPr>
              <a:t>(год основания – 2000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32000" y="1904760"/>
            <a:ext cx="6480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Внеклассная работа – литературно- музыкальное краеведение. Изучаем творчество классиков и современных местных поэтов, художников и музыкантов: Козловой Т.И., Листуровой З.П., Якубовича Б.И., Дашко И.И.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Сорокина И., Сычёва.А. и др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164360" y="5084640"/>
            <a:ext cx="1820880" cy="16131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7020000" y="333360"/>
            <a:ext cx="1952640" cy="13842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2627280" y="5157720"/>
            <a:ext cx="2095560" cy="15526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4859280" y="5157720"/>
            <a:ext cx="2048040" cy="15112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179280" y="2421000"/>
            <a:ext cx="1571760" cy="20955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7740720" y="2852640"/>
            <a:ext cx="1168200" cy="17431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7">
            <a:lum bright="20000"/>
          </a:blip>
          <a:stretch/>
        </p:blipFill>
        <p:spPr>
          <a:xfrm>
            <a:off x="179280" y="5157720"/>
            <a:ext cx="230508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73080"/>
            <a:ext cx="838188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Наказы молодым специалистам  </a:t>
            </a:r>
            <a:br>
              <a:rPr sz="3200"/>
            </a:br>
            <a:r>
              <a:rPr b="1" lang="ru-RU" sz="2000" spc="-1" strike="noStrike">
                <a:solidFill>
                  <a:srgbClr val="660066"/>
                </a:solidFill>
                <a:latin typeface="Tahoma"/>
              </a:rPr>
              <a:t>(из Книги Мудрости)</a:t>
            </a:r>
            <a:br>
              <a:rPr sz="3200"/>
            </a:b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76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Пришёл в школу – не жди лёгкой жизни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76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Не будешь гореть – никого не зажжёшь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76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Не будешь искать – ничего не найдёшь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76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Не будешь биться – не познаешь истины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76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Не будешь тратить себя – не жди от детей отдачи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76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Самому неинтересно – не жди интереса к своему предмету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76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Только мел и тряпка – для ленивых и посредственных  учителей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76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Иди за страницы учебника – сделай мир изучаемого живым и ярким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76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Не умеешь держать дисциплину – уходи из школы, не мучай себя и детей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76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Если на уроке считаешь минуты до звонка, твоя жизнь не удалась, ибо в ней нет  одной составляющей счастья – любимой работы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276720" y="692280"/>
            <a:ext cx="2160360" cy="8650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7080120" y="765000"/>
            <a:ext cx="166212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13C11-5A3B-46C3-878E-BC5EA5E8BAA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79280" y="3141720"/>
            <a:ext cx="1770120" cy="24001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5867280" y="3213000"/>
            <a:ext cx="1743120" cy="23623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1771920" cy="24004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6588000" y="3933720"/>
            <a:ext cx="1667160" cy="23432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1187280" y="4005360"/>
            <a:ext cx="1743120" cy="23050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2124000" y="4365720"/>
            <a:ext cx="1695600" cy="22762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7"/>
          <a:stretch/>
        </p:blipFill>
        <p:spPr>
          <a:xfrm>
            <a:off x="7308720" y="4365720"/>
            <a:ext cx="1667160" cy="23050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8"/>
          <a:stretch/>
        </p:blipFill>
        <p:spPr>
          <a:xfrm>
            <a:off x="1042920" y="404640"/>
            <a:ext cx="1808280" cy="25210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9"/>
          <a:stretch/>
        </p:blipFill>
        <p:spPr>
          <a:xfrm>
            <a:off x="6496200" y="333360"/>
            <a:ext cx="2016000" cy="26780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269880" y="620640"/>
            <a:ext cx="2795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68040b"/>
                </a:solidFill>
                <a:latin typeface="Times New Roman"/>
              </a:rPr>
              <a:t>33 года счастья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68040b"/>
                </a:solidFill>
                <a:latin typeface="Times New Roman"/>
              </a:rPr>
              <a:t>муж, дети, внук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68040b"/>
                </a:solidFill>
                <a:latin typeface="Times New Roman"/>
              </a:rPr>
              <a:t>              </a:t>
            </a:r>
            <a:r>
              <a:rPr b="1" i="1" lang="ru-RU" sz="2800" spc="-1" strike="noStrike">
                <a:solidFill>
                  <a:srgbClr val="68040b"/>
                </a:solidFill>
                <a:latin typeface="Times New Roman"/>
              </a:rPr>
              <a:t>и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68040b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любимая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       </a:t>
            </a: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работа!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0"/>
          <a:srcRect l="1785" t="2678" r="1785" b="1339"/>
          <a:stretch/>
        </p:blipFill>
        <p:spPr>
          <a:xfrm>
            <a:off x="4027320" y="4497480"/>
            <a:ext cx="173700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279440" cy="12952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611280" y="1484280"/>
            <a:ext cx="799128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Учителя бывают разные: </a:t>
            </a:r>
            <a:br>
              <a:rPr sz="2400"/>
            </a:b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добрые, сердитые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Одни понимают всё, другие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не хотят понимать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Одни оставили в памяти учеников  свет, а другие стали пятнышком. </a:t>
            </a:r>
            <a:r>
              <a:rPr b="1" i="1" lang="ru-RU" sz="2400" spc="-1" strike="noStrike">
                <a:solidFill>
                  <a:srgbClr val="808080"/>
                </a:solidFill>
                <a:latin typeface="Times New Roman"/>
              </a:rPr>
              <a:t>Серым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пятнышком…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ёрным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пятнышком…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ёрной дырой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Times New Roman"/>
              </a:rPr>
              <a:t>Лев Николаевич Толстой писал: «Если учитель соединяет в себе любовь к предмету и ученику, он совершенный учитель»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Уважаемые коллеги, себе и вам желаю совершенства! Спасибо за внимание!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6311880" y="260280"/>
            <a:ext cx="2362320" cy="24480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1835280" y="333360"/>
            <a:ext cx="461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«А     напоследок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        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я скажу…»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293DC-6B21-421B-99FD-5E0C157D80F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Tahoma"/>
              </a:rPr>
              <a:t>Творческих вам успехов!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82803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7d113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948800" cy="49687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2268360" y="1700280"/>
            <a:ext cx="3241800" cy="19047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268360" y="49417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терес,  повенчанный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 творчеством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пременно  приведёт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  успеху! 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Tahoma"/>
              </a:rPr>
              <a:t>Из Книги Мудрости</a:t>
            </a:r>
            <a:r>
              <a:rPr b="1" i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4400"/>
            </a:br>
            <a:r>
              <a:rPr b="1" i="1" lang="ru-RU" sz="2400" spc="-1" strike="noStrike">
                <a:solidFill>
                  <a:srgbClr val="660066"/>
                </a:solidFill>
                <a:latin typeface="Tahoma"/>
              </a:rPr>
              <a:t>(сайт  «Про школу.ру»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 algn="ctr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76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Родилась 7.10.1955 года на Рязанщине. Как только познакомилась с первой учительницей, решила стать педагогом. Читать любила страстно: под одеялом с фонариком, при свете уличного фонаря, в платяном шкафу… Любимый день недели был – воскресенье, любимое место отдыха – читальный зал детской библиотеки.  В школе повезло больше всего с русоведами, поэтому факультет выбрала легко –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7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русский язык и литература.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7600" indent="-327600" algn="ctr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76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С 1973 по 1977 годы училась в Рязанском педагогическом институте им. Есенина.  С 1977 по 1980 годы работала в сельской школе, а в 1980 году приехала в г.Дятьково ( к месту работы мужа – завод ДЗЭП ) и с этого года и по настоящее время преподаю русский язык и литературу в средней школе №1.  Учитель высшей категории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Работу люблю: она для меня и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                        </a:t>
            </a: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работа, и хобби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660066"/>
                </a:solidFill>
                <a:latin typeface="Tahoma"/>
              </a:rPr>
              <a:t>Моё педагогическое кредо:</a:t>
            </a:r>
            <a:r>
              <a:rPr b="1" lang="ru-RU" sz="2000" spc="-1" strike="noStrike">
                <a:solidFill>
                  <a:srgbClr val="660066"/>
                </a:solidFill>
                <a:latin typeface="Tahoma"/>
              </a:rPr>
              <a:t>           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«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Учитель, воспитай ученика, который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                   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превзойдёт   тебя!»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7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                      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659640" y="360360"/>
            <a:ext cx="2160360" cy="1170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7020000" y="5373720"/>
            <a:ext cx="193968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96BBF-EED4-4D8F-B552-F4C4006E72A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10332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Tahoma"/>
              </a:rPr>
              <a:t>Три уровня мотивации творчест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25280" y="1800360"/>
            <a:ext cx="9055080" cy="50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-социальная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– награды, аплодисменты, портреты в газетах; </a:t>
            </a:r>
            <a:br>
              <a:rPr sz="2400"/>
            </a:b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личностная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– удовольствие, получаемое группой людей от совместного творчества; </a:t>
            </a:r>
            <a:br>
              <a:rPr sz="2400"/>
            </a:b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этическая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– чёткое осознание того, что дело, которое ты делаешь, необходимо людям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тало быть, </a:t>
            </a:r>
            <a:r>
              <a:rPr b="1" lang="ru-RU" sz="2400" spc="-1" strike="noStrike">
                <a:solidFill>
                  <a:srgbClr val="00ae00"/>
                </a:solidFill>
                <a:latin typeface="Tahoma"/>
              </a:rPr>
              <a:t>дело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, которое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делаешь </a:t>
            </a:r>
            <a:r>
              <a:rPr b="1" lang="ru-RU" sz="2400" spc="-1" strike="noStrike">
                <a:solidFill>
                  <a:srgbClr val="00ae00"/>
                </a:solidFill>
                <a:latin typeface="Tahoma"/>
              </a:rPr>
              <a:t>ты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, должно быть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действительно </a:t>
            </a:r>
            <a:r>
              <a:rPr b="1" lang="ru-RU" sz="2400" spc="-1" strike="noStrike">
                <a:solidFill>
                  <a:srgbClr val="00ae00"/>
                </a:solidFill>
                <a:latin typeface="Tahoma"/>
              </a:rPr>
              <a:t>необходимо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ae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ae00"/>
                </a:solidFill>
                <a:latin typeface="Tahoma"/>
              </a:rPr>
              <a:t>твоим ученикам.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А </a:t>
            </a:r>
            <a:r>
              <a:rPr b="1" lang="ru-RU" sz="2400" spc="-1" strike="noStrike">
                <a:solidFill>
                  <a:srgbClr val="00ae00"/>
                </a:solidFill>
                <a:latin typeface="Tahoma"/>
              </a:rPr>
              <a:t>работа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которую производят </a:t>
            </a:r>
            <a:r>
              <a:rPr b="1" lang="ru-RU" sz="2400" spc="-1" strike="noStrike">
                <a:solidFill>
                  <a:srgbClr val="00ae00"/>
                </a:solidFill>
                <a:latin typeface="Tahoma"/>
              </a:rPr>
              <a:t>они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должна быть действительно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ae00"/>
                </a:solidFill>
                <a:latin typeface="Tahoma"/>
              </a:rPr>
              <a:t>значима для тебя и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ae00"/>
                </a:solidFill>
                <a:latin typeface="Tahoma"/>
              </a:rPr>
              <a:t>окружающих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9280" y="179280"/>
            <a:ext cx="524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3024000" cy="201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42170-2A2E-4A8E-8F2C-03C858188C5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67500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Tahoma"/>
              </a:rPr>
              <a:t>Приоритеты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4292280"/>
            <a:ext cx="7770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Информационные технологи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Творческие проект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Исследовательские работ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09880" cy="22194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84360" y="4292640"/>
            <a:ext cx="431640" cy="431640"/>
          </a:xfrm>
          <a:prstGeom prst="star5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4360" y="4797360"/>
            <a:ext cx="431640" cy="432000"/>
          </a:xfrm>
          <a:prstGeom prst="star5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4360" y="5373720"/>
            <a:ext cx="431640" cy="431640"/>
          </a:xfrm>
          <a:prstGeom prst="star5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443640" y="260280"/>
            <a:ext cx="2482920" cy="1703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0920" y="2276640"/>
            <a:ext cx="2735280" cy="18205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3132000" y="1484280"/>
            <a:ext cx="2987640" cy="1979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6300720" y="2133720"/>
            <a:ext cx="2592360" cy="195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"/>
          <p:cNvGraphicFramePr/>
          <p:nvPr/>
        </p:nvGraphicFramePr>
        <p:xfrm>
          <a:off x="7164360" y="5911920"/>
          <a:ext cx="1260360" cy="946080"/>
        </p:xfrm>
        <a:graphic>
          <a:graphicData uri="http://schemas.openxmlformats.org/presentationml/2006/ole">
            <p:oleObj progId="PowerPoint.Show.12" r:id="rId6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64360" y="5911920"/>
                    <a:ext cx="126036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-338040"/>
            <a:ext cx="807732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660066"/>
                </a:solidFill>
                <a:latin typeface="Monotype Corsiva"/>
              </a:rPr>
              <a:t>Единственный путь, ведущий к знанию, деятельность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514240" y="3809520"/>
            <a:ext cx="5715000" cy="31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Учебно-исследовательская деятельность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</a:rPr>
              <a:t> – 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 технология развивающего обучени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2144880" cy="249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FC1F0-E36E-4D87-896F-514F422DA45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95280" y="4292640"/>
            <a:ext cx="4032360" cy="162396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о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частвовать в работе, ненавязчиво направляя и организуя работу всех участников (помочь организовать встречу, посещение редакции и т.п.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51200" y="4521240"/>
            <a:ext cx="4105440" cy="162396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свенно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рганизуя,  корректируя деятельность своих подопечных, учитель также считается участником проекта, о чем должны  знать  учащиеся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916360" y="907920"/>
            <a:ext cx="35812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ff66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Matura MT Script Capitals"/>
              </a:rPr>
              <a:t>В процессе </a:t>
            </a:r>
            <a:endParaRPr b="0" lang="en-US" sz="2400" spc="1" strike="noStrike">
              <a:ln w="12600">
                <a:solidFill>
                  <a:srgbClr val="663300"/>
                </a:solidFill>
                <a:miter/>
              </a:ln>
              <a:solidFill>
                <a:srgbClr val="66ff66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Matura MT Script Capitals"/>
              <a:ea typeface="Matura MT Script Capitals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ff66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Matura MT Script Capitals"/>
              </a:rPr>
              <a:t>проектов </a:t>
            </a:r>
            <a:endParaRPr b="0" lang="en-US" sz="2400" spc="1" strike="noStrike">
              <a:ln w="12600">
                <a:solidFill>
                  <a:srgbClr val="663300"/>
                </a:solidFill>
                <a:miter/>
              </a:ln>
              <a:solidFill>
                <a:srgbClr val="66ff66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Matura MT Script Capitals"/>
              <a:ea typeface="Matura MT Script Capitals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ff66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Matura MT Script Capitals"/>
              </a:rPr>
              <a:t>учитель </a:t>
            </a:r>
            <a:endParaRPr b="0" lang="en-US" sz="2400" spc="1" strike="noStrike">
              <a:ln w="12600">
                <a:solidFill>
                  <a:srgbClr val="663300"/>
                </a:solidFill>
                <a:miter/>
              </a:ln>
              <a:solidFill>
                <a:srgbClr val="66ff66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Matura MT Script Capitals"/>
              <a:ea typeface="Matura MT Script Capitals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ff66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Matura MT Script Capitals"/>
              </a:rPr>
              <a:t>может </a:t>
            </a:r>
            <a:endParaRPr b="0" lang="en-US" sz="2400" spc="1" strike="noStrike">
              <a:ln w="12600">
                <a:solidFill>
                  <a:srgbClr val="663300"/>
                </a:solidFill>
                <a:miter/>
              </a:ln>
              <a:solidFill>
                <a:srgbClr val="66ff66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Matura MT Script Capitals"/>
              <a:ea typeface="Matura MT Script Capital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920" y="0"/>
            <a:ext cx="864216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оектная деятельност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250920" y="907920"/>
            <a:ext cx="2017440" cy="13687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187280" y="1844640"/>
            <a:ext cx="1944720" cy="12859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6877080" y="836640"/>
            <a:ext cx="1892160" cy="1368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6156360" y="1989000"/>
            <a:ext cx="1800360" cy="1346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8"/>
          <a:stretch/>
        </p:blipFill>
        <p:spPr>
          <a:xfrm>
            <a:off x="6877080" y="2924280"/>
            <a:ext cx="1900080" cy="1380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179280" y="2708280"/>
            <a:ext cx="2089080" cy="14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Tahoma"/>
              </a:rPr>
              <a:t>Примеры учебных проектов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126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Проект «Осень на страницах школьного учебника» (Осенний урок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 в 5 кл. по учебнику Львовых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126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Проект «Пунктуация – система правил»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126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Проект «Публицистика Горького – его гражданская позиция» («Несвоевременные мысли»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126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Мультимедийный проект «Сын Земли и звёзд» ( о Ю.А.Гагарине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126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Проект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«Русская литература 20 века»  (темы, проблемы, герои…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 rot="1474200">
            <a:off x="6675120" y="4546080"/>
            <a:ext cx="1846080" cy="2016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 rot="19956600">
            <a:off x="436320" y="4505400"/>
            <a:ext cx="1753920" cy="2089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 rot="20655000">
            <a:off x="2428920" y="4270320"/>
            <a:ext cx="1851120" cy="21668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 rot="652200">
            <a:off x="4462560" y="4381560"/>
            <a:ext cx="1977840" cy="215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18009-4B0F-4010-8A4D-59E1A0BED25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68320" y="179280"/>
            <a:ext cx="77724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spcBef>
                <a:spcPts val="799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Сайты, на которых размещены работы мои и моих ученико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79280" y="4132440"/>
            <a:ext cx="3384720" cy="25714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00000" y="1440000"/>
            <a:ext cx="8075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4006b"/>
                </a:solidFill>
                <a:latin typeface="Times New Roman"/>
              </a:rPr>
              <a:t>«Стихи.ру», «Проза.ру», «Про школу.ру»,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4006b"/>
                </a:solidFill>
                <a:latin typeface="Times New Roman"/>
              </a:rPr>
              <a:t>сайт БИПКРО, «Открытый класс», «Педсовет.</a:t>
            </a:r>
            <a:r>
              <a:rPr b="1" i="1" lang="en-US" sz="2400" spc="-1" strike="noStrike">
                <a:solidFill>
                  <a:srgbClr val="94006b"/>
                </a:solidFill>
                <a:latin typeface="Times New Roman"/>
              </a:rPr>
              <a:t>org</a:t>
            </a:r>
            <a:r>
              <a:rPr b="1" i="1" lang="ru-RU" sz="2400" spc="-1" strike="noStrike">
                <a:solidFill>
                  <a:srgbClr val="94006b"/>
                </a:solidFill>
                <a:latin typeface="Times New Roman"/>
              </a:rPr>
              <a:t>»,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4006b"/>
                </a:solidFill>
                <a:latin typeface="Times New Roman"/>
              </a:rPr>
              <a:t>«Стенгазета»»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7020000" y="2781360"/>
            <a:ext cx="1908000" cy="18129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3276720" y="4630680"/>
            <a:ext cx="3528720" cy="22273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5"/>
          <a:stretch/>
        </p:blipFill>
        <p:spPr>
          <a:xfrm>
            <a:off x="6499080" y="4724280"/>
            <a:ext cx="2644920" cy="19605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6"/>
          <a:stretch/>
        </p:blipFill>
        <p:spPr>
          <a:xfrm>
            <a:off x="395280" y="2492280"/>
            <a:ext cx="2592360" cy="1501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7"/>
          <a:stretch/>
        </p:blipFill>
        <p:spPr>
          <a:xfrm>
            <a:off x="3276720" y="2565360"/>
            <a:ext cx="1898640" cy="2233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8"/>
          <a:stretch/>
        </p:blipFill>
        <p:spPr>
          <a:xfrm>
            <a:off x="5219640" y="2565360"/>
            <a:ext cx="1941480" cy="21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7B0DF-992A-41D2-95F6-8A7004E1FB7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000" y="-675000"/>
            <a:ext cx="77706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ahoma"/>
              </a:rPr>
              <a:t>Вклад в методическую копилку области</a:t>
            </a:r>
            <a:br>
              <a:rPr sz="3200"/>
            </a:b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(диски, переданные в БИПКРО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924360" y="1557360"/>
            <a:ext cx="3384360" cy="2536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3384720" cy="23637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2916360" y="4365720"/>
            <a:ext cx="3024000" cy="22730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7380360" y="1413000"/>
            <a:ext cx="1608120" cy="2303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250920" y="4797360"/>
            <a:ext cx="2501640" cy="18763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6"/>
          <a:stretch/>
        </p:blipFill>
        <p:spPr>
          <a:xfrm>
            <a:off x="6084720" y="4508640"/>
            <a:ext cx="2843280" cy="21319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7"/>
          <a:stretch/>
        </p:blipFill>
        <p:spPr>
          <a:xfrm>
            <a:off x="179280" y="4365720"/>
            <a:ext cx="147168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08:43:51Z</dcterms:created>
  <dc:creator>Ирина</dc:creator>
  <dc:description/>
  <dc:language>en-US</dc:language>
  <cp:lastModifiedBy>Натали</cp:lastModifiedBy>
  <dcterms:modified xsi:type="dcterms:W3CDTF">2011-10-17T20:00:38Z</dcterms:modified>
  <cp:revision>189</cp:revision>
  <dc:subject/>
  <dc:title>Презентация PowerPoint</dc:title>
</cp:coreProperties>
</file>