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70F-3183-49A1-84BF-3DE97836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96C-3510-4593-A49A-B4D15E8C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9D0-D022-4D51-B45E-F8B8EDE0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333-03C3-49A8-949A-9DD2612A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B8A9-B7EE-4529-B3B8-58BACFF1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E422-E8E1-4268-9576-2D12D87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159-1483-4071-B4B6-5EE99622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C80D-6C89-490B-B4D6-D23E859B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393F-11DC-4887-8D05-C1BC3E0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5FD-29AC-41AF-83E7-E052B040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E7A5-7FE6-40B4-B5B7-44B90C4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E68-5A97-4F7B-87C3-A08B6D9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9FF-81B5-4EEF-91F5-02DC5DDB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F157-65ED-4BF5-9BFE-52DF9201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A65C-63EC-4433-B56D-7F5EEF96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B61F-FB18-4509-9C4C-AF07B905D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09DB-AB8F-4C6A-867A-DA9E76BC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2BA-F1B6-4B34-8E21-411D4A6B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2C3-901C-4860-B338-B1AD1D9D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08F-D60A-486B-B66E-36FEB62F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E6F-B79A-4CF8-9C99-594F097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0FF-CED7-4392-9808-4AC67FA5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EEE-F5B6-43EB-87F8-57800913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9C7-EDB4-4FE0-9EBA-4567D0C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9C08-991F-452F-8037-AFC4784A9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E913-8518-4EF3-AA64-645072CFE4E7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1"/>
          <p:cNvSpPr/>
          <p:nvPr/>
        </p:nvSpPr>
        <p:spPr>
          <a:xfrm>
            <a:off x="2357280" y="5429160"/>
            <a:ext cx="366264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f5a3e"/>
                </a:solidFill>
                <a:latin typeface="Arial"/>
              </a:rPr>
              <a:t>УЧИТЕЛЬ ГЕОГРАФИИ СЛЮЗОВА Т. 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ГЕОГРАФИЯ</a:t>
            </a:r>
            <a:br>
              <a:rPr sz="5100"/>
            </a:br>
            <a:r>
              <a:rPr b="0" lang="en-US" sz="5100" spc="-1" strike="noStrike">
                <a:solidFill>
                  <a:srgbClr val="3b3b3b"/>
                </a:solidFill>
                <a:latin typeface="Arial"/>
              </a:rPr>
              <a:t>ПРИРОДНЫХ РЕСУРСОВ</a:t>
            </a:r>
            <a:br>
              <a:rPr sz="5100"/>
            </a:br>
            <a:r>
              <a:rPr b="0" lang="en-US" sz="5100" spc="-1" strike="noStrike">
                <a:solidFill>
                  <a:srgbClr val="171717"/>
                </a:solidFill>
                <a:latin typeface="Arial"/>
              </a:rPr>
              <a:t>МИР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824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Распределение  водных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ресурсов  по  регионам  мира  (тыс. км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59280" y="1341000"/>
            <a:ext cx="40384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Крупнейшие страны мира  по  запасам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ресной воды  (тыс. км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5899320"/>
            <a:ext cx="9144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aeaea"/>
                </a:solidFill>
                <a:latin typeface="Verdana"/>
              </a:rPr>
              <a:t>Используя  рис.  8  учебника  ( стр.  31 ),  выпишите  5  стран                    с  максимальными  и  5  стран  с  минимальными  показателями  обеспеченности  водными  ресурсами  на  душу  населения.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12" name="Object 7"/>
          <p:cNvGraphicFramePr/>
          <p:nvPr/>
        </p:nvGraphicFramePr>
        <p:xfrm>
          <a:off x="0" y="2349360"/>
          <a:ext cx="4572000" cy="37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4572000" cy="37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8"/>
          <p:cNvGraphicFramePr/>
          <p:nvPr/>
        </p:nvGraphicFramePr>
        <p:xfrm>
          <a:off x="4788000" y="2421000"/>
          <a:ext cx="4356000" cy="37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21000"/>
                    <a:ext cx="43560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46360" y="1052640"/>
            <a:ext cx="74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рупнейшие  водохранилища  ми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471840" y="257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9640" y="1839960"/>
          <a:ext cx="8280360" cy="4541760"/>
        </p:xfrm>
        <a:graphic>
          <a:graphicData uri="http://schemas.openxmlformats.org/drawingml/2006/table">
            <a:tbl>
              <a:tblPr/>
              <a:tblGrid>
                <a:gridCol w="1000080"/>
                <a:gridCol w="2455920"/>
                <a:gridCol w="2754360"/>
                <a:gridCol w="2070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№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/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п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звание  водохранилищ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Объём  воды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( км</a:t>
                      </a:r>
                      <a:r>
                        <a:rPr b="0" i="1" lang="en-US" sz="2000" spc="-1" strike="noStrike" baseline="30000">
                          <a:solidFill>
                            <a:srgbClr val="eaeaea"/>
                          </a:solidFill>
                          <a:latin typeface="Verdana"/>
                        </a:rPr>
                        <a:t>3</a:t>
                      </a: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) 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ения,  Танзания, Уганд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04,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2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9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Замбия,  Зимбабв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60,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4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Нас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Египет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57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5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ольт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in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6347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лемы  использова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84720" y="2492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Загрязн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043280" y="24922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ост  потребл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26720" y="328464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рациональное  использова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548800" y="508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ешение проблемы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65840" y="5761080"/>
            <a:ext cx="843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уменьшение  водоёмкости  производственных  процесс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сооружение  водохранилищ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опреснение  морской  воды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141640" y="4292640"/>
            <a:ext cx="50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Verdana"/>
              </a:rPr>
              <a:t>Дефицит пресной  воды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AutoShape 17"/>
          <p:cNvSpPr/>
          <p:nvPr/>
        </p:nvSpPr>
        <p:spPr>
          <a:xfrm>
            <a:off x="250920" y="2492280"/>
            <a:ext cx="647640" cy="2448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28040 h 2448000"/>
              <a:gd name="textAreaBottom" fmla="*/ 177516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9" stAng="-5400000" swAng="-5400000"/>
                <a:lnTo>
                  <a:pt x="0" y="11885"/>
                </a:lnTo>
                <a:arcTo wR="21600" hR="7559" stAng="10800000" swAng="-2682296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5"/>
                </a:lnTo>
                <a:arcTo wR="21600" hR="7559" stAng="8117704" swAng="2324319"/>
                <a:lnTo>
                  <a:pt x="903" y="9721"/>
                </a:lnTo>
                <a:arcTo wR="21600" hR="7559" stAng="-10442022" swAng="5042022"/>
                <a:close/>
              </a:path>
              <a:path fill="darkenLess" w="21600" h="21600">
                <a:moveTo>
                  <a:pt x="21600" y="0"/>
                </a:moveTo>
                <a:arcTo wR="21600" hR="7559" stAng="-5400000" swAng="-5400000"/>
                <a:lnTo>
                  <a:pt x="0" y="7559"/>
                </a:lnTo>
                <a:arcTo wR="21600" hR="7559" stAng="10800000" swAng="-357978"/>
                <a:lnTo>
                  <a:pt x="903" y="9721"/>
                </a:lnTo>
                <a:arcTo wR="21600" hR="7559" stAng="-10442022" swAng="5042022"/>
                <a:close/>
              </a:path>
            </a:pathLst>
          </a:cu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8244000" y="2637000"/>
            <a:ext cx="647640" cy="230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408600 h 2304720"/>
              <a:gd name="textAreaBottom" fmla="*/ 16437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2705673"/>
                <a:lnTo>
                  <a:pt x="7200" y="21162"/>
                </a:lnTo>
                <a:lnTo>
                  <a:pt x="0" y="17280"/>
                </a:lnTo>
                <a:lnTo>
                  <a:pt x="7200" y="12522"/>
                </a:lnTo>
                <a:lnTo>
                  <a:pt x="7200" y="14886"/>
                </a:lnTo>
                <a:arcTo wR="21600" hR="7662" stAng="2705673" swAng="-2384634"/>
                <a:lnTo>
                  <a:pt x="20884" y="9618"/>
                </a:lnTo>
                <a:arcTo wR="21600" hR="7662" stAng="-321039" swAng="-5078961"/>
                <a:close/>
              </a:path>
              <a:path fill="darkenLess"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-321039"/>
                <a:lnTo>
                  <a:pt x="20884" y="9618"/>
                </a:lnTo>
                <a:arcTo wR="21600" hR="7662" stAng="-321039" swAng="-5078961"/>
                <a:close/>
              </a:path>
            </a:pathLst>
          </a:cu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3851280" y="371628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497800" cy="962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Arial"/>
              </a:rPr>
              <a:t>Гидроэнергетические  ресурсы  мира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34" name="Object 6"/>
          <p:cNvGraphicFramePr/>
          <p:nvPr/>
        </p:nvGraphicFramePr>
        <p:xfrm>
          <a:off x="900000" y="2205000"/>
          <a:ext cx="738036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05000"/>
                    <a:ext cx="73803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7"/>
          <p:cNvSpPr/>
          <p:nvPr/>
        </p:nvSpPr>
        <p:spPr>
          <a:xfrm>
            <a:off x="395280" y="2133720"/>
            <a:ext cx="820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Гидроэнергопотенциал  регионов  мира  ( % )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46836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c85e"/>
                </a:solidFill>
                <a:latin typeface="Verdana"/>
              </a:rPr>
              <a:t>Гидроэнергоресурсы – это  ресурсы  воды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ec85e"/>
                </a:solidFill>
                <a:latin typeface="Verdana"/>
              </a:rPr>
              <a:t>пригодные  для  получения  электроэнерг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50920" y="621648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Используя  текст  учебника  ( стр.  33 ),  выпишите  в  тетрадь              6  стран,  обладающих  наибольшим  гидроэнергопотенциал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cc"/>
                </a:solidFill>
                <a:latin typeface="Arial"/>
              </a:rPr>
              <a:t>Геотермальные ресурсы мира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45960" y="6461280"/>
            <a:ext cx="84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Назовите  5 – 7  стран,  обладающих  геотермальными  ресурс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250920" y="98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Геотермальные  ресурсы – это  внутренняя  энерг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Земл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3" name="Picture 9" descr="geoterm"/>
          <p:cNvPicPr/>
          <p:nvPr/>
        </p:nvPicPr>
        <p:blipFill>
          <a:blip r:embed="rId1"/>
          <a:stretch/>
        </p:blipFill>
        <p:spPr>
          <a:xfrm>
            <a:off x="539640" y="1916280"/>
            <a:ext cx="8334360" cy="44575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3615120" y="522936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Тихоокеанское огненное кольц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6" descr="zony"/>
          <p:cNvPicPr/>
          <p:nvPr/>
        </p:nvPicPr>
        <p:blipFill>
          <a:blip r:embed="rId1"/>
          <a:stretch/>
        </p:blipFill>
        <p:spPr>
          <a:xfrm>
            <a:off x="2933640" y="2565360"/>
            <a:ext cx="6210360" cy="3095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cc"/>
                </a:solidFill>
                <a:latin typeface="Arial"/>
              </a:rPr>
              <a:t>Агроклиматические ресурсы мира</a:t>
            </a:r>
            <a:endParaRPr b="0" lang="en-US" sz="4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24000" y="1125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402200" y="112536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лавный  показатель – сумма  активных  температу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0" y="162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Сумма  активных  температур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– сумма  среднесуточных  температур  выше  + 10</a:t>
            </a:r>
            <a:r>
              <a:rPr b="0" i="1" lang="ru-RU" sz="2400" spc="-1" strike="noStrike" baseline="30000">
                <a:solidFill>
                  <a:srgbClr val="eaeaea"/>
                </a:solidFill>
                <a:latin typeface="Verdana"/>
              </a:rPr>
              <a:t>о</a:t>
            </a: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С  в  течение  год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26370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Закон  географической  зональности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 ближе  к  экватору –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м  …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 ближе  к  полюсам – тем 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Вывод:  наилучшими  агроклиматическими  ресурсами  обладают  страны  жаркого  теплового  пояса.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366520" y="39337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Жарки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5249520" y="31417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320800" y="4653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5241240" y="249228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168160" y="530064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Ресурсы  Мирового  океан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24000" y="1549440"/>
            <a:ext cx="51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54120" y="1125360"/>
            <a:ext cx="395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Ресурсы  Мирового  океан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50920" y="21337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орская  вод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773360" y="2133720"/>
            <a:ext cx="19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неральны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сурс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дн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041720" y="213372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Энергетическ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627960" y="2133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Биологическ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6046920" y="112536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Рекреацион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840600" y="335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д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7720" y="38606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творён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еществ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3980520" y="2997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  приливо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262400" y="37162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  волн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4119120" y="45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  течени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 Box 19"/>
          <p:cNvSpPr/>
          <p:nvPr/>
        </p:nvSpPr>
        <p:spPr>
          <a:xfrm>
            <a:off x="4239720" y="515772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Энерг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емпературног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радиент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Text Box 20"/>
          <p:cNvSpPr/>
          <p:nvPr/>
        </p:nvSpPr>
        <p:spPr>
          <a:xfrm>
            <a:off x="7103160" y="314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ыб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6688440" y="400536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рские  живот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22"/>
          <p:cNvSpPr/>
          <p:nvPr/>
        </p:nvSpPr>
        <p:spPr>
          <a:xfrm>
            <a:off x="6904800" y="49417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аститель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есур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-4320" y="472428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1270080" y="48690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906840" y="5950080"/>
            <a:ext cx="4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338400" y="5373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aCl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3288240" y="357336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199320" y="4076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M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3287880" y="51577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1922040" y="5589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лмаз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1925640" y="3573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еф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2209680" y="42210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аз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2139840" y="4941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Z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Text Box 35"/>
          <p:cNvSpPr/>
          <p:nvPr/>
        </p:nvSpPr>
        <p:spPr>
          <a:xfrm>
            <a:off x="3211200" y="46530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Text Box 36"/>
          <p:cNvSpPr/>
          <p:nvPr/>
        </p:nvSpPr>
        <p:spPr>
          <a:xfrm>
            <a:off x="2089080" y="6093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фосфорит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AutoShape 37"/>
          <p:cNvSpPr/>
          <p:nvPr/>
        </p:nvSpPr>
        <p:spPr>
          <a:xfrm>
            <a:off x="826920" y="162864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AutoShape 38"/>
          <p:cNvSpPr/>
          <p:nvPr/>
        </p:nvSpPr>
        <p:spPr>
          <a:xfrm>
            <a:off x="2627280" y="1557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AutoShape 39"/>
          <p:cNvSpPr/>
          <p:nvPr/>
        </p:nvSpPr>
        <p:spPr>
          <a:xfrm>
            <a:off x="4427640" y="162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AutoShape 40"/>
          <p:cNvSpPr/>
          <p:nvPr/>
        </p:nvSpPr>
        <p:spPr>
          <a:xfrm rot="17460000">
            <a:off x="5796720" y="1053000"/>
            <a:ext cx="142920" cy="1582920"/>
          </a:xfrm>
          <a:prstGeom prst="downArrow">
            <a:avLst>
              <a:gd name="adj1" fmla="val 50000"/>
              <a:gd name="adj2" fmla="val 2768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AutoShape 41"/>
          <p:cNvSpPr/>
          <p:nvPr/>
        </p:nvSpPr>
        <p:spPr>
          <a:xfrm>
            <a:off x="1042920" y="285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2" name="AutoShape 42"/>
          <p:cNvSpPr/>
          <p:nvPr/>
        </p:nvSpPr>
        <p:spPr>
          <a:xfrm rot="16200000">
            <a:off x="5364000" y="728280"/>
            <a:ext cx="108000" cy="1187640"/>
          </a:xfrm>
          <a:prstGeom prst="downArrow">
            <a:avLst>
              <a:gd name="adj1" fmla="val 50000"/>
              <a:gd name="adj2" fmla="val 27491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3" name="AutoShape 44"/>
          <p:cNvSpPr/>
          <p:nvPr/>
        </p:nvSpPr>
        <p:spPr>
          <a:xfrm>
            <a:off x="395280" y="256536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1835280" y="2133720"/>
            <a:ext cx="0" cy="431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3851280" y="2133720"/>
            <a:ext cx="0" cy="431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Line 48"/>
          <p:cNvSpPr/>
          <p:nvPr/>
        </p:nvSpPr>
        <p:spPr>
          <a:xfrm>
            <a:off x="6516720" y="2205000"/>
            <a:ext cx="0" cy="4319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cc"/>
                </a:solidFill>
                <a:latin typeface="Arial"/>
              </a:rPr>
              <a:t>Рекреационные ресурсы мира</a:t>
            </a:r>
            <a:endParaRPr b="0" lang="en-US" sz="4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2268360" y="141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042920" y="2349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4500720" y="234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553320" y="3573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рски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991520" y="45086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р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3168720" y="35733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андшафт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6016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Приведите  примеры  рекреационных  районов  и  центров  различных  тип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0" y="126828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Что  тако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креационные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есурсы 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242600" y="1268280"/>
            <a:ext cx="46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ec85e"/>
                </a:solidFill>
                <a:latin typeface="Verdana"/>
              </a:rPr>
              <a:t>Рекреационные  ресурсы -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ec85e"/>
                </a:solidFill>
                <a:latin typeface="Verdana"/>
              </a:rPr>
              <a:t>это  ресурсы  для  отдыха  челове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2178360" y="206064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екреационные  ресурс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1619280" y="292428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Природны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5027040" y="2997360"/>
            <a:ext cx="361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aeaea"/>
                </a:solidFill>
                <a:latin typeface="Verdana"/>
              </a:rPr>
              <a:t>Историко-культурны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AutoShape 35"/>
          <p:cNvSpPr/>
          <p:nvPr/>
        </p:nvSpPr>
        <p:spPr>
          <a:xfrm>
            <a:off x="2484360" y="256536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AutoShape 36"/>
          <p:cNvSpPr/>
          <p:nvPr/>
        </p:nvSpPr>
        <p:spPr>
          <a:xfrm>
            <a:off x="6012000" y="2565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3" name="AutoShape 37"/>
          <p:cNvSpPr/>
          <p:nvPr/>
        </p:nvSpPr>
        <p:spPr>
          <a:xfrm rot="18900000">
            <a:off x="3708360" y="321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AutoShape 38"/>
          <p:cNvSpPr/>
          <p:nvPr/>
        </p:nvSpPr>
        <p:spPr>
          <a:xfrm rot="2700000">
            <a:off x="1367280" y="324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AutoShape 39"/>
          <p:cNvSpPr/>
          <p:nvPr/>
        </p:nvSpPr>
        <p:spPr>
          <a:xfrm>
            <a:off x="2484360" y="3429000"/>
            <a:ext cx="144720" cy="1008000"/>
          </a:xfrm>
          <a:prstGeom prst="downArrow">
            <a:avLst>
              <a:gd name="adj1" fmla="val 50000"/>
              <a:gd name="adj2" fmla="val 17412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6" name="Picture 51" descr="taj_mahal"/>
          <p:cNvPicPr/>
          <p:nvPr/>
        </p:nvPicPr>
        <p:blipFill>
          <a:blip r:embed="rId1"/>
          <a:stretch/>
        </p:blipFill>
        <p:spPr>
          <a:xfrm>
            <a:off x="5796000" y="3703680"/>
            <a:ext cx="2592360" cy="1892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3" descr="beach"/>
          <p:cNvPicPr/>
          <p:nvPr/>
        </p:nvPicPr>
        <p:blipFill>
          <a:blip r:embed="rId2"/>
          <a:stretch/>
        </p:blipFill>
        <p:spPr>
          <a:xfrm>
            <a:off x="250920" y="3933720"/>
            <a:ext cx="1476360" cy="1017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4" descr="slope"/>
          <p:cNvPicPr/>
          <p:nvPr/>
        </p:nvPicPr>
        <p:blipFill>
          <a:blip r:embed="rId3"/>
          <a:stretch/>
        </p:blipFill>
        <p:spPr>
          <a:xfrm>
            <a:off x="1692360" y="501336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6" descr="landscape1"/>
          <p:cNvPicPr/>
          <p:nvPr/>
        </p:nvPicPr>
        <p:blipFill>
          <a:blip r:embed="rId4"/>
          <a:stretch/>
        </p:blipFill>
        <p:spPr>
          <a:xfrm>
            <a:off x="3276720" y="3933720"/>
            <a:ext cx="1511280" cy="108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Территориальные ресурсы мир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рупнейшие страны ми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площади террито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(млн. км</a:t>
            </a:r>
            <a:r>
              <a:rPr b="0" i="1" lang="en-US" sz="24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Россия – 17,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анада – 10,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итай – 9,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ША – 9,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28120" indent="-5281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Бразилия – 8,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рупнейшие страны ми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по площади эффективн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территории (млн. км</a:t>
            </a:r>
            <a:r>
              <a:rPr b="0" i="1" lang="en-US" sz="24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Бразилия – 8,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США – 7,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Австралия – 7,7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Китай – 6,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Россия – 5,5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58197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Verdana"/>
              </a:rPr>
              <a:t>Эффективная территория</a:t>
            </a:r>
            <a:r>
              <a:rPr b="0" lang="en-US" sz="2600" spc="-1" strike="noStrike">
                <a:solidFill>
                  <a:srgbClr val="eaeaea"/>
                </a:solidFill>
                <a:latin typeface="Verdana"/>
              </a:rPr>
              <a:t> – это территория страны, пригодная для хозяйственного освоения</a:t>
            </a:r>
            <a:endParaRPr b="0" lang="en-US" sz="2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Земельные ресурсы мир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5899320"/>
            <a:ext cx="8893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aeaea"/>
                </a:solidFill>
                <a:latin typeface="Verdana"/>
              </a:rPr>
              <a:t>Используя  рис.  7  учебника  ( стр.  30 ),  выпишите  в  тетрадь       5  стран,  в  структуре  земельного  фонда  которых  преобладает  пашня,  5  стран – пастбища  и  5 – непродуктивные  земли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900000" y="981000"/>
            <a:ext cx="7344000" cy="47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З е м е л ь н ы е     р е с у р с ы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2060640"/>
            <a:ext cx="2627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Verdana"/>
              </a:rPr>
              <a:t>Сельскохозяйст-венные угодь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48784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944080" y="2349360"/>
            <a:ext cx="826920" cy="429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Лес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995640" y="2060640"/>
            <a:ext cx="2160720" cy="1099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Населён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ункты,  дорог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399000" y="2060640"/>
            <a:ext cx="2449800" cy="1099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Малопригод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и непригодны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земл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0" y="3573360"/>
            <a:ext cx="140328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ашн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 88 % 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882400" y="37162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боло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476360" y="3573360"/>
            <a:ext cx="2735280" cy="703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уга  и  пастбищ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( 10 % 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7885800" y="3645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пустын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80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899400" y="3933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ледни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5" name="Object 18"/>
          <p:cNvGraphicFramePr/>
          <p:nvPr/>
        </p:nvGraphicFramePr>
        <p:xfrm>
          <a:off x="0" y="4437000"/>
          <a:ext cx="901080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37000"/>
                    <a:ext cx="90108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AutoShape 24"/>
          <p:cNvSpPr/>
          <p:nvPr/>
        </p:nvSpPr>
        <p:spPr>
          <a:xfrm>
            <a:off x="5076720" y="148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AutoShape 25"/>
          <p:cNvSpPr/>
          <p:nvPr/>
        </p:nvSpPr>
        <p:spPr>
          <a:xfrm>
            <a:off x="147636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334800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752472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539640" y="292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2124000" y="292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658800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380360" y="342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AutoShape 32"/>
          <p:cNvSpPr/>
          <p:nvPr/>
        </p:nvSpPr>
        <p:spPr>
          <a:xfrm>
            <a:off x="845964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Земельные  ресурсы  мир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4000" y="1484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250920" y="2133720"/>
          <a:ext cx="849636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84963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5"/>
          <p:cNvSpPr/>
          <p:nvPr/>
        </p:nvSpPr>
        <p:spPr>
          <a:xfrm>
            <a:off x="684360" y="1341360"/>
            <a:ext cx="732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Крупнейшие  страны  мира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Verdana"/>
              </a:rPr>
              <a:t>по  размерам  площади  пашни</a:t>
            </a:r>
            <a:endParaRPr b="0" lang="en-US" sz="3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04820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6216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Используя  рис.  7  учебника  ( стр.  30 ),  выпишите  5  стран – лидеров  по  обеспеченности  пашней  на  душу  насел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cc"/>
                </a:solidFill>
                <a:latin typeface="Arial"/>
              </a:rPr>
              <a:t>Земельные  ресурсы  мира</a:t>
            </a:r>
            <a:endParaRPr b="0" lang="en-US" sz="4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зменение  земельного  фонд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375640" y="184464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Два  противоположных  процес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997360"/>
            <a:ext cx="38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сшир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76720" y="299736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Истощен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4292640"/>
            <a:ext cx="42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воение  залежных  земел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мелиорац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уш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рошени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освоение  прибрежных      участков  морей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86516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732720" y="1989000"/>
            <a:ext cx="58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_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280200" y="51721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796720" y="4444920"/>
            <a:ext cx="2751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эрозия  почвы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заболачивани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засолени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опустынивание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343440" y="6435720"/>
            <a:ext cx="832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66"/>
                </a:solidFill>
                <a:latin typeface="Verdana"/>
              </a:rPr>
              <a:t>Внимание опасность</a:t>
            </a:r>
            <a:r>
              <a:rPr b="1" i="1" lang="en-US" sz="2000" spc="-1" strike="noStrike">
                <a:solidFill>
                  <a:srgbClr val="ff0066"/>
                </a:solidFill>
                <a:latin typeface="Verdana"/>
              </a:rPr>
              <a:t>: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земельные ресурсы мира сокращаются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lus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Лесные  ресурсы  мир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196000" y="1341360"/>
            <a:ext cx="470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Лесные  пояса  мира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77280" y="2276640"/>
            <a:ext cx="392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Северный  лесной  пояс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893480" y="2276640"/>
            <a:ext cx="35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Южный  лесной  пояс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03800" y="5013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Леса  умеренного  поя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716360" y="49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Влажные  экваториаль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и  переменно-влажные  лес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621648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eaeaea"/>
                </a:solidFill>
                <a:latin typeface="Verdana"/>
              </a:rPr>
              <a:t>Используя  рис.  9  учебника  ( стр.  31 ),  выпишите  по  5  стран  Северного  и  Южного  лесных  поясов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62288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15996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AutoShape 12"/>
          <p:cNvSpPr/>
          <p:nvPr/>
        </p:nvSpPr>
        <p:spPr>
          <a:xfrm>
            <a:off x="277164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608472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18" descr="jungle"/>
          <p:cNvPicPr/>
          <p:nvPr/>
        </p:nvPicPr>
        <p:blipFill>
          <a:blip r:embed="rId1"/>
          <a:stretch/>
        </p:blipFill>
        <p:spPr>
          <a:xfrm>
            <a:off x="5076720" y="2781360"/>
            <a:ext cx="3341880" cy="2236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taiga"/>
          <p:cNvPicPr/>
          <p:nvPr/>
        </p:nvPicPr>
        <p:blipFill>
          <a:blip r:embed="rId2"/>
          <a:stretch/>
        </p:blipFill>
        <p:spPr>
          <a:xfrm>
            <a:off x="971640" y="2708280"/>
            <a:ext cx="2244600" cy="2368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ес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Крупнейшие  страны  мир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по  площади   ле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( млн.  га</a:t>
            </a:r>
            <a:r>
              <a:rPr b="0" lang="en-US" sz="2200" spc="-1" strike="noStrike" baseline="30000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Лесистость  территории  по  регионам  мир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( % )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24000" y="1268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0" y="58053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Используя  рис.  9  учебника  ( стр.  31 ),   выпиши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5  крупнейших  стран  по  обеспеченности    лесными  ресурсами  на  душу  насел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83" name="Object 8"/>
          <p:cNvGraphicFramePr/>
          <p:nvPr/>
        </p:nvGraphicFramePr>
        <p:xfrm>
          <a:off x="571680" y="2919240"/>
          <a:ext cx="349560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919240"/>
                    <a:ext cx="349560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9"/>
          <p:cNvGraphicFramePr/>
          <p:nvPr/>
        </p:nvGraphicFramePr>
        <p:xfrm>
          <a:off x="0" y="2492280"/>
          <a:ext cx="4500720" cy="347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4500720" cy="34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1"/>
          <p:cNvGraphicFramePr/>
          <p:nvPr/>
        </p:nvGraphicFramePr>
        <p:xfrm>
          <a:off x="4643280" y="2492280"/>
          <a:ext cx="4500720" cy="33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492280"/>
                    <a:ext cx="4500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есные  ресурсы  мир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111400" y="522936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Сокращение  площади  лес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50920" y="3789360"/>
            <a:ext cx="35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Нерациональное  использовани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лесных  ресур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427640" y="378936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50 %  вырубленного  лес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в  развивающихся  странах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идёт  на  дрова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307880" y="5950080"/>
            <a:ext cx="69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лема  обезлесения планеты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39640" y="2133720"/>
            <a:ext cx="272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Огромные  масштабы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вырубки  лесов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83220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797280" y="2133720"/>
            <a:ext cx="520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Отсутствие  лесовосстановительных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работ  в  России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Verdana"/>
              </a:rPr>
              <a:t>и  в  развивающихся  странах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4026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облемы  использовани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692360" y="3284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2556000" y="486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AutoShape 15"/>
          <p:cNvSpPr/>
          <p:nvPr/>
        </p:nvSpPr>
        <p:spPr>
          <a:xfrm rot="2700000">
            <a:off x="3562920" y="321372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AutoShape 16"/>
          <p:cNvSpPr/>
          <p:nvPr/>
        </p:nvSpPr>
        <p:spPr>
          <a:xfrm rot="5400000">
            <a:off x="3994560" y="386136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497800" cy="961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Водные  ресурсы  мира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1701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eaea"/>
                </a:solidFill>
                <a:latin typeface="Verdana"/>
              </a:rPr>
              <a:t>Распределение  воды  в  гидросфере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205" name="Object 6"/>
          <p:cNvGraphicFramePr/>
          <p:nvPr/>
        </p:nvGraphicFramePr>
        <p:xfrm>
          <a:off x="324000" y="2349360"/>
          <a:ext cx="85122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85122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7"/>
          <p:cNvSpPr/>
          <p:nvPr/>
        </p:nvSpPr>
        <p:spPr>
          <a:xfrm>
            <a:off x="395280" y="59500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На пресные воды приходится около 2,5 % общего объёма гидросфе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diamond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6:50:59Z</dcterms:created>
  <dc:creator>JULIA</dc:creator>
  <dc:description/>
  <dc:language>en-US</dc:language>
  <cp:lastModifiedBy>Customer</cp:lastModifiedBy>
  <dcterms:modified xsi:type="dcterms:W3CDTF">2012-06-22T04:12:30Z</dcterms:modified>
  <cp:revision>133</cp:revision>
  <dc:subject/>
  <dc:title>ГЕОГРАФИЯ ПРИРОДНЫХ РЕСУРСОВ МИРА</dc:title>
</cp:coreProperties>
</file>