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17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56C-D067-42E0-A3E4-F9E5392C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963-5B5C-4F0D-B355-EE621F15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347-5713-423D-81CA-1DA818B9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A09-4D2D-4D04-BAE1-CA1BEF55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CF59-C71E-4B6D-B06F-07422065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2387-6733-4BDE-872D-DC2DA637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4D44-F44B-4C6F-BEB2-852D4B31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CA01-778F-4B20-85E6-3E0C1CAC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EFE1-E8FA-4197-849D-9499B251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EBED-F203-40C3-A624-748A144D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7D88-2338-4E01-A78E-13DBEBE2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13CA-B4D3-45F9-B5D9-5E301404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F568-536B-48CD-A17A-F090777D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4CA0-6C2F-4341-91E6-F3B69130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4DDA-2012-4985-B57D-817C8B08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D754-F85E-4BD8-ABE5-E0337084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F26E-B9FD-4C43-B394-9137B632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EA1-69B8-409E-9BAD-6F43F6E1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9FA-CF0C-4901-8754-39EBB858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A60-B8E7-4468-B7CA-838E0EEC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9FE-D5BA-4165-A37F-2DB5ABDD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D4A-9DB6-4E21-8039-3B962B2C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EB2-3654-4F17-BD72-AE55D9E7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591-13E1-4486-89D3-1DA1F8C2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A&amp;J Frombe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3E79-592C-4B22-8E43-6B7AB26D08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A&amp;J Frombe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2925-1DE4-4593-98CA-FB4EB0FB9A7A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1"/>
          <p:cNvSpPr/>
          <p:nvPr/>
        </p:nvSpPr>
        <p:spPr>
          <a:xfrm>
            <a:off x="2357280" y="5429160"/>
            <a:ext cx="366264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f5a3e"/>
                </a:solidFill>
                <a:latin typeface="Arial"/>
              </a:rPr>
              <a:t>УЧИТЕЛЬ ГЕОГРАФИИ СЛЮЗОВА Т. 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51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ГЕОГРАФИЯ</a:t>
            </a:r>
            <a:br>
              <a:rPr sz="5100"/>
            </a:br>
            <a:r>
              <a:rPr b="0" lang="en-US" sz="5100" spc="-1" strike="noStrike">
                <a:solidFill>
                  <a:srgbClr val="3b3b3b"/>
                </a:solidFill>
                <a:latin typeface="Arial"/>
              </a:rPr>
              <a:t>ПРИРОДНЫХ РЕСУРСОВ</a:t>
            </a:r>
            <a:br>
              <a:rPr sz="5100"/>
            </a:br>
            <a:r>
              <a:rPr b="0" lang="en-US" sz="5100" spc="-1" strike="noStrike">
                <a:solidFill>
                  <a:srgbClr val="171717"/>
                </a:solidFill>
                <a:latin typeface="Arial"/>
              </a:rPr>
              <a:t>МИР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одные  ресурсы  ми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48243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Распределение  водных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ресурсов  по  регионам  мира  (тыс. км</a:t>
            </a:r>
            <a:r>
              <a:rPr b="0" lang="en-US" sz="2200" spc="-1" strike="noStrike" baseline="30000">
                <a:solidFill>
                  <a:srgbClr val="eaeaea"/>
                </a:solidFill>
                <a:latin typeface="Verdana"/>
              </a:rPr>
              <a:t>3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59280" y="1341000"/>
            <a:ext cx="40384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Крупнейшие страны мира  по  запасам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пресной воды  (тыс. км</a:t>
            </a:r>
            <a:r>
              <a:rPr b="0" lang="en-US" sz="2200" spc="-1" strike="noStrike" baseline="30000">
                <a:solidFill>
                  <a:srgbClr val="eaeaea"/>
                </a:solidFill>
                <a:latin typeface="Verdana"/>
              </a:rPr>
              <a:t>3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0" y="5899320"/>
            <a:ext cx="9144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eaeaea"/>
                </a:solidFill>
                <a:latin typeface="Verdana"/>
              </a:rPr>
              <a:t>Используя  рис.  8  учебника  ( стр.  31 ),  выпишите  5  стран                    с  максимальными  и  5  стран  с  минимальными  показателями  обеспеченности  водными  ресурсами  на  душу  населения.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212" name="Object 7"/>
          <p:cNvGraphicFramePr/>
          <p:nvPr/>
        </p:nvGraphicFramePr>
        <p:xfrm>
          <a:off x="0" y="2349360"/>
          <a:ext cx="4572000" cy="37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4572000" cy="37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8"/>
          <p:cNvGraphicFramePr/>
          <p:nvPr/>
        </p:nvGraphicFramePr>
        <p:xfrm>
          <a:off x="4788000" y="2421000"/>
          <a:ext cx="4356000" cy="370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421000"/>
                    <a:ext cx="435600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5840" y="0"/>
            <a:ext cx="8497800" cy="961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Водные  ресурсы  мира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46360" y="1052640"/>
            <a:ext cx="74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рупнейшие  водохранилища  ми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3471840" y="2579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9640" y="1839960"/>
          <a:ext cx="8280360" cy="4541760"/>
        </p:xfrm>
        <a:graphic>
          <a:graphicData uri="http://schemas.openxmlformats.org/drawingml/2006/table">
            <a:tbl>
              <a:tblPr/>
              <a:tblGrid>
                <a:gridCol w="1000080"/>
                <a:gridCol w="2455920"/>
                <a:gridCol w="2754360"/>
                <a:gridCol w="207000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№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/</a:t>
                      </a: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Название  водохранилищ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бъём  вод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( км</a:t>
                      </a:r>
                      <a:r>
                        <a:rPr b="0" i="1" lang="en-US" sz="2000" spc="-1" strike="noStrike" baseline="30000">
                          <a:solidFill>
                            <a:srgbClr val="eaeaea"/>
                          </a:solidFill>
                          <a:latin typeface="Verdana"/>
                        </a:rPr>
                        <a:t>3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) 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иктор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Кения,  Танзания, Уганд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04,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Братско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69,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Кариб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амбия,  Зимбабв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60,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Насе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Египе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57,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5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ольт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ан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48,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in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одные  ресурсы  ми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47280" y="1484280"/>
            <a:ext cx="6347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облемы  использования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084720" y="249228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Загрязнен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043280" y="249228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Рост  потреблен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926720" y="328464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Нерациональное  использован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548800" y="508464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Решение проблемы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465840" y="5761080"/>
            <a:ext cx="843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Verdana"/>
              </a:rPr>
              <a:t>уменьшение  водоёмкости  производственных  процессов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Verdana"/>
              </a:rPr>
              <a:t>сооружение  водохранилищ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Verdana"/>
              </a:rPr>
              <a:t>опреснение  морской  воды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141640" y="4292640"/>
            <a:ext cx="505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Verdana"/>
              </a:rPr>
              <a:t>Дефицит пресной  воды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AutoShape 17"/>
          <p:cNvSpPr/>
          <p:nvPr/>
        </p:nvSpPr>
        <p:spPr>
          <a:xfrm>
            <a:off x="250920" y="2492280"/>
            <a:ext cx="647640" cy="2448000"/>
          </a:xfrm>
          <a:custGeom>
            <a:avLst/>
            <a:gdLst>
              <a:gd name="textAreaLeft" fmla="*/ 86760 w 647640"/>
              <a:gd name="textAreaRight" fmla="*/ 560880 w 647640"/>
              <a:gd name="textAreaTop" fmla="*/ 428040 h 2448000"/>
              <a:gd name="textAreaBottom" fmla="*/ 177516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9" stAng="-5400000" swAng="-5400000"/>
                <a:lnTo>
                  <a:pt x="0" y="11885"/>
                </a:lnTo>
                <a:arcTo wR="21600" hR="7559" stAng="10800000" swAng="-2682296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5"/>
                </a:lnTo>
                <a:arcTo wR="21600" hR="7559" stAng="8117704" swAng="2324319"/>
                <a:lnTo>
                  <a:pt x="903" y="9721"/>
                </a:lnTo>
                <a:arcTo wR="21600" hR="7559" stAng="-10442022" swAng="5042022"/>
                <a:close/>
              </a:path>
              <a:path fill="darkenLess" w="21600" h="21600">
                <a:moveTo>
                  <a:pt x="21600" y="0"/>
                </a:moveTo>
                <a:arcTo wR="21600" hR="7559" stAng="-5400000" swAng="-5400000"/>
                <a:lnTo>
                  <a:pt x="0" y="7559"/>
                </a:lnTo>
                <a:arcTo wR="21600" hR="7559" stAng="10800000" swAng="-357978"/>
                <a:lnTo>
                  <a:pt x="903" y="9721"/>
                </a:lnTo>
                <a:arcTo wR="21600" hR="7559" stAng="-10442022" swAng="5042022"/>
                <a:close/>
              </a:path>
            </a:pathLst>
          </a:cu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8244000" y="2637000"/>
            <a:ext cx="647640" cy="2304720"/>
          </a:xfrm>
          <a:custGeom>
            <a:avLst/>
            <a:gdLst>
              <a:gd name="textAreaLeft" fmla="*/ 86760 w 647640"/>
              <a:gd name="textAreaRight" fmla="*/ 560880 w 647640"/>
              <a:gd name="textAreaTop" fmla="*/ 408600 h 2304720"/>
              <a:gd name="textAreaBottom" fmla="*/ 1643760 h 23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62" stAng="-5400000" swAng="5400000"/>
                <a:lnTo>
                  <a:pt x="21600" y="11574"/>
                </a:lnTo>
                <a:arcTo wR="21600" hR="7662" stAng="0" swAng="2705673"/>
                <a:lnTo>
                  <a:pt x="7200" y="21162"/>
                </a:lnTo>
                <a:lnTo>
                  <a:pt x="0" y="17280"/>
                </a:lnTo>
                <a:lnTo>
                  <a:pt x="7200" y="12522"/>
                </a:lnTo>
                <a:lnTo>
                  <a:pt x="7200" y="14886"/>
                </a:lnTo>
                <a:arcTo wR="21600" hR="7662" stAng="2705673" swAng="-2384634"/>
                <a:lnTo>
                  <a:pt x="20884" y="9618"/>
                </a:lnTo>
                <a:arcTo wR="21600" hR="7662" stAng="-321039" swAng="-5078961"/>
                <a:close/>
              </a:path>
              <a:path fill="darkenLess" w="21600" h="21600">
                <a:moveTo>
                  <a:pt x="0" y="0"/>
                </a:moveTo>
                <a:arcTo wR="21600" hR="7662" stAng="-5400000" swAng="5400000"/>
                <a:lnTo>
                  <a:pt x="21600" y="11574"/>
                </a:lnTo>
                <a:arcTo wR="21600" hR="7662" stAng="0" swAng="-321039"/>
                <a:lnTo>
                  <a:pt x="20884" y="9618"/>
                </a:lnTo>
                <a:arcTo wR="21600" hR="7662" stAng="-321039" swAng="-5078961"/>
                <a:close/>
              </a:path>
            </a:pathLst>
          </a:cu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3851280" y="3716280"/>
            <a:ext cx="93672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497800" cy="962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Гидроэнергетические  ресурсы  мира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234" name="Object 6"/>
          <p:cNvGraphicFramePr/>
          <p:nvPr/>
        </p:nvGraphicFramePr>
        <p:xfrm>
          <a:off x="900000" y="2205000"/>
          <a:ext cx="738036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205000"/>
                    <a:ext cx="738036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7"/>
          <p:cNvSpPr/>
          <p:nvPr/>
        </p:nvSpPr>
        <p:spPr>
          <a:xfrm>
            <a:off x="395280" y="2133720"/>
            <a:ext cx="820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Гидроэнергопотенциал  регионов  мира  ( % )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468360" y="1341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ec85e"/>
                </a:solidFill>
                <a:latin typeface="Verdana"/>
              </a:rPr>
              <a:t>Гидроэнергоресурсы – это  ресурсы  воды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ec85e"/>
                </a:solidFill>
                <a:latin typeface="Verdana"/>
              </a:rPr>
              <a:t>пригодные  для  получения  электроэнерги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250920" y="621648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aeaea"/>
                </a:solidFill>
                <a:latin typeface="Verdana"/>
              </a:rPr>
              <a:t>Используя  текст  учебника  ( стр.  33 ),  выпишите  в  тетрадь              6  стран,  обладающих  наибольшим  гидроэнергопотенциал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97800" cy="961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cc"/>
                </a:solidFill>
                <a:latin typeface="Arial"/>
              </a:rPr>
              <a:t>Геотермальные ресурсы мира</a:t>
            </a:r>
            <a:endParaRPr b="0" lang="en-US" sz="4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45960" y="6461280"/>
            <a:ext cx="84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aeaea"/>
                </a:solidFill>
                <a:latin typeface="Verdana"/>
              </a:rPr>
              <a:t>Назовите  5 – 7  стран,  обладающих  геотермальными  ресурс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250920" y="981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Геотермальные  ресурсы – это  внутренняя  энерг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Земл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3" name="Picture 9" descr="geoterm"/>
          <p:cNvPicPr/>
          <p:nvPr/>
        </p:nvPicPr>
        <p:blipFill>
          <a:blip r:embed="rId1"/>
          <a:stretch/>
        </p:blipFill>
        <p:spPr>
          <a:xfrm>
            <a:off x="539640" y="1916280"/>
            <a:ext cx="8334360" cy="44575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3615120" y="5229360"/>
            <a:ext cx="38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Тихоокеанское огненное кольц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6" descr="zony"/>
          <p:cNvPicPr/>
          <p:nvPr/>
        </p:nvPicPr>
        <p:blipFill>
          <a:blip r:embed="rId1"/>
          <a:stretch/>
        </p:blipFill>
        <p:spPr>
          <a:xfrm>
            <a:off x="2933640" y="2565360"/>
            <a:ext cx="6210360" cy="30956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497800" cy="961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cc"/>
                </a:solidFill>
                <a:latin typeface="Arial"/>
              </a:rPr>
              <a:t>Агроклиматические ресурсы мира</a:t>
            </a:r>
            <a:endParaRPr b="0" lang="en-US" sz="4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24000" y="112536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402200" y="1125360"/>
            <a:ext cx="618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лавный  показатель – сумма  активных  температур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0" y="162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Verdana"/>
              </a:rPr>
              <a:t>Сумма  активных  температур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 – сумма  среднесуточных  температур  выше  + 10</a:t>
            </a:r>
            <a:r>
              <a:rPr b="0" i="1" lang="ru-RU" sz="2400" spc="-1" strike="noStrike" baseline="30000">
                <a:solidFill>
                  <a:srgbClr val="eaeaea"/>
                </a:solidFill>
                <a:latin typeface="Verdana"/>
              </a:rPr>
              <a:t>о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С  в  течение  год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0" y="263700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Закон  географической  зональност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м  ближе  к  экватору –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ем  …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м  ближе  к  полюсам – тем 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Вывод:  наилучшими  агроклиматическими  ресурсами  обладают  страны  жаркого  теплового  пояса.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5366520" y="393372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Verdana"/>
              </a:rPr>
              <a:t>Жаркий пояс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5249520" y="314172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Verdana"/>
              </a:rPr>
              <a:t>Умеренный пояс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5320800" y="465300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Verdana"/>
              </a:rPr>
              <a:t>Умеренный пояс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5241240" y="249228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Verdana"/>
              </a:rPr>
              <a:t>Холодный пояс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5168160" y="530064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Холодный пояс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497800" cy="961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Ресурсы  Мирового  океан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24000" y="1549440"/>
            <a:ext cx="511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654120" y="1125360"/>
            <a:ext cx="395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Verdana"/>
              </a:rPr>
              <a:t>Ресурсы  Мирового  океана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250920" y="213372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орская  во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773360" y="2133720"/>
            <a:ext cx="19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инеральны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есурс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н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4041720" y="2133720"/>
            <a:ext cx="22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Энергетическ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6627960" y="213372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иологическ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6046920" y="1125360"/>
            <a:ext cx="239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Verdana"/>
              </a:rPr>
              <a:t>Рекреационные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840600" y="3357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од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27720" y="386064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створённы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еществ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3980520" y="29973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Энергия  прилив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4262400" y="37162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Энергия  волн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4119120" y="450864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Энергия  течени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Text Box 19"/>
          <p:cNvSpPr/>
          <p:nvPr/>
        </p:nvSpPr>
        <p:spPr>
          <a:xfrm>
            <a:off x="4239720" y="5157720"/>
            <a:ext cx="20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Энерги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емпературног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радиент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7103160" y="314172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ыбны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6688440" y="400536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рские  животны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6904800" y="4941720"/>
            <a:ext cx="17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стительны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есурс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-4320" y="472428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1270080" y="486900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906840" y="5950080"/>
            <a:ext cx="4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B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338400" y="5373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aC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3288240" y="357336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3199320" y="4076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0" name="Text Box 29"/>
          <p:cNvSpPr/>
          <p:nvPr/>
        </p:nvSpPr>
        <p:spPr>
          <a:xfrm>
            <a:off x="3287880" y="51577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Text Box 30"/>
          <p:cNvSpPr/>
          <p:nvPr/>
        </p:nvSpPr>
        <p:spPr>
          <a:xfrm>
            <a:off x="1922040" y="55897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алмаз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2" name="Text Box 31"/>
          <p:cNvSpPr/>
          <p:nvPr/>
        </p:nvSpPr>
        <p:spPr>
          <a:xfrm>
            <a:off x="1925640" y="3573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ефт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2209680" y="422100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аз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Text Box 33"/>
          <p:cNvSpPr/>
          <p:nvPr/>
        </p:nvSpPr>
        <p:spPr>
          <a:xfrm>
            <a:off x="2139840" y="494172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Z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5" name="Text Box 35"/>
          <p:cNvSpPr/>
          <p:nvPr/>
        </p:nvSpPr>
        <p:spPr>
          <a:xfrm>
            <a:off x="3211200" y="465300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u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6" name="Text Box 36"/>
          <p:cNvSpPr/>
          <p:nvPr/>
        </p:nvSpPr>
        <p:spPr>
          <a:xfrm>
            <a:off x="2089080" y="6093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фосфорит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AutoShape 37"/>
          <p:cNvSpPr/>
          <p:nvPr/>
        </p:nvSpPr>
        <p:spPr>
          <a:xfrm>
            <a:off x="826920" y="1628640"/>
            <a:ext cx="144720" cy="505080"/>
          </a:xfrm>
          <a:prstGeom prst="downArrow">
            <a:avLst>
              <a:gd name="adj1" fmla="val 50000"/>
              <a:gd name="adj2" fmla="val 87251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AutoShape 38"/>
          <p:cNvSpPr/>
          <p:nvPr/>
        </p:nvSpPr>
        <p:spPr>
          <a:xfrm>
            <a:off x="2627280" y="155736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AutoShape 39"/>
          <p:cNvSpPr/>
          <p:nvPr/>
        </p:nvSpPr>
        <p:spPr>
          <a:xfrm>
            <a:off x="4427640" y="162864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AutoShape 40"/>
          <p:cNvSpPr/>
          <p:nvPr/>
        </p:nvSpPr>
        <p:spPr>
          <a:xfrm rot="17460000">
            <a:off x="5796720" y="1053000"/>
            <a:ext cx="142920" cy="1582920"/>
          </a:xfrm>
          <a:prstGeom prst="downArrow">
            <a:avLst>
              <a:gd name="adj1" fmla="val 50000"/>
              <a:gd name="adj2" fmla="val 2768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AutoShape 41"/>
          <p:cNvSpPr/>
          <p:nvPr/>
        </p:nvSpPr>
        <p:spPr>
          <a:xfrm>
            <a:off x="1042920" y="285264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2" name="AutoShape 42"/>
          <p:cNvSpPr/>
          <p:nvPr/>
        </p:nvSpPr>
        <p:spPr>
          <a:xfrm rot="16200000">
            <a:off x="5364000" y="728280"/>
            <a:ext cx="108000" cy="1187640"/>
          </a:xfrm>
          <a:prstGeom prst="downArrow">
            <a:avLst>
              <a:gd name="adj1" fmla="val 50000"/>
              <a:gd name="adj2" fmla="val 27491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AutoShape 44"/>
          <p:cNvSpPr/>
          <p:nvPr/>
        </p:nvSpPr>
        <p:spPr>
          <a:xfrm>
            <a:off x="395280" y="2565360"/>
            <a:ext cx="144360" cy="1297080"/>
          </a:xfrm>
          <a:prstGeom prst="downArrow">
            <a:avLst>
              <a:gd name="adj1" fmla="val 50000"/>
              <a:gd name="adj2" fmla="val 22462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4" name="Line 46"/>
          <p:cNvSpPr/>
          <p:nvPr/>
        </p:nvSpPr>
        <p:spPr>
          <a:xfrm>
            <a:off x="1835280" y="2133720"/>
            <a:ext cx="0" cy="4319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Line 47"/>
          <p:cNvSpPr/>
          <p:nvPr/>
        </p:nvSpPr>
        <p:spPr>
          <a:xfrm>
            <a:off x="3851280" y="2133720"/>
            <a:ext cx="0" cy="4319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Line 48"/>
          <p:cNvSpPr/>
          <p:nvPr/>
        </p:nvSpPr>
        <p:spPr>
          <a:xfrm>
            <a:off x="6516720" y="2205000"/>
            <a:ext cx="0" cy="4319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97800" cy="961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cc"/>
                </a:solidFill>
                <a:latin typeface="Arial"/>
              </a:rPr>
              <a:t>Рекреационные ресурсы мира</a:t>
            </a:r>
            <a:endParaRPr b="0" lang="en-US" sz="4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0" y="134136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2268360" y="1413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042920" y="2349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4500720" y="2349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553320" y="35733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рски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1991520" y="450864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орны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3168720" y="35733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андшафтны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0" y="6016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Приведите  примеры  рекреационных  районов  и  центров  различных  тип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0" y="1268280"/>
            <a:ext cx="37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Что  тако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екреационные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есурсы 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4242600" y="1268280"/>
            <a:ext cx="467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ec85e"/>
                </a:solidFill>
                <a:latin typeface="Verdana"/>
              </a:rPr>
              <a:t>Рекреационные  ресурсы -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ec85e"/>
                </a:solidFill>
                <a:latin typeface="Verdana"/>
              </a:rPr>
              <a:t>это  ресурсы  для  отдыха  человек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Text Box 32"/>
          <p:cNvSpPr/>
          <p:nvPr/>
        </p:nvSpPr>
        <p:spPr>
          <a:xfrm>
            <a:off x="2178360" y="2060640"/>
            <a:ext cx="46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екреационные  ресурс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Text Box 33"/>
          <p:cNvSpPr/>
          <p:nvPr/>
        </p:nvSpPr>
        <p:spPr>
          <a:xfrm>
            <a:off x="1619280" y="292428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Природные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Text Box 34"/>
          <p:cNvSpPr/>
          <p:nvPr/>
        </p:nvSpPr>
        <p:spPr>
          <a:xfrm>
            <a:off x="5027040" y="2997360"/>
            <a:ext cx="361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Историко-культурные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AutoShape 35"/>
          <p:cNvSpPr/>
          <p:nvPr/>
        </p:nvSpPr>
        <p:spPr>
          <a:xfrm>
            <a:off x="2484360" y="2565360"/>
            <a:ext cx="144720" cy="504720"/>
          </a:xfrm>
          <a:prstGeom prst="downArrow">
            <a:avLst>
              <a:gd name="adj1" fmla="val 50000"/>
              <a:gd name="adj2" fmla="val 871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2" name="AutoShape 36"/>
          <p:cNvSpPr/>
          <p:nvPr/>
        </p:nvSpPr>
        <p:spPr>
          <a:xfrm>
            <a:off x="6012000" y="256536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AutoShape 37"/>
          <p:cNvSpPr/>
          <p:nvPr/>
        </p:nvSpPr>
        <p:spPr>
          <a:xfrm rot="18900000">
            <a:off x="3708360" y="321264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AutoShape 38"/>
          <p:cNvSpPr/>
          <p:nvPr/>
        </p:nvSpPr>
        <p:spPr>
          <a:xfrm rot="2700000">
            <a:off x="1367280" y="324864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5" name="AutoShape 39"/>
          <p:cNvSpPr/>
          <p:nvPr/>
        </p:nvSpPr>
        <p:spPr>
          <a:xfrm>
            <a:off x="2484360" y="3429000"/>
            <a:ext cx="144720" cy="1008000"/>
          </a:xfrm>
          <a:prstGeom prst="downArrow">
            <a:avLst>
              <a:gd name="adj1" fmla="val 50000"/>
              <a:gd name="adj2" fmla="val 17412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6" name="Picture 51" descr="taj_mahal"/>
          <p:cNvPicPr/>
          <p:nvPr/>
        </p:nvPicPr>
        <p:blipFill>
          <a:blip r:embed="rId1"/>
          <a:stretch/>
        </p:blipFill>
        <p:spPr>
          <a:xfrm>
            <a:off x="5796000" y="3703680"/>
            <a:ext cx="2592360" cy="1892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3" descr="beach"/>
          <p:cNvPicPr/>
          <p:nvPr/>
        </p:nvPicPr>
        <p:blipFill>
          <a:blip r:embed="rId2"/>
          <a:stretch/>
        </p:blipFill>
        <p:spPr>
          <a:xfrm>
            <a:off x="250920" y="3933720"/>
            <a:ext cx="1476360" cy="1017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4" descr="slope"/>
          <p:cNvPicPr/>
          <p:nvPr/>
        </p:nvPicPr>
        <p:blipFill>
          <a:blip r:embed="rId3"/>
          <a:stretch/>
        </p:blipFill>
        <p:spPr>
          <a:xfrm>
            <a:off x="1692360" y="5013360"/>
            <a:ext cx="1511280" cy="1079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6" descr="landscape1"/>
          <p:cNvPicPr/>
          <p:nvPr/>
        </p:nvPicPr>
        <p:blipFill>
          <a:blip r:embed="rId4"/>
          <a:stretch/>
        </p:blipFill>
        <p:spPr>
          <a:xfrm>
            <a:off x="3276720" y="3933720"/>
            <a:ext cx="1511280" cy="108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Территориальные ресурсы мир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Крупнейшие страны мир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по площади территор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28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(млн. км</a:t>
            </a:r>
            <a:r>
              <a:rPr b="0" i="1" lang="en-US" sz="2400" spc="-1" strike="noStrike" baseline="30000">
                <a:solidFill>
                  <a:srgbClr val="eaeaea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28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28120" indent="-5281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Verdana"/>
              </a:rPr>
              <a:t>Россия – 17,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28120" indent="-5281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Канада – 10,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28120" indent="-5281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Китай – 9,6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28120" indent="-5281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США – 9,4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28120" indent="-5281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Бразилия – 8,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Крупнейшие страны мир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по площади эффективно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территории (млн. км</a:t>
            </a:r>
            <a:r>
              <a:rPr b="0" i="1" lang="en-US" sz="2400" spc="-1" strike="noStrike" baseline="30000">
                <a:solidFill>
                  <a:srgbClr val="eaeaea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Бразилия – 8,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США – 7,9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Австралия – 7,7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Китай – 6,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Verdana"/>
              </a:rPr>
              <a:t>Россия – 5,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0" y="581976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Verdana"/>
              </a:rPr>
              <a:t>Эффективная территория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 – это территория страны, пригодная для хозяйственного освоения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97800" cy="961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Земельные ресурсы мир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50920" y="5899320"/>
            <a:ext cx="88930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eaeaea"/>
                </a:solidFill>
                <a:latin typeface="Verdana"/>
              </a:rPr>
              <a:t>Используя  рис.  7  учебника  ( стр.  30 ),  выпишите  в  тетрадь       5  стран,  в  структуре  земельного  фонда  которых  преобладает  пашня,  5  стран – пастбища  и  5 – непродуктивные  земли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900000" y="981000"/>
            <a:ext cx="7344000" cy="474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З е м е л ь н ы е     р е с у р с ы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0" y="2060640"/>
            <a:ext cx="26272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Verdana"/>
              </a:rPr>
              <a:t>Сельскохозяйст-венные угодья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487840" y="250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944080" y="2349360"/>
            <a:ext cx="826920" cy="4291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Леса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995640" y="2060640"/>
            <a:ext cx="2160720" cy="1099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Населённые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пункты,  дороги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399000" y="2060640"/>
            <a:ext cx="2449800" cy="1099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Малопригодные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и непригодные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земли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0" y="3573360"/>
            <a:ext cx="1403280" cy="7038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ашн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( 88 % 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882400" y="371628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боло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1476360" y="3573360"/>
            <a:ext cx="2735280" cy="7038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луга  и  пастбищ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( 10 % 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7885800" y="364500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устын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80200" y="4811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6899400" y="3933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ледник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5" name="Object 18"/>
          <p:cNvGraphicFramePr/>
          <p:nvPr/>
        </p:nvGraphicFramePr>
        <p:xfrm>
          <a:off x="0" y="4437000"/>
          <a:ext cx="9010800" cy="16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437000"/>
                    <a:ext cx="901080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AutoShape 24"/>
          <p:cNvSpPr/>
          <p:nvPr/>
        </p:nvSpPr>
        <p:spPr>
          <a:xfrm>
            <a:off x="5076720" y="1484280"/>
            <a:ext cx="144720" cy="504720"/>
          </a:xfrm>
          <a:prstGeom prst="downArrow">
            <a:avLst>
              <a:gd name="adj1" fmla="val 50000"/>
              <a:gd name="adj2" fmla="val 871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AutoShape 25"/>
          <p:cNvSpPr/>
          <p:nvPr/>
        </p:nvSpPr>
        <p:spPr>
          <a:xfrm>
            <a:off x="1476360" y="148428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AutoShape 26"/>
          <p:cNvSpPr/>
          <p:nvPr/>
        </p:nvSpPr>
        <p:spPr>
          <a:xfrm>
            <a:off x="3348000" y="148428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7524720" y="148428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AutoShape 28"/>
          <p:cNvSpPr/>
          <p:nvPr/>
        </p:nvSpPr>
        <p:spPr>
          <a:xfrm>
            <a:off x="539640" y="2924280"/>
            <a:ext cx="144720" cy="504720"/>
          </a:xfrm>
          <a:prstGeom prst="downArrow">
            <a:avLst>
              <a:gd name="adj1" fmla="val 50000"/>
              <a:gd name="adj2" fmla="val 871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AutoShape 29"/>
          <p:cNvSpPr/>
          <p:nvPr/>
        </p:nvSpPr>
        <p:spPr>
          <a:xfrm>
            <a:off x="2124000" y="292428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AutoShape 30"/>
          <p:cNvSpPr/>
          <p:nvPr/>
        </p:nvSpPr>
        <p:spPr>
          <a:xfrm>
            <a:off x="6588000" y="3213000"/>
            <a:ext cx="144720" cy="505080"/>
          </a:xfrm>
          <a:prstGeom prst="downArrow">
            <a:avLst>
              <a:gd name="adj1" fmla="val 50000"/>
              <a:gd name="adj2" fmla="val 87251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AutoShape 31"/>
          <p:cNvSpPr/>
          <p:nvPr/>
        </p:nvSpPr>
        <p:spPr>
          <a:xfrm>
            <a:off x="7380360" y="342900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AutoShape 32"/>
          <p:cNvSpPr/>
          <p:nvPr/>
        </p:nvSpPr>
        <p:spPr>
          <a:xfrm>
            <a:off x="8459640" y="3213000"/>
            <a:ext cx="144720" cy="505080"/>
          </a:xfrm>
          <a:prstGeom prst="downArrow">
            <a:avLst>
              <a:gd name="adj1" fmla="val 50000"/>
              <a:gd name="adj2" fmla="val 87251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497800" cy="961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Земельные  ресурсы  мир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24000" y="148428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250920" y="2133720"/>
          <a:ext cx="849636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849636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Text Box 5"/>
          <p:cNvSpPr/>
          <p:nvPr/>
        </p:nvSpPr>
        <p:spPr>
          <a:xfrm>
            <a:off x="684360" y="1341360"/>
            <a:ext cx="7321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Крупнейшие  страны  мира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по  размерам  площади  пашни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048200" y="658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0" y="6216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Используя  рис.  7  учебника  ( стр.  30 ),  выпишите  5  стран – лидеров  по  обеспеченности  пашней  на  душу  населе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Земельные  ресурсы  мира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зменение  земельного  фонд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375640" y="1844640"/>
            <a:ext cx="39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Два  противоположных  процесс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0" y="2997360"/>
            <a:ext cx="387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Расширен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сельскохозяйственных  угод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076720" y="299736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Истощен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сельскохозяйственных  угод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4292640"/>
            <a:ext cx="428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освоение  залежных  земел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мелиорац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осушен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орошен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освоение  прибрежных      участков  море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865160" y="2492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6732720" y="1989000"/>
            <a:ext cx="58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_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6280200" y="517212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5796720" y="4444920"/>
            <a:ext cx="2751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эрозия  почвы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заболачивание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засоление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опустынивание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343440" y="6435720"/>
            <a:ext cx="832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66"/>
                </a:solidFill>
                <a:latin typeface="Verdana"/>
              </a:rPr>
              <a:t>Внимание опасность</a:t>
            </a:r>
            <a:r>
              <a:rPr b="1" i="1" lang="en-US" sz="2000" spc="-1" strike="noStrike">
                <a:solidFill>
                  <a:srgbClr val="ff0066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земельные ресурсы мира сокращаются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!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lus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1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497800" cy="961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Лесные  ресурсы  мира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196000" y="1341360"/>
            <a:ext cx="4707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Verdana"/>
              </a:rPr>
              <a:t>Лесные  пояса  мира</a:t>
            </a: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77280" y="2276640"/>
            <a:ext cx="3926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Северный  лесной  пояс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4893480" y="2276640"/>
            <a:ext cx="35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Южный  лесной  пояс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03800" y="501336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Леса  умеренного  пояс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716360" y="4941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Влажные  экваториальны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и  переменно-влажные  лес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0" y="621648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eaeaea"/>
                </a:solidFill>
                <a:latin typeface="Verdana"/>
              </a:rPr>
              <a:t>Используя  рис.  9  учебника  ( стр.  31 ),  выпишите  по  5  стран  Северного  и  Южного  лесных  поясов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1622880" y="55897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50 %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159960" y="55897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50 %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AutoShape 12"/>
          <p:cNvSpPr/>
          <p:nvPr/>
        </p:nvSpPr>
        <p:spPr>
          <a:xfrm>
            <a:off x="2771640" y="1916280"/>
            <a:ext cx="144720" cy="504720"/>
          </a:xfrm>
          <a:prstGeom prst="downArrow">
            <a:avLst>
              <a:gd name="adj1" fmla="val 50000"/>
              <a:gd name="adj2" fmla="val 871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6084720" y="1916280"/>
            <a:ext cx="144720" cy="504720"/>
          </a:xfrm>
          <a:prstGeom prst="downArrow">
            <a:avLst>
              <a:gd name="adj1" fmla="val 50000"/>
              <a:gd name="adj2" fmla="val 871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6" name="Picture 18" descr="jungle"/>
          <p:cNvPicPr/>
          <p:nvPr/>
        </p:nvPicPr>
        <p:blipFill>
          <a:blip r:embed="rId1"/>
          <a:stretch/>
        </p:blipFill>
        <p:spPr>
          <a:xfrm>
            <a:off x="5076720" y="2781360"/>
            <a:ext cx="3341880" cy="2236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9" descr="taiga"/>
          <p:cNvPicPr/>
          <p:nvPr/>
        </p:nvPicPr>
        <p:blipFill>
          <a:blip r:embed="rId2"/>
          <a:stretch/>
        </p:blipFill>
        <p:spPr>
          <a:xfrm>
            <a:off x="971640" y="2708280"/>
            <a:ext cx="2244600" cy="23684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Лесные  ресурсы  ми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7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Крупнейшие  страны  мира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по  площади   лесов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( млн.  га</a:t>
            </a:r>
            <a:r>
              <a:rPr b="0" lang="en-US" sz="2200" spc="-1" strike="noStrike" baseline="30000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Лесистость  территории  по  регионам  мира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( % )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24000" y="126828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0" y="58053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Используя  рис.  9  учебника  ( стр.  31 ),   выпишит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5  крупнейших  стран  по  обеспеченности    лесными  ресурсами  на  душу  населе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83" name="Object 8"/>
          <p:cNvGraphicFramePr/>
          <p:nvPr/>
        </p:nvGraphicFramePr>
        <p:xfrm>
          <a:off x="571680" y="2919240"/>
          <a:ext cx="3495600" cy="25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919240"/>
                    <a:ext cx="349560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9"/>
          <p:cNvGraphicFramePr/>
          <p:nvPr/>
        </p:nvGraphicFramePr>
        <p:xfrm>
          <a:off x="0" y="2492280"/>
          <a:ext cx="4500720" cy="347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92280"/>
                    <a:ext cx="4500720" cy="34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1"/>
          <p:cNvGraphicFramePr/>
          <p:nvPr/>
        </p:nvGraphicFramePr>
        <p:xfrm>
          <a:off x="4643280" y="2492280"/>
          <a:ext cx="4500720" cy="331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2492280"/>
                    <a:ext cx="4500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Лесные  ресурсы  ми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111400" y="522936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Сокращение  площади  лес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50920" y="3789360"/>
            <a:ext cx="352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Нерациональное  использование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лесных  ресурсов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4427640" y="3789360"/>
            <a:ext cx="47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50 %  вырубленного  леса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в  развивающихся  странах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идёт  на  дрова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307880" y="5950080"/>
            <a:ext cx="69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облема  обезлесения планеты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39640" y="2133720"/>
            <a:ext cx="272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Огромные  масштабы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вырубки  лесов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3832200" y="26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797280" y="2133720"/>
            <a:ext cx="5205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Отсутствие  лесовосстановительных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работ  в  России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и  в  развивающихся  странах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99640" y="1197000"/>
            <a:ext cx="74026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облемы  использования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AutoShape 12"/>
          <p:cNvSpPr/>
          <p:nvPr/>
        </p:nvSpPr>
        <p:spPr>
          <a:xfrm>
            <a:off x="1692360" y="328464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2556000" y="486900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AutoShape 15"/>
          <p:cNvSpPr/>
          <p:nvPr/>
        </p:nvSpPr>
        <p:spPr>
          <a:xfrm rot="2700000">
            <a:off x="3562920" y="3213720"/>
            <a:ext cx="109800" cy="828720"/>
          </a:xfrm>
          <a:prstGeom prst="downArrow">
            <a:avLst>
              <a:gd name="adj1" fmla="val 50000"/>
              <a:gd name="adj2" fmla="val 1886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AutoShape 16"/>
          <p:cNvSpPr/>
          <p:nvPr/>
        </p:nvSpPr>
        <p:spPr>
          <a:xfrm rot="5400000">
            <a:off x="3994560" y="3861360"/>
            <a:ext cx="109800" cy="828720"/>
          </a:xfrm>
          <a:prstGeom prst="downArrow">
            <a:avLst>
              <a:gd name="adj1" fmla="val 50000"/>
              <a:gd name="adj2" fmla="val 1886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8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497800" cy="961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Водные  ресурсы  мира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0" y="17017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Verdana"/>
              </a:rPr>
              <a:t>Распределение  воды  в  гидросфере</a:t>
            </a: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205" name="Object 6"/>
          <p:cNvGraphicFramePr/>
          <p:nvPr/>
        </p:nvGraphicFramePr>
        <p:xfrm>
          <a:off x="324000" y="2349360"/>
          <a:ext cx="8512200" cy="33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349360"/>
                    <a:ext cx="8512200" cy="33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7"/>
          <p:cNvSpPr/>
          <p:nvPr/>
        </p:nvSpPr>
        <p:spPr>
          <a:xfrm>
            <a:off x="395280" y="5950080"/>
            <a:ext cx="75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На пресные воды приходится около 2,5 % общего объёма гидросфер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diamond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6:50:59Z</dcterms:created>
  <dc:creator>JULIA</dc:creator>
  <dc:description/>
  <dc:language>en-US</dc:language>
  <cp:lastModifiedBy>Customer</cp:lastModifiedBy>
  <dcterms:modified xsi:type="dcterms:W3CDTF">2012-06-22T04:12:30Z</dcterms:modified>
  <cp:revision>133</cp:revision>
  <dc:subject/>
  <dc:title>ГЕОГРАФИЯ ПРИРОДНЫХ РЕСУРСОВ МИРА</dc:title>
</cp:coreProperties>
</file>