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CB0-0D0A-477C-858E-25AF9D3E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045-E798-4AAD-B3D1-EBE9407C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39C-051F-423E-9B7D-AA5D2DF7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EC8-CF49-4B0A-8EA5-E5946C48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E6C6-E657-413E-9FC9-FB395EB7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2520-CD80-4670-8816-486E9B0E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E18B-C097-470C-826A-66178BA1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0553-92C1-4227-A497-652D8655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E3BA-51BB-4859-96B7-A60CB71C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83E9-9FD7-4A0A-AD7B-77A0CABC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53FC-BC98-448B-A4C9-E62F73EA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33D1-EDDF-4E3A-922D-DEAEDB94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81CD-0AF2-4A35-9B9B-BC615922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A461-4CEC-4866-A4A9-13FF2DA4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CABC-7F60-40BC-8449-82FB71FD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71B0-1248-47A9-B7DC-F64F614E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079A-BD89-456F-92EE-70A3C24B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D27C-7075-453D-AF4B-7FEA18B1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55A-EBD2-4695-A607-976DF843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CBF-C389-44D6-B155-ACA4C5D3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39E-33E2-43BF-9F64-BC1F7700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DD4-EDFB-48BE-915F-667B3BB9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CCE9-67F8-473A-8ED4-40B0B3EA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1CC2-68A5-43CE-85CB-F3E2A33D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C2E8-AAB3-4AB2-9524-BCA249D95E3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C545-0DD7-41C3-83AA-D9BC5B6BFA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Monotype Corsiva"/>
              </a:rPr>
              <a:t>Современные здоровьесберегающие технологии в ГПД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3499920"/>
            <a:ext cx="6629400" cy="167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666cc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cc"/>
                </a:solidFill>
                <a:latin typeface="Arial"/>
              </a:rPr>
              <a:t>Из опыта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cc"/>
                </a:solidFill>
                <a:latin typeface="Arial"/>
              </a:rPr>
              <a:t>Евдокименко Т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2) Рациональ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ычно в школе осуществляется  2-3 разовое питание. Разрыв между приемами пищи не должен превышать 3 – 4 часа. Более калорийными являются завтрак и обед, полдник легки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ища должна быть полноценной по химическому составу и содержать белки, жиры, углеводы, витамины, минеральные соли и микроэлементы, быть безвредной в химическом отношении и безопасной с точки зрения бактериального состав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085"/>
          <p:cNvPicPr/>
          <p:nvPr/>
        </p:nvPicPr>
        <p:blipFill>
          <a:blip r:embed="rId1"/>
          <a:stretch/>
        </p:blipFill>
        <p:spPr>
          <a:xfrm>
            <a:off x="4643280" y="242100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3) Оптимальная  двигательная активность 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а) во время самоподготов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39416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ятия нужно чередовать с динамическими пауз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оставить детям большую свободу движения, обеспечить динамику поз: разрешать встать, пройтись по кабинету, подойти к однокласснику, воспитателю, постоять за конторкой вместо сидения за партой, полежать на ковре, на диванч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 использование двух досок в кабинете: одна висит на привычном месте, а другая на противоположной или боковой сте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ятия соревновательного, командного характера, когда ребенок должен выбегать к доске, приседать, поворачиваться, чтобы выполнить задание учебного характе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езно менять в ГПД позиции рабочих мест 1-2 раза в месяц. Можно использовать традиционную расстановку парт, радиально-лучевую, размещение столов по кругу, разрешать посадку группами по 4-6 челове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DSC01797"/>
          <p:cNvPicPr/>
          <p:nvPr/>
        </p:nvPicPr>
        <p:blipFill>
          <a:blip r:embed="rId1"/>
          <a:stretch/>
        </p:blipFill>
        <p:spPr>
          <a:xfrm>
            <a:off x="6084720" y="1413000"/>
            <a:ext cx="2303640" cy="1726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DSC02688"/>
          <p:cNvPicPr/>
          <p:nvPr/>
        </p:nvPicPr>
        <p:blipFill>
          <a:blip r:embed="rId2"/>
          <a:stretch/>
        </p:blipFill>
        <p:spPr>
          <a:xfrm>
            <a:off x="6084720" y="4365720"/>
            <a:ext cx="2287800" cy="17161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9" descr="http://oo11.mail.yandex.net/static/cfdde30de299498ba3f6198f206f3bce/tmp7O22iA_html_25010ab4.jpg"/>
          <p:cNvPicPr/>
          <p:nvPr/>
        </p:nvPicPr>
        <p:blipFill>
          <a:blip r:embed="rId3"/>
          <a:stretch/>
        </p:blipFill>
        <p:spPr>
          <a:xfrm>
            <a:off x="5003640" y="2941560"/>
            <a:ext cx="230508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б)  активный отд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3" descr="DSC00026"/>
          <p:cNvPicPr/>
          <p:nvPr/>
        </p:nvPicPr>
        <p:blipFill>
          <a:blip r:embed="rId1"/>
          <a:stretch/>
        </p:blipFill>
        <p:spPr>
          <a:xfrm>
            <a:off x="1619280" y="3716280"/>
            <a:ext cx="3166920" cy="2376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060"/>
          <p:cNvPicPr/>
          <p:nvPr/>
        </p:nvPicPr>
        <p:blipFill>
          <a:blip r:embed="rId2"/>
          <a:stretch/>
        </p:blipFill>
        <p:spPr>
          <a:xfrm>
            <a:off x="5148360" y="3753000"/>
            <a:ext cx="3166920" cy="2374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84360" y="1413000"/>
            <a:ext cx="4032360" cy="251928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вижные иг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культурно-оздоровительные заня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ический тру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скурсии, прогул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бодная деятель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чной тру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бразительная дея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е занят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жковая рабо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DSC01359"/>
          <p:cNvPicPr/>
          <p:nvPr/>
        </p:nvPicPr>
        <p:blipFill>
          <a:blip r:embed="rId3"/>
          <a:stretch/>
        </p:blipFill>
        <p:spPr>
          <a:xfrm>
            <a:off x="468360" y="141300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в)  прогу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руктура прогулки может быть следующ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    Наблюдение за природой, погодными явл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    Труд на участ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   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    Самостоятельная деятельность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    Индивидуальная работа с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иды прогул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оведческие экскурсии («В садах опять колдует листопад», «По следам пернатых»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оведческие экскурсии («Труд работников в школе», «Город, в котором я живу»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улки-практикумы («Красный, желтый, зеленый», «Правила поведения в природе»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е прогулки («Есть в осени первоначальной», «Удивительное - рядом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пытские прогулки: («Найди клад»)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4) Соблюдение санитарно-гигиенических нор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66920" y="1483920"/>
            <a:ext cx="4467240" cy="334188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освещенности поме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температурного реж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временная влажная убор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тр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еленение кабинета и рекреа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DSC02686"/>
          <p:cNvPicPr/>
          <p:nvPr/>
        </p:nvPicPr>
        <p:blipFill>
          <a:blip r:embed="rId1"/>
          <a:stretch/>
        </p:blipFill>
        <p:spPr>
          <a:xfrm>
            <a:off x="1042920" y="1484280"/>
            <a:ext cx="3457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5) Обеспечение знаниями о сущности здоровья человека, о факторах, его укрепляющих или ослабляющ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каз в занимательной форме о различных видах спорта и великих спортсменах, истории олимпийского движения, врачебных специальностях, лекарственных растениях, видах закали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учение оказанию первой помощ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081"/>
          <p:cNvPicPr/>
          <p:nvPr/>
        </p:nvPicPr>
        <p:blipFill>
          <a:blip r:embed="rId1"/>
          <a:stretch/>
        </p:blipFill>
        <p:spPr>
          <a:xfrm>
            <a:off x="4648320" y="235260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6) Профилактика заболеваний, закали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76360" y="1557000"/>
            <a:ext cx="525780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ь за тем, чтобы одежда детей соответствовала пог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аливанию способствуют ежедневные прогулки на свежем воздухе,  проветрива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которых школах практикуется употребление фито-чая, вдыхание эфирных масел, полезны фитонциды, выделяемые чесно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илактика переутомления зрительной системы. (зрительно-координаторные тренажи, зарядка для глаз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блюдение правильной позы при выполнении домашних зад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воение простейших приемов самомассажа, точечного массажа, релаксации, дыхательной гимнас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DC10602"/>
          <p:cNvPicPr/>
          <p:nvPr/>
        </p:nvPicPr>
        <p:blipFill>
          <a:blip r:embed="rId1"/>
          <a:stretch/>
        </p:blipFill>
        <p:spPr>
          <a:xfrm>
            <a:off x="468360" y="2421000"/>
            <a:ext cx="33116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7) Предупреждение вредных привычек и формирование полезных произвольных и непроизвольных привычек здорового образа жи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ческие беседы: «Азбука поведен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ия по формированию полезных привычек: «Сказать </a:t>
            </a: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азнам», «Законы закаливания», «Болезни, связанные с неправильным питанием», «Твои поступки и привыч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8)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овышение психоэмоциональной устойчив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11488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ое мышление - одна из составляющих здоровья , которое достигается упорными тренировками (обучение умению радоваться даже малой своей победе, чужой удач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комфортной атмосферы в школе и классных коллективах, толерантных отношений всех участников образовательного процесса способствует сохранению их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044"/>
          <p:cNvPicPr/>
          <p:nvPr/>
        </p:nvPicPr>
        <p:blipFill>
          <a:blip r:embed="rId1"/>
          <a:stretch/>
        </p:blipFill>
        <p:spPr>
          <a:xfrm>
            <a:off x="5508720" y="3716280"/>
            <a:ext cx="302580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худшение здоровья школьников обусловлено различными фактор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669999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охая экологическая обстанов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зкий социально-экономический уровень жизни многих семей, что отрицательно сказывается на качестве питания детей, их отдыхе и физическом развит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изис семьи, отражающийся на психологическом здоровь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авильный образ жизни взрослых, который они повседневно наблюдают дома, на улице, в телепередач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восклиц 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6840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Школьные факторы риска, негативно влияющие на здоровье детей: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нсификация учебного процесс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облюдение физиологических и гигиенических требований к организации учебного процесс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системы работы по формированию ценности здоровья и здорового образа жиз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очное использование средств физического воспитания и 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восклиц знак"/>
          <p:cNvPicPr/>
          <p:nvPr/>
        </p:nvPicPr>
        <p:blipFill>
          <a:blip r:embed="rId1"/>
          <a:stretch/>
        </p:blipFill>
        <p:spPr>
          <a:xfrm>
            <a:off x="250920" y="620640"/>
            <a:ext cx="79200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е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Здоровьесберегающие   технолог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» объединяет в себе все направления деятельности учебного заведения по формированию, сохранению и укреплению здоровья учащихся, рассматривается как совокупность приемов и методов организации учебно-воспитательного процесса без ущерба для здоровья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ственными за реализацию здоровьесберегающей программы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ели администрации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и групп продлённого д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е руководи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ый педаго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сестра и другие работники школ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лекаются родители и социальные партнеры школы (поликлин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восклиц знак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зационные мероприят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медицинских карт учащих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еда с классным руководителем, родителями, медицинским работником шк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на основе полученной информации характера общих проблем группы и индивидуальных особенностей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плана работы на год, разработка режима д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щь в подготовке кабинета к предстоящему году с учётом санитарно-гигиенических нор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ffff"/>
                </a:solidFill>
                <a:latin typeface="Arial"/>
              </a:rPr>
              <a:t>Задачи: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аправлены на приобретение знаний и представлений о здоровом образе жизни, факторах, влияющих на здоровье, обучение двигательным умениям и навыкам, распространение информации по профилактике вредных привыче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спитате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аправлены на формирование нравственного сознания и поведения, волевых качеств, трудолюбия, устойчивых мотивов самовоспитания, эстетическое и эмоциональное развитие лич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здоровите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аправлены на укрепление физического здоровья и профилактику заболеваний, содействие правильному физическому развитию, включение в активную двигательную деятельность, повышение с помощью средств физической культуры умственной работоспособности, снижение отрицательного воздействия чрезмерной нагрузки на психик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кладные зада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аправлены на формирование умений и навыков, необходимых для сотрудничества со сверстниками и обеспечения жизнедеятельности, физкультурных занятий, пребывания на природе, в быт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Программа здоровьесбережения школьника включает  компоненты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режима д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циональное пит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альная двигательная 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санитарно-гигиенических н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знаниями о сущности здоровья человека, о факторах, его укрепляющих или ослабляющ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актика заболеваний, закал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упреждение вредных привычек (или отказ от них) и формирование полезных произвольных и непроизвольных привычек здорового образ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психоэмоциональной устойчив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082 (2)"/>
          <p:cNvPicPr/>
          <p:nvPr/>
        </p:nvPicPr>
        <p:blipFill>
          <a:blip r:embed="rId1"/>
          <a:stretch/>
        </p:blipFill>
        <p:spPr>
          <a:xfrm>
            <a:off x="4572000" y="1628640"/>
            <a:ext cx="2087640" cy="1567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070"/>
          <p:cNvPicPr/>
          <p:nvPr/>
        </p:nvPicPr>
        <p:blipFill>
          <a:blip r:embed="rId2"/>
          <a:stretch/>
        </p:blipFill>
        <p:spPr>
          <a:xfrm>
            <a:off x="6372360" y="242100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1) Соблюдение режима д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жим группы строится с учетом учебного плана школы, возрастных особенностей детей, режима пит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язательными компонентам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ем пищи, активный отдых, самоподготовка, досуговая дея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ервом классе возможен послеобеденный сон (при наличии условий для него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желательно, чтобы в режиме дня происходили следующие сбо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досып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своевременный прием пищ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достаточное пребывание на свежем воздух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е нагрузки и перегруз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041"/>
          <p:cNvPicPr/>
          <p:nvPr/>
        </p:nvPicPr>
        <p:blipFill>
          <a:blip r:embed="rId3"/>
          <a:stretch/>
        </p:blipFill>
        <p:spPr>
          <a:xfrm>
            <a:off x="4572000" y="335772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SDC10714 (1)"/>
          <p:cNvPicPr/>
          <p:nvPr/>
        </p:nvPicPr>
        <p:blipFill>
          <a:blip r:embed="rId4"/>
          <a:stretch/>
        </p:blipFill>
        <p:spPr>
          <a:xfrm>
            <a:off x="6156360" y="4581360"/>
            <a:ext cx="21621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ребывание на свежем воздух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483920"/>
            <a:ext cx="3675240" cy="453564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а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гиеническая н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ождения на свеж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е 4 ча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юда вход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рога в шко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ия в школе на свежем воздух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ение дом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 дом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SAM_3258"/>
          <p:cNvPicPr/>
          <p:nvPr/>
        </p:nvPicPr>
        <p:blipFill>
          <a:blip r:embed="rId1"/>
          <a:stretch/>
        </p:blipFill>
        <p:spPr>
          <a:xfrm>
            <a:off x="5219640" y="3716280"/>
            <a:ext cx="3009960" cy="2257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SAM_2947"/>
          <p:cNvPicPr/>
          <p:nvPr/>
        </p:nvPicPr>
        <p:blipFill>
          <a:blip r:embed="rId2"/>
          <a:stretch/>
        </p:blipFill>
        <p:spPr>
          <a:xfrm>
            <a:off x="4500720" y="148428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09:02:01Z</dcterms:created>
  <dc:creator>ОЛЬГА</dc:creator>
  <dc:description/>
  <dc:language>en-US</dc:language>
  <cp:lastModifiedBy>user</cp:lastModifiedBy>
  <dcterms:modified xsi:type="dcterms:W3CDTF">2011-08-21T18:42:12Z</dcterms:modified>
  <cp:revision>8</cp:revision>
  <dc:subject/>
  <dc:title>Современные здоровьесберегающие технологии в ГПД</dc:title>
</cp:coreProperties>
</file>