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0CD0-CFD6-4E02-9D66-58DC224C2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74E4-DA52-4300-8009-195A9B17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9FC0-196C-4147-8B48-71FDE151B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F2B4-137B-42B3-9946-208501D6B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B338-04E4-4125-96A6-291EF1C40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B5C6-42B3-4C30-B679-2ABB01D9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E311-255C-47A3-ABCE-F91FECC5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4BBB-1CBB-45FC-864C-2B78DC51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A68F-6980-4977-96D1-EB1DEFD6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7D23-D457-4144-973D-86C20181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A4A9-E620-4E10-BDA3-BC0F0F1F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F3BC-4EBC-4233-8136-4E9ED796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C424-1414-45FB-89FD-F6FB9B5D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EFE6-E516-4E8C-86D9-FE66B510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DF96-AB29-42F7-9889-03070121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7206-0FBF-476B-AE8D-B1823E5E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FD37-C97A-4FFF-9070-B6A852927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34EB-B5E7-4049-B757-2E9566A3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72DA-CF62-449B-8CEB-09C23F52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DD76-95C8-4140-8EBA-510C6273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ED1F-3BE6-4FC7-91E3-54020E7B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B6D8-ADD6-403C-B534-6F1FD421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034A-19EC-4F1B-B42E-6D496423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BBAD-6A6D-4E91-8F05-5F64CAFB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4152-D840-4534-93BB-4190043C74E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88DD-13F0-4A53-A87C-B745A27F45C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Monotype Corsiva"/>
              </a:rPr>
              <a:t>Современные здоровьесберегающие технологии в ГПД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3499920"/>
            <a:ext cx="6629400" cy="1676520"/>
          </a:xfrm>
          <a:prstGeom prst="rect">
            <a:avLst/>
          </a:prstGeom>
          <a:solidFill>
            <a:srgbClr val="ffffff"/>
          </a:solidFill>
          <a:ln w="25560">
            <a:solidFill>
              <a:srgbClr val="6666cc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cc"/>
                </a:solidFill>
                <a:latin typeface="Arial"/>
              </a:rPr>
              <a:t>Из опыта раб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cc"/>
                </a:solidFill>
                <a:latin typeface="Arial"/>
              </a:rPr>
              <a:t>Евдокименко Т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2) Рациональное пит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solidFill>
            <a:srgbClr val="c1d5d5"/>
          </a:solidFill>
          <a:ln w="25560">
            <a:solidFill>
              <a:srgbClr val="6666cc"/>
            </a:solidFill>
            <a:miter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бычно в школе осуществляется  2-3 разовое питание. Разрыв между приемами пищи не должен превышать 3 – 4 часа. Более калорийными являются завтрак и обед, полдник легкий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ища должна быть полноценной по химическому составу и содержать белки, жиры, углеводы, витамины, минеральные соли и микроэлементы, быть безвредной в химическом отношении и безопасной с точки зрения бактериального состав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0" descr="085"/>
          <p:cNvPicPr/>
          <p:nvPr/>
        </p:nvPicPr>
        <p:blipFill>
          <a:blip r:embed="rId1"/>
          <a:stretch/>
        </p:blipFill>
        <p:spPr>
          <a:xfrm>
            <a:off x="4643280" y="242100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3) Оптимальная  двигательная активность :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а) во время самоподготов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4394160" cy="4419720"/>
          </a:xfrm>
          <a:prstGeom prst="rect">
            <a:avLst/>
          </a:prstGeom>
          <a:solidFill>
            <a:srgbClr val="c1d5d5"/>
          </a:solidFill>
          <a:ln w="25560">
            <a:solidFill>
              <a:srgbClr val="6666cc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нятия нужно чередовать с динамическими пауз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оставить детям большую свободу движения, обеспечить динамику поз: разрешать встать, пройтись по кабинету, подойти к однокласснику, воспитателю, постоять за конторкой вместо сидения за партой, полежать на ковре, на диванчи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есообразно использование двух досок в кабинете: одна висит на привычном месте, а другая на противоположной или боковой стен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нятия соревновательного, командного характера, когда ребенок должен выбегать к доске, приседать, поворачиваться, чтобы выполнить задание учебного характер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езно менять в ГПД позиции рабочих мест 1-2 раза в месяц. Можно использовать традиционную расстановку парт, радиально-лучевую, размещение столов по кругу, разрешать посадку группами по 4-6 челове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5" descr="DSC01797"/>
          <p:cNvPicPr/>
          <p:nvPr/>
        </p:nvPicPr>
        <p:blipFill>
          <a:blip r:embed="rId1"/>
          <a:stretch/>
        </p:blipFill>
        <p:spPr>
          <a:xfrm>
            <a:off x="6084720" y="1413000"/>
            <a:ext cx="2303640" cy="1726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DSC02688"/>
          <p:cNvPicPr/>
          <p:nvPr/>
        </p:nvPicPr>
        <p:blipFill>
          <a:blip r:embed="rId2"/>
          <a:stretch/>
        </p:blipFill>
        <p:spPr>
          <a:xfrm>
            <a:off x="6084720" y="4365720"/>
            <a:ext cx="2287800" cy="171612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9" descr="http://oo11.mail.yandex.net/static/cfdde30de299498ba3f6198f206f3bce/tmp7O22iA_html_25010ab4.jpg"/>
          <p:cNvPicPr/>
          <p:nvPr/>
        </p:nvPicPr>
        <p:blipFill>
          <a:blip r:embed="rId3"/>
          <a:stretch/>
        </p:blipFill>
        <p:spPr>
          <a:xfrm>
            <a:off x="5003640" y="2941560"/>
            <a:ext cx="230508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б)  активный отд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13" descr="DSC00026"/>
          <p:cNvPicPr/>
          <p:nvPr/>
        </p:nvPicPr>
        <p:blipFill>
          <a:blip r:embed="rId1"/>
          <a:stretch/>
        </p:blipFill>
        <p:spPr>
          <a:xfrm>
            <a:off x="1619280" y="3716280"/>
            <a:ext cx="3166920" cy="2376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060"/>
          <p:cNvPicPr/>
          <p:nvPr/>
        </p:nvPicPr>
        <p:blipFill>
          <a:blip r:embed="rId2"/>
          <a:stretch/>
        </p:blipFill>
        <p:spPr>
          <a:xfrm>
            <a:off x="5148360" y="3753000"/>
            <a:ext cx="3166920" cy="23749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284360" y="1413000"/>
            <a:ext cx="4032360" cy="2519280"/>
          </a:xfrm>
          <a:prstGeom prst="rect">
            <a:avLst/>
          </a:prstGeom>
          <a:solidFill>
            <a:srgbClr val="c1d5d5"/>
          </a:solidFill>
          <a:ln w="25560">
            <a:solidFill>
              <a:srgbClr val="6666cc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вижные игр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зкультурно-оздоровительные занят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зический труд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скурсии, прогул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ободная деятельнос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чной труд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образительная деятель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зыкальные занят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ужковая рабо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5" descr="DSC01359"/>
          <p:cNvPicPr/>
          <p:nvPr/>
        </p:nvPicPr>
        <p:blipFill>
          <a:blip r:embed="rId3"/>
          <a:stretch/>
        </p:blipFill>
        <p:spPr>
          <a:xfrm>
            <a:off x="468360" y="141300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в)  прогул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solidFill>
            <a:srgbClr val="c1d5d5"/>
          </a:solidFill>
          <a:ln w="25560">
            <a:solidFill>
              <a:srgbClr val="6666cc"/>
            </a:solidFill>
            <a:miter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труктура прогулки может быть следующ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     Наблюдение за природой, погодными явлен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     Труд на участ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    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     Самостоятельная деятельность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     Индивидуальная работа с дет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иды прогуло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родоведческие экскурсии («В садах опять колдует листопад», «По следам пернатых»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ствоведческие экскурсии («Труд работников в школе», «Город, в котором я живу»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улки-практикумы («Красный, желтый, зеленый», «Правила поведения в природе»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ие прогулки («Есть в осени первоначальной», «Удивительное - рядом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опытские прогулки: («Найди клад»)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4) Соблюдение санитарно-гигиенических нор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066920" y="1483920"/>
            <a:ext cx="4467240" cy="3341880"/>
          </a:xfrm>
          <a:prstGeom prst="rect">
            <a:avLst/>
          </a:prstGeom>
          <a:solidFill>
            <a:srgbClr val="c1d5d5"/>
          </a:solidFill>
          <a:ln w="25560">
            <a:solidFill>
              <a:srgbClr val="6666cc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освещенности помещ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людение температурного реж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оевременная влажная убор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три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зеленение кабинета и рекреац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DSC02686"/>
          <p:cNvPicPr/>
          <p:nvPr/>
        </p:nvPicPr>
        <p:blipFill>
          <a:blip r:embed="rId1"/>
          <a:stretch/>
        </p:blipFill>
        <p:spPr>
          <a:xfrm>
            <a:off x="1042920" y="1484280"/>
            <a:ext cx="34578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5) Обеспечение знаниями о сущности здоровья человека, о факторах, его укрепляющих или ослабляющи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solidFill>
            <a:srgbClr val="c1d5d5"/>
          </a:solidFill>
          <a:ln w="25560">
            <a:solidFill>
              <a:srgbClr val="6666cc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сказ в занимательной форме о различных видах спорта и великих спортсменах, истории олимпийского движения, врачебных специальностях, лекарственных растениях, видах закалив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учение оказанию первой помощ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081"/>
          <p:cNvPicPr/>
          <p:nvPr/>
        </p:nvPicPr>
        <p:blipFill>
          <a:blip r:embed="rId1"/>
          <a:stretch/>
        </p:blipFill>
        <p:spPr>
          <a:xfrm>
            <a:off x="4648320" y="235260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6) Профилактика заболеваний, закалив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76360" y="1557000"/>
            <a:ext cx="5257800" cy="4419720"/>
          </a:xfrm>
          <a:prstGeom prst="rect">
            <a:avLst/>
          </a:prstGeom>
          <a:solidFill>
            <a:srgbClr val="c1d5d5"/>
          </a:solidFill>
          <a:ln w="25560">
            <a:solidFill>
              <a:srgbClr val="6666cc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троль за тем, чтобы одежда детей соответствовала погод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каливанию способствуют ежедневные прогулки на свежем воздухе,  проветриван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екоторых школах практикуется употребление фито-чая, вдыхание эфирных масел, полезны фитонциды, выделяемые чесно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илактика переутомления зрительной системы. (зрительно-координаторные тренажи, зарядка для глаз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блюдение правильной позы при выполнении домашних зада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воение простейших приемов самомассажа, точечного массажа, релаксации, дыхательной гимнаст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SDC10602"/>
          <p:cNvPicPr/>
          <p:nvPr/>
        </p:nvPicPr>
        <p:blipFill>
          <a:blip r:embed="rId1"/>
          <a:stretch/>
        </p:blipFill>
        <p:spPr>
          <a:xfrm>
            <a:off x="468360" y="2421000"/>
            <a:ext cx="33116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7) Предупреждение вредных привычек и формирование полезных произвольных и непроизвольных привычек здорового образа жиз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solidFill>
            <a:srgbClr val="c1d5d5"/>
          </a:solidFill>
          <a:ln w="25560">
            <a:solidFill>
              <a:srgbClr val="6666cc"/>
            </a:solidFill>
            <a:miter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ические беседы: «Азбука поведени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нятия по формированию полезных привычек: «Сказать </a:t>
            </a:r>
            <a:r>
              <a:rPr b="0" lang="be-BY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0" lang="be-BY" sz="28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лазнам», «Законы закаливания», «Болезни, связанные с неправильным питанием», «Твои поступки и привычк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8)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Повышение психоэмоциональной устойчив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114880" cy="4419720"/>
          </a:xfrm>
          <a:prstGeom prst="rect">
            <a:avLst/>
          </a:prstGeom>
          <a:solidFill>
            <a:srgbClr val="c1d5d5"/>
          </a:solidFill>
          <a:ln w="25560">
            <a:solidFill>
              <a:srgbClr val="6666cc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итивное мышление - одна из составляющих здоровья , которое достигается упорными тренировками (обучение умению радоваться даже малой своей победе, чужой удач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комфортной атмосферы в школе и классных коллективах, толерантных отношений всех участников образовательного процесса способствует сохранению их здоров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044"/>
          <p:cNvPicPr/>
          <p:nvPr/>
        </p:nvPicPr>
        <p:blipFill>
          <a:blip r:embed="rId1"/>
          <a:stretch/>
        </p:blipFill>
        <p:spPr>
          <a:xfrm>
            <a:off x="5508720" y="3716280"/>
            <a:ext cx="302580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Ухудшение здоровья школьников обусловлено различными фактора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solidFill>
            <a:srgbClr val="669999"/>
          </a:solidFill>
          <a:ln w="25560">
            <a:solidFill>
              <a:srgbClr val="6666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лохая экологическая обстановк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изкий социально-экономический уровень жизни многих семей, что отрицательно сказывается на качестве питания детей, их отдыхе и физическом развит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изис семьи, отражающийся на психологическом здоровь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правильный образ жизни взрослых, который они повседневно наблюдают дома, на улице, в телепередач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восклиц знак"/>
          <p:cNvPicPr/>
          <p:nvPr/>
        </p:nvPicPr>
        <p:blipFill>
          <a:blip r:embed="rId1"/>
          <a:stretch/>
        </p:blipFill>
        <p:spPr>
          <a:xfrm>
            <a:off x="324000" y="260280"/>
            <a:ext cx="68400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Школьные факторы риска, негативно влияющие на здоровье детей: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solidFill>
            <a:srgbClr val="c1d5d5"/>
          </a:solidFill>
          <a:ln w="25560">
            <a:solidFill>
              <a:srgbClr val="6666c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нсификация учебного процесс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соблюдение физиологических и гигиенических требований к организации учебного процесс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ие системы работы по формированию ценности здоровья и здорового образа жизн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достаточное использование средств физического воспитания и спо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восклиц знак"/>
          <p:cNvPicPr/>
          <p:nvPr/>
        </p:nvPicPr>
        <p:blipFill>
          <a:blip r:embed="rId1"/>
          <a:stretch/>
        </p:blipFill>
        <p:spPr>
          <a:xfrm>
            <a:off x="250920" y="620640"/>
            <a:ext cx="792000" cy="4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solidFill>
            <a:srgbClr val="c1d5d5"/>
          </a:solidFill>
          <a:ln w="25560">
            <a:solidFill>
              <a:srgbClr val="6666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ятие «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Здоровьесберегающие   технолог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» объединяет в себе все направления деятельности учебного заведения по формированию, сохранению и укреплению здоровья учащихся, рассматривается как совокупность приемов и методов организации учебно-воспитательного процесса без ущерба для здоровья учащих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ственными за реализацию здоровьесберегающей программы явля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ители администрации школ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и групп продлённого дн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ные руководите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ый педаго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лог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дсестра и другие работники школ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лекаются родители и социальные партнеры школы (поликлиника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восклиц знак"/>
          <p:cNvPicPr/>
          <p:nvPr/>
        </p:nvPicPr>
        <p:blipFill>
          <a:blip r:embed="rId1"/>
          <a:stretch/>
        </p:blipFill>
        <p:spPr>
          <a:xfrm>
            <a:off x="395280" y="333360"/>
            <a:ext cx="115236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рганизационные мероприят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solidFill>
            <a:srgbClr val="c1d5d5"/>
          </a:solidFill>
          <a:ln w="25560">
            <a:solidFill>
              <a:srgbClr val="6666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медицинских карт учащих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еда с классным руководителем, родителями, медицинским работником школ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на основе полученной информации характера общих проблем группы и индивидуальных особенностей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ление плана работы на год, разработка режима д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щь в подготовке кабинета к предстоящему году с учётом санитарно-гигиенических нор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ffffff"/>
                </a:solidFill>
                <a:latin typeface="Arial"/>
              </a:rPr>
              <a:t>Задачи: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solidFill>
            <a:srgbClr val="c1d5d5"/>
          </a:solidFill>
          <a:ln w="25560">
            <a:solidFill>
              <a:srgbClr val="6666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разователь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направлены на приобретение знаний и представлений о здоровом образе жизни, факторах, влияющих на здоровье, обучение двигательным умениям и навыкам, распространение информации по профилактике вредных привычек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спитатель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направлены на формирование нравственного сознания и поведения, волевых качеств, трудолюбия, устойчивых мотивов самовоспитания, эстетическое и эмоциональное развитие личнос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здоровитель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направлены на укрепление физического здоровья и профилактику заболеваний, содействие правильному физическому развитию, включение в активную двигательную деятельность, повышение с помощью средств физической культуры умственной работоспособности, снижение отрицательного воздействия чрезмерной нагрузки на психик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кладные задач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направлены на формирование умений и навыков, необходимых для сотрудничества со сверстниками и обеспечения жизнедеятельности, физкультурных занятий, пребывания на природе, в быт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Monotype Corsiva"/>
              </a:rPr>
              <a:t>Программа здоровьесбережения школьника включает  компоненты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solidFill>
            <a:srgbClr val="c1d5d5"/>
          </a:solidFill>
          <a:ln w="25560">
            <a:solidFill>
              <a:srgbClr val="6666cc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людение режима д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циональное пит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тимальная двигательная актив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людение санитарно-гигиенических нор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ение знаниями о сущности здоровья человека, о факторах, его укрепляющих или ослабляющ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илактика заболеваний, закали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упреждение вредных привычек (или отказ от них) и формирование полезных произвольных и непроизвольных привычек здорового образа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е психоэмоциональной устойчив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2" descr="082 (2)"/>
          <p:cNvPicPr/>
          <p:nvPr/>
        </p:nvPicPr>
        <p:blipFill>
          <a:blip r:embed="rId1"/>
          <a:stretch/>
        </p:blipFill>
        <p:spPr>
          <a:xfrm>
            <a:off x="4572000" y="1628640"/>
            <a:ext cx="2087640" cy="1567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070"/>
          <p:cNvPicPr/>
          <p:nvPr/>
        </p:nvPicPr>
        <p:blipFill>
          <a:blip r:embed="rId2"/>
          <a:stretch/>
        </p:blipFill>
        <p:spPr>
          <a:xfrm>
            <a:off x="6372360" y="2421000"/>
            <a:ext cx="2305080" cy="17287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1) Соблюдение режима д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solidFill>
            <a:srgbClr val="c1d5d5"/>
          </a:solidFill>
          <a:ln w="25560">
            <a:solidFill>
              <a:srgbClr val="6666cc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ежим группы строится с учетом учебного плана школы, возрастных особенностей детей, режима пит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язательными компонентами являю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ем пищи, активный отдых, самоподготовка, досуговая деятель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ервом классе возможен послеобеденный сон (при наличии условий для него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желательно, чтобы в режиме дня происходили следующие сбо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досыпа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своевременный прием пищ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достаточное пребывание на свежем воздух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бные нагрузки и перегруз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041"/>
          <p:cNvPicPr/>
          <p:nvPr/>
        </p:nvPicPr>
        <p:blipFill>
          <a:blip r:embed="rId3"/>
          <a:stretch/>
        </p:blipFill>
        <p:spPr>
          <a:xfrm>
            <a:off x="4572000" y="3357720"/>
            <a:ext cx="2303640" cy="1728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SDC10714 (1)"/>
          <p:cNvPicPr/>
          <p:nvPr/>
        </p:nvPicPr>
        <p:blipFill>
          <a:blip r:embed="rId4"/>
          <a:stretch/>
        </p:blipFill>
        <p:spPr>
          <a:xfrm>
            <a:off x="6156360" y="4581360"/>
            <a:ext cx="216216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Пребывание на свежем воздух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483920"/>
            <a:ext cx="3675240" cy="4535640"/>
          </a:xfrm>
          <a:prstGeom prst="rect">
            <a:avLst/>
          </a:prstGeom>
          <a:solidFill>
            <a:srgbClr val="c1d5d5"/>
          </a:solidFill>
          <a:ln w="25560">
            <a:solidFill>
              <a:srgbClr val="6666cc"/>
            </a:solidFill>
            <a:miter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нималь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игиеническая но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хождения на свеж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ухе 4 ча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юда входя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рога в школ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нятия в школе на свежем воздух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ращение дом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а дом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SAM_3258"/>
          <p:cNvPicPr/>
          <p:nvPr/>
        </p:nvPicPr>
        <p:blipFill>
          <a:blip r:embed="rId1"/>
          <a:stretch/>
        </p:blipFill>
        <p:spPr>
          <a:xfrm>
            <a:off x="5219640" y="3716280"/>
            <a:ext cx="3009960" cy="2257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SAM_2947"/>
          <p:cNvPicPr/>
          <p:nvPr/>
        </p:nvPicPr>
        <p:blipFill>
          <a:blip r:embed="rId2"/>
          <a:stretch/>
        </p:blipFill>
        <p:spPr>
          <a:xfrm>
            <a:off x="4500720" y="1484280"/>
            <a:ext cx="29527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5T09:02:01Z</dcterms:created>
  <dc:creator>ОЛЬГА</dc:creator>
  <dc:description/>
  <dc:language>en-US</dc:language>
  <cp:lastModifiedBy>user</cp:lastModifiedBy>
  <dcterms:modified xsi:type="dcterms:W3CDTF">2011-08-21T18:42:12Z</dcterms:modified>
  <cp:revision>8</cp:revision>
  <dc:subject/>
  <dc:title>Современные здоровьесберегающие технологии в ГПД</dc:title>
</cp:coreProperties>
</file>