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A00D-90BB-48AF-BDFD-B933A1B3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8CBF-EFC7-4EBE-90AE-D331FA12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BA9-4AEE-43CB-8937-786A5DFE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9FDF-2B65-4B6C-BF08-60321257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BEE5-2534-42E4-8FBC-1D2315A3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79E6-11DC-4C71-B82B-5344472E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CD32-E6AF-4108-8C25-8B066A57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B670-A33E-4EB3-95C9-ACA4DAFB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089-0422-428D-9818-D29EB2C8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AA0D-C89C-4F0B-870E-7B74CBB1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34E-53E5-4C76-B13E-C7DBC18D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F9C8-9562-45A7-82BA-3150C8B7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3084-E990-434E-85AC-18D107DB03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07196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Николай Васильевич Гого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2920" y="1434600"/>
            <a:ext cx="3357360" cy="4691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 Black"/>
              </a:rPr>
              <a:t>«Ноч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 Black"/>
              </a:rPr>
              <a:t>перед Рождеств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 Black"/>
              </a:rPr>
              <a:t>        </a:t>
            </a:r>
            <a:r>
              <a:rPr b="0" i="1" lang="ru-RU" sz="3200" spc="-1" strike="noStrike">
                <a:solidFill>
                  <a:srgbClr val="002060"/>
                </a:solidFill>
                <a:latin typeface="Arial Black"/>
              </a:rPr>
              <a:t>те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школа 123\Мои документы\Мои рисунки\2009_04_18\IMG_0009.jpg"/>
          <p:cNvPicPr/>
          <p:nvPr/>
        </p:nvPicPr>
        <p:blipFill>
          <a:blip r:embed="rId1"/>
          <a:stretch/>
        </p:blipFill>
        <p:spPr>
          <a:xfrm>
            <a:off x="4184640" y="0"/>
            <a:ext cx="49593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226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9.</a:t>
            </a:r>
            <a:r>
              <a:rPr b="0" lang="ru-RU" sz="4400" spc="-1" strike="noStrike">
                <a:solidFill>
                  <a:srgbClr val="e46c0a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00b0f0"/>
                </a:solidFill>
                <a:latin typeface="Arial Black"/>
              </a:rPr>
              <a:t>Укажите, какой подарок попросила Оксана у Вакулы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А. платье царицы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Б. царицины черевички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В. царицины перча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686800" cy="6226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10.</a:t>
            </a:r>
            <a:r>
              <a:rPr b="0" lang="ru-RU" sz="4400" spc="-1" strike="noStrike">
                <a:solidFill>
                  <a:srgbClr val="e46c0a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00b0f0"/>
                </a:solidFill>
                <a:latin typeface="Arial Black"/>
              </a:rPr>
              <a:t>Укажите, какой </a:t>
            </a:r>
            <a:br>
              <a:rPr sz="4400"/>
            </a:br>
            <a:r>
              <a:rPr b="0" lang="ru-RU" sz="4400" spc="-1" strike="noStrike">
                <a:solidFill>
                  <a:srgbClr val="00b0f0"/>
                </a:solidFill>
                <a:latin typeface="Arial Black"/>
              </a:rPr>
              <a:t>      праздник описан в произведении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А. Новый год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Б. Пасха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В. Рожд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Часть 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34600"/>
            <a:ext cx="34653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79646"/>
                </a:solidFill>
                <a:latin typeface="Calibri"/>
              </a:rPr>
              <a:t>Напишите ответ слово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школа 123\Мои документы\Мои рисунки\Рисунок1.jpg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636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1.</a:t>
            </a:r>
            <a:r>
              <a:rPr b="0" lang="ru-RU" sz="4400" spc="-1" strike="noStrike">
                <a:solidFill>
                  <a:srgbClr val="e46c0a"/>
                </a:solidFill>
                <a:latin typeface="Arial Black"/>
              </a:rPr>
              <a:t> Напишите, кем по профессии был Ваку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636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2.</a:t>
            </a:r>
            <a:r>
              <a:rPr b="0" lang="ru-RU" sz="4400" spc="-1" strike="noStrike">
                <a:solidFill>
                  <a:srgbClr val="e46c0a"/>
                </a:solidFill>
                <a:latin typeface="Arial Black"/>
              </a:rPr>
              <a:t> Напишите, кем считали мать Вакулы Солох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3.</a:t>
            </a:r>
            <a:r>
              <a:rPr b="0" lang="ru-RU" sz="4400" spc="-1" strike="noStrike">
                <a:solidFill>
                  <a:srgbClr val="e46c0a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0070c0"/>
                </a:solidFill>
                <a:latin typeface="Arial Black"/>
              </a:rPr>
              <a:t>Напишите ,к кому обратился с просьбой подарить черевички Ваку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4.</a:t>
            </a:r>
            <a:r>
              <a:rPr b="0" lang="ru-RU" sz="4400" spc="-1" strike="noStrike">
                <a:solidFill>
                  <a:srgbClr val="e46c0a"/>
                </a:solidFill>
                <a:latin typeface="Arial Black"/>
              </a:rPr>
              <a:t> Напишите, в какой город полетел Вакула за подарком для Окса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Часть 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школа 123\Мои документы\Мои рисунки\Рисунок1.jpg"/>
          <p:cNvPicPr/>
          <p:nvPr/>
        </p:nvPicPr>
        <p:blipFill>
          <a:blip r:embed="rId1"/>
          <a:stretch/>
        </p:blipFill>
        <p:spPr>
          <a:xfrm>
            <a:off x="3429000" y="785880"/>
            <a:ext cx="5111640" cy="5116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3008160" cy="5137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9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пишите 5 предложений на тем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«Чем интересна повесть Н.В.Гоголя «Ночь перед Рождество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Добрый со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Если вы испытали затруднение при решении теста, перечитайте ещё раз произведение</a:t>
            </a: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3" descr="connected_multiple_big"/>
          <p:cNvPicPr/>
          <p:nvPr/>
        </p:nvPicPr>
        <p:blipFill>
          <a:blip r:embed="rId1"/>
          <a:stretch/>
        </p:blipFill>
        <p:spPr>
          <a:xfrm>
            <a:off x="428760" y="1500120"/>
            <a:ext cx="31431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6297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Укажите имя, отчество , фамилию автора повести «Ночь перед Рождеством»:</a:t>
            </a:r>
            <a:br>
              <a:rPr sz="4400"/>
            </a:br>
            <a:br>
              <a:rPr sz="4400"/>
            </a:br>
            <a:r>
              <a:rPr b="0" lang="ru-RU" sz="4800" spc="-1" strike="noStrike">
                <a:solidFill>
                  <a:srgbClr val="0066ff"/>
                </a:solidFill>
                <a:latin typeface="Arial Black"/>
              </a:rPr>
              <a:t>А. А.С.Пушкин</a:t>
            </a:r>
            <a:br>
              <a:rPr sz="4800"/>
            </a:br>
            <a:r>
              <a:rPr b="0" lang="ru-RU" sz="4800" spc="-1" strike="noStrike">
                <a:solidFill>
                  <a:srgbClr val="0066ff"/>
                </a:solidFill>
                <a:latin typeface="Arial Black"/>
              </a:rPr>
              <a:t>Б. М.Ю.Лермонтов</a:t>
            </a:r>
            <a:br>
              <a:rPr sz="4800"/>
            </a:br>
            <a:r>
              <a:rPr b="0" lang="ru-RU" sz="4800" spc="-1" strike="noStrike">
                <a:solidFill>
                  <a:srgbClr val="0066ff"/>
                </a:solidFill>
                <a:latin typeface="Arial Black"/>
              </a:rPr>
              <a:t>В. Н.В.Гогол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97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Укажите, в каком </a:t>
            </a:r>
            <a:br>
              <a:rPr sz="4400"/>
            </a:b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       году было написано произведение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А. 1832</a:t>
            </a: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Б. 2011</a:t>
            </a: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В. 19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63691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3. </a:t>
            </a: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Укажите, обычаи какого народа изобразил автор   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А. русского</a:t>
            </a: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Б. украинского</a:t>
            </a: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В. французско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4. </a:t>
            </a: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Укажите название местечка,  в катором происходили события  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А. Диканька</a:t>
            </a: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Б. Москва</a:t>
            </a: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В. Североморс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72600" cy="6297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5. </a:t>
            </a: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Укажитеимя главной героини произведения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А. Ольга</a:t>
            </a: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Б. Оксана</a:t>
            </a: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Arial Black"/>
              </a:rPr>
              <a:t>В. Оле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62262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6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0" lang="ru-RU" sz="4400" spc="-1" strike="noStrike">
                <a:solidFill>
                  <a:srgbClr val="e46c0a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00b0f0"/>
                </a:solidFill>
                <a:latin typeface="Arial Black"/>
              </a:rPr>
              <a:t>Укажите имя главного герои произведения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А. Кум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Б. Вакула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В.Чу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7.</a:t>
            </a:r>
            <a:r>
              <a:rPr b="0" lang="ru-RU" sz="4400" spc="-1" strike="noStrike">
                <a:solidFill>
                  <a:srgbClr val="e46c0a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00b0f0"/>
                </a:solidFill>
                <a:latin typeface="Arial Black"/>
              </a:rPr>
              <a:t>Укажите, почему заблудились герои произведения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А. не знали, где живут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Б. не хотели идти домой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В. чёрт украл месяц и стало тем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297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8.</a:t>
            </a:r>
            <a:r>
              <a:rPr b="0" lang="ru-RU" sz="4400" spc="-1" strike="noStrike">
                <a:solidFill>
                  <a:srgbClr val="e46c0a"/>
                </a:solidFill>
                <a:latin typeface="Arial Black"/>
              </a:rPr>
              <a:t> </a:t>
            </a:r>
            <a:r>
              <a:rPr b="0" lang="ru-RU" sz="4400" spc="-1" strike="noStrike">
                <a:solidFill>
                  <a:srgbClr val="00b0f0"/>
                </a:solidFill>
                <a:latin typeface="Arial Black"/>
              </a:rPr>
              <a:t>Укажите, как звали мать Вакулы: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А. Солоха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Б. Оксана</a:t>
            </a:r>
            <a:br>
              <a:rPr sz="4400"/>
            </a:br>
            <a:r>
              <a:rPr b="0" lang="ru-RU" sz="4400" spc="-1" strike="noStrike">
                <a:solidFill>
                  <a:srgbClr val="c0504d"/>
                </a:solidFill>
                <a:latin typeface="Arial Black"/>
              </a:rPr>
              <a:t>В. Агап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3:52:01Z</dcterms:created>
  <dc:creator>учитель</dc:creator>
  <dc:description/>
  <dc:language>en-US</dc:language>
  <cp:lastModifiedBy>ADmin</cp:lastModifiedBy>
  <dcterms:modified xsi:type="dcterms:W3CDTF">2012-06-26T07:26:26Z</dcterms:modified>
  <cp:revision>20</cp:revision>
  <dc:subject/>
  <dc:title>НЕ с существительными</dc:title>
</cp:coreProperties>
</file>