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20D-29B0-4FB2-8968-445E1E27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381-9021-44BE-B9EC-63F66593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E81-3959-4B94-B575-28FF7107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21A-0DB3-4C71-8E97-58E11E6C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03C-D93A-488C-A109-A63DCB2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8FA-10B4-44CB-8802-3935744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C01-2B56-4A0A-B379-1D280E4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4A1-974B-4A0D-97F3-3324F22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BA6-8C0A-4D97-A967-BE13D0B8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0CD-82C1-4B42-847A-320DEA5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FAC-A63C-45F6-9CE1-630B229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090-DE73-4AB8-8E80-C53F595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6DF-6BD0-46A2-BD8C-95876CD99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0719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357360" cy="4691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«Н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перед Рождеств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        </a:t>
            </a: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школа 123\Мои документы\Мои рисунки\2009_04_18\IMG_0009.jpg"/>
          <p:cNvPicPr/>
          <p:nvPr/>
        </p:nvPicPr>
        <p:blipFill>
          <a:blip r:embed="rId1"/>
          <a:stretch/>
        </p:blipFill>
        <p:spPr>
          <a:xfrm>
            <a:off x="4184640" y="0"/>
            <a:ext cx="49593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9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ой подарок попросила Оксана у Вакулы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платье царицы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царицины черевички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царицины перча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0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ой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      праздник описан в произведении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Новый год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Пасх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Рожд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асть 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465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9646"/>
                </a:solidFill>
                <a:latin typeface="Calibri"/>
              </a:rPr>
              <a:t>Напишите ответ слов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школа 123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6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кем по профессии был В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36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кем считали мать Вакулы Солох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Arial Black"/>
              </a:rPr>
              <a:t>Напишите ,к кому обратился с просьбой подарить черевички В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в какой город полетел Вакула за подарком для Окс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Часть 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школа 123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3429000" y="785880"/>
            <a:ext cx="5111640" cy="511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ишите 5 предложений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«Чем интересна повесть Н.В.Гоголя «Ночь перед Рождеств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Добрый 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Если вы испытали затруднение при решении теста, перечитайте ещё раз произведение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onnected_multiple_big"/>
          <p:cNvPicPr/>
          <p:nvPr/>
        </p:nvPicPr>
        <p:blipFill>
          <a:blip r:embed="rId1"/>
          <a:stretch/>
        </p:blipFill>
        <p:spPr>
          <a:xfrm>
            <a:off x="428760" y="1500120"/>
            <a:ext cx="3143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 имя, отчество , фамилию автора повести «Ночь перед Рождеством»: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А. А.С.Пушкин</a:t>
            </a:r>
            <a:br>
              <a:rPr sz="48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Б. М.Ю.Лермонтов</a:t>
            </a:r>
            <a:br>
              <a:rPr sz="48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В. Н.В.Г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, в каком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       году было написано произведение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1832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2011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19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369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, обычаи какого народа изобразил автор  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русского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украинского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француз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 название местечка,  в катором происходили события 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Диканьк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Москв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Северомор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имя главной героин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Ольг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Оксан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Ол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 имя главного геро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Кум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Вакул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Чу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почему заблудились геро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не знали, где живут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не хотели идти домой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чёрт украл месяц и стало тем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29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8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 звали мать Вакулы: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Солох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Оксан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Ага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3:52:01Z</dcterms:created>
  <dc:creator>учитель</dc:creator>
  <dc:description/>
  <dc:language>en-US</dc:language>
  <cp:lastModifiedBy>ADmin</cp:lastModifiedBy>
  <dcterms:modified xsi:type="dcterms:W3CDTF">2012-06-26T07:26:26Z</dcterms:modified>
  <cp:revision>20</cp:revision>
  <dc:subject/>
  <dc:title>НЕ с существительными</dc:title>
</cp:coreProperties>
</file>