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418-3BE7-4A9B-B15A-33CB6B092A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96C4-772A-40F2-BE96-96E79D62E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0BC-D985-4434-A0CF-5A4301E0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E1E-F212-404D-AEBD-7F19876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09F-C3EE-4C4B-8C33-0E946768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A35-1808-41E6-9304-CE599A85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005F-628F-44BB-B1A8-8BEB1BD1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97B-7E88-4B10-A0A4-5539F94A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3A4-352D-4E88-ABD1-91C641FF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610-C2B7-4447-B8C1-1830B0E7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C217-43CD-4821-9B24-CBCA8C8B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5F5-9AB2-4378-9917-DCFD284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0FF-CC3F-4250-B767-4C0C5BE1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2B1-7E53-47F8-9CEF-85A01FD5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CA7-3679-419A-B8AB-6E5720A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D49A-8D87-4830-95C2-C2E65F6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5D91-FA09-4C1E-ABBF-D047040C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D672-BDCE-4682-943B-3A92D41B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E801-F4AE-4AC6-8B96-59AC2601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ACF49-3B8D-4D38-AB3D-05839C58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19CF-E06F-44BC-9939-6E7BFA13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682AD-E8BA-49E6-9587-AA16D54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5D2E-FCDE-4887-AD84-20BC20FF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B305-25B1-4B11-8D1C-8A3E7449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5D9-ED53-4BC2-BF5D-4EACA6E8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3F29-5125-4E97-81E9-6575C09C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1533-887B-41A3-AA18-F727AEF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0BEA-43F4-4CB1-AE0F-060752D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976A-1A25-4A98-AC26-A07D287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1188-E45C-47FF-B49D-4294C54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241C7-2DC0-400E-9FA8-9FE29417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16874-D3CC-4C03-AA38-FC3463BB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B601-90A2-45D8-A169-E6F1DB8F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0A12-5FD2-4F5F-A8F8-FCF7330F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9FB6-174A-4F79-83A8-5101B7A2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FF2-9904-49A8-AF29-466F799B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1FE4-5C82-4C37-8082-18A25D9C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6F617-ABD2-47B3-92E7-0D9625A4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36BA4-4476-4EE3-AABB-A9CAD55F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24B6-190C-47A8-B402-58539494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23E3-B23A-467B-9F98-7AE242D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0CBA-F53A-434D-969B-337A76C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172B4-08E8-465C-8E62-A12714F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3DB1-7A41-41DE-A33A-4F6CC23D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69D2-80E7-4E1D-BF09-9A7BCE90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66B2-90AF-4E7F-8C8D-75FB726B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7E7-5ACC-420D-A9A6-316D38C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07E30-7BD1-4F40-AD16-3EC4DDC1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1F96-FD72-4C8C-B602-5A3EA33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47BD-E33C-4A64-B605-0AEDBB51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E700-D08A-441C-AA10-F818DE8B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4F4C-54DD-4485-A62B-EEE7C7B2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D5AC1-843C-44EA-863A-1DF3F30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3539-584C-4B05-B174-20DD992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BDE9-9846-46A0-848C-7AEC577B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BCEE-8914-41C1-B755-9B7AA1C9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7DCB-8245-4EC5-B174-5F6C0FF0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F00-3FAF-411D-95C1-1F539784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CE1D-285A-4070-B34A-54E77521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DD9FD-B882-498E-810D-356DF4F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1F80D-0E6B-45AE-970B-54DB3BB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4E1E8-8856-4F04-88FF-EB3EDF84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DD173-9F71-43F1-99A5-39D3BA66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E5C7-AA79-4CBB-A49D-A826C588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89D46-813E-41C0-9A99-A8412E04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D3BF-280C-49FF-91A5-89B73B4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7911D-61A1-4148-B825-36D45E8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E89A-2C15-45BD-9D27-405C0322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97E-7E9D-4517-9BAE-F1EDEFB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2017-3879-4443-A946-245D105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D68B-8BB3-4B8D-832D-61C9DEAA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7346-56AC-452A-BBC0-2659C3A1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60317-7958-4914-B1C1-6862C3ED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48985-AF6A-4A6E-97BE-37B9D419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727D-3D01-40B8-A5BA-29E8AB80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B056A-813E-4CAD-A236-949CE5D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3BF88-0042-4661-A5B0-3D188DA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1B4FD-619E-4B62-AD6D-EB1ACB60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4DA3F-98EE-4D32-8F22-659B596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5C1-323A-49C9-8593-E89D9FF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4585B-5DF5-4714-A462-6C84520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CC17-9D0C-4C1B-91E5-8C0AE8E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4F91-3638-4775-B1E6-1FDC7531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50857-9904-4D55-803E-6ABA96C1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64EE4-8346-467E-930D-759C130C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C04-866F-4C7F-9EF7-46528CE7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7184-7426-4787-B529-72BB4F8BB8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99BA-1EEF-4028-A3A0-B0B5A4DFD70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0EE6-4946-4D82-A259-AE43EBBBF9D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B94-5FC2-4C4F-A8B5-B5AF321B93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1DE0-CDE7-455F-BCAA-FE33B7C8B5A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C11B-40D3-4607-B908-72655583617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480A-B5ED-474D-A00B-22305FC92A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428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рок русского языка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00120" y="42148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 «Б»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БОУ «СОШ № 41 г.Белгорода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ff"/>
                </a:solidFill>
                <a:latin typeface="Corbel"/>
              </a:rPr>
              <a:t>Физкультминут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Бега..т,   смотр…т,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Corbel"/>
              </a:rPr>
              <a:t>скрип…т,  рису…шь, гре…т, говор…т,   гон…т,  скач..т, дыш…т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00ff"/>
                </a:solidFill>
                <a:latin typeface="Gill Sans MT"/>
              </a:rPr>
              <a:t>VI</a:t>
            </a: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.Закрепление изученного материал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285920"/>
            <a:ext cx="7499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вери чувствуют приближение весны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ысоко в небе парит орёл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Исчезает последний снег в лесу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Дует тёплый ветерок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Овал 3"/>
          <p:cNvSpPr/>
          <p:nvPr/>
        </p:nvSpPr>
        <p:spPr>
          <a:xfrm>
            <a:off x="1643040" y="5643720"/>
            <a:ext cx="157176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е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6"/>
          <p:cNvSpPr/>
          <p:nvPr/>
        </p:nvSpPr>
        <p:spPr>
          <a:xfrm>
            <a:off x="3429000" y="5643720"/>
            <a:ext cx="157176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та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8"/>
          <p:cNvSpPr/>
          <p:nvPr/>
        </p:nvSpPr>
        <p:spPr>
          <a:xfrm>
            <a:off x="6858000" y="5572080"/>
            <a:ext cx="1571760" cy="5716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чу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9"/>
          <p:cNvSpPr/>
          <p:nvPr/>
        </p:nvSpPr>
        <p:spPr>
          <a:xfrm>
            <a:off x="5143680" y="5643720"/>
            <a:ext cx="1571400" cy="5713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ре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Провер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Ве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тёплый ветерок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а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последний снег в лесу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Высоко в небе ре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орёл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пр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Звери чу</a:t>
            </a:r>
            <a:r>
              <a:rPr b="1" lang="ru-RU" sz="4100" spc="-1" strike="noStrike">
                <a:solidFill>
                  <a:srgbClr val="ff0000"/>
                </a:solidFill>
                <a:latin typeface="Corbel"/>
              </a:rPr>
              <a:t>ю</a:t>
            </a:r>
            <a:r>
              <a:rPr b="0" lang="ru-RU" sz="4100" spc="-1" strike="noStrike">
                <a:solidFill>
                  <a:srgbClr val="000000"/>
                </a:solidFill>
                <a:latin typeface="Corbel"/>
              </a:rPr>
              <a:t>т приближение весны.</a:t>
            </a:r>
            <a:endParaRPr b="0" lang="en-US" sz="4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428760"/>
            <a:ext cx="7499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600ff"/>
                </a:solidFill>
                <a:latin typeface="Corbel"/>
              </a:rPr>
              <a:t>Работа по ряда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434960" y="1214280"/>
          <a:ext cx="7209000" cy="4992840"/>
        </p:xfrm>
        <a:graphic>
          <a:graphicData uri="http://schemas.openxmlformats.org/drawingml/2006/table">
            <a:tbl>
              <a:tblPr/>
              <a:tblGrid>
                <a:gridCol w="720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1 ряд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В бою (побывать)_________________ , цену жизни узна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2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Слово (сказать)_________________, ка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узлом повяза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3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Крепкую дружбу и топором не (разрубить)________________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6600ff"/>
                </a:solidFill>
                <a:latin typeface="Corbel"/>
              </a:rPr>
              <a:t>Работа  по рядам (проверка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214280" y="1357200"/>
          <a:ext cx="7643880" cy="4929480"/>
        </p:xfrm>
        <a:graphic>
          <a:graphicData uri="http://schemas.openxmlformats.org/drawingml/2006/table">
            <a:tbl>
              <a:tblPr/>
              <a:tblGrid>
                <a:gridCol w="7643880"/>
              </a:tblGrid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1 ряд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В бою побываешь , цену жизни узна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2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Слово скаж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ь, как  узлом повяж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е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64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3 ря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Крепкую дружбу и топоро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не разруб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rbel"/>
                          <a:ea typeface="Times New Roman"/>
                        </a:rPr>
                        <a:t>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ш</a:t>
                      </a:r>
                      <a:r>
                        <a:rPr b="1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orbel"/>
                          <a:ea typeface="Times New Roman"/>
                        </a:rPr>
                        <a:t>ь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Итог урока, рефлексия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928440"/>
            <a:ext cx="749952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Большинство заданий показались мне: очень простыми, лёгкими, средними по трудности, трудными, очень трудны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Задания были интересными, скучны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Мне кажется, что я работал на уроке: очень хорошо, нормально, плох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амое лёгкое задание №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Самое трудное задание №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Самое интересное задание №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V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 10, упр. 3 («Рабочая тетрадь» №2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Записать стихотворение, правильно написать окончания глаголов, уметь доказать правильность их напис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434960" y="285840"/>
            <a:ext cx="74995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ращаться с языком надо бережно: точно подбирать слова, правильно строить предложения. И тогда наша речь будет красивой. Красивой должна быть  не только устная, но и письменная речь»                                                                 А.Н.Толсто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Рисунок 4" descr="А Толстой.bmp"/>
          <p:cNvPicPr/>
          <p:nvPr/>
        </p:nvPicPr>
        <p:blipFill>
          <a:blip r:embed="rId1"/>
          <a:stretch/>
        </p:blipFill>
        <p:spPr>
          <a:xfrm>
            <a:off x="3786120" y="571680"/>
            <a:ext cx="2071800" cy="230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Проверка домашнего зад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о горизонтал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.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К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нет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директора расположен н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вом этаж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сс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жир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чуть не опоздал на поезд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7. В сквере рядом со школой стоит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ам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я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ник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Пушкину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9.На уроке возникла проблемна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с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уац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я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0. В этот момент  во мне заговорил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ильная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ид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Проверка домашнего задани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rbel"/>
              </a:rPr>
              <a:t>По вертикал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. Из окна гостиной открывался довольно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нылый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йзаж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. Над диваном висел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ртрет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бабуш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. Наше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ут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шеств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е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лилось целую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делю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К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п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тан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корабля стоял на верхней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алубе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8.Детские зимние 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з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а</a:t>
            </a:r>
            <a:r>
              <a:rPr b="0" lang="ru-RU" sz="3000" spc="-1" strike="noStrike">
                <a:solidFill>
                  <a:srgbClr val="6600ff"/>
                </a:solidFill>
                <a:latin typeface="Corbel"/>
              </a:rPr>
              <a:t>бавы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вскоре стал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лишком шумным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Чистописание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инута чистописания.jpg"/>
          <p:cNvPicPr/>
          <p:nvPr/>
        </p:nvPicPr>
        <p:blipFill>
          <a:blip r:embed="rId1"/>
          <a:stretch/>
        </p:blipFill>
        <p:spPr>
          <a:xfrm>
            <a:off x="2500200" y="2143080"/>
            <a:ext cx="6499440" cy="2567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C:\Program Files\Microsoft Office\MEDIA\CAGCAT10\j0285444.wmf"/>
          <p:cNvPicPr/>
          <p:nvPr/>
        </p:nvPicPr>
        <p:blipFill>
          <a:blip r:embed="rId2"/>
          <a:stretch/>
        </p:blipFill>
        <p:spPr>
          <a:xfrm>
            <a:off x="4357800" y="4643280"/>
            <a:ext cx="179532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Словарная рабо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28480" y="1285920"/>
            <a:ext cx="463716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1.  … большой души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2. Бросать слова на 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3. Проглотить 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4. Слово не   …,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ылетит, не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оймаеш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072120" y="1785600"/>
            <a:ext cx="25005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ет.р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.зы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в.р.бе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ч.л.ве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6"/>
          <p:cNvSpPr/>
          <p:nvPr/>
        </p:nvSpPr>
        <p:spPr>
          <a:xfrm flipH="1">
            <a:off x="6143760" y="1500120"/>
            <a:ext cx="1440" cy="4216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II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Словарная работ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880"/>
            <a:ext cx="70660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Ч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ловек большой души,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росать слова на вет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,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проглотить 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я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зык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Слово не в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бей, вылетит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не пойма</a:t>
            </a:r>
            <a:r>
              <a:rPr b="0" lang="ru-RU" sz="44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шь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«Упражнение в правописании окончаний глаголов» с.9, упр.2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ак зима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(не злитьс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)  _______, а всё весне (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окоритьс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)________________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ождик (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ымочить )________,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 красно солнышко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(высушить)_________________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мелый там найдёт, где робкий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(потерять)_________________ 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0"/>
          <p:cNvSpPr/>
          <p:nvPr/>
        </p:nvSpPr>
        <p:spPr>
          <a:xfrm>
            <a:off x="3571920" y="4572000"/>
            <a:ext cx="285840" cy="2858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5357880" y="400068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6"/>
          <p:cNvSpPr/>
          <p:nvPr/>
        </p:nvSpPr>
        <p:spPr>
          <a:xfrm>
            <a:off x="5357880" y="3357720"/>
            <a:ext cx="428400" cy="28548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"/>
          <p:cNvSpPr/>
          <p:nvPr/>
        </p:nvSpPr>
        <p:spPr>
          <a:xfrm>
            <a:off x="4929120" y="2786040"/>
            <a:ext cx="5000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4"/>
          <p:cNvSpPr/>
          <p:nvPr/>
        </p:nvSpPr>
        <p:spPr>
          <a:xfrm>
            <a:off x="4929120" y="1571760"/>
            <a:ext cx="5000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Gill Sans MT"/>
              </a:rPr>
              <a:t>IV</a:t>
            </a:r>
            <a:r>
              <a:rPr b="1" lang="ru-RU" sz="3600" spc="-1" strike="noStrike">
                <a:solidFill>
                  <a:srgbClr val="6600ff"/>
                </a:solidFill>
                <a:latin typeface="Corbel"/>
              </a:rPr>
              <a:t>. «Упражнение в правописании окончаний глаголов» с.9 упр.2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642680" y="1356840"/>
            <a:ext cx="71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ак зима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 зл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ся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а всё весне покоритс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Дождик вымоч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 , а красн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лнышко </a:t>
            </a: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ысуш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мелый там найд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ё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, где робкий потеря</a:t>
            </a: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т.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46:16Z</dcterms:created>
  <dc:creator>Tanya</dc:creator>
  <dc:description/>
  <dc:language>en-US</dc:language>
  <cp:lastModifiedBy>Tanya</cp:lastModifiedBy>
  <dcterms:modified xsi:type="dcterms:W3CDTF">2012-06-26T14:59:23Z</dcterms:modified>
  <cp:revision>44</cp:revision>
  <dc:subject/>
  <dc:title>Урок русского языка</dc:title>
</cp:coreProperties>
</file>