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4FA-D911-4037-A119-CC5B54444E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FA3-3076-4912-BF01-67D3D25AB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D84-F301-45DC-89D6-8CAC19BC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5C2-E911-46F0-8F43-ADF7FD88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A31-18C3-476A-A5C0-05DA9408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970-FA36-4120-ACBD-3945038C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5EA-66B8-4DFC-A0AE-353C68B6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8014-48CF-4A73-A7DF-76716985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C4EB-7E8F-44E4-ADDF-E68DD0E4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BCA-66F3-444B-9F08-BE170FC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653-3694-4B23-A859-65D86E9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1E57-A1FE-4C33-AC22-64D8611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B32-416D-4B97-92C8-5F7A114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4A5-F3A8-4DD8-A0F4-59C0B73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A46-A368-4DE0-BFEA-A48520B4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35A-AE0C-4DC4-B677-3B692E4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028-8AA0-40FF-A8E9-3D449E94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78D-A0D1-45D1-A3BD-BFD8F011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B95-8C99-45B5-9E85-6E83EF1B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8F74-8101-40A6-9E1B-374BCF6E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3A9C-8195-4C76-8DBB-BEC2B67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3F25-8BC8-4F3A-B2C9-654B8CA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485C-96BB-4C43-9234-22C75CA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B313-ABC0-482D-A94B-D746F78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CF0-B6BE-4776-BF6E-014FDCD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D8D8-24C5-4AD0-A761-FAD0CAD6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20EA-6FE1-43B8-B39B-BE65792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6FBC-BC74-459B-AEB1-9F6DE7A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BAB6-17C1-4548-AD4B-56470E0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3D2B-91D9-45FA-8D27-52EDE8C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8445-8C3E-4AE1-A9B4-5F7BB118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A6EC-E014-4E10-926B-D9FC710B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554E-7D0B-47D8-96DB-BF199F52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CB17-FA3C-445D-A2DA-E40365E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7B8E-9A17-4B3D-93FA-04D0E0F6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75E-51CE-4CE8-B67B-C7F1DA6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BC61-1C9A-45DB-B857-7958DFB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45AE-2757-47FD-A0DD-59B0BE9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025E-C8FE-4196-AD4D-3B7B7DB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184D-49B8-4080-B547-61E62E3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A054-A54E-4595-84C4-3F1DB2C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FCA0-6989-42DB-9A89-6A5685C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F71B-21CD-4426-B1D0-88E51001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89A2-5F7B-447E-874F-813C05D9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6DD9-4C96-4575-80CE-000BC4E9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8917-8091-4379-81E6-371D6D75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141-8E43-4002-A59D-2A032A9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E8F3-E44D-4C7C-8297-214026D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5A53-F3D4-462F-8C46-4F163C2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D331-63A8-4818-9D32-C2A882D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C327-6EBC-482F-AE1B-3620A465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4811-A6EF-440D-9C85-A279373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D0D7-6B5B-4D0B-ADF5-9A5D2F8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5372-4DB0-4987-89B4-F78E95BB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5D87-8FB2-4CF2-91E1-AEBBAF4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A731-779A-4855-A14D-FBA6456C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9C45-B453-4695-A746-2422400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C47-067F-4D13-BDB2-09B0D4C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B7A8-41D7-47D1-9A1C-0ECEECF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7C76-EBDF-4F90-97E2-8199A49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1BB7-D9D9-463A-A83C-5C4EBDF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CE47-BE99-4C79-9069-573AAFF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682C-CD9A-4874-ADB3-E8D3919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455A-CCB8-43C9-A28C-02E55D7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13881-7656-43F7-A397-A4325B3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9B7E-C00A-41F8-B49A-ACA82E1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93E9-5BAA-4F20-9310-21D930E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B38A-ECEB-4E0F-834B-314BD17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1D6-E786-498F-BCEB-DC67682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7282-0BCA-4318-A8D2-95ED4E3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A435-268F-4263-AC3D-3807C91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DF7D-ECFF-49CE-A449-68FEF2AC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DEFA-38E3-41C6-AE17-89E21E6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9D1F-5930-4D78-8B57-5DA3FA0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E820B-4E73-4BE9-9E5F-05B91B1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D49F-A364-4400-8C43-657D6BE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FA076-2659-4637-BA26-52ECF7E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D0A8-3D7C-4BD1-9FCD-E294347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6FC0-5406-45C6-B76A-6B531EA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553-DE45-4D2C-98B1-EE2C4E9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7BCE-6A26-4B86-833F-59ECCB4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7F597-7B4F-4C38-BAB3-367E416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943A-1403-413E-BCB4-5E63CA6F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F6E3-3E19-468A-8003-C08770A0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4459-F1A6-4AA7-8269-7A0EFFC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E16-2D27-4F0B-A4DE-6ED49A2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151-01BE-4EDD-9C9A-BC2AB0F477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820-B5C3-46DB-B569-FF0F135B5E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010A-B6FF-407E-8ED3-D9AC7462D3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0F40-318B-42B9-BFC0-2E073010FA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F85-7B71-4C2D-BCFB-E382E57873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31F-50B9-4A42-B55F-EEBBCA21DC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3D5-34B2-4477-AE16-CF2420D2B6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428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к русского языка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00120" y="42148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 «Б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БОУ «СОШ № 41 г.Белгород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ff"/>
                </a:solidFill>
                <a:latin typeface="Corbel"/>
              </a:rPr>
              <a:t>Физкультмину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Бега..т,   смотр…т,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скрип…т,  рису…шь, гре…т, говор…т,   гон…т,  скач..т, дыш…т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ff"/>
                </a:solidFill>
                <a:latin typeface="Gill Sans MT"/>
              </a:rPr>
              <a:t>VI</a:t>
            </a: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.Закрепление изученного материал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285920"/>
            <a:ext cx="7499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вери чувствуют приближение весны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ысоко в небе парит орёл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Исчезает последний снег в лесу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ует тёплый ветерок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3"/>
          <p:cNvSpPr/>
          <p:nvPr/>
        </p:nvSpPr>
        <p:spPr>
          <a:xfrm>
            <a:off x="1643040" y="5643720"/>
            <a:ext cx="157176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6"/>
          <p:cNvSpPr/>
          <p:nvPr/>
        </p:nvSpPr>
        <p:spPr>
          <a:xfrm>
            <a:off x="3429000" y="5643720"/>
            <a:ext cx="157176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а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8"/>
          <p:cNvSpPr/>
          <p:nvPr/>
        </p:nvSpPr>
        <p:spPr>
          <a:xfrm>
            <a:off x="6858000" y="5572080"/>
            <a:ext cx="1571760" cy="5716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чу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5143680" y="5643720"/>
            <a:ext cx="157140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е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Провер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Ве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тёплый ветерок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а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последний снег в лесу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Высоко в небе ре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орёл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Звери чу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ю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приближение весны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Работа по ряда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34960" y="1214280"/>
          <a:ext cx="7209000" cy="4992840"/>
        </p:xfrm>
        <a:graphic>
          <a:graphicData uri="http://schemas.openxmlformats.org/drawingml/2006/table">
            <a:tbl>
              <a:tblPr/>
              <a:tblGrid>
                <a:gridCol w="720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1 ряд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В бою (побывать)_________________ , цену жизни узна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2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Слово (сказать)_________________, к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узлом повяза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3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Крепкую дружбу и топором не (разрубить)_____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ff"/>
                </a:solidFill>
                <a:latin typeface="Corbel"/>
              </a:rPr>
              <a:t>Работа  по рядам (проверка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357200"/>
          <a:ext cx="7643880" cy="492948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1 ряд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В бою побываешь , цену жизни узна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2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Слово скаж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ь, как  узлом повяж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6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3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Крепкую дружбу и топоро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не разруб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Итог урока, рефлекс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Большинство заданий показались мне: очень простыми, лёгкими, средними по трудности, трудными, очень трудн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Задания были интересными, скучны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Мне кажется, что я работал на уроке: очень хорошо, нормально, плох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амое лёгкое задание №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Самое трудное задание №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Самое интересное задание №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V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 10, упр. 3 («Рабочая тетрадь» №2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аписать стихотворение, правильно написать окончания глаголов, уметь доказать правильность их напис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285840"/>
            <a:ext cx="74995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аться с языком надо бережно: точно подбирать слова, правильно строить предложения. И тогда наша речь будет красивой. Красивой должна быть  не только устная, но и письменная речь»                                                                 А.Н.Толсто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4" descr="А Толстой.bmp"/>
          <p:cNvPicPr/>
          <p:nvPr/>
        </p:nvPicPr>
        <p:blipFill>
          <a:blip r:embed="rId1"/>
          <a:stretch/>
        </p:blipFill>
        <p:spPr>
          <a:xfrm>
            <a:off x="3786120" y="571680"/>
            <a:ext cx="207180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Проверка домашнего зад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о горизонтал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К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директора расположен н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вом этаж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сс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жир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чуть не опоздал на поезд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 В сквере рядом со школой стои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ам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я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ник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Пушкину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9.На уроке возникла проблемна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с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уац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0. В этот момент  во мне заговорил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ильная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и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Проверка домашнего зад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о вертикал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 Из окна гостиной открывался довольн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нылый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йза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Над диваном висел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ртрет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бабуш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аше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ут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шеств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лилось целую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делю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К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ан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корабля стоял на верхне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алуб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Детские зимние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з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авы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вскоре стал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ишком шумны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Чистопис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инута чистописания.jpg"/>
          <p:cNvPicPr/>
          <p:nvPr/>
        </p:nvPicPr>
        <p:blipFill>
          <a:blip r:embed="rId1"/>
          <a:stretch/>
        </p:blipFill>
        <p:spPr>
          <a:xfrm>
            <a:off x="2500200" y="2143080"/>
            <a:ext cx="6499440" cy="2567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Program Files\Microsoft Office\MEDIA\CAGCAT10\j0285444.wmf"/>
          <p:cNvPicPr/>
          <p:nvPr/>
        </p:nvPicPr>
        <p:blipFill>
          <a:blip r:embed="rId2"/>
          <a:stretch/>
        </p:blipFill>
        <p:spPr>
          <a:xfrm>
            <a:off x="4357800" y="4643280"/>
            <a:ext cx="1795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Словарная рабо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28480" y="1285920"/>
            <a:ext cx="463716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.  … большой душ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2. Бросать слова на 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3. Проглотить 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4. Слово не   …,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ылетит, не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оймаеш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72120" y="1785600"/>
            <a:ext cx="2500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ет.р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.зы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.р.бе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ч.л.ве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6"/>
          <p:cNvSpPr/>
          <p:nvPr/>
        </p:nvSpPr>
        <p:spPr>
          <a:xfrm flipH="1">
            <a:off x="6143760" y="1500120"/>
            <a:ext cx="1440" cy="4216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Словарная рабо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880"/>
            <a:ext cx="7066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ловек большой души,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росать слова на вет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,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глотить 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я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ык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лово не в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ей, вылетит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не пойма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шь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«Упражнение в правописании окончаний глаголов» с.9, упр.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ак зима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(не злитьс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)  _______, а всё весне (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окоритьс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)________________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ождик (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ымочить )________,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 красно солнышко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(высушить)_________________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мелый там найдёт, где робкий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(потерять)_________________ 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0"/>
          <p:cNvSpPr/>
          <p:nvPr/>
        </p:nvSpPr>
        <p:spPr>
          <a:xfrm>
            <a:off x="3571920" y="4572000"/>
            <a:ext cx="285840" cy="285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5357880" y="400068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6"/>
          <p:cNvSpPr/>
          <p:nvPr/>
        </p:nvSpPr>
        <p:spPr>
          <a:xfrm>
            <a:off x="5357880" y="3357720"/>
            <a:ext cx="428400" cy="285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4929120" y="2786040"/>
            <a:ext cx="5000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4929120" y="1571760"/>
            <a:ext cx="5000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«Упражнение в правописании окончаний глаголов» с.9 упр.2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642680" y="1356840"/>
            <a:ext cx="71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ак зима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 зл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ся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а всё весне покори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ождик вымоч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 , а красн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лнышко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ысуш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мелый там найд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ё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, где робкий потеря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.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46:16Z</dcterms:created>
  <dc:creator>Tanya</dc:creator>
  <dc:description/>
  <dc:language>en-US</dc:language>
  <cp:lastModifiedBy>Tanya</cp:lastModifiedBy>
  <dcterms:modified xsi:type="dcterms:W3CDTF">2012-06-26T14:59:23Z</dcterms:modified>
  <cp:revision>44</cp:revision>
  <dc:subject/>
  <dc:title>Урок русского языка</dc:title>
</cp:coreProperties>
</file>