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CEE-DCB2-4CF3-A0E1-DF6011C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208-4BB6-4A10-A74A-03251B4E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68D-0D77-455C-8F97-310725DE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99F-3A4B-47BD-8CB0-064C8140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E0A-51A5-44A1-9D34-36BF9D52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367-FD3E-4AC8-AEE0-AC2661EC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159-CCEC-457B-B336-45BED7A6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C2F-9C1E-45A8-AC9F-F920D02F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DE9-60A8-47C0-862E-5AB1669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12D-F159-4D1D-A8BB-CBD06F5C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EDB-C2C8-40F0-8CB0-41FA2D0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F96-728A-40AA-8F13-5AF8C465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6F35-C20C-4633-A606-0E32D2515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Вывески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каф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магазин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салонах красо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фирм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школ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0437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6436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05644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98320" y="620640"/>
            <a:ext cx="854568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http://i.obozrevatel.com/8/1036647/580637.jpg"/>
          <p:cNvPicPr/>
          <p:nvPr/>
        </p:nvPicPr>
        <p:blipFill>
          <a:blip r:embed="rId1"/>
          <a:stretch/>
        </p:blipFill>
        <p:spPr>
          <a:xfrm>
            <a:off x="642960" y="928800"/>
            <a:ext cx="75009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m2.tourbina.ru/photos.3/5/8/585066/big.photo.jpg"/>
          <p:cNvPicPr/>
          <p:nvPr/>
        </p:nvPicPr>
        <p:blipFill>
          <a:blip r:embed="rId1"/>
          <a:stretch/>
        </p:blipFill>
        <p:spPr>
          <a:xfrm>
            <a:off x="285840" y="785880"/>
            <a:ext cx="857232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826920" y="0"/>
            <a:ext cx="72374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3:15:15Z</dcterms:created>
  <dc:creator>User</dc:creator>
  <dc:description/>
  <dc:language>en-US</dc:language>
  <cp:lastModifiedBy>Admin</cp:lastModifiedBy>
  <dcterms:modified xsi:type="dcterms:W3CDTF">2011-09-20T17:35:48Z</dcterms:modified>
  <cp:revision>3</cp:revision>
  <dc:subject/>
  <dc:title>Вывески.</dc:title>
</cp:coreProperties>
</file>