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1CA-4D44-4A9C-908E-2ED4B648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5BD-67FF-48F2-857E-CC63568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FBC-7DC6-4B85-96F2-31BEE801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551-F008-41F4-B7B0-20009FF3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798-1569-4538-A8EE-20F0787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B7C1-9906-43BA-A20E-3B6DDF17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7F9-32A5-4E4A-8DFD-EC3D4E5C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1D3-E0AE-472D-87A3-E79C9479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E67-2146-463F-B35F-5E7A567D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68F-9916-4059-9C9E-9DECCBD3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087-BB8E-416A-A280-12B266C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7BC-7B3F-4F49-97B6-7E2BAAE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D011-10AF-461E-9807-1AA02C0AF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Вывески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каф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магазин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салонах крас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фирм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а школ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0437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643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5644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98320" y="620640"/>
            <a:ext cx="854568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http://i.obozrevatel.com/8/1036647/580637.jpg"/>
          <p:cNvPicPr/>
          <p:nvPr/>
        </p:nvPicPr>
        <p:blipFill>
          <a:blip r:embed="rId1"/>
          <a:stretch/>
        </p:blipFill>
        <p:spPr>
          <a:xfrm>
            <a:off x="642960" y="928800"/>
            <a:ext cx="75009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m2.tourbina.ru/photos.3/5/8/585066/big.photo.jpg"/>
          <p:cNvPicPr/>
          <p:nvPr/>
        </p:nvPicPr>
        <p:blipFill>
          <a:blip r:embed="rId1"/>
          <a:stretch/>
        </p:blipFill>
        <p:spPr>
          <a:xfrm>
            <a:off x="285840" y="785880"/>
            <a:ext cx="857232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26920" y="0"/>
            <a:ext cx="72374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3:15:15Z</dcterms:created>
  <dc:creator>User</dc:creator>
  <dc:description/>
  <dc:language>en-US</dc:language>
  <cp:lastModifiedBy>Admin</cp:lastModifiedBy>
  <dcterms:modified xsi:type="dcterms:W3CDTF">2011-09-20T17:35:48Z</dcterms:modified>
  <cp:revision>3</cp:revision>
  <dc:subject/>
  <dc:title>Вывески.</dc:title>
</cp:coreProperties>
</file>