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1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D03-278C-46EC-A7C3-41A93063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425-AF26-4E5A-BB20-2C7BB71D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506-34A3-489F-BA58-DDBC08B8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491-DB91-4883-A1C7-0A578F75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CE03-29CE-4767-874E-67DC1572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C972-BE82-4D9A-A70F-E5C40CFB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A650-FE96-4B6E-9B08-943D7395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B43B-ADEC-4C42-A702-5B73F50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A005-7AC5-4546-B00F-E7D59DA0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D269-3C5D-458A-9352-8E51A882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0729-55A5-4937-B2D8-449353EB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2B1-2D97-4B1D-ABC4-8CEAE36F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69C3-2C5B-4E5A-9FD1-A8F94EF5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0B58-37D0-4E8D-A20D-FFDDA1EF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BFF8-A00A-496D-8DC7-23FE5833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560D-0600-4108-AE41-A9281BE1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7BDA-8581-4CD6-AF35-02FF1B60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F382-FBFF-418F-A974-EC4684D1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020-0E75-43E1-AB6D-61BFEB4D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22B-B28C-4149-9932-2D7AC2E3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9CA-6724-45AA-8E5C-96D60717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1288-0793-44E4-9BD4-1541674E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9B5-39C6-4F17-A51A-E92397E9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482-6229-4369-8C6D-8815D467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6840" y="638172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3320" y="64533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dde89a"/>
              </a:gs>
              <a:gs pos="100000">
                <a:srgbClr val="656a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75ba70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4C29-AE67-4BD0-A190-CE68C6967B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j0152694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/>
            <a:ahLst/>
            <a:rect l="l" t="t" r="r" b="b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2fcd7"/>
              </a:gs>
              <a:gs pos="100000">
                <a:srgbClr val="99fa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55640" y="1197000"/>
            <a:ext cx="7849080" cy="4858560"/>
            <a:chOff x="755640" y="1197000"/>
            <a:chExt cx="7849080" cy="4858560"/>
          </a:xfrm>
        </p:grpSpPr>
        <p:grpSp>
          <p:nvGrpSpPr>
            <p:cNvPr id="51" name=""/>
            <p:cNvGrpSpPr/>
            <p:nvPr/>
          </p:nvGrpSpPr>
          <p:grpSpPr>
            <a:xfrm>
              <a:off x="985320" y="1197000"/>
              <a:ext cx="927720" cy="4833000"/>
              <a:chOff x="985320" y="1197000"/>
              <a:chExt cx="927720" cy="483300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9853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284120" y="11970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6038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13040" y="122220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55640" y="1428120"/>
                <a:ext cx="7827120" cy="871920"/>
                <a:chOff x="755640" y="1428120"/>
                <a:chExt cx="7827120" cy="8719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755640" y="1428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6280" y="17200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93800" y="2007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6932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57880" y="28728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0920" y="34527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755640" y="3755880"/>
                <a:ext cx="7827120" cy="871920"/>
                <a:chOff x="755640" y="3755880"/>
                <a:chExt cx="7827120" cy="8719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55640" y="3755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36280" y="4047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3800" y="4335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932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90920" y="57801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"/>
            <p:cNvGrpSpPr/>
            <p:nvPr/>
          </p:nvGrpSpPr>
          <p:grpSpPr>
            <a:xfrm>
              <a:off x="2240280" y="1222560"/>
              <a:ext cx="927720" cy="4833000"/>
              <a:chOff x="2240280" y="1222560"/>
              <a:chExt cx="927720" cy="4833000"/>
            </a:xfrm>
          </p:grpSpPr>
          <p:sp>
            <p:nvSpPr>
              <p:cNvPr id="78" name=""/>
              <p:cNvSpPr/>
              <p:nvPr/>
            </p:nvSpPr>
            <p:spPr>
              <a:xfrm flipV="1">
                <a:off x="22402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5390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8587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1680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513240" y="1222560"/>
              <a:ext cx="927720" cy="4833000"/>
              <a:chOff x="3513240" y="1222560"/>
              <a:chExt cx="927720" cy="483300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35132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8120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1317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4409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785840" y="1222560"/>
              <a:ext cx="927720" cy="4833000"/>
              <a:chOff x="4785840" y="1222560"/>
              <a:chExt cx="927720" cy="48330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47858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0846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4043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7135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004080" y="1222560"/>
              <a:ext cx="927720" cy="4833000"/>
              <a:chOff x="6004080" y="1222560"/>
              <a:chExt cx="927720" cy="483300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60040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3028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6225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9318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50760" y="1222560"/>
              <a:ext cx="927720" cy="4833000"/>
              <a:chOff x="7250760" y="1222560"/>
              <a:chExt cx="927720" cy="483300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725076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54956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86924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17848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6733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0e2d0c">
                  <a:alpha val="7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74E0-6DE4-442A-8D1F-19E3651DA6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5e25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13" name="j0152694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85e25"/>
                </a:solidFill>
                <a:latin typeface="Times New Roman"/>
              </a:rPr>
              <a:t>Click to edit the outline text format</a:t>
            </a: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050920" y="2781000"/>
            <a:ext cx="56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5e25"/>
                </a:solidFill>
                <a:latin typeface="Times New Roman"/>
              </a:rPr>
              <a:t>Руководитель проекта воспитатель </a:t>
            </a:r>
            <a:r>
              <a:rPr b="1" lang="en-US" sz="2800" spc="-1" strike="noStrike">
                <a:solidFill>
                  <a:srgbClr val="185e25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185e25"/>
                </a:solidFill>
                <a:latin typeface="Times New Roman"/>
              </a:rPr>
              <a:t>квалификационной категории Шошкина Юлия Сергеевна</a:t>
            </a:r>
            <a:br>
              <a:rPr sz="2800"/>
            </a:br>
            <a:endParaRPr b="0" i="1" lang="en-US" sz="2800" spc="-1" strike="noStrike">
              <a:solidFill>
                <a:srgbClr val="185e25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619280" y="907560"/>
            <a:ext cx="601992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185e25"/>
                </a:solidFill>
                <a:latin typeface="Arial"/>
              </a:rPr>
              <a:t>Долгосрочный проект </a:t>
            </a:r>
            <a:br>
              <a:rPr sz="3200"/>
            </a:br>
            <a:r>
              <a:rPr b="1" lang="en-US" sz="3200" spc="-1" strike="noStrike">
                <a:solidFill>
                  <a:srgbClr val="185e25"/>
                </a:solidFill>
                <a:latin typeface="Arial"/>
              </a:rPr>
              <a:t>«Здоровому  - все здорово»</a:t>
            </a:r>
            <a:br>
              <a:rPr sz="3200"/>
            </a:br>
            <a:r>
              <a:rPr b="1" lang="en-US" sz="3200" spc="-1" strike="noStrike">
                <a:solidFill>
                  <a:srgbClr val="185e25"/>
                </a:solidFill>
                <a:latin typeface="Arial"/>
              </a:rPr>
              <a:t>4 «Б» класс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40360" y="4584600"/>
            <a:ext cx="2952720" cy="2025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Физкультурные минутки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979640" y="947880"/>
            <a:ext cx="5113440" cy="591012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eb39"/>
                </a:solidFill>
                <a:latin typeface="Arial"/>
              </a:rPr>
              <a:t>Пальчиковая гимнастик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8862840" cy="580536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eb39"/>
                </a:solidFill>
                <a:latin typeface="Arial"/>
              </a:rPr>
              <a:t>Пальчиковая гимнастик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61672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Подвижные игры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838080"/>
            <a:ext cx="8642160" cy="568656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Подвижные игры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561672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Физические упражнения на прогулках</a:t>
            </a:r>
            <a:br>
              <a:rPr sz="28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280" y="1096920"/>
            <a:ext cx="8280360" cy="55008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Физические упражнения на прогулках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36000" cy="580536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Спортивные часы</a:t>
            </a:r>
            <a:br>
              <a:rPr sz="3200"/>
            </a:b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Дни здоровь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1108080"/>
            <a:ext cx="7705800" cy="578016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Спортивные часы</a:t>
            </a:r>
            <a:br>
              <a:rPr sz="3200"/>
            </a:br>
            <a:r>
              <a:rPr b="1" lang="en-US" sz="3200" spc="-1" strike="noStrike">
                <a:solidFill>
                  <a:srgbClr val="efeb39"/>
                </a:solidFill>
                <a:latin typeface="Arial"/>
              </a:rPr>
              <a:t>Дни здоровь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24720" cy="546768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050920" y="6021000"/>
            <a:ext cx="48117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185e25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052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46b0b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1773360"/>
            <a:ext cx="619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Спортивные часы 31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Клубные часы 4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Часы общения 2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Бытовые занятия 13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Общешкольные мероприятия</a:t>
            </a:r>
            <a:r>
              <a:rPr b="0" lang="en-US" sz="3200" spc="-1" strike="noStrike">
                <a:solidFill>
                  <a:srgbClr val="329a2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8 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050920" y="5516640"/>
            <a:ext cx="48117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85e25"/>
                </a:solidFill>
                <a:latin typeface="Times New Roman"/>
              </a:rPr>
              <a:t>В. А. Сухомлинский</a:t>
            </a:r>
            <a:endParaRPr b="0" i="1" lang="en-US" sz="20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e25"/>
                </a:solidFill>
                <a:latin typeface="Arial"/>
              </a:rPr>
              <a:t>«Забота о здоровье</a:t>
            </a:r>
            <a:r>
              <a:rPr b="1" lang="en-US" sz="4400" spc="-1" strike="noStrike">
                <a:solidFill>
                  <a:srgbClr val="185e2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85e25"/>
                </a:solidFill>
                <a:latin typeface="Arial"/>
              </a:rPr>
              <a:t>ребенка – это не просто комплекс санитарно-гигиенических норм и правил… и не свод требований к</a:t>
            </a:r>
            <a:r>
              <a:rPr b="1" lang="en-US" sz="4400" spc="-1" strike="noStrike">
                <a:solidFill>
                  <a:srgbClr val="185e2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85e25"/>
                </a:solidFill>
                <a:latin typeface="Arial"/>
              </a:rPr>
              <a:t>режиму, питанию, труду, отдыху. Это прежде всего забота о гармоничной полноте всех духовных и физических сил, и венцом этой гармонии является радость творчества»</a:t>
            </a:r>
            <a:endParaRPr b="1" lang="en-US" sz="24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157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050920" y="6021000"/>
            <a:ext cx="48117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991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185e25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1773360"/>
            <a:ext cx="619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1480" y="793440"/>
            <a:ext cx="8142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Оценка наличия вредных привычек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Пробовали спиртное: сентябрь7, май 4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Пробовали курить: сентябрь 8, май 5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9a2a"/>
                </a:solidFill>
                <a:latin typeface="Arial"/>
              </a:rPr>
              <a:t>Сквернословят: сентябрь 2, май 1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050920" y="6021000"/>
            <a:ext cx="48117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991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185e25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220500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896400"/>
            <a:ext cx="81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46b0b"/>
                </a:solidFill>
                <a:latin typeface="Arial"/>
              </a:rPr>
              <a:t>Показатели социальной адаптации личности</a:t>
            </a:r>
            <a:r>
              <a:rPr b="0" lang="en-US" sz="2800" spc="-1" strike="noStrike">
                <a:solidFill>
                  <a:srgbClr val="346b0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050920" y="1893600"/>
            <a:ext cx="6553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Повышение самооценки участников проекта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Норма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Заниженная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Повышенная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Формирование самосознания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учащихся, основанного на ЗОЖ, обучение их активным формам конструктивного общения, оказание помощи сверстникам.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Решение проблемы досуга детей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Сплочение детского коллектива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Показатели включенности в общество, средний балл вырос на 0,2 балла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6b0b"/>
                </a:solidFill>
                <a:latin typeface="Arial"/>
              </a:rPr>
              <a:t>Показатели владения навыками коммуникативного общения вырос на 0,5 балла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b02"/>
                </a:solidFill>
                <a:latin typeface="Arial"/>
              </a:rPr>
              <a:t>Качественные показатели</a:t>
            </a:r>
            <a:r>
              <a:rPr b="1" lang="en-US" sz="2800" spc="-1" strike="noStrike">
                <a:solidFill>
                  <a:srgbClr val="346b0b"/>
                </a:solidFill>
                <a:latin typeface="Arial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b02"/>
                </a:solidFill>
                <a:latin typeface="Arial"/>
              </a:rPr>
              <a:t>Показатели здоровья                                  сентябрь 2011 год                          май 2012 год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395280" y="1773360"/>
          <a:ext cx="8302680" cy="4895280"/>
        </p:xfrm>
        <a:graphic>
          <a:graphicData uri="http://schemas.openxmlformats.org/drawingml/2006/table">
            <a:tbl>
              <a:tblPr/>
              <a:tblGrid>
                <a:gridCol w="4302000"/>
                <a:gridCol w="2003400"/>
                <a:gridCol w="199728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Осанка, походка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Координация, быстрота и точность движений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Самостоятельность передвижений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Развитие мелкой моторики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Забота о своем здоровье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Двигательная активность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Знание о здоровом образе жизни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Интерес к спорту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Занятия спортом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Их выполнение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Навыки личной гигиены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6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Самообслуживание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Соблюдение режима питания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b02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dde8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8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050920" y="5734080"/>
            <a:ext cx="48117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0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971280" y="907560"/>
            <a:ext cx="66675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185e25"/>
                </a:solidFill>
                <a:latin typeface="Arial"/>
              </a:rPr>
              <a:t>Цель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185e25"/>
                </a:solidFill>
                <a:latin typeface="Arial"/>
              </a:rPr>
              <a:t>Формирование внутренней мотивации к здоровому образу жизни, необходимость заботы о своем здоровье и здоровье окружающих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3355920" cy="2404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580000" y="4005360"/>
            <a:ext cx="3168720" cy="22986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42560" y="2492280"/>
            <a:ext cx="6913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5e25"/>
                </a:solidFill>
                <a:latin typeface="Times New Roman"/>
              </a:rPr>
              <a:t>«Лично – ориентированная технология»</a:t>
            </a:r>
            <a:endParaRPr b="0" i="1" lang="en-US" sz="2800" spc="-1" strike="noStrike">
              <a:solidFill>
                <a:srgbClr val="185e25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5e25"/>
                </a:solidFill>
                <a:latin typeface="Times New Roman"/>
              </a:rPr>
              <a:t>«Педагогика сотрудничества» Е. В. Бондаревской</a:t>
            </a:r>
            <a:endParaRPr b="0" i="1" lang="en-US" sz="2800" spc="-1" strike="noStrike">
              <a:solidFill>
                <a:srgbClr val="185e25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85e25"/>
                </a:solidFill>
                <a:latin typeface="Times New Roman"/>
              </a:rPr>
              <a:t>«Здоровьесберегающая технология и оздоровительная работа в начальной школе» В. И. Ковалько</a:t>
            </a:r>
            <a:endParaRPr b="0" i="1" lang="en-US" sz="2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619280" y="907920"/>
            <a:ext cx="60199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5e25"/>
                </a:solidFill>
                <a:latin typeface="Arial"/>
              </a:rPr>
              <a:t>Используемые технологии:</a:t>
            </a:r>
            <a:endParaRPr b="1" lang="en-US" sz="3200" spc="-1" strike="noStrike">
              <a:solidFill>
                <a:srgbClr val="185e25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050920" y="6021000"/>
            <a:ext cx="481176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8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Формы: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Утренняя гимнастика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Физкультурные минутки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Подвижные игры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Физические упражнения на прогулках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Спортивные часы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Дни здоровья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Бытовые занятия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Часы общения</a:t>
            </a:r>
            <a:br>
              <a:rPr sz="2800"/>
            </a:br>
            <a:r>
              <a:rPr b="1" lang="en-US" sz="2800" spc="-1" strike="noStrike">
                <a:solidFill>
                  <a:srgbClr val="185e25"/>
                </a:solidFill>
                <a:latin typeface="Arial"/>
              </a:rPr>
              <a:t>Клубные часы</a:t>
            </a:r>
            <a:endParaRPr b="1" lang="en-US" sz="2800" spc="-1" strike="noStrike">
              <a:solidFill>
                <a:srgbClr val="185e25"/>
              </a:solidFill>
              <a:latin typeface="Arial"/>
            </a:endParaRPr>
          </a:p>
        </p:txBody>
      </p:sp>
    </p:spTree>
  </p:cSld>
  <p:transition advTm="8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Утренняя гимнастика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7960" y="981000"/>
            <a:ext cx="8128080" cy="561672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Утренняя гимнастика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28080" cy="554508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Физкультурные минутки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efeb39"/>
                </a:solidFill>
                <a:latin typeface="Arial"/>
              </a:rPr>
              <a:t>Физкультурные минутки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0:40:58Z</dcterms:created>
  <dc:creator>Юля</dc:creator>
  <dc:description/>
  <dc:language>en-US</dc:language>
  <cp:lastModifiedBy>Юля</cp:lastModifiedBy>
  <dcterms:modified xsi:type="dcterms:W3CDTF">2012-06-27T11:03:09Z</dcterms:modified>
  <cp:revision>9</cp:revision>
  <dc:subject/>
  <dc:title>  Долгосрочный проект  «Здоровому  - все здорово» 4 «Б» класс  </dc:title>
</cp:coreProperties>
</file>