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4E5-65E8-4B49-9E03-F70F808F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69E-0138-40D5-A847-6B69EA87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68D-91DC-4A82-B392-8D031636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C3B-7328-45E6-8A43-6C7D4278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6F25-002A-40A5-A41F-256CB454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C7A5-08E3-4BB3-A337-631C01D9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71B8-F958-4364-A773-63667319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2072-5344-4929-ADBD-3D26E7B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986A-B4D5-4912-A5B9-C93835EE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0CCF-5230-486A-924C-C34E19DF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DA49-3B65-4E9E-B0AD-B3F4C03A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3F5-2E07-4228-A175-3DE973E4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9E1D-D47E-40FA-9577-C2FB736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E05E-E964-4D1E-8426-E18F1C3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F3C7-7F43-4645-8056-0432583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8830-9176-4EDF-8E25-40671A10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30AF-35F9-4ED8-A99B-62FAE08E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0E6-AD49-4149-BD21-FAB14C4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42C-2F67-4169-83E8-32F16C63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E14-A392-40BB-93EE-9CD12E38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8D1-3BD1-4DED-82C3-EEDADCC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2C8-87CA-4367-BDF6-F72EEC1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73E-D645-40DA-A371-D936052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ECF-DCC4-4E24-AB94-1B8B6CD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dde89a"/>
              </a:gs>
              <a:gs pos="100000">
                <a:srgbClr val="656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5ba70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04B5-A6F0-4DAA-A1FF-A95DC22C7C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j0152694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2fcd7"/>
              </a:gs>
              <a:gs pos="100000">
                <a:srgbClr val="99f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673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0e2d0c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F5D6-D543-48F7-8B39-797086978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5e2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j0152694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85e25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050920" y="2781000"/>
            <a:ext cx="56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Руководитель проекта воспитатель </a:t>
            </a:r>
            <a:r>
              <a:rPr b="1" lang="en-US" sz="2800" spc="-1" strike="noStrike">
                <a:solidFill>
                  <a:srgbClr val="185e25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квалификационной категории Шошкина Юлия Сергеевна</a:t>
            </a:r>
            <a:br>
              <a:rPr sz="2800"/>
            </a:b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619280" y="907560"/>
            <a:ext cx="601992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Долгосрочный проект </a:t>
            </a:r>
            <a:br>
              <a:rPr sz="3200"/>
            </a:b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«Здоровому  - все здорово»</a:t>
            </a:r>
            <a:br>
              <a:rPr sz="3200"/>
            </a:b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4 «Б» класс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0360" y="4584600"/>
            <a:ext cx="2952720" cy="2025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Физкультурные минутк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79640" y="947880"/>
            <a:ext cx="5113440" cy="59101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eb39"/>
                </a:solidFill>
                <a:latin typeface="Arial"/>
              </a:rPr>
              <a:t>Пальчиковая гимнасти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862840" cy="58053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eb39"/>
                </a:solidFill>
                <a:latin typeface="Arial"/>
              </a:rPr>
              <a:t>Пальчиковая гимнасти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6167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Подвижные игры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8642160" cy="56865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Подвижные игры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Физические упражнения на прогулках</a:t>
            </a:r>
            <a:br>
              <a:rPr sz="28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1096920"/>
            <a:ext cx="8280360" cy="55008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Физические упражнения на прогулках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8053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Спортивные часы</a:t>
            </a: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Дни здоровь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1108080"/>
            <a:ext cx="7705800" cy="57801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Спортивные часы</a:t>
            </a: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Дни здоровь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24720" cy="546768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052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6b0b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773360"/>
            <a:ext cx="619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Спортивные часы 31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Клубные часы 4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Часы общения 2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Бытовые занятия 13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Общешкольные мероприятия</a:t>
            </a:r>
            <a:r>
              <a:rPr b="0" lang="en-US" sz="3200" spc="-1" strike="noStrike">
                <a:solidFill>
                  <a:srgbClr val="329a2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8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050920" y="5516640"/>
            <a:ext cx="4811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85e25"/>
                </a:solidFill>
                <a:latin typeface="Times New Roman"/>
              </a:rPr>
              <a:t>В. А. Сухомлинский</a:t>
            </a:r>
            <a:endParaRPr b="0" i="1" lang="en-US" sz="20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«Забота о здоровье</a:t>
            </a:r>
            <a:r>
              <a:rPr b="1" lang="en-US" sz="4400" spc="-1" strike="noStrike">
                <a:solidFill>
                  <a:srgbClr val="185e2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ребенка – это не просто комплекс санитарно-гигиенических норм и правил… и не свод требований к</a:t>
            </a:r>
            <a:r>
              <a:rPr b="1" lang="en-US" sz="4400" spc="-1" strike="noStrike">
                <a:solidFill>
                  <a:srgbClr val="185e2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режиму, питанию, труду, отдыху. Это прежде всего забота о гармоничной полноте всех духовных и физических сил, и венцом этой гармонии является радость творчества»</a:t>
            </a:r>
            <a:endParaRPr b="1" lang="en-US" sz="24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157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99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1773360"/>
            <a:ext cx="61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1480" y="793440"/>
            <a:ext cx="814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Оценка наличия вредных привычек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Пробовали спиртное: сентябрь7, май 4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Пробовали курить: сентябрь 8, май 5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Сквернословят: сентябрь 2, май 1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99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220500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896400"/>
            <a:ext cx="81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6b0b"/>
                </a:solidFill>
                <a:latin typeface="Arial"/>
              </a:rPr>
              <a:t>Показатели социальной адаптации личности</a:t>
            </a:r>
            <a:r>
              <a:rPr b="0" lang="en-US" sz="2800" spc="-1" strike="noStrike">
                <a:solidFill>
                  <a:srgbClr val="346b0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1893600"/>
            <a:ext cx="655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вышение самооценки участников проекта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Норма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Заниженна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вышенна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Формирование самосознани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учащихся, основанного на ЗОЖ, обучение их активным формам конструктивного общения, оказание помощи сверстникам.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Решение проблемы досуга детей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Сплочение детского коллектива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казатели включенности в общество, средний балл вырос на 0,2 балла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казатели владения навыками коммуникативного общения вырос на 0,5 балла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b02"/>
                </a:solidFill>
                <a:latin typeface="Arial"/>
              </a:rPr>
              <a:t>Качественные показатели</a:t>
            </a:r>
            <a:r>
              <a:rPr b="1" lang="en-US" sz="2800" spc="-1" strike="noStrike">
                <a:solidFill>
                  <a:srgbClr val="346b0b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b02"/>
                </a:solidFill>
                <a:latin typeface="Arial"/>
              </a:rPr>
              <a:t>Показатели здоровья                                  сентябрь 2011 год                          май 2012 год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95280" y="1773360"/>
          <a:ext cx="8302680" cy="4895280"/>
        </p:xfrm>
        <a:graphic>
          <a:graphicData uri="http://schemas.openxmlformats.org/drawingml/2006/table">
            <a:tbl>
              <a:tblPr/>
              <a:tblGrid>
                <a:gridCol w="4302000"/>
                <a:gridCol w="2003400"/>
                <a:gridCol w="199728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Осанка, походка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Координация, быстрота и точность движений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амостоятельность передвижений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Развитие мелкой моторики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Забота о своем здоровье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Двигательная активность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Знание о здоровом образе жизни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Интерес к спорту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Занятия спортом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Их выполнение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Навыки личной гигиены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облюдение режима питания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050920" y="5734080"/>
            <a:ext cx="48117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0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66675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Цель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Формирование внутренней мотивации к здоровому образу жизни, необходимость заботы о своем здоровье и здоровье окружающих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3355920" cy="240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3168720" cy="22986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42560" y="2492280"/>
            <a:ext cx="6913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«Лично – ориентированная технология»</a:t>
            </a: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«Педагогика сотрудничества» Е. В. Бондаревской</a:t>
            </a: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«Здоровьесберегающая технология и оздоровительная работа в начальной школе» В. И. Ковалько</a:t>
            </a: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619280" y="907920"/>
            <a:ext cx="60199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Используемые технологии:</a:t>
            </a: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Формы: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Утренняя гимнастика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Физкультурные минутки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Подвижные игры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Физические упражнения на прогулках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Спортивные часы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Дни здоровья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Бытовые занятия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Часы общения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Клубные часы</a:t>
            </a:r>
            <a:endParaRPr b="1" lang="en-US" sz="2800" spc="-1" strike="noStrike">
              <a:solidFill>
                <a:srgbClr val="185e25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Утренняя гимнастика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7960" y="981000"/>
            <a:ext cx="8128080" cy="56167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Утренняя гимнастика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28080" cy="554508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Физкультурные минутк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Физкультурные минутк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0:40:58Z</dcterms:created>
  <dc:creator>Юля</dc:creator>
  <dc:description/>
  <dc:language>en-US</dc:language>
  <cp:lastModifiedBy>Юля</cp:lastModifiedBy>
  <dcterms:modified xsi:type="dcterms:W3CDTF">2012-06-27T11:03:09Z</dcterms:modified>
  <cp:revision>9</cp:revision>
  <dc:subject/>
  <dc:title>  Долгосрочный проект  «Здоровому  - все здорово» 4 «Б» класс  </dc:title>
</cp:coreProperties>
</file>