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jpeg" ContentType="image/jpeg"/>
  <Override PartName="/ppt/media/image12.png" ContentType="image/png"/>
  <Override PartName="/ppt/media/image18.gif" ContentType="image/gif"/>
  <Override PartName="/ppt/media/image5.jpeg" ContentType="image/jpeg"/>
  <Override PartName="/ppt/media/image28.jpeg" ContentType="image/jpeg"/>
  <Override PartName="/ppt/media/image7.jpeg" ContentType="image/jpeg"/>
  <Override PartName="/ppt/media/image1.jpeg" ContentType="image/jpeg"/>
  <Override PartName="/ppt/media/image22.jpeg" ContentType="image/jpeg"/>
  <Override PartName="/ppt/media/image6.png" ContentType="image/png"/>
  <Override PartName="/ppt/media/image31.png" ContentType="image/png"/>
  <Override PartName="/ppt/media/image10.wmf" ContentType="image/x-wmf"/>
  <Override PartName="/ppt/media/image19.jpeg" ContentType="image/jpeg"/>
  <Override PartName="/ppt/media/image25.png" ContentType="image/png"/>
  <Override PartName="/ppt/media/image32.png" ContentType="image/png"/>
  <Override PartName="/ppt/media/image2.png" ContentType="image/png"/>
  <Override PartName="/ppt/media/image20.jpeg" ContentType="image/jpeg"/>
  <Override PartName="/ppt/media/image13.png" ContentType="image/png"/>
  <Override PartName="/ppt/media/image30.jpeg" ContentType="image/jpeg"/>
  <Override PartName="/ppt/media/image15.png" ContentType="image/png"/>
  <Override PartName="/ppt/media/image8.jpeg" ContentType="image/jpeg"/>
  <Override PartName="/ppt/media/image29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33.gif" ContentType="image/gif"/>
  <Override PartName="/ppt/media/image11.png" ContentType="image/png"/>
  <Override PartName="/ppt/media/image9.jpeg" ContentType="image/jpeg"/>
  <Override PartName="/ppt/media/image14.png" ContentType="image/png"/>
  <Override PartName="/ppt/media/image16.png" ContentType="image/png"/>
  <Override PartName="/ppt/media/image17.gif" ContentType="image/gif"/>
  <Override PartName="/ppt/media/image2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16E1-7CBC-4D7B-BD4B-3A0A948AD2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F53D-B9BC-4F70-9C87-5A01E758BE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57E9-F361-45A2-9190-2E9FA0183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FD39-CAAB-4BB4-BF89-B46188B2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6A7B-5B2C-4824-A7E5-BD321D7BA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8E4C-1E95-42A9-943F-D2C026916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EE41-ABC5-47DA-930B-236FE64C1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4363-4A23-41E6-826E-7804DD61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E6AF-1C29-499D-A52B-0AB82F8A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019F-86ED-4E3E-8AEA-5F58CF94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8A31-EB36-490D-81AC-068A33D9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41184-B2EB-4298-9B5B-DA96B476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A7C27-85FF-49B6-85C8-A7C110CD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9C1D-209D-4BAD-B3B0-2754FD72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2707C-70AE-4A0A-8261-09C3E41D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6D3A-760A-497E-AAE9-3B867E00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2AD4-8478-43FE-A147-50A5834C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93E7-0B41-4B86-B48B-3F4DCF092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C7F2-7541-43B9-A370-FB37CD958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81074-0B0A-45DC-BBC1-82CA2845A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DB3DD-1889-4925-A96D-9422D916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3C571-5308-41EC-97DE-6D6BCC99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43B1E-27DB-4E28-A925-A836C823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4B35A-3250-40A7-8DD4-B807288E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B9C9-CD86-4446-9F9C-7E37E423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7DD43-656D-46BE-85CC-8E93F491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4DA29-DE99-4DF7-8E24-7FA7F3ED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25EAD-F1DD-4285-9B96-A559502C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D8CAD-DEE4-4F63-A54D-0A98D57E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4A9CA-2FC7-48FE-987E-E5BE2A71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DCF59-4A92-447D-9196-80810236F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037C4-7CC2-4265-A8E2-1D104F7DE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3877A-B698-4F47-8479-97513FA19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8D163-223A-4315-B2A0-BCEC8CD3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6C7E5-A79D-4951-9E87-1B728B87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0A2D-2369-47BF-887C-0D22EBD1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9722A-C478-420D-84E3-B576AD8A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CE668-65DF-4395-A56C-18ABA26C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3F30E-5CB2-4A02-812C-23628D9E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6AADF-6C81-4BD0-B562-0E0BA823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C5AF3-C51D-4402-BDD2-5275ABBF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88FD4-22F8-4A32-8F16-333F341A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F5C30-A321-4596-AC41-7C6630E1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6BDF1-B1AE-4D96-8446-EAAFE6873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26843-DFA2-4BBB-9E7B-65FFE8F1C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874F1-0001-4DA0-BE4B-E35D4FFCB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A502-895D-423F-9BF6-F471E516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2B0A3-008C-429D-BE8F-A24D8E19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ABD62-F8B7-44E2-8B03-D69A0642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66209-6CCD-4936-96A9-1B6D3393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26CD6-783C-4C49-89A8-5B7D4574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1BBCF-710E-4696-B87B-3F5AC662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6209A-8317-4CF2-8457-74AFE7C7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299BF-CDB6-4466-8EA2-72CC9A46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35D5D-2E9F-4D6A-8153-C318832D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24460-4048-49E7-8305-7CEE1E5C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06CA6-4762-4CCE-855D-248A4B107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CE17-7CD3-4731-8CF7-7E4EEACF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F7A70-C3F1-43B1-8AF8-1C5DF4BC0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E16BC-C86F-4322-BE28-B700129D7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3EFBC-BE04-4D70-8A97-89D4CCDB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0FED3-E55F-4C21-B309-095FDFF8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E7CC2-1859-4775-941A-4DBCC8ED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FE3B1-E4F7-4E7C-AEFA-A6944702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E1653-2A87-4A9E-B7D0-1E2EB30D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7C7EB-FE22-43CF-8100-6A5E263F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6A9AE-3C9F-416E-9E31-A5223E66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F03D8-5EFD-4F9C-80DB-36161FCE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0853-189C-48D5-AB41-F6CF7B50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FD3F5-BCCC-4583-978A-606527A5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818E8-6C68-41B5-A9F7-8727A1A1F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F28E4-3F09-4C39-9778-8A655002E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1B06D-68A5-449F-BCC7-6B72EE60E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F5868-C0E9-4A07-9177-5BB98D3F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A3EA1-B7A3-4F37-B9D5-73AD270F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9A43A-1E72-48FD-8770-54DC6C07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6F1CC-4564-4DF0-9D23-B019AA45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B49BB-A250-43DE-BC03-406ADE76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A79C2-2944-4091-BBE4-45457940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56F3-9A43-43FD-B0D2-BE3443A0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DE7D9-BE7A-4CE6-97A2-9577C2AC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E86C2-D7D2-4231-BFC0-0BA56248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83B89-5519-4BBC-BE6B-1FAA86E2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F0B6E-A3C7-4B23-85DB-01C99C7AC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3B05E-854F-4823-A795-1BB3E61C1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7D20-C2C9-4C9A-B514-10172B22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7E11-5FCA-47A8-AB02-CB4D5E67A51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6D86-158D-482A-A96D-726AC009808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B144-07CB-4A54-92D6-607061465EE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CBEF-6AA0-40B9-AE09-98D60EC5312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9C94-9A90-4E07-B492-7E87DE29E84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63F9-7D5C-4BDE-9666-5CFB4B86DE8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3BDF-AD52-44A5-AB74-2119417AA20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hyperlink" Target="http://smiles.33b.ru/smile.103008.html" TargetMode="External"/><Relationship Id="rId3" Type="http://schemas.openxmlformats.org/officeDocument/2006/relationships/image" Target="../media/image33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WordArt 8" descr=""/>
          <p:cNvPicPr/>
          <p:nvPr/>
        </p:nvPicPr>
        <p:blipFill>
          <a:blip r:embed="rId2"/>
          <a:stretch/>
        </p:blipFill>
        <p:spPr>
          <a:xfrm>
            <a:off x="171360" y="1066680"/>
            <a:ext cx="8728200" cy="246852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9"/>
          <p:cNvSpPr/>
          <p:nvPr/>
        </p:nvSpPr>
        <p:spPr>
          <a:xfrm>
            <a:off x="1547640" y="3716280"/>
            <a:ext cx="640080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з опыта рабо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 УМК С.И. Льв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БОУ СОШ №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.Н. Шевченк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45920" y="214200"/>
            <a:ext cx="74977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А5. Правописание корней.</a:t>
            </a:r>
            <a:br>
              <a:rPr sz="2900"/>
            </a:br>
            <a:r>
              <a:rPr b="0" lang="ru-RU" sz="29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 Правописание словарных слов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solidFill>
            <a:srgbClr val="fff1ce"/>
          </a:solidFill>
          <a:ln w="9360">
            <a:solidFill>
              <a:srgbClr val="c58d01"/>
            </a:solidFill>
            <a:miter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5 кл. Упр.194. В один столбик запишите слова проверяемой безударной гласной в корне слова, в другой – непроверяемой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6 кл. Упр.  536. Вставьте пропущенные буквы,, учитывая лексическое значение слов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7 кл. Упр. 770. Спишите, вставляя пропущенные буквы. Выделите корни в словах с пропущенными буквам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solidFill>
            <a:srgbClr val="fff1ce"/>
          </a:solidFill>
          <a:ln w="9360">
            <a:solidFill>
              <a:srgbClr val="c58d01"/>
            </a:solidFill>
            <a:miter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А5.Укажите слово с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чередующейся гласной в корн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) подивилас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2) вклинилас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) касаютс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4) написал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Прямоугольник 4"/>
          <p:cNvSpPr/>
          <p:nvPr/>
        </p:nvSpPr>
        <p:spPr>
          <a:xfrm>
            <a:off x="1500120" y="1071720"/>
            <a:ext cx="3486240" cy="428400"/>
          </a:xfrm>
          <a:prstGeom prst="rect">
            <a:avLst/>
          </a:prstGeom>
          <a:solidFill>
            <a:srgbClr val="ffe39d"/>
          </a:solidFill>
          <a:ln w="25560">
            <a:solidFill>
              <a:srgbClr val="c58d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УМ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5"/>
          <p:cNvSpPr/>
          <p:nvPr/>
        </p:nvSpPr>
        <p:spPr>
          <a:xfrm>
            <a:off x="5286240" y="1071720"/>
            <a:ext cx="3643560" cy="428400"/>
          </a:xfrm>
          <a:prstGeom prst="rect">
            <a:avLst/>
          </a:prstGeom>
          <a:solidFill>
            <a:srgbClr val="ffe39d"/>
          </a:solidFill>
          <a:ln w="25560">
            <a:solidFill>
              <a:srgbClr val="c58d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ГИ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99760" y="213840"/>
            <a:ext cx="749772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А 6</a:t>
            </a: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. Правописание приставок.</a:t>
            </a:r>
            <a:br>
              <a:rPr sz="2800"/>
            </a:b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литное, дефисное,  раздельное написание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solidFill>
            <a:srgbClr val="fff1ce"/>
          </a:solidFill>
          <a:ln w="9360">
            <a:solidFill>
              <a:srgbClr val="c58d01"/>
            </a:solidFill>
            <a:miter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5 кл.Упр.618 . Выпишите слова, в приставках которых пропущенные букв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6 кл. Упр. 395. Определите, каким способом образованы слова. Объясните орфограмму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7 кл. Упр. 221.  Составьте предложения со словам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ребывать(находиться)-прибывать (приезжать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solidFill>
            <a:srgbClr val="fff1ce"/>
          </a:solidFill>
          <a:ln w="9360">
            <a:solidFill>
              <a:srgbClr val="c58d01"/>
            </a:solidFill>
            <a:miter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А.6 В каком слове правописание приставки определяется её значением –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«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приближение»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) пришл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2) привычны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) прикрыл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4) прислушалас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Прямоугольник 4"/>
          <p:cNvSpPr/>
          <p:nvPr/>
        </p:nvSpPr>
        <p:spPr>
          <a:xfrm>
            <a:off x="5357880" y="1214280"/>
            <a:ext cx="3500280" cy="285840"/>
          </a:xfrm>
          <a:prstGeom prst="rect">
            <a:avLst/>
          </a:prstGeom>
          <a:solidFill>
            <a:srgbClr val="ffe39d"/>
          </a:solidFill>
          <a:ln w="25560">
            <a:solidFill>
              <a:srgbClr val="c58d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оугольник 5"/>
          <p:cNvSpPr/>
          <p:nvPr/>
        </p:nvSpPr>
        <p:spPr>
          <a:xfrm>
            <a:off x="1571760" y="1214280"/>
            <a:ext cx="3500280" cy="285840"/>
          </a:xfrm>
          <a:prstGeom prst="rect">
            <a:avLst/>
          </a:prstGeom>
          <a:solidFill>
            <a:srgbClr val="ffe39d"/>
          </a:solidFill>
          <a:ln w="25560">
            <a:solidFill>
              <a:srgbClr val="c58d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УМ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71360" y="213840"/>
            <a:ext cx="786276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А 7.Правописание суффиксов различных частей речи  (кроме -Н-/-НН-).  Правописание -Н- и -НН- в различных частях речи.</a:t>
            </a:r>
            <a:br>
              <a:rPr sz="1800"/>
            </a:br>
            <a:r>
              <a:rPr b="1" lang="ru-RU" sz="1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авописание личных  окончаний глаголов и суффиксов причастий настоящего времени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428840" y="1785960"/>
            <a:ext cx="3657600" cy="4664160"/>
          </a:xfrm>
          <a:prstGeom prst="rect">
            <a:avLst/>
          </a:prstGeom>
          <a:solidFill>
            <a:srgbClr val="fff1ce"/>
          </a:solidFill>
          <a:ln w="9360">
            <a:solidFill>
              <a:srgbClr val="c58d01"/>
            </a:solidFill>
            <a:miter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5 кл. Упр. 743.Образуйте сущ-ые со значением лица, используя суффиксы –чик,-щик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6 кл. Упр.418. От данных слов образуйте имена прилагательные с суф.-онн, -енн, -ан, -ян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7 кл. Упр.227. Вставьте нужный суффикс в имена прилагательны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7 кл. Упр. 225. Вставьте суффиксы причастий –</a:t>
            </a: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ем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(ый), -</a:t>
            </a: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им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(ый)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5286240" y="1785960"/>
            <a:ext cx="3648240" cy="4643280"/>
          </a:xfrm>
          <a:prstGeom prst="rect">
            <a:avLst/>
          </a:prstGeom>
          <a:solidFill>
            <a:srgbClr val="fff1ce"/>
          </a:solidFill>
          <a:ln w="9360">
            <a:solidFill>
              <a:srgbClr val="c58d01"/>
            </a:solidFill>
            <a:miter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А7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В каком слове правописание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суффикса является исключением из правила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) бесценны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2) сосредоточен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) напряжённо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4) деревянна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Прямоугольник 4"/>
          <p:cNvSpPr/>
          <p:nvPr/>
        </p:nvSpPr>
        <p:spPr>
          <a:xfrm>
            <a:off x="1500120" y="1357200"/>
            <a:ext cx="3571920" cy="428760"/>
          </a:xfrm>
          <a:prstGeom prst="rect">
            <a:avLst/>
          </a:prstGeom>
          <a:solidFill>
            <a:srgbClr val="ffe39d"/>
          </a:solidFill>
          <a:ln w="25560">
            <a:solidFill>
              <a:srgbClr val="c58d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УМ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6"/>
          <p:cNvSpPr/>
          <p:nvPr/>
        </p:nvSpPr>
        <p:spPr>
          <a:xfrm>
            <a:off x="5357880" y="1357200"/>
            <a:ext cx="3571920" cy="428760"/>
          </a:xfrm>
          <a:prstGeom prst="rect">
            <a:avLst/>
          </a:prstGeom>
          <a:solidFill>
            <a:srgbClr val="ffe39d"/>
          </a:solidFill>
          <a:ln w="25560">
            <a:solidFill>
              <a:srgbClr val="c58d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85840"/>
            <a:ext cx="7499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В1. Лексика и фразеология. Синонимы. Фразеологические  обороты. Группы слов по происхождению и  употреблению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solidFill>
            <a:srgbClr val="fff1ce"/>
          </a:solidFill>
          <a:ln w="9360">
            <a:solidFill>
              <a:srgbClr val="c58d01"/>
            </a:solidFill>
            <a:miter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5 кл. Упр.714. Докажите, что данные фразеологизмы противоположны по своему значению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6 кл. Упр.331. Как различаются по смыслу существительные  </a:t>
            </a: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дата и число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rbel"/>
              </a:rPr>
              <a:t>7 кл. Упр.102. </a:t>
            </a: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На уроке биологии.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спомните, какие слова называются терминами. Из учебника биологии выпишите 5 терминов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solidFill>
            <a:srgbClr val="fff1ce"/>
          </a:solidFill>
          <a:ln w="9360">
            <a:solidFill>
              <a:srgbClr val="c58d01"/>
            </a:solidFill>
            <a:miter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1.Замените разговорное слово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«пошушукались» в предложении 12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тилистически нейтральным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синонимом. Напишите этот синони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твет: ____________________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2 .Словосочета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solidFill>
            <a:srgbClr val="fff1ce"/>
          </a:solidFill>
          <a:ln w="9360">
            <a:solidFill>
              <a:srgbClr val="c58d01"/>
            </a:solidFill>
            <a:miter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5 кл. Упр.325. Распределите словосочетания по группам: именные и глагольны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6 кл. Упр.351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ловосочетания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сущ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+ сущ., замените словосочетанием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сущ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+ прил.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Берег реки – речной берег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solidFill>
            <a:srgbClr val="fff1ce"/>
          </a:solidFill>
          <a:ln w="9360">
            <a:solidFill>
              <a:srgbClr val="c58d01"/>
            </a:solidFill>
            <a:miter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Замените словосочетание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«деревянная шкатулка» (предложение 16)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строенное на основе согласования, синонимичным словосочетанием со  связью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управление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Напишите получившееся словосочетани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Ответ: _________________________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Прямоугольник 4"/>
          <p:cNvSpPr/>
          <p:nvPr/>
        </p:nvSpPr>
        <p:spPr>
          <a:xfrm>
            <a:off x="1500120" y="1071720"/>
            <a:ext cx="3571920" cy="428400"/>
          </a:xfrm>
          <a:prstGeom prst="rect">
            <a:avLst/>
          </a:prstGeom>
          <a:solidFill>
            <a:srgbClr val="ffe39d"/>
          </a:solidFill>
          <a:ln w="25560">
            <a:solidFill>
              <a:srgbClr val="c58d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УМ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5"/>
          <p:cNvSpPr/>
          <p:nvPr/>
        </p:nvSpPr>
        <p:spPr>
          <a:xfrm>
            <a:off x="5357880" y="1143000"/>
            <a:ext cx="3571920" cy="428760"/>
          </a:xfrm>
          <a:prstGeom prst="rect">
            <a:avLst/>
          </a:prstGeom>
          <a:solidFill>
            <a:srgbClr val="ffe39d"/>
          </a:solidFill>
          <a:ln w="25560">
            <a:solidFill>
              <a:srgbClr val="c58d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0000"/>
                </a:solidFill>
                <a:latin typeface="Corbel"/>
              </a:rPr>
              <a:t>Развитие реч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999720" y="1285920"/>
            <a:ext cx="7929720" cy="4672080"/>
          </a:xfrm>
          <a:prstGeom prst="rect">
            <a:avLst/>
          </a:prstGeom>
          <a:solidFill>
            <a:srgbClr val="fff1ce"/>
          </a:solidFill>
          <a:ln w="9360">
            <a:solidFill>
              <a:srgbClr val="c58d01"/>
            </a:solidFill>
            <a:miter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Яркая особенность УМК С. И. Львовой - его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нацеленность на успешное овладение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основными видами речевой деятельности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Каждый урок русского языка является уроком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развития речи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, на котором учащиеся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роводят текстоведческий анализ текст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ишут мини-сочинение или изложение,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ересказывают  теоретический материал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С1.Прослушайте текст и напишите сжатое изложение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solidFill>
            <a:srgbClr val="fff1ce"/>
          </a:solidFill>
          <a:ln w="9360">
            <a:solidFill>
              <a:srgbClr val="c58d01"/>
            </a:solidFill>
            <a:miter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7 кл. Упр.493. Сжатое изложение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 Выделите самую важную информацию в тексте, а затем кратко изложите его содержание (двумя или тремя предложениями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0000"/>
                </a:solidFill>
                <a:latin typeface="Corbel"/>
              </a:rPr>
              <a:t>ГИ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285840" y="928800"/>
            <a:ext cx="8572320" cy="5643360"/>
          </a:xfrm>
          <a:prstGeom prst="rect">
            <a:avLst/>
          </a:prstGeom>
          <a:solidFill>
            <a:srgbClr val="fff1ce"/>
          </a:solidFill>
          <a:ln w="9360">
            <a:solidFill>
              <a:srgbClr val="c58d01"/>
            </a:solidFill>
            <a:miter/>
          </a:ln>
        </p:spPr>
        <p:txBody>
          <a:bodyPr anchor="t">
            <a:normAutofit fontScale="91000"/>
          </a:bodyPr>
          <a:p>
            <a:pPr marL="498240" indent="-374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rbel"/>
              </a:rPr>
              <a:t>Сочинения на лингвистическую тему: 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498240" indent="-374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498240" indent="-374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rbel"/>
              </a:rPr>
              <a:t>7 кл.  Упр.№409. Устное высказывание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. Объясните, как вы понимаете следующее высказывание.  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498240" indent="-374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Corbel"/>
              </a:rPr>
              <a:t>5 кл. Упр. 118. 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Объясните, для чего нужно учитывать значение морфем. 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498240" indent="-374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Не забудьте привести доказательства, аргументируя этот тезис. В 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498240" indent="-374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конце ответа сделайте вывод. 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498240" indent="-374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rbel"/>
              </a:rPr>
              <a:t>5 кл.Упр. 265.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 Сочинение – миниатюра. Письменно ответьте на вопрос: 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498240" indent="-374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«Зачем нужна орфография?». Используйте слова Л. Щербы, которые 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498240" indent="-374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являются эпиграфом к разделу «Орфография»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498240" indent="-374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rbel"/>
              </a:rPr>
              <a:t>6 кл.Упр. 815.  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Сочинение –миниатюра. Письменно ответьте на вопрос, почему местоимения называются словами-заменителями 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498240" indent="-374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rbel"/>
              </a:rPr>
              <a:t>7 кл. Упр.123. Сочинение – миниатюра</a:t>
            </a: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. Прочитайте эпиграф к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§ 4.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исьменно объясните, как вы понимаете высказывание французского писателя Анатоля Франс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98240" indent="-374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498240" indent="-37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a8a14"/>
                </a:solidFill>
                <a:latin typeface="Corbel"/>
              </a:rPr>
              <a:t>Объясните лингвистический смысл рисунков?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16" name="Picture 6" descr="10001"/>
          <p:cNvPicPr/>
          <p:nvPr/>
        </p:nvPicPr>
        <p:blipFill>
          <a:blip r:embed="rId2"/>
          <a:stretch/>
        </p:blipFill>
        <p:spPr>
          <a:xfrm>
            <a:off x="0" y="2835360"/>
            <a:ext cx="4427640" cy="40226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7" descr="10007"/>
          <p:cNvPicPr/>
          <p:nvPr/>
        </p:nvPicPr>
        <p:blipFill>
          <a:blip r:embed="rId3"/>
          <a:stretch/>
        </p:blipFill>
        <p:spPr>
          <a:xfrm>
            <a:off x="4427640" y="2813040"/>
            <a:ext cx="4716360" cy="40449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Corbel"/>
              </a:rPr>
              <a:t>На основе фотографии сочините лингвистическую сказку</a:t>
            </a:r>
            <a:r>
              <a:rPr b="0" lang="ru-RU" sz="3600" spc="-1" strike="noStrike">
                <a:solidFill>
                  <a:srgbClr val="aa8a14"/>
                </a:solidFill>
                <a:latin typeface="Corbel"/>
              </a:rPr>
              <a:t>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19" name="Picture 6" descr="10006"/>
          <p:cNvPicPr/>
          <p:nvPr/>
        </p:nvPicPr>
        <p:blipFill>
          <a:blip r:embed="rId2"/>
          <a:stretch/>
        </p:blipFill>
        <p:spPr>
          <a:xfrm>
            <a:off x="1835280" y="1538280"/>
            <a:ext cx="7308720" cy="53197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1000"/>
                </a:solidFill>
                <a:latin typeface="Corbel"/>
              </a:rPr>
              <a:t>УМК в 3-х частях С.И. Львова </a:t>
            </a:r>
            <a:br>
              <a:rPr sz="3600"/>
            </a:br>
            <a:r>
              <a:rPr b="0" lang="ru-RU" sz="3600" spc="-1" strike="noStrike">
                <a:solidFill>
                  <a:srgbClr val="701000"/>
                </a:solidFill>
                <a:latin typeface="Corbel"/>
              </a:rPr>
              <a:t>В.В. Львов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8" name="Picture 10" descr="Крестная1"/>
          <p:cNvPicPr/>
          <p:nvPr/>
        </p:nvPicPr>
        <p:blipFill>
          <a:blip r:embed="rId2"/>
          <a:stretch/>
        </p:blipFill>
        <p:spPr>
          <a:xfrm>
            <a:off x="684360" y="1700280"/>
            <a:ext cx="4284360" cy="41101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крестная2"/>
          <p:cNvPicPr/>
          <p:nvPr/>
        </p:nvPicPr>
        <p:blipFill>
          <a:blip r:embed="rId3"/>
          <a:stretch/>
        </p:blipFill>
        <p:spPr>
          <a:xfrm>
            <a:off x="4876920" y="1197000"/>
            <a:ext cx="4267080" cy="5661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Готовимся к ГИА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(из КТП по УМК С.И. Львовой)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1523880" y="1422360"/>
          <a:ext cx="6405840" cy="4370400"/>
        </p:xfrm>
        <a:graphic>
          <a:graphicData uri="http://schemas.openxmlformats.org/drawingml/2006/table">
            <a:tbl>
              <a:tblPr/>
              <a:tblGrid>
                <a:gridCol w="619200"/>
                <a:gridCol w="2786040"/>
                <a:gridCol w="714600"/>
                <a:gridCol w="571320"/>
                <a:gridCol w="928800"/>
                <a:gridCol w="785880"/>
              </a:tblGrid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Тема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Кол- во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д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Использ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оборуд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р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ГИ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5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глушение и озвончение  парных согласных  звуков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Куб. Произношение гласных и согласных </a:t>
                      </a:r>
                      <a:r>
                        <a:rPr b="1" i="1" lang="ru-RU" sz="10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Г, В,Ф, Р, Л </a:t>
                      </a:r>
                      <a:r>
                        <a:rPr b="1" lang="ru-RU" sz="10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мягких  парных звонких в слабой позици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езен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орфограмм в корне слова. Правописание безударных гласных в корне слов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1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езен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авописание суффиксов прилагательных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.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езент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таблиц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 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Истоки богатства и выразительности родной реч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1.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езент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4" name="Прямоугольник 2" descr=""/>
          <p:cNvPicPr/>
          <p:nvPr/>
        </p:nvPicPr>
        <p:blipFill>
          <a:blip r:embed="rId1"/>
          <a:stretch/>
        </p:blipFill>
        <p:spPr>
          <a:xfrm>
            <a:off x="1841400" y="652320"/>
            <a:ext cx="6894720" cy="53038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Прямоугольник 2" descr=""/>
          <p:cNvPicPr/>
          <p:nvPr/>
        </p:nvPicPr>
        <p:blipFill>
          <a:blip r:embed="rId1"/>
          <a:stretch/>
        </p:blipFill>
        <p:spPr>
          <a:xfrm>
            <a:off x="2011320" y="871560"/>
            <a:ext cx="5565960" cy="30672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25" descr="a29038e3f7639887aea70b1818307af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72240" y="4143240"/>
            <a:ext cx="762120" cy="13338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Литератур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.И. Львова Русский язык 5-8 класс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.И. Львова Программа по русскому язык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565"/>
            </a:gs>
            <a:gs pos="100000">
              <a:srgbClr val="3096a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7" descr="крестная2"/>
          <p:cNvPicPr/>
          <p:nvPr/>
        </p:nvPicPr>
        <p:blipFill>
          <a:blip r:embed="rId1"/>
          <a:stretch/>
        </p:blipFill>
        <p:spPr>
          <a:xfrm>
            <a:off x="6715080" y="3635280"/>
            <a:ext cx="2428920" cy="3222720"/>
          </a:xfrm>
          <a:prstGeom prst="rect">
            <a:avLst/>
          </a:prstGeom>
          <a:ln w="0">
            <a:noFill/>
          </a:ln>
        </p:spPr>
      </p:pic>
      <p:sp>
        <p:nvSpPr>
          <p:cNvPr id="331" name="Стрелка вниз 6"/>
          <p:cNvSpPr/>
          <p:nvPr/>
        </p:nvSpPr>
        <p:spPr>
          <a:xfrm rot="3803400">
            <a:off x="4008600" y="1229400"/>
            <a:ext cx="428760" cy="407196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2" descr="C:\Users\Света\Desktop\Папки для учителя\Анимации\рисунки для презетаций\j0424166.wmf"/>
          <p:cNvPicPr/>
          <p:nvPr/>
        </p:nvPicPr>
        <p:blipFill>
          <a:blip r:embed="rId2"/>
          <a:stretch/>
        </p:blipFill>
        <p:spPr>
          <a:xfrm>
            <a:off x="0" y="1857240"/>
            <a:ext cx="2357280" cy="4548240"/>
          </a:xfrm>
          <a:prstGeom prst="rect">
            <a:avLst/>
          </a:prstGeom>
          <a:ln w="0">
            <a:noFill/>
          </a:ln>
        </p:spPr>
      </p:pic>
      <p:sp>
        <p:nvSpPr>
          <p:cNvPr id="333" name="Солнце 5"/>
          <p:cNvSpPr/>
          <p:nvPr/>
        </p:nvSpPr>
        <p:spPr>
          <a:xfrm>
            <a:off x="6357960" y="0"/>
            <a:ext cx="2786040" cy="2643120"/>
          </a:xfrm>
          <a:prstGeom prst="sun">
            <a:avLst>
              <a:gd name="adj" fmla="val 20592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rbel"/>
              </a:rPr>
              <a:t>УМ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rbel"/>
              </a:rPr>
              <a:t>С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rbel"/>
              </a:rPr>
              <a:t>Льв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Стрелка вниз 7"/>
          <p:cNvSpPr/>
          <p:nvPr/>
        </p:nvSpPr>
        <p:spPr>
          <a:xfrm rot="3388800">
            <a:off x="4555440" y="1418040"/>
            <a:ext cx="428400" cy="498960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Стрелка вниз 8"/>
          <p:cNvSpPr/>
          <p:nvPr/>
        </p:nvSpPr>
        <p:spPr>
          <a:xfrm rot="3261600">
            <a:off x="5634720" y="2320920"/>
            <a:ext cx="428760" cy="4429080"/>
          </a:xfrm>
          <a:prstGeom prst="downArrow">
            <a:avLst>
              <a:gd name="adj1" fmla="val 50000"/>
              <a:gd name="adj2" fmla="val 49976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Стрелка вниз 9"/>
          <p:cNvSpPr/>
          <p:nvPr/>
        </p:nvSpPr>
        <p:spPr>
          <a:xfrm rot="4040400">
            <a:off x="3806640" y="-20520"/>
            <a:ext cx="428760" cy="466416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Группа 16"/>
          <p:cNvGrpSpPr/>
          <p:nvPr/>
        </p:nvGrpSpPr>
        <p:grpSpPr>
          <a:xfrm>
            <a:off x="1899720" y="502200"/>
            <a:ext cx="3970800" cy="1428120"/>
            <a:chOff x="1899720" y="502200"/>
            <a:chExt cx="3970800" cy="1428120"/>
          </a:xfrm>
        </p:grpSpPr>
        <p:sp>
          <p:nvSpPr>
            <p:cNvPr id="338" name="Стрелка вниз 10"/>
            <p:cNvSpPr/>
            <p:nvPr/>
          </p:nvSpPr>
          <p:spPr>
            <a:xfrm rot="4300200">
              <a:off x="3778920" y="-819360"/>
              <a:ext cx="154800" cy="4071960"/>
            </a:xfrm>
            <a:prstGeom prst="downArrow">
              <a:avLst>
                <a:gd name="adj1" fmla="val 50000"/>
                <a:gd name="adj2" fmla="val 138343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2097000" y="835200"/>
              <a:ext cx="3773520" cy="652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0" name="Прямоугольник 13" descr=""/>
          <p:cNvPicPr/>
          <p:nvPr/>
        </p:nvPicPr>
        <p:blipFill>
          <a:blip r:embed="rId4"/>
          <a:stretch/>
        </p:blipFill>
        <p:spPr>
          <a:xfrm>
            <a:off x="2408400" y="2066760"/>
            <a:ext cx="4662360" cy="3400560"/>
          </a:xfrm>
          <a:prstGeom prst="rect">
            <a:avLst/>
          </a:prstGeom>
          <a:ln w="0">
            <a:noFill/>
          </a:ln>
        </p:spPr>
      </p:pic>
      <p:pic>
        <p:nvPicPr>
          <p:cNvPr id="341" name="Прямоугольник 14" descr=""/>
          <p:cNvPicPr/>
          <p:nvPr/>
        </p:nvPicPr>
        <p:blipFill>
          <a:blip r:embed="rId5"/>
          <a:stretch/>
        </p:blipFill>
        <p:spPr>
          <a:xfrm>
            <a:off x="1700280" y="933480"/>
            <a:ext cx="4724280" cy="2382840"/>
          </a:xfrm>
          <a:prstGeom prst="rect">
            <a:avLst/>
          </a:prstGeom>
          <a:ln w="0">
            <a:noFill/>
          </a:ln>
        </p:spPr>
      </p:pic>
      <p:pic>
        <p:nvPicPr>
          <p:cNvPr id="342" name="Прямоугольник 15" descr=""/>
          <p:cNvPicPr/>
          <p:nvPr/>
        </p:nvPicPr>
        <p:blipFill>
          <a:blip r:embed="rId6"/>
          <a:stretch/>
        </p:blipFill>
        <p:spPr>
          <a:xfrm>
            <a:off x="2189160" y="1852560"/>
            <a:ext cx="4119480" cy="2421000"/>
          </a:xfrm>
          <a:prstGeom prst="rect">
            <a:avLst/>
          </a:prstGeom>
          <a:ln w="0">
            <a:noFill/>
          </a:ln>
        </p:spPr>
      </p:pic>
      <p:pic>
        <p:nvPicPr>
          <p:cNvPr id="343" name="Прямоугольник 17" descr=""/>
          <p:cNvPicPr/>
          <p:nvPr/>
        </p:nvPicPr>
        <p:blipFill>
          <a:blip r:embed="rId7"/>
          <a:stretch/>
        </p:blipFill>
        <p:spPr>
          <a:xfrm>
            <a:off x="3840120" y="2846520"/>
            <a:ext cx="3962520" cy="30178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Rectangle 2" descr=""/>
          <p:cNvPicPr/>
          <p:nvPr/>
        </p:nvPicPr>
        <p:blipFill>
          <a:blip r:embed="rId1"/>
          <a:stretch/>
        </p:blipFill>
        <p:spPr>
          <a:xfrm>
            <a:off x="189000" y="30240"/>
            <a:ext cx="8516880" cy="1603440"/>
          </a:xfrm>
          <a:prstGeom prst="rect">
            <a:avLst/>
          </a:prstGeom>
          <a:ln w="0">
            <a:noFill/>
          </a:ln>
        </p:spPr>
      </p:pic>
      <p:grpSp>
        <p:nvGrpSpPr>
          <p:cNvPr id="345" name="Group 11"/>
          <p:cNvGrpSpPr/>
          <p:nvPr/>
        </p:nvGrpSpPr>
        <p:grpSpPr>
          <a:xfrm>
            <a:off x="-302760" y="2080800"/>
            <a:ext cx="6294960" cy="4107600"/>
            <a:chOff x="-302760" y="2080800"/>
            <a:chExt cx="6294960" cy="4107600"/>
          </a:xfrm>
        </p:grpSpPr>
        <p:pic>
          <p:nvPicPr>
            <p:cNvPr id="346" name="Picture 7" descr="007"/>
            <p:cNvPicPr/>
            <p:nvPr/>
          </p:nvPicPr>
          <p:blipFill>
            <a:blip r:embed="rId2"/>
            <a:stretch/>
          </p:blipFill>
          <p:spPr>
            <a:xfrm rot="1072200">
              <a:off x="8280" y="2520000"/>
              <a:ext cx="3263400" cy="254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Picture 9" descr="007"/>
            <p:cNvPicPr/>
            <p:nvPr/>
          </p:nvPicPr>
          <p:blipFill>
            <a:blip r:embed="rId3"/>
            <a:stretch/>
          </p:blipFill>
          <p:spPr>
            <a:xfrm rot="8709000">
              <a:off x="2715840" y="3636360"/>
              <a:ext cx="3016080" cy="185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8" name="WordArt 12"/>
          <p:cNvSpPr txBox="1"/>
          <p:nvPr/>
        </p:nvSpPr>
        <p:spPr>
          <a:xfrm>
            <a:off x="3203640" y="3284640"/>
            <a:ext cx="100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[Ж]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49" name="WordArt 14"/>
          <p:cNvSpPr txBox="1"/>
          <p:nvPr/>
        </p:nvSpPr>
        <p:spPr>
          <a:xfrm>
            <a:off x="2987640" y="2276640"/>
            <a:ext cx="720720" cy="56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latin typeface="Comic Sans MS"/>
              </a:rPr>
              <a:t>Ж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cc"/>
              </a:solidFill>
              <a:latin typeface="Comic Sans MS"/>
              <a:ea typeface="Comic Sans MS"/>
            </a:endParaRPr>
          </a:p>
        </p:txBody>
      </p:sp>
      <p:sp>
        <p:nvSpPr>
          <p:cNvPr id="350" name="WordArt 15"/>
          <p:cNvSpPr txBox="1"/>
          <p:nvPr/>
        </p:nvSpPr>
        <p:spPr>
          <a:xfrm>
            <a:off x="1332000" y="1989000"/>
            <a:ext cx="1079280" cy="57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mic Sans MS"/>
              </a:rPr>
              <a:t>ЖЖ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mic Sans MS"/>
              <a:ea typeface="Comic Sans MS"/>
            </a:endParaRPr>
          </a:p>
        </p:txBody>
      </p:sp>
      <p:sp>
        <p:nvSpPr>
          <p:cNvPr id="351" name="WordArt 16"/>
          <p:cNvSpPr txBox="1"/>
          <p:nvPr/>
        </p:nvSpPr>
        <p:spPr>
          <a:xfrm>
            <a:off x="4427640" y="3357720"/>
            <a:ext cx="9363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latin typeface="Comic Sans MS"/>
              </a:rPr>
              <a:t>СЖ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6600ff"/>
              </a:solidFill>
              <a:latin typeface="Comic Sans MS"/>
              <a:ea typeface="Comic Sans MS"/>
            </a:endParaRPr>
          </a:p>
        </p:txBody>
      </p:sp>
      <p:sp>
        <p:nvSpPr>
          <p:cNvPr id="352" name="WordArt 17"/>
          <p:cNvSpPr txBox="1"/>
          <p:nvPr/>
        </p:nvSpPr>
        <p:spPr>
          <a:xfrm>
            <a:off x="2050920" y="3284640"/>
            <a:ext cx="86364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latin typeface="Comic Sans MS"/>
              </a:rPr>
              <a:t>ЗЖ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ff"/>
              </a:solidFill>
              <a:latin typeface="Comic Sans MS"/>
              <a:ea typeface="Comic Sans MS"/>
            </a:endParaRPr>
          </a:p>
        </p:txBody>
      </p:sp>
      <p:sp>
        <p:nvSpPr>
          <p:cNvPr id="353" name="Line 18"/>
          <p:cNvSpPr/>
          <p:nvPr/>
        </p:nvSpPr>
        <p:spPr>
          <a:xfrm>
            <a:off x="3419640" y="3213000"/>
            <a:ext cx="504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37" descr="236"/>
          <p:cNvPicPr/>
          <p:nvPr/>
        </p:nvPicPr>
        <p:blipFill>
          <a:blip r:embed="rId1"/>
          <a:stretch/>
        </p:blipFill>
        <p:spPr>
          <a:xfrm>
            <a:off x="0" y="0"/>
            <a:ext cx="6588000" cy="638964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53"/>
          <p:cNvGrpSpPr/>
          <p:nvPr/>
        </p:nvGrpSpPr>
        <p:grpSpPr>
          <a:xfrm>
            <a:off x="3989160" y="2147400"/>
            <a:ext cx="3967560" cy="3548160"/>
            <a:chOff x="3989160" y="2147400"/>
            <a:chExt cx="3967560" cy="3548160"/>
          </a:xfrm>
        </p:grpSpPr>
        <p:sp>
          <p:nvSpPr>
            <p:cNvPr id="356" name="Oval 39"/>
            <p:cNvSpPr/>
            <p:nvPr/>
          </p:nvSpPr>
          <p:spPr>
            <a:xfrm rot="18039000">
              <a:off x="5595840" y="2528280"/>
              <a:ext cx="1584360" cy="122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40"/>
            <p:cNvSpPr/>
            <p:nvPr/>
          </p:nvSpPr>
          <p:spPr>
            <a:xfrm>
              <a:off x="6183720" y="3324240"/>
              <a:ext cx="1773000" cy="10954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41"/>
            <p:cNvSpPr/>
            <p:nvPr/>
          </p:nvSpPr>
          <p:spPr>
            <a:xfrm rot="4008000">
              <a:off x="5460840" y="4112640"/>
              <a:ext cx="1584360" cy="12258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42"/>
            <p:cNvSpPr/>
            <p:nvPr/>
          </p:nvSpPr>
          <p:spPr>
            <a:xfrm rot="20008800">
              <a:off x="4140360" y="3809880"/>
              <a:ext cx="1773360" cy="109548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43"/>
            <p:cNvSpPr/>
            <p:nvPr/>
          </p:nvSpPr>
          <p:spPr>
            <a:xfrm rot="1127400">
              <a:off x="4140000" y="2714760"/>
              <a:ext cx="1773360" cy="10951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44"/>
            <p:cNvSpPr/>
            <p:nvPr/>
          </p:nvSpPr>
          <p:spPr>
            <a:xfrm>
              <a:off x="5092920" y="3203640"/>
              <a:ext cx="1638360" cy="1339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WordArt 46"/>
            <p:cNvSpPr txBox="1"/>
            <p:nvPr/>
          </p:nvSpPr>
          <p:spPr>
            <a:xfrm>
              <a:off x="6012000" y="2566800"/>
              <a:ext cx="920880" cy="638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Comic Sans MS"/>
                </a:rPr>
                <a:t>ДЦ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63" name="WordArt 47"/>
            <p:cNvSpPr txBox="1"/>
            <p:nvPr/>
          </p:nvSpPr>
          <p:spPr>
            <a:xfrm>
              <a:off x="6661440" y="3502080"/>
              <a:ext cx="936720" cy="714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Comic Sans MS"/>
                </a:rPr>
                <a:t>ТС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64" name="WordArt 48"/>
            <p:cNvSpPr txBox="1"/>
            <p:nvPr/>
          </p:nvSpPr>
          <p:spPr>
            <a:xfrm>
              <a:off x="5940720" y="4583160"/>
              <a:ext cx="792000" cy="638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00"/>
                    </a:solidFill>
                    <a:miter/>
                  </a:ln>
                  <a:solidFill>
                    <a:srgbClr val="3891a7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Comic Sans MS"/>
                </a:rPr>
                <a:t>ДС</a:t>
              </a:r>
              <a:endPara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891a7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65" name="WordArt 49"/>
            <p:cNvSpPr txBox="1"/>
            <p:nvPr/>
          </p:nvSpPr>
          <p:spPr>
            <a:xfrm>
              <a:off x="4356360" y="4222800"/>
              <a:ext cx="866880" cy="638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Comic Sans MS"/>
                </a:rPr>
                <a:t>ТЬС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66" name="WordArt 50"/>
            <p:cNvSpPr txBox="1"/>
            <p:nvPr/>
          </p:nvSpPr>
          <p:spPr>
            <a:xfrm>
              <a:off x="4356360" y="2854440"/>
              <a:ext cx="936720" cy="637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00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Comic Sans MS"/>
                </a:rPr>
                <a:t>ТЦ</a:t>
              </a:r>
              <a:endPara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67" name="WordArt 51"/>
            <p:cNvSpPr txBox="1"/>
            <p:nvPr/>
          </p:nvSpPr>
          <p:spPr>
            <a:xfrm>
              <a:off x="5364360" y="3430440"/>
              <a:ext cx="1079640" cy="85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9933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Comic Sans MS"/>
                </a:rPr>
                <a:t>[ц]</a:t>
              </a:r>
              <a:endPara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68" name="Line 52"/>
            <p:cNvSpPr/>
            <p:nvPr/>
          </p:nvSpPr>
          <p:spPr>
            <a:xfrm>
              <a:off x="5796360" y="3575160"/>
              <a:ext cx="36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444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a8a14"/>
                </a:solidFill>
                <a:latin typeface="Corbel"/>
              </a:rPr>
              <a:t>Что, по-вашему, обозначают данные рисунки?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70" name="Picture 4" descr="10002"/>
          <p:cNvPicPr/>
          <p:nvPr/>
        </p:nvPicPr>
        <p:blipFill>
          <a:blip r:embed="rId1"/>
          <a:stretch/>
        </p:blipFill>
        <p:spPr>
          <a:xfrm>
            <a:off x="0" y="3789360"/>
            <a:ext cx="2590920" cy="30686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5" descr="10003"/>
          <p:cNvPicPr/>
          <p:nvPr/>
        </p:nvPicPr>
        <p:blipFill>
          <a:blip r:embed="rId2"/>
          <a:stretch/>
        </p:blipFill>
        <p:spPr>
          <a:xfrm>
            <a:off x="5076720" y="1628640"/>
            <a:ext cx="2739960" cy="30974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6" descr="10004"/>
          <p:cNvPicPr/>
          <p:nvPr/>
        </p:nvPicPr>
        <p:blipFill>
          <a:blip r:embed="rId3"/>
          <a:stretch/>
        </p:blipFill>
        <p:spPr>
          <a:xfrm>
            <a:off x="6877080" y="4005360"/>
            <a:ext cx="2100240" cy="28526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7" descr="10005"/>
          <p:cNvPicPr/>
          <p:nvPr/>
        </p:nvPicPr>
        <p:blipFill>
          <a:blip r:embed="rId4"/>
          <a:stretch/>
        </p:blipFill>
        <p:spPr>
          <a:xfrm>
            <a:off x="1835280" y="1628640"/>
            <a:ext cx="3241440" cy="30736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0" y="1571760"/>
          <a:ext cx="9074160" cy="4714920"/>
        </p:xfrm>
        <a:graphic>
          <a:graphicData uri="http://schemas.openxmlformats.org/drawingml/2006/table">
            <a:tbl>
              <a:tblPr/>
              <a:tblGrid>
                <a:gridCol w="2449440"/>
                <a:gridCol w="2519280"/>
                <a:gridCol w="4105440"/>
              </a:tblGrid>
              <a:tr h="169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носимый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ий согласны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dec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носимы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вердый согласны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dec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носи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твердый, так и мягкий соглас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dec9">
                        <a:alpha val="50000"/>
                      </a:srgbClr>
                    </a:solidFill>
                  </a:tcPr>
                </a:tc>
              </a:tr>
              <a:tr h="302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]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к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]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]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]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рм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ль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рбр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о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нни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йо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рея и ло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]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ре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г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]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с и прог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]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с и эксп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]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йн и б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йн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]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по и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п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75" name="Прямоугольник 2"/>
          <p:cNvSpPr/>
          <p:nvPr/>
        </p:nvSpPr>
        <p:spPr>
          <a:xfrm>
            <a:off x="1071720" y="142920"/>
            <a:ext cx="7929360" cy="85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58d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5 класс  Орфоэп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Обозначение звуков с помощью букв  </a:t>
            </a: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Е, Ё, Ю,Я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77" name="Picture 2" descr="C:\Users\Света\Desktop\фонетика.jpeg"/>
          <p:cNvPicPr/>
          <p:nvPr/>
        </p:nvPicPr>
        <p:blipFill>
          <a:blip r:embed="rId1"/>
          <a:stretch/>
        </p:blipFill>
        <p:spPr>
          <a:xfrm>
            <a:off x="1000080" y="1571760"/>
            <a:ext cx="7715160" cy="48574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28480" y="285840"/>
            <a:ext cx="749916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i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А 4.  </a:t>
            </a:r>
            <a:r>
              <a:rPr b="1" i="1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Фонетика</a:t>
            </a:r>
            <a:br>
              <a:rPr sz="2400"/>
            </a:br>
            <a:r>
              <a:rPr b="1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1.1 Звуки и буквы</a:t>
            </a:r>
            <a:br>
              <a:rPr sz="2400"/>
            </a:br>
            <a:r>
              <a:rPr b="1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1.2 Фонетический анализ слова</a:t>
            </a:r>
            <a:br>
              <a:rPr sz="3900"/>
            </a:b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213920" y="1857240"/>
            <a:ext cx="77202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0" name="Прямоугольник 3" descr=""/>
          <p:cNvPicPr/>
          <p:nvPr/>
        </p:nvPicPr>
        <p:blipFill>
          <a:blip r:embed="rId1"/>
          <a:stretch/>
        </p:blipFill>
        <p:spPr>
          <a:xfrm>
            <a:off x="1090440" y="884160"/>
            <a:ext cx="3919680" cy="5864400"/>
          </a:xfrm>
          <a:prstGeom prst="rect">
            <a:avLst/>
          </a:prstGeom>
          <a:ln w="0">
            <a:noFill/>
          </a:ln>
        </p:spPr>
      </p:pic>
      <p:grpSp>
        <p:nvGrpSpPr>
          <p:cNvPr id="381" name="Прямоугольник 4"/>
          <p:cNvGrpSpPr/>
          <p:nvPr/>
        </p:nvGrpSpPr>
        <p:grpSpPr>
          <a:xfrm>
            <a:off x="4876920" y="1871640"/>
            <a:ext cx="4138560" cy="4876920"/>
            <a:chOff x="4876920" y="1871640"/>
            <a:chExt cx="4138560" cy="4876920"/>
          </a:xfrm>
        </p:grpSpPr>
        <p:pic>
          <p:nvPicPr>
            <p:cNvPr id="382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4876920" y="1871640"/>
              <a:ext cx="4138560" cy="487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5000760" y="1928880"/>
              <a:ext cx="3857400" cy="47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rbel"/>
                </a:rPr>
                <a:t>А4. Укажите ошибочное суждение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Corbe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rbel"/>
                </a:rPr>
                <a:t>В слове НЕИЗВЕСТНЫХ (предл.5) согласный звук </a:t>
              </a: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[</a:t>
              </a:r>
              <a:r>
                <a:rPr b="1" lang="ru-RU" sz="1800" spc="-1" strike="noStrike">
                  <a:solidFill>
                    <a:srgbClr val="000000"/>
                  </a:solidFill>
                  <a:latin typeface="Corbel"/>
                </a:rPr>
                <a:t>т</a:t>
              </a: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]</a:t>
              </a:r>
              <a:r>
                <a:rPr b="0" lang="ru-RU" sz="1800" spc="-1" strike="noStrike">
                  <a:solidFill>
                    <a:srgbClr val="000000"/>
                  </a:solidFill>
                  <a:latin typeface="Corbel"/>
                </a:rPr>
                <a:t> является непроизносимым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Corbe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rbel"/>
                </a:rPr>
                <a:t>В слове ВХОДЯ (предл.1) первый звук-</a:t>
              </a:r>
              <a:r>
                <a:rPr b="1" lang="en-US" sz="1800" spc="-1" strike="noStrike">
                  <a:solidFill>
                    <a:srgbClr val="000000"/>
                  </a:solidFill>
                  <a:latin typeface="Gill Sans MT"/>
                </a:rPr>
                <a:t>[</a:t>
              </a:r>
              <a:r>
                <a:rPr b="1" lang="ru-RU" sz="1800" spc="-1" strike="noStrike">
                  <a:solidFill>
                    <a:srgbClr val="000000"/>
                  </a:solidFill>
                  <a:latin typeface="Corbel"/>
                </a:rPr>
                <a:t>ф</a:t>
              </a:r>
              <a:r>
                <a:rPr b="1" lang="en-US" sz="1800" spc="-1" strike="noStrike">
                  <a:solidFill>
                    <a:srgbClr val="000000"/>
                  </a:solidFill>
                  <a:latin typeface="Gill Sans MT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rbe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Corbel"/>
                </a:rPr>
                <a:t>3</a:t>
              </a:r>
              <a:r>
                <a:rPr b="1" lang="ru-RU" sz="1800" spc="-1" strike="noStrike">
                  <a:solidFill>
                    <a:srgbClr val="000000"/>
                  </a:solidFill>
                  <a:latin typeface="Corbel"/>
                </a:rPr>
                <a:t>)</a:t>
              </a:r>
              <a:r>
                <a:rPr b="0" lang="ru-RU" sz="1800" spc="-1" strike="noStrike">
                  <a:solidFill>
                    <a:srgbClr val="000000"/>
                  </a:solidFill>
                  <a:latin typeface="Corbel"/>
                </a:rPr>
                <a:t>В слове ДОСТАНЬТЕ (предл. 16) мягкость согласного [н’] 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rbel"/>
                </a:rPr>
                <a:t>письме обозначена буквой Ь (мягкий знак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rbel"/>
                </a:rPr>
                <a:t>4) В слове СЕРЬЁЗНОГО (предл. 1) звуков больше, чем букв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rbe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rbe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Прямоугольник 5" descr=""/>
          <p:cNvPicPr/>
          <p:nvPr/>
        </p:nvPicPr>
        <p:blipFill>
          <a:blip r:embed="rId3"/>
          <a:stretch/>
        </p:blipFill>
        <p:spPr>
          <a:xfrm>
            <a:off x="1195560" y="1407960"/>
            <a:ext cx="3754440" cy="470160"/>
          </a:xfrm>
          <a:prstGeom prst="rect">
            <a:avLst/>
          </a:prstGeom>
          <a:ln w="0">
            <a:noFill/>
          </a:ln>
        </p:spPr>
      </p:pic>
      <p:sp>
        <p:nvSpPr>
          <p:cNvPr id="385" name="Прямоугольник 6"/>
          <p:cNvSpPr/>
          <p:nvPr/>
        </p:nvSpPr>
        <p:spPr>
          <a:xfrm>
            <a:off x="5000760" y="1428840"/>
            <a:ext cx="3857400" cy="428400"/>
          </a:xfrm>
          <a:prstGeom prst="rect">
            <a:avLst/>
          </a:prstGeom>
          <a:solidFill>
            <a:srgbClr val="ffe39d"/>
          </a:solidFill>
          <a:ln w="25560">
            <a:solidFill>
              <a:srgbClr val="c58d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ГИА -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09:28:22Z</dcterms:created>
  <dc:creator>Теща</dc:creator>
  <dc:description/>
  <dc:language>en-US</dc:language>
  <cp:lastModifiedBy>Света</cp:lastModifiedBy>
  <dcterms:modified xsi:type="dcterms:W3CDTF">2012-05-25T19:54:19Z</dcterms:modified>
  <cp:revision>58</cp:revision>
  <dc:subject/>
  <dc:title>Уверенным шагом к ЕГЭ</dc:title>
</cp:coreProperties>
</file>