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18.gif" ContentType="image/gif"/>
  <Override PartName="/ppt/media/image5.jpeg" ContentType="image/jpeg"/>
  <Override PartName="/ppt/media/image28.jpeg" ContentType="image/jpeg"/>
  <Override PartName="/ppt/media/image7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1.png" ContentType="image/png"/>
  <Override PartName="/ppt/media/image10.wmf" ContentType="image/x-wmf"/>
  <Override PartName="/ppt/media/image19.jpeg" ContentType="image/jpeg"/>
  <Override PartName="/ppt/media/image25.png" ContentType="image/png"/>
  <Override PartName="/ppt/media/image32.png" ContentType="image/png"/>
  <Override PartName="/ppt/media/image2.png" ContentType="image/png"/>
  <Override PartName="/ppt/media/image20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media/image17.gif" ContentType="image/gif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66E8-4EAA-4BE6-8B15-47EBCEE8B4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1F71-87F2-45E0-B298-3DDB27DBF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EBF-D673-4CC0-ABD8-B49FB33D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091-EBDD-4224-A3A7-DA1F9D0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696-E84A-44F3-AD2F-CD237563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2E1-8727-434C-8597-8B07814A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9138-1D80-4B8C-9479-6D7EF481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CBF-726E-4FE7-AB73-B6051DDF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A769-3D30-49F3-8C37-94ECF74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ADE4-AC17-458C-AABB-AC69485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DC5D-513B-456D-AFC9-3A72C513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295C-ECDC-43AB-B3CA-DB00DC2B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F6B1-882B-418C-9D89-22F79776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1AB-5329-4DF4-904B-CD394869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180F-BDB4-4DCC-B25E-F5AF01E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79B0-55B4-48E2-81B4-D892750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5102-929B-4B3B-A44B-B65ACD58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4422-656F-4FE8-AD50-EBB6D922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F70A-24A8-454A-A84A-746CC6F9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EBC8-F70A-4984-A410-3D5E2CE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14AA-1827-4884-BE4D-4F32239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2960-55CB-42A3-A0A5-3A5F87A5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1D7E-8FAE-4C71-93E5-2EB9FCCF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E751-C0E0-4BEA-A3C0-40BAAC4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E1D-D383-4101-AB28-B853054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6ACF-8F8D-42B9-8633-0DC09E4C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223B-418C-42ED-8100-8A488C0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9363-546D-4AA2-86CD-F2342E08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3C5B-F1FE-4EA0-BC4B-A574B1AA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16FA-F002-44CF-9088-9B42A4B5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902B-A981-4E96-8973-B38989BE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D755-1A81-43E2-8A29-AA16143F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572D-6D87-43A4-A737-60108281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A5AEA-2BB5-4395-8896-9A2FF9D3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D352-C4C4-4422-B06D-98CB718B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991-5898-4BAF-8C18-2E4690C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5963-F481-44A4-AE25-C27C42F8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8163-DFA7-4144-A15F-94A883C5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8B63-8EA9-4A5A-AABB-9BECD0B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D24C-CEDD-4D45-BB14-8AA46BE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0C3DD-1B58-423A-A7C8-6E538C4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64DE3-9BA3-4D63-BA20-3B764CFE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7444-E797-41FD-A26D-31198CA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C4AC-C323-45FB-9634-D28FE29A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4543-F55B-45EF-BE4B-80BC4662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3BB65-3C83-4067-B046-88DB55B6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253-3238-4AEE-90C2-FF1C9AAC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55D7B-7CCE-401A-B827-AFCCBC81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D2F8-0C67-4B03-BA92-DD9593E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7C76-9F1B-464D-A982-F5CAD379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D574B-FF9C-4DB8-BE52-51B1CEDE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FF2E6-BD1F-4172-9148-68F09E3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356D0-6640-47BE-86B0-9C707A3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9C23-A299-4B86-81AE-3155C2D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DCC7-1596-4F71-8AEA-94D545E0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6513F-500C-4CDD-8555-45655A71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58DE-347A-4B84-8285-D4C5C840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7C4-996E-47D8-9F17-6FB7E9AE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9B94C-D424-4CF1-BDD2-0F52EF69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158DD-2D9E-443A-A804-BCBB55DA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F06E-BA58-437B-9CB0-38C4B66B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3470-C10D-430C-8F59-6F6B7CA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F1804-21ED-450C-8BB6-AAAAD58D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EE24B-FB21-4118-B288-284FAEB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685C-8BC5-4A79-9E9C-47C9F59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B3940-8C4C-40E6-9F68-9FF4B8C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147C2-6516-48FF-8927-9F93F156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E1BDE-D841-44C9-8B46-57C035F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19E-23A2-4649-AB32-70F7F8F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5A8D-A31F-4F5B-AFBB-013DA911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826A5-99A5-463B-BCDE-A450C255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FDC37-AC24-407C-B60D-9A4EEA9B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9136-4168-44F2-A64C-7E9B34F5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149F6-1A30-4AAA-AF72-452EB07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530A-61A8-457D-BBD8-93695B5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425B5-1097-4282-A53F-1CA231FA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8742-7680-4402-A74F-9BEEB5C2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0BB8-6101-486A-9E24-7D99890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71645-3563-4CBC-AEB9-12DEF76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6DE-E481-458E-98E1-308E0C8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2691-0B9C-4108-A5F4-DFBAA2F2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2869E-C6BA-4E0F-9793-8F991E6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84CB-35E9-4689-8AE9-EBCBE50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16E78-1F57-41B8-8FA3-305270EC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FC8A-8888-4EDA-B347-D8CED4F8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E15-B995-4F6A-878C-1FBD01E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F9C6-8CD9-4042-9BBA-53A1313793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AEB-853A-44A8-A570-AB855F20D8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ABF7-40B5-45A2-9CCB-616EF096E6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924A-60FA-41E1-ADD0-3911550B24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3D10-7B5D-4FE6-B7D2-F858AF8EFD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DF7E-024F-48E0-A167-1249766D63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7B68-4BD6-4142-8885-5FCF9BFFA5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smiles.33b.ru/smile.103008.html" TargetMode="External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WordArt 8" descr=""/>
          <p:cNvPicPr/>
          <p:nvPr/>
        </p:nvPicPr>
        <p:blipFill>
          <a:blip r:embed="rId2"/>
          <a:stretch/>
        </p:blipFill>
        <p:spPr>
          <a:xfrm>
            <a:off x="171360" y="1066680"/>
            <a:ext cx="8728200" cy="2468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1547640" y="3716280"/>
            <a:ext cx="64008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 опыта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УМК С.И. Льв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БОУ СОШ №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.Н. Шевч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5920" y="214200"/>
            <a:ext cx="7497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5. Правописание корней.</a:t>
            </a:r>
            <a:br>
              <a:rPr sz="2900"/>
            </a:b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Правописание словарных слов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194. В один столбик запишите слова проверяемой безударной гласной в корне слова, в другой – непроверя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 кл. Упр.  536. Вставьте пропущенные буквы,, учитывая лексическое значение сло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 кл. Упр. 770. Спишите, вставляя пропущенные буквы. Выделите корни в словах с пропущенными букв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5.Укажите слово с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подивилас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вклинилас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касаю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 написа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1500120" y="1071720"/>
            <a:ext cx="348624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5"/>
          <p:cNvSpPr/>
          <p:nvPr/>
        </p:nvSpPr>
        <p:spPr>
          <a:xfrm>
            <a:off x="5286240" y="1071720"/>
            <a:ext cx="364356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74977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 6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 Правописание приставок.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итное, дефисное,  раздельное написа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5 кл.Упр.618 . Выпишите слова, в приставках которых пропущенные букв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6 кл. Упр. 395. Определите, каким способом образованы слова. Объясните орфограмм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7 кл. Упр. 221.  Составьте предложения со словам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ебывать(находиться)-прибывать (приезжат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.6 В каком слове правописание приставки определяется её значением –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риближение»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пришл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привыч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прикры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 прислушалас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5357880" y="1214280"/>
            <a:ext cx="3500280" cy="28584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5"/>
          <p:cNvSpPr/>
          <p:nvPr/>
        </p:nvSpPr>
        <p:spPr>
          <a:xfrm>
            <a:off x="1571760" y="1214280"/>
            <a:ext cx="3500280" cy="28584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8627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 7.Правописание суффиксов различных частей речи  (кроме -Н-/-НН-).  Правописание -Н- и -НН- в различных частях речи.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описание личных  окончаний глаголов и суффиксов причастий настоящего времени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28840" y="178596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 743.Образуйте сущ-ые со значением лица, используя суффиксы –чик,-щи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 кл. Упр.418. От данных слов образуйте имена прилагательные с суф.-онн, -енн, -ан, -я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 кл. Упр.227. Вставьте нужный суффикс в имена прилагательны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 кл. Упр. 225. Вставьте суффиксы причастий –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е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ый), -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и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ый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86240" y="1785960"/>
            <a:ext cx="3648240" cy="464328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7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В каком слове правописание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уффикса является исключением из правил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бесцен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сосредоточе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напряжённ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 деревянн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оугольник 4"/>
          <p:cNvSpPr/>
          <p:nvPr/>
        </p:nvSpPr>
        <p:spPr>
          <a:xfrm>
            <a:off x="1500120" y="1357200"/>
            <a:ext cx="3571920" cy="42876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"/>
          <p:cNvSpPr/>
          <p:nvPr/>
        </p:nvSpPr>
        <p:spPr>
          <a:xfrm>
            <a:off x="5357880" y="1357200"/>
            <a:ext cx="3571920" cy="42876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85840"/>
            <a:ext cx="7499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1. Лексика и фразеология. Синонимы. Фразеологические  обороты. Группы слов по происхождению и  употреблению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714. Докажите, что данные фразеологизмы противоположны по своему значени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 кл. Упр.331. Как различаются по смыслу существительные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дата и числ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7 кл. Упр.102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На уроке биологии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помните, какие слова называются терминами. Из учебника биологии выпишите 5 термин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1.Замените разговорное слов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«пошушукались» в предложении 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илистически нейтральны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онимом. Напишите этот синони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вет: ____________________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2 .Словосочет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325. Распределите словосочетания по группам: именные и глагольны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 кл. Упр.35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ловосочетани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ущ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+ сущ., замените словосочетанием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ущ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+ прил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ерег реки – речной бере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мените словосочетани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«деревянная шкатулка» (предложение 16)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троенное на основе согласования, синонимичным словосочетанием со  связью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правление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пишите получившееся словосочета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вет: ________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1500120" y="1071720"/>
            <a:ext cx="357192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5357880" y="1143000"/>
            <a:ext cx="3571920" cy="42876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Развитие ре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99720" y="1285920"/>
            <a:ext cx="7929720" cy="467208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Яркая особенность УМК С. И. Львовой - его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целенность на успешное овладение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основными видами речевой деятельност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аждый урок русского языка является уроком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развития реч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на котором учащиес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водят текстоведческий анализ текст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ишут мини-сочинение или изложение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ересказывают  теоретический материа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1.Прослушайте текст и напишите сжатое излож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7 кл. Упр.493. Сжатое излож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Выделите самую важную информацию в тексте, а затем кратко изложите его содержание (двумя или тремя предложениям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ГИ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5840" y="928800"/>
            <a:ext cx="8572320" cy="56433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Сочинения на лингвистическую тему: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7 кл.  Упр.№409. Устное высказывание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. Объясните, как вы понимаете следующее высказывание.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5 кл. Упр. 118.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бъясните, для чего нужно учитывать значение морфем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е забудьте привести доказательства, аргументируя этот тезис. В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онце ответа сделайте вывод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5 кл.Упр. 265.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Сочинение – миниатюра. Письменно ответьте на вопрос: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«Зачем нужна орфография?». Используйте слова Л. Щербы, которые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являются эпиграфом к разделу «Орфография»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6 кл.Упр. 815. 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очинение –миниатюра. Письменно ответьте на вопрос, почему местоимения называются словами-заменителями 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7 кл. Упр.123. Сочинение – миниатюр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. Прочитайте эпиграф к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§ 4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исьменно объясните, как вы понимаете высказывание французского писателя Анатоля Фран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Corbel"/>
              </a:rPr>
              <a:t>Объясните лингвистический смысл рисунков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6" name="Picture 6" descr="10001"/>
          <p:cNvPicPr/>
          <p:nvPr/>
        </p:nvPicPr>
        <p:blipFill>
          <a:blip r:embed="rId2"/>
          <a:stretch/>
        </p:blipFill>
        <p:spPr>
          <a:xfrm>
            <a:off x="0" y="2835360"/>
            <a:ext cx="4427640" cy="4022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10007"/>
          <p:cNvPicPr/>
          <p:nvPr/>
        </p:nvPicPr>
        <p:blipFill>
          <a:blip r:embed="rId3"/>
          <a:stretch/>
        </p:blipFill>
        <p:spPr>
          <a:xfrm>
            <a:off x="4427640" y="2813040"/>
            <a:ext cx="471636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rbel"/>
              </a:rPr>
              <a:t>На основе фотографии сочините лингвистическую сказку</a:t>
            </a:r>
            <a:r>
              <a:rPr b="0" lang="ru-RU" sz="3600" spc="-1" strike="noStrike">
                <a:solidFill>
                  <a:srgbClr val="aa8a14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9" name="Picture 6" descr="10006"/>
          <p:cNvPicPr/>
          <p:nvPr/>
        </p:nvPicPr>
        <p:blipFill>
          <a:blip r:embed="rId2"/>
          <a:stretch/>
        </p:blipFill>
        <p:spPr>
          <a:xfrm>
            <a:off x="1835280" y="1538280"/>
            <a:ext cx="7308720" cy="5319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1000"/>
                </a:solidFill>
                <a:latin typeface="Corbel"/>
              </a:rPr>
              <a:t>УМК в 3-х частях С.И. Львова </a:t>
            </a:r>
            <a:br>
              <a:rPr sz="3600"/>
            </a:br>
            <a:r>
              <a:rPr b="0" lang="ru-RU" sz="3600" spc="-1" strike="noStrike">
                <a:solidFill>
                  <a:srgbClr val="701000"/>
                </a:solidFill>
                <a:latin typeface="Corbel"/>
              </a:rPr>
              <a:t>В.В. Льво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10" descr="Крестная1"/>
          <p:cNvPicPr/>
          <p:nvPr/>
        </p:nvPicPr>
        <p:blipFill>
          <a:blip r:embed="rId2"/>
          <a:stretch/>
        </p:blipFill>
        <p:spPr>
          <a:xfrm>
            <a:off x="684360" y="1700280"/>
            <a:ext cx="4284360" cy="4110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крестная2"/>
          <p:cNvPicPr/>
          <p:nvPr/>
        </p:nvPicPr>
        <p:blipFill>
          <a:blip r:embed="rId3"/>
          <a:stretch/>
        </p:blipFill>
        <p:spPr>
          <a:xfrm>
            <a:off x="4876920" y="1197000"/>
            <a:ext cx="42670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отовимся к ГИ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(из КТП по УМК С.И. Львовой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23880" y="1422360"/>
          <a:ext cx="6405840" cy="4370400"/>
        </p:xfrm>
        <a:graphic>
          <a:graphicData uri="http://schemas.openxmlformats.org/drawingml/2006/table">
            <a:tbl>
              <a:tblPr/>
              <a:tblGrid>
                <a:gridCol w="619200"/>
                <a:gridCol w="2786040"/>
                <a:gridCol w="714600"/>
                <a:gridCol w="571320"/>
                <a:gridCol w="928800"/>
                <a:gridCol w="7858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- во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спольз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бору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И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5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лушение и озвончение  парных согласных 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Куб. Произношение гласных и согласных </a:t>
                      </a:r>
                      <a:r>
                        <a:rPr b="1" i="1" lang="ru-RU" sz="1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Г, В,Ф, Р, Л </a:t>
                      </a:r>
                      <a:r>
                        <a:rPr b="1" lang="ru-RU" sz="1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мягких  парных звонких в слабой пози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рфограмм в корне слова. Правописание безударных гласных в корне слов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писание суффиксов прилагательны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абл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токи богатства и выразительности родной ре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4" name="Прямоугольник 2" descr=""/>
          <p:cNvPicPr/>
          <p:nvPr/>
        </p:nvPicPr>
        <p:blipFill>
          <a:blip r:embed="rId1"/>
          <a:stretch/>
        </p:blipFill>
        <p:spPr>
          <a:xfrm>
            <a:off x="1841400" y="652320"/>
            <a:ext cx="6894720" cy="5303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Прямоугольник 2" descr=""/>
          <p:cNvPicPr/>
          <p:nvPr/>
        </p:nvPicPr>
        <p:blipFill>
          <a:blip r:embed="rId1"/>
          <a:stretch/>
        </p:blipFill>
        <p:spPr>
          <a:xfrm>
            <a:off x="2011320" y="871560"/>
            <a:ext cx="5565960" cy="3067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5" descr="a29038e3f7639887aea70b1818307af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4143240"/>
            <a:ext cx="762120" cy="1333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.И. Львова Русский язык 5-8 клас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.И. Львова Программа по русскому язы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565"/>
            </a:gs>
            <a:gs pos="100000">
              <a:srgbClr val="3096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7" descr="крестная2"/>
          <p:cNvPicPr/>
          <p:nvPr/>
        </p:nvPicPr>
        <p:blipFill>
          <a:blip r:embed="rId1"/>
          <a:stretch/>
        </p:blipFill>
        <p:spPr>
          <a:xfrm>
            <a:off x="6715080" y="3635280"/>
            <a:ext cx="2428920" cy="3222720"/>
          </a:xfrm>
          <a:prstGeom prst="rect">
            <a:avLst/>
          </a:prstGeom>
          <a:ln w="0">
            <a:noFill/>
          </a:ln>
        </p:spPr>
      </p:pic>
      <p:sp>
        <p:nvSpPr>
          <p:cNvPr id="331" name="Стрелка вниз 6"/>
          <p:cNvSpPr/>
          <p:nvPr/>
        </p:nvSpPr>
        <p:spPr>
          <a:xfrm rot="3803400">
            <a:off x="4008600" y="1229400"/>
            <a:ext cx="428760" cy="40719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Users\Света\Desktop\Папки для учителя\Анимации\рисунки для презетаций\j0424166.wmf"/>
          <p:cNvPicPr/>
          <p:nvPr/>
        </p:nvPicPr>
        <p:blipFill>
          <a:blip r:embed="rId2"/>
          <a:stretch/>
        </p:blipFill>
        <p:spPr>
          <a:xfrm>
            <a:off x="0" y="1857240"/>
            <a:ext cx="2357280" cy="4548240"/>
          </a:xfrm>
          <a:prstGeom prst="rect">
            <a:avLst/>
          </a:prstGeom>
          <a:ln w="0">
            <a:noFill/>
          </a:ln>
        </p:spPr>
      </p:pic>
      <p:sp>
        <p:nvSpPr>
          <p:cNvPr id="333" name="Солнце 5"/>
          <p:cNvSpPr/>
          <p:nvPr/>
        </p:nvSpPr>
        <p:spPr>
          <a:xfrm>
            <a:off x="6357960" y="0"/>
            <a:ext cx="2786040" cy="2643120"/>
          </a:xfrm>
          <a:prstGeom prst="sun">
            <a:avLst>
              <a:gd name="adj" fmla="val 2059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Льв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трелка вниз 7"/>
          <p:cNvSpPr/>
          <p:nvPr/>
        </p:nvSpPr>
        <p:spPr>
          <a:xfrm rot="3388800">
            <a:off x="4555440" y="1418040"/>
            <a:ext cx="428400" cy="4989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8"/>
          <p:cNvSpPr/>
          <p:nvPr/>
        </p:nvSpPr>
        <p:spPr>
          <a:xfrm rot="3261600">
            <a:off x="5634720" y="2320920"/>
            <a:ext cx="428760" cy="442908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 rot="4040400">
            <a:off x="3806640" y="-20520"/>
            <a:ext cx="428760" cy="46641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16"/>
          <p:cNvGrpSpPr/>
          <p:nvPr/>
        </p:nvGrpSpPr>
        <p:grpSpPr>
          <a:xfrm>
            <a:off x="1899720" y="502200"/>
            <a:ext cx="3970800" cy="1428120"/>
            <a:chOff x="1899720" y="502200"/>
            <a:chExt cx="3970800" cy="1428120"/>
          </a:xfrm>
        </p:grpSpPr>
        <p:sp>
          <p:nvSpPr>
            <p:cNvPr id="338" name="Стрелка вниз 10"/>
            <p:cNvSpPr/>
            <p:nvPr/>
          </p:nvSpPr>
          <p:spPr>
            <a:xfrm rot="4300200">
              <a:off x="3778920" y="-819360"/>
              <a:ext cx="154800" cy="4071960"/>
            </a:xfrm>
            <a:prstGeom prst="downArrow">
              <a:avLst>
                <a:gd name="adj1" fmla="val 50000"/>
                <a:gd name="adj2" fmla="val 138343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2097000" y="835200"/>
              <a:ext cx="377352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Прямоугольник 13" descr=""/>
          <p:cNvPicPr/>
          <p:nvPr/>
        </p:nvPicPr>
        <p:blipFill>
          <a:blip r:embed="rId4"/>
          <a:stretch/>
        </p:blipFill>
        <p:spPr>
          <a:xfrm>
            <a:off x="2408400" y="2066760"/>
            <a:ext cx="4662360" cy="34005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14" descr=""/>
          <p:cNvPicPr/>
          <p:nvPr/>
        </p:nvPicPr>
        <p:blipFill>
          <a:blip r:embed="rId5"/>
          <a:stretch/>
        </p:blipFill>
        <p:spPr>
          <a:xfrm>
            <a:off x="1700280" y="933480"/>
            <a:ext cx="4724280" cy="238284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15" descr=""/>
          <p:cNvPicPr/>
          <p:nvPr/>
        </p:nvPicPr>
        <p:blipFill>
          <a:blip r:embed="rId6"/>
          <a:stretch/>
        </p:blipFill>
        <p:spPr>
          <a:xfrm>
            <a:off x="2189160" y="1852560"/>
            <a:ext cx="4119480" cy="24210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17" descr=""/>
          <p:cNvPicPr/>
          <p:nvPr/>
        </p:nvPicPr>
        <p:blipFill>
          <a:blip r:embed="rId7"/>
          <a:stretch/>
        </p:blipFill>
        <p:spPr>
          <a:xfrm>
            <a:off x="3840120" y="2846520"/>
            <a:ext cx="3962520" cy="3017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189000" y="30240"/>
            <a:ext cx="8516880" cy="160344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11"/>
          <p:cNvGrpSpPr/>
          <p:nvPr/>
        </p:nvGrpSpPr>
        <p:grpSpPr>
          <a:xfrm>
            <a:off x="-302760" y="2080800"/>
            <a:ext cx="6294960" cy="4107600"/>
            <a:chOff x="-302760" y="2080800"/>
            <a:chExt cx="6294960" cy="4107600"/>
          </a:xfrm>
        </p:grpSpPr>
        <p:pic>
          <p:nvPicPr>
            <p:cNvPr id="346" name="Picture 7" descr="007"/>
            <p:cNvPicPr/>
            <p:nvPr/>
          </p:nvPicPr>
          <p:blipFill>
            <a:blip r:embed="rId2"/>
            <a:stretch/>
          </p:blipFill>
          <p:spPr>
            <a:xfrm rot="1072200">
              <a:off x="8280" y="2520000"/>
              <a:ext cx="3263400" cy="25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9" descr="007"/>
            <p:cNvPicPr/>
            <p:nvPr/>
          </p:nvPicPr>
          <p:blipFill>
            <a:blip r:embed="rId3"/>
            <a:stretch/>
          </p:blipFill>
          <p:spPr>
            <a:xfrm rot="8709000">
              <a:off x="2715840" y="3636360"/>
              <a:ext cx="301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WordArt 12"/>
          <p:cNvSpPr txBox="1"/>
          <p:nvPr/>
        </p:nvSpPr>
        <p:spPr>
          <a:xfrm>
            <a:off x="3203640" y="328464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[Ж]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49" name="WordArt 14"/>
          <p:cNvSpPr txBox="1"/>
          <p:nvPr/>
        </p:nvSpPr>
        <p:spPr>
          <a:xfrm>
            <a:off x="2987640" y="2276640"/>
            <a:ext cx="72072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Comic Sans MS"/>
              </a:rPr>
              <a:t>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Comic Sans MS"/>
              <a:ea typeface="Comic Sans MS"/>
            </a:endParaRPr>
          </a:p>
        </p:txBody>
      </p:sp>
      <p:sp>
        <p:nvSpPr>
          <p:cNvPr id="350" name="WordArt 15"/>
          <p:cNvSpPr txBox="1"/>
          <p:nvPr/>
        </p:nvSpPr>
        <p:spPr>
          <a:xfrm>
            <a:off x="1332000" y="1989000"/>
            <a:ext cx="10792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mic Sans MS"/>
              </a:rPr>
              <a:t>Ж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mic Sans MS"/>
              <a:ea typeface="Comic Sans MS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4427640" y="3357720"/>
            <a:ext cx="936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mic Sans MS"/>
              </a:rPr>
              <a:t>С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mic Sans MS"/>
              <a:ea typeface="Comic Sans MS"/>
            </a:endParaRPr>
          </a:p>
        </p:txBody>
      </p:sp>
      <p:sp>
        <p:nvSpPr>
          <p:cNvPr id="352" name="WordArt 17"/>
          <p:cNvSpPr txBox="1"/>
          <p:nvPr/>
        </p:nvSpPr>
        <p:spPr>
          <a:xfrm>
            <a:off x="2050920" y="3284640"/>
            <a:ext cx="863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Comic Sans MS"/>
              </a:rPr>
              <a:t>З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Comic Sans MS"/>
              <a:ea typeface="Comic Sans MS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3419640" y="321300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7" descr="236"/>
          <p:cNvPicPr/>
          <p:nvPr/>
        </p:nvPicPr>
        <p:blipFill>
          <a:blip r:embed="rId1"/>
          <a:stretch/>
        </p:blipFill>
        <p:spPr>
          <a:xfrm>
            <a:off x="0" y="0"/>
            <a:ext cx="6588000" cy="638964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53"/>
          <p:cNvGrpSpPr/>
          <p:nvPr/>
        </p:nvGrpSpPr>
        <p:grpSpPr>
          <a:xfrm>
            <a:off x="3989160" y="2147400"/>
            <a:ext cx="3967560" cy="3548160"/>
            <a:chOff x="3989160" y="2147400"/>
            <a:chExt cx="3967560" cy="3548160"/>
          </a:xfrm>
        </p:grpSpPr>
        <p:sp>
          <p:nvSpPr>
            <p:cNvPr id="356" name="Oval 39"/>
            <p:cNvSpPr/>
            <p:nvPr/>
          </p:nvSpPr>
          <p:spPr>
            <a:xfrm rot="18039000">
              <a:off x="5595840" y="2528280"/>
              <a:ext cx="1584360" cy="122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40"/>
            <p:cNvSpPr/>
            <p:nvPr/>
          </p:nvSpPr>
          <p:spPr>
            <a:xfrm>
              <a:off x="6183720" y="3324240"/>
              <a:ext cx="1773000" cy="1095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41"/>
            <p:cNvSpPr/>
            <p:nvPr/>
          </p:nvSpPr>
          <p:spPr>
            <a:xfrm rot="4008000">
              <a:off x="5460840" y="4112640"/>
              <a:ext cx="1584360" cy="122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2"/>
            <p:cNvSpPr/>
            <p:nvPr/>
          </p:nvSpPr>
          <p:spPr>
            <a:xfrm rot="20008800">
              <a:off x="4140360" y="3809880"/>
              <a:ext cx="1773360" cy="1095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43"/>
            <p:cNvSpPr/>
            <p:nvPr/>
          </p:nvSpPr>
          <p:spPr>
            <a:xfrm rot="1127400">
              <a:off x="4140000" y="2714760"/>
              <a:ext cx="1773360" cy="1095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4"/>
            <p:cNvSpPr/>
            <p:nvPr/>
          </p:nvSpPr>
          <p:spPr>
            <a:xfrm>
              <a:off x="5092920" y="3203640"/>
              <a:ext cx="1638360" cy="1339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WordArt 46"/>
            <p:cNvSpPr txBox="1"/>
            <p:nvPr/>
          </p:nvSpPr>
          <p:spPr>
            <a:xfrm>
              <a:off x="6012000" y="2566800"/>
              <a:ext cx="92088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ДЦ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3" name="WordArt 47"/>
            <p:cNvSpPr txBox="1"/>
            <p:nvPr/>
          </p:nvSpPr>
          <p:spPr>
            <a:xfrm>
              <a:off x="6661440" y="3502080"/>
              <a:ext cx="936720" cy="71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Т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4" name="WordArt 48"/>
            <p:cNvSpPr txBox="1"/>
            <p:nvPr/>
          </p:nvSpPr>
          <p:spPr>
            <a:xfrm>
              <a:off x="5940720" y="4583160"/>
              <a:ext cx="7920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3891a7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ДС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891a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5" name="WordArt 49"/>
            <p:cNvSpPr txBox="1"/>
            <p:nvPr/>
          </p:nvSpPr>
          <p:spPr>
            <a:xfrm>
              <a:off x="4356360" y="4222800"/>
              <a:ext cx="86688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ТЬ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6" name="WordArt 50"/>
            <p:cNvSpPr txBox="1"/>
            <p:nvPr/>
          </p:nvSpPr>
          <p:spPr>
            <a:xfrm>
              <a:off x="4356360" y="2854440"/>
              <a:ext cx="936720" cy="63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ТЦ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7" name="WordArt 51"/>
            <p:cNvSpPr txBox="1"/>
            <p:nvPr/>
          </p:nvSpPr>
          <p:spPr>
            <a:xfrm>
              <a:off x="5364360" y="3430440"/>
              <a:ext cx="1079640" cy="85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[ц]</a:t>
              </a:r>
              <a:endPara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8" name="Line 52"/>
            <p:cNvSpPr/>
            <p:nvPr/>
          </p:nvSpPr>
          <p:spPr>
            <a:xfrm>
              <a:off x="5796360" y="3575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Corbel"/>
              </a:rPr>
              <a:t>Что, по-вашему, обозначают данные рисунки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4" descr="10002"/>
          <p:cNvPicPr/>
          <p:nvPr/>
        </p:nvPicPr>
        <p:blipFill>
          <a:blip r:embed="rId1"/>
          <a:stretch/>
        </p:blipFill>
        <p:spPr>
          <a:xfrm>
            <a:off x="0" y="3789360"/>
            <a:ext cx="2590920" cy="3068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10003"/>
          <p:cNvPicPr/>
          <p:nvPr/>
        </p:nvPicPr>
        <p:blipFill>
          <a:blip r:embed="rId2"/>
          <a:stretch/>
        </p:blipFill>
        <p:spPr>
          <a:xfrm>
            <a:off x="5076720" y="1628640"/>
            <a:ext cx="2739960" cy="3097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10004"/>
          <p:cNvPicPr/>
          <p:nvPr/>
        </p:nvPicPr>
        <p:blipFill>
          <a:blip r:embed="rId3"/>
          <a:stretch/>
        </p:blipFill>
        <p:spPr>
          <a:xfrm>
            <a:off x="6877080" y="4005360"/>
            <a:ext cx="2100240" cy="2852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10005"/>
          <p:cNvPicPr/>
          <p:nvPr/>
        </p:nvPicPr>
        <p:blipFill>
          <a:blip r:embed="rId4"/>
          <a:stretch/>
        </p:blipFill>
        <p:spPr>
          <a:xfrm>
            <a:off x="1835280" y="1628640"/>
            <a:ext cx="3241440" cy="3073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1571760"/>
          <a:ext cx="9074160" cy="4714920"/>
        </p:xfrm>
        <a:graphic>
          <a:graphicData uri="http://schemas.openxmlformats.org/drawingml/2006/table">
            <a:tbl>
              <a:tblPr/>
              <a:tblGrid>
                <a:gridCol w="2449440"/>
                <a:gridCol w="2519280"/>
                <a:gridCol w="410544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мый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ий соглас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de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м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ый соглас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de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твердый, так и мягкий согла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dec9">
                        <a:alpha val="50000"/>
                      </a:srgbClr>
                    </a:solidFill>
                  </a:tcPr>
                </a:tc>
              </a:tr>
              <a:tr h="30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б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н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ея и л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е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 и про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 и эксп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йн и б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й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о и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5" name="Прямоугольник 2"/>
          <p:cNvSpPr/>
          <p:nvPr/>
        </p:nvSpPr>
        <p:spPr>
          <a:xfrm>
            <a:off x="1071720" y="142920"/>
            <a:ext cx="79293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5 класс  Орфоэ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означение звуков с помощью букв 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Е, Ё, Ю,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7" name="Picture 2" descr="C:\Users\Света\Desktop\фонетика.jpeg"/>
          <p:cNvPicPr/>
          <p:nvPr/>
        </p:nvPicPr>
        <p:blipFill>
          <a:blip r:embed="rId1"/>
          <a:stretch/>
        </p:blipFill>
        <p:spPr>
          <a:xfrm>
            <a:off x="1000080" y="1571760"/>
            <a:ext cx="7715160" cy="4857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4991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 4.  </a:t>
            </a:r>
            <a:r>
              <a:rPr b="1" i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Фонетика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1 Звуки и буквы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2 Фонетический анализ слова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213920" y="1857240"/>
            <a:ext cx="7720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Прямоугольник 3" descr=""/>
          <p:cNvPicPr/>
          <p:nvPr/>
        </p:nvPicPr>
        <p:blipFill>
          <a:blip r:embed="rId1"/>
          <a:stretch/>
        </p:blipFill>
        <p:spPr>
          <a:xfrm>
            <a:off x="1090440" y="884160"/>
            <a:ext cx="3919680" cy="5864400"/>
          </a:xfrm>
          <a:prstGeom prst="rect">
            <a:avLst/>
          </a:prstGeom>
          <a:ln w="0">
            <a:noFill/>
          </a:ln>
        </p:spPr>
      </p:pic>
      <p:grpSp>
        <p:nvGrpSpPr>
          <p:cNvPr id="381" name="Прямоугольник 4"/>
          <p:cNvGrpSpPr/>
          <p:nvPr/>
        </p:nvGrpSpPr>
        <p:grpSpPr>
          <a:xfrm>
            <a:off x="4876920" y="1871640"/>
            <a:ext cx="4138560" cy="4876920"/>
            <a:chOff x="4876920" y="1871640"/>
            <a:chExt cx="4138560" cy="4876920"/>
          </a:xfrm>
        </p:grpSpPr>
        <p:pic>
          <p:nvPicPr>
            <p:cNvPr id="382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876920" y="1871640"/>
              <a:ext cx="41385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000760" y="1928880"/>
              <a:ext cx="385740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А4. Укажите ошибочное сужде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orbe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В слове НЕИЗВЕСТНЫХ (предл.5) согласный звук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[</a:t>
              </a: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т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]</a:t>
              </a: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 является непроизносимы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orbe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В слове ВХОДЯ (предл.1) первый звук-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[</a:t>
              </a: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ф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3</a:t>
              </a: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В слове ДОСТАНЬТЕ (предл. 16) мягкость согласного [н’]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письме обозначена буквой Ь (мягкий знак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4) В слове СЕРЬЁЗНОГО (предл. 1) звуков больше, чем бу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Прямоугольник 5" descr=""/>
          <p:cNvPicPr/>
          <p:nvPr/>
        </p:nvPicPr>
        <p:blipFill>
          <a:blip r:embed="rId3"/>
          <a:stretch/>
        </p:blipFill>
        <p:spPr>
          <a:xfrm>
            <a:off x="1195560" y="1407960"/>
            <a:ext cx="3754440" cy="4701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6"/>
          <p:cNvSpPr/>
          <p:nvPr/>
        </p:nvSpPr>
        <p:spPr>
          <a:xfrm>
            <a:off x="5000760" y="1428840"/>
            <a:ext cx="385740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ГИА 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28:22Z</dcterms:created>
  <dc:creator>Теща</dc:creator>
  <dc:description/>
  <dc:language>en-US</dc:language>
  <cp:lastModifiedBy>Света</cp:lastModifiedBy>
  <dcterms:modified xsi:type="dcterms:W3CDTF">2012-05-25T19:54:19Z</dcterms:modified>
  <cp:revision>58</cp:revision>
  <dc:subject/>
  <dc:title>Уверенным шагом к ЕГЭ</dc:title>
</cp:coreProperties>
</file>