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0FDC4-D26C-4C57-AD67-BDE9729DCE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A5E83-B215-4511-9F4E-B672DDD6C3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18F90-01DF-4BD4-80A3-AE8768AF21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9C23F-8FDB-4045-9AD6-4272B0443A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F419E-D73F-4CD8-BE88-1571EFFDF5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55E55-FF0F-48C1-A48E-E9BDEEDD1D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184F4-0EA0-4E5B-B817-605821CF0F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CCDB-90FF-4152-92BE-003AAEBE7E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A81EE-5E58-4DC5-8004-426FC3A70D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9BDEB-225C-4D2F-9721-61C06C6985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BF2-3F9E-4297-9A3D-85404A97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3E5-01A0-478B-A3E3-06990CB2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BAF-BD7C-421E-9E00-140A4E86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E09-B93E-4447-89F2-B66138E8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81D-F335-4559-B571-D60E58F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0D1-2D14-4074-B03D-95FBF45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4A6-C8BE-4005-A319-B93FDCA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6B19-C74A-4653-AF72-4F5E4D8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C7A-F49F-4E87-B803-52F222C6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19B-79D4-4D04-9811-D56A30C9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96E-FDEE-4124-9A90-12FDC628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C60-BF87-4AC7-8F5D-1266E5E7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53231-5E95-49D6-BC58-D4968059C2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442080" y="1279440"/>
            <a:ext cx="9344520" cy="33523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Чесночный гри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Comic Sans MS"/>
              </a:rPr>
              <a:t>и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06600"/>
                </a:solidFill>
                <a:latin typeface="Comic Sans MS"/>
              </a:rPr>
              <a:t>чесночн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7"/>
          <p:cNvSpPr/>
          <p:nvPr/>
        </p:nvSpPr>
        <p:spPr>
          <a:xfrm>
            <a:off x="2754360" y="351000"/>
            <a:ext cx="64292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Comic Sans MS"/>
              </a:rPr>
              <a:t>Чесночник</a:t>
            </a: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 – это небольшой пластинчатый грибок с сильным чесночным запах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111480" y="3780000"/>
            <a:ext cx="6067440" cy="30715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6"/>
          <p:cNvSpPr/>
          <p:nvPr/>
        </p:nvSpPr>
        <p:spPr>
          <a:xfrm>
            <a:off x="254160" y="351000"/>
            <a:ext cx="592920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Цвет шляпки от светло-коричневого до темно-бурого. Цвет пластин от белого до кремового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397320" y="4422600"/>
            <a:ext cx="4035240" cy="2686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5826240" y="1555920"/>
            <a:ext cx="4000320" cy="2695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208080"/>
            <a:ext cx="892980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Ножка чесночника тонкая, толщиной со спичку и длинной около 5 см, жесткая, внутри полая. Цвет ножки темно-бурый, вверху более светлы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3325680" y="3494160"/>
            <a:ext cx="3714840" cy="36781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26320" y="3851280"/>
            <a:ext cx="2857320" cy="285732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7"/>
          <p:cNvSpPr/>
          <p:nvPr/>
        </p:nvSpPr>
        <p:spPr>
          <a:xfrm>
            <a:off x="1468440" y="0"/>
            <a:ext cx="861228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Растет чесночный гриб с июля по сентябрь группами по опушкам и полянам лиственных и хвойных лесов. Практически не встречается в одиночном вид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3325680" y="3137040"/>
            <a:ext cx="5821560" cy="35715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1754280" y="279360"/>
            <a:ext cx="814392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omic Sans MS"/>
              </a:rPr>
              <a:t>Лучше собирать чесночники после дождя , тогда их особенно много. В сухую погоду уже вылезшие чесночные грибы быстро высыхают и становятся малозаметными. Но после прошедшего дождика, они вбирают в себя влагу и восстанавливают прежнюю фор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182760" y="3637080"/>
            <a:ext cx="5286600" cy="368460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825480" y="208080"/>
            <a:ext cx="864396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Comic Sans MS"/>
              </a:rPr>
              <a:t>Чесночник не имеет ядовитых двойников, но внешним видом похож на многочисленные мелкие грибы –«поганки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397320" y="2797200"/>
            <a:ext cx="5500440" cy="41259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539640" y="0"/>
            <a:ext cx="907272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Поэтому определять чесночный гриб лучше та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сначала по более темной по сравнению со шляпкой но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затем на ощупь – ножка должна быть твер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и окончательно - растереть отломленный кусочек шляпки на пальцах и понюхать. Специфический запах чеснока подскажет, что перед вами чесноч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mic Sans MS"/>
              </a:rPr>
              <a:t>Используют у чесночного гриба только шля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683160" y="3683160"/>
            <a:ext cx="4714560" cy="3600360"/>
          </a:xfrm>
          <a:prstGeom prst="rect">
            <a:avLst/>
          </a:prstGeom>
          <a:ln w="28440">
            <a:solidFill>
              <a:srgbClr val="0033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468360" y="351000"/>
            <a:ext cx="93582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 пищу употребляется как прип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Заготавливается сушкой.  В сухом виде прекрасно сохраняет свой чесночно-грибной аром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omic Sans MS"/>
              </a:rPr>
              <a:t>В России чесночный гриб практически не собирают, но в других странах Европы, особенно в Германии, он применяется довольно шир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3397320" y="3922560"/>
            <a:ext cx="5715000" cy="28576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7:16:37Z</dcterms:created>
  <dc:creator/>
  <dc:description/>
  <dc:language>en-US</dc:language>
  <cp:lastModifiedBy>Natasha</cp:lastModifiedBy>
  <dcterms:modified xsi:type="dcterms:W3CDTF">2012-06-27T16:44:36Z</dcterms:modified>
  <cp:revision>12</cp:revision>
  <dc:subject/>
  <dc:title>Слайд 1</dc:title>
</cp:coreProperties>
</file>