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AC170-6C69-4D21-A343-A7708F1DB1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46EE5-4221-4B07-B8DF-42A44A0770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0D155-5F48-4C43-8D6A-AED3DBD542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652D8-97FB-44BE-8A03-617A8A6738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9D36-4BC1-47B7-A122-0513431BAF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8555F-F1A2-4C90-95FB-3D3D40152E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23ED5-F4C8-4064-87C1-CB5783CCEB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F41A3-DB78-4508-837A-C488DAF620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BF9D1-0B50-4DB9-83AC-3E69782E9A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4D82A-676B-4771-88AF-A14C026C7C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835-DE8D-4434-85B0-1954BD0D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BC9-0A9E-432D-9F52-CB2F9E4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1BA-4755-4CF8-9805-E21DFA5D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6C2-A134-4704-8937-180A5CE2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67B-45B8-44B2-BEA8-77C098FE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E2A-24ED-400A-81C5-356E4BB5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B3C-8B66-4DBB-8ECF-CA6CEC5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E28-1565-4F0D-BBF9-BAA1A07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444-F58E-4938-9027-A1A9E92F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219-81E2-49AC-9607-B529FB5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C2C-EF5E-4488-8124-E0549C5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2AF-9B4F-4B2C-A132-F64211D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DB69F-DAF8-4C57-9308-23B30AE4B3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442080" y="1279440"/>
            <a:ext cx="9344520" cy="3352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Чесночный гри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Comic Sans MS"/>
              </a:rPr>
              <a:t>и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чесноч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7"/>
          <p:cNvSpPr/>
          <p:nvPr/>
        </p:nvSpPr>
        <p:spPr>
          <a:xfrm>
            <a:off x="2754360" y="351000"/>
            <a:ext cx="64292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Comic Sans MS"/>
              </a:rPr>
              <a:t>Чесночник</a:t>
            </a: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 – это небольшой пластинчатый грибок с сильным чесночным запах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111480" y="3780000"/>
            <a:ext cx="6067440" cy="30715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6"/>
          <p:cNvSpPr/>
          <p:nvPr/>
        </p:nvSpPr>
        <p:spPr>
          <a:xfrm>
            <a:off x="254160" y="351000"/>
            <a:ext cx="592920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Цвет шляпки от светло-коричневого до темно-бурого. Цвет пластин от белого до кремовог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397320" y="4422600"/>
            <a:ext cx="4035240" cy="2686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826240" y="1555920"/>
            <a:ext cx="4000320" cy="2695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208080"/>
            <a:ext cx="89298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Ножка чесночника тонкая, толщиной со спичку и длинной около 5 см, жесткая, внутри полая. Цвет ножки темно-бурый, вверху более светл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325680" y="3494160"/>
            <a:ext cx="3714840" cy="36781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26320" y="3851280"/>
            <a:ext cx="2857320" cy="2857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7"/>
          <p:cNvSpPr/>
          <p:nvPr/>
        </p:nvSpPr>
        <p:spPr>
          <a:xfrm>
            <a:off x="1468440" y="0"/>
            <a:ext cx="861228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Растет чесночный гриб с июля по сентябрь группами по опушкам и полянам лиственных и хвойных лесов. Практически не встречается в одиночном вид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325680" y="3137040"/>
            <a:ext cx="5821560" cy="35715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754280" y="279360"/>
            <a:ext cx="81439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Лучше собирать чесночники после дождя , тогда их особенно много. В сухую погоду уже вылезшие чесночные грибы быстро высыхают и становятся малозаметными. Но после прошедшего дождика, они вбирают в себя влагу и восстанавливают прежню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182760" y="3637080"/>
            <a:ext cx="5286600" cy="3684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825480" y="208080"/>
            <a:ext cx="864396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Чесночник не имеет ядовитых двойников, но внешним видом похож на многочисленные мелкие грибы –«поганки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397320" y="2797200"/>
            <a:ext cx="5500440" cy="4125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539640" y="0"/>
            <a:ext cx="907272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Поэтому определять чесночный гриб лучше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начала по более темной по сравнению со шляпкой но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затем на ощупь – ножка должна быть твер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и окончательно - растереть отломленный кусочек шляпки на пальцах и понюхать. Специфический запах чеснока подскажет, что перед вами чесно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Используют у чесночного гриба только шля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683160" y="3683160"/>
            <a:ext cx="4714560" cy="3600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468360" y="351000"/>
            <a:ext cx="93582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 пищу употребляется как прип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Заготавливается сушкой.  В сухом виде прекрасно сохраняет свой чесночно-грибной аром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 России чесночный гриб практически не собирают, но в других странах Европы, особенно в Германии, он применяется довольно шир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397320" y="3922560"/>
            <a:ext cx="5715000" cy="2857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16:37Z</dcterms:created>
  <dc:creator/>
  <dc:description/>
  <dc:language>en-US</dc:language>
  <cp:lastModifiedBy>Natasha</cp:lastModifiedBy>
  <dcterms:modified xsi:type="dcterms:W3CDTF">2012-06-27T16:44:36Z</dcterms:modified>
  <cp:revision>12</cp:revision>
  <dc:subject/>
  <dc:title>Слайд 1</dc:title>
</cp:coreProperties>
</file>