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6588-405E-4C89-A9B9-11449C9C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840" y="4005360"/>
            <a:ext cx="82184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5044-D2F9-49F4-820B-89CDF232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6840" y="400536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120" y="400536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2727-8189-4ACC-ABE6-845318D3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5680" y="198108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4160" y="198108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6840" y="400536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5680" y="400536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4160" y="400536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F8857-50AE-4014-B3A9-10DF840B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9C26-A51B-404E-869C-360A73DA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1844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0E19-64BC-4E0E-A375-1795F17A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8F20-A1B0-4165-BB0A-ADCF89A8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844D-9379-4FBD-92F3-E73F1CC2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F7B8-886C-4BCE-ACB8-4B51CE1B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C78B-AD51-4342-8C17-957D9430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00536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4CA1-1D09-4528-81F6-DE24E32E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1844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6466-FB05-48D1-A6C2-285B3D62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120" y="400536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320E-68E6-4B08-B2AE-312E31A4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4005360"/>
            <a:ext cx="82184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26B7-8D59-4120-B52B-7F67860D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6840" y="4005360"/>
            <a:ext cx="82184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4106-368B-419F-93BE-D5A20165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400536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120" y="400536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E966-FB53-4019-AD92-7A0338CA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5680" y="198108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14160" y="198108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6840" y="400536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5680" y="400536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14160" y="4005360"/>
            <a:ext cx="26460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E8F1-0B83-480D-922B-EF2CCB47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DDB6-83BA-4E47-85E5-C92B43F2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3A7B9-A3F5-4290-ACE5-6F26047D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9CBE-F2F0-4B57-A8CB-3C32054E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6840" y="425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C9DC-FFDD-48C9-B8C7-E88800C7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0536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8955-05DF-4BFA-93CE-41245DF9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120" y="400536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7EAD-ADB6-4CC0-BE2C-47688976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1981080"/>
            <a:ext cx="40104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05360"/>
            <a:ext cx="82184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1153-EFA0-4890-9395-0D53120A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846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D6D37-41B5-4436-89FE-91A2D31AE23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32840" cy="534960"/>
            <a:chOff x="0" y="0"/>
            <a:chExt cx="9132840" cy="53496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74680" cy="52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19920" cy="26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26720" cy="1299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28880" cy="1270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28880" cy="129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25280" cy="1270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30320" cy="1270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26720" cy="127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25280" cy="1252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184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494160" cy="684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16720" cy="2522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55880" cy="3146400"/>
              <a:chOff x="0" y="1066680"/>
              <a:chExt cx="2855880" cy="314640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65200" cy="6300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6340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74560" cy="6238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73120" cy="6300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7456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73120" cy="6220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71680" cy="62208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63400" cy="6220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6520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7312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846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E3040B3-4251-4D83-952B-2F897239BC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440"/>
            <a:ext cx="600876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Учебно-исследовательская  конференция</a:t>
            </a:r>
            <a:br>
              <a:rPr sz="1800"/>
            </a:b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«Сохранение  природного  и  культурного  наследия»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Школьное научное объединение «Мыс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666699"/>
                </a:solidFill>
                <a:latin typeface="Arial"/>
              </a:rPr>
              <a:t>Тема работы</a:t>
            </a:r>
            <a:r>
              <a:rPr b="1" lang="ru-RU" sz="1600" spc="-1" strike="noStrike">
                <a:solidFill>
                  <a:srgbClr val="666699"/>
                </a:solidFill>
                <a:latin typeface="Arial"/>
              </a:rPr>
              <a:t>: «Влияние пыли на здоровье челове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666699"/>
                </a:solidFill>
                <a:latin typeface="Arial"/>
              </a:rPr>
              <a:t>Направление</a:t>
            </a:r>
            <a:r>
              <a:rPr b="1" lang="ru-RU" sz="1600" spc="-1" strike="noStrike">
                <a:solidFill>
                  <a:srgbClr val="666699"/>
                </a:solidFill>
                <a:latin typeface="Arial"/>
              </a:rPr>
              <a:t>:Социальная  эк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666699"/>
                </a:solidFill>
                <a:latin typeface="Arial"/>
              </a:rPr>
              <a:t>Ф.И.О. автора</a:t>
            </a:r>
            <a:r>
              <a:rPr b="1" lang="ru-RU" sz="1600" spc="-1" strike="noStrike">
                <a:solidFill>
                  <a:srgbClr val="666699"/>
                </a:solidFill>
                <a:latin typeface="Arial"/>
              </a:rPr>
              <a:t>: Шульц Александра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666699"/>
                </a:solidFill>
                <a:latin typeface="Arial"/>
              </a:rPr>
              <a:t>МКОУ «Русскополянская средняя общеобразовательная школа №2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666699"/>
                </a:solidFill>
                <a:latin typeface="Arial"/>
              </a:rPr>
              <a:t>Класс</a:t>
            </a:r>
            <a:r>
              <a:rPr b="1" lang="ru-RU" sz="1600" spc="-1" strike="noStrike">
                <a:solidFill>
                  <a:srgbClr val="666699"/>
                </a:solidFill>
                <a:latin typeface="Arial"/>
              </a:rPr>
              <a:t>: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666699"/>
                </a:solidFill>
                <a:latin typeface="Arial"/>
              </a:rPr>
              <a:t>Руководитель: Бевза Ираида Георгиевна, социальный педого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28800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9999ff"/>
                </a:solidFill>
                <a:uFillTx/>
                <a:latin typeface="Arial"/>
              </a:rPr>
              <a:t>Пылевые клещ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1880" indent="-2746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7318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942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99"/>
                </a:solidFill>
                <a:latin typeface="Times New Roman"/>
              </a:rPr>
              <a:t>После многочисленных исследований пыли и реакции на нее стало очевидным, что главным возбудителем аллергии является пылевой клещ, размер которого всего 0,4 миллиметра. Клещи хорошо размножаются и живут в условиях обычного микроклимата квартиры: +25°С и влажности 75-80%, а это означает, что в постели (перины, подушки, матрацы) обязательно будут заводиться клещи, даже если ее постоянно убирать, они будут появляться. Питаются пылевые клещи мелкими чешуйками кожи человека, которые мы теряет в среднем 1 грамм в неделю, а значит, им всегда будет чем питаться и будет где размножаться. Безусловно, человеку с аллергией на пыль очень тяжело противостоять возбудителю, но вполне ре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 u="sng">
                <a:solidFill>
                  <a:srgbClr val="9999ff"/>
                </a:solidFill>
                <a:uFillTx/>
                <a:latin typeface="Arial"/>
              </a:rPr>
              <a:t>Результаты исследован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Исследование пыли в жилых помещения дома и в школе проводилось с помощью электронного микроскопа. Максимальное количество пыли было обнаружено на паласе, на клавиатуре, на окне, на тетради (разновидности пыл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 u="sng">
                <a:solidFill>
                  <a:srgbClr val="9999ff"/>
                </a:solidFill>
                <a:uFillTx/>
                <a:latin typeface="Arial"/>
              </a:rPr>
              <a:t>Результаты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160" y="1800360"/>
            <a:ext cx="403848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6699"/>
                </a:solidFill>
                <a:latin typeface="Arial"/>
              </a:rPr>
              <a:t>Рассмотрев частицы пыли под микроскопом, мы обнаружили, что они неоднородны по составу. На тетради была обнаружена мебельная пыль-1, на окне - личинки организма -2, на мониторе - лапка живого организма-4, на клавиатуре 3 - тканевая пыль-3, на  полке пыль в виде паутины-5, на цветке остатки насекомого-7. Пыль, собранная с ковровых дорожек, содержит более крупные частицы, которые соединены ворсинками, может включать шерсть домашних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1197000"/>
            <a:ext cx="2233800" cy="2166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720" y="3500280"/>
            <a:ext cx="1985760" cy="2376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896160"/>
            <a:ext cx="9144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1260360"/>
            <a:ext cx="2171520" cy="296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953480"/>
            <a:ext cx="9144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39640"/>
            <a:ext cx="3780000" cy="324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496800"/>
            <a:ext cx="3419640" cy="3283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140360"/>
            <a:ext cx="3780000" cy="2717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48400" y="4114800"/>
            <a:ext cx="3352680" cy="2743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Победить пыль — полностью изгнать её — невозможно! Но следует стараться сократить масштабы её «проживания» в наших до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Единственным методом борьбы с пылью является уборка жил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Не все источники образования пыли безопасны для жизни и здоровья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Без должной заботы о помещении, в котором живет больной аллергией на бытовую пыль: уборки, ионизатора воздуха, разумных покупок - аллергия может развиться в астму, бронхиальные болезни, различной степени тяжести, риниты, трахеиты, дерматиты. Всего этого легко избежать, всего лишь следуя правильной жизненной позиции и заботе о своем здоровье при помощи ионизатора возд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Задумайтесь над тем, чем мы дыш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57200"/>
            <a:ext cx="836280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666699"/>
                </a:solidFill>
                <a:uFillTx/>
                <a:latin typeface="Arial"/>
              </a:rPr>
              <a:t>Дышите свежим воздухом, находитесь в чистом помещении и не болей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нести до окружающих важность проблемы, связанную  с пыл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 пыль как  источник  различных  заболев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02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024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Определить, что такое пы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Определить  источники пы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ссмотреть  влияние  пыли  на здоровье 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Определить  меры  борьбы  с пыл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9999ff"/>
                </a:solidFill>
                <a:uFillTx/>
                <a:latin typeface="Freestyle Script"/>
              </a:rPr>
              <a:t>пы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8320" indent="-328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</a:rPr>
              <a:t>Пыль-это непременный атрибут жилья человека. Она незримо обосновалась в наших домах, квартирах, школах, ведёт параллельную с нами жизнь, незаметно устанавливает свои порядки. Пыль обладает способностью влиять абсолютно на всё: на работу бытовой техники и всех существующих приборов, на состояние мебели и одежды, на качество воздуха в комнате, на здоровье</a:t>
            </a:r>
            <a:r>
              <a:rPr b="0" lang="ru-RU" sz="2000" spc="-1" strike="noStrike">
                <a:solidFill>
                  <a:srgbClr val="9999ff"/>
                </a:solidFill>
                <a:latin typeface="Arial"/>
              </a:rPr>
              <a:t> обитателей до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  <a:ea typeface="Lucida Sans Unicode"/>
              </a:rPr>
              <a:t>Пыль - это совокупность микроскопических частиц солей, каменных пород, смол, паразитов и остатков живых организмов. Пыль неоднородна по структуре:  книжная пыль - серого цвета, состоит из мельчайших частиц (мелкодисперсная), древесная пыль – более крупная. Пыль, собранная с ковровых дорожек, содержит более крупные частицы, которые соединены ворсин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9999ff"/>
                </a:solidFill>
                <a:uFillTx/>
                <a:latin typeface="Arial"/>
              </a:rPr>
              <a:t>Источники пы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8320" indent="-3283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- </a:t>
            </a:r>
            <a:r>
              <a:rPr b="0" i="1" lang="ru-RU" sz="2400" spc="-1" strike="noStrike" u="sng">
                <a:solidFill>
                  <a:srgbClr val="666699"/>
                </a:solidFill>
                <a:uFillTx/>
                <a:latin typeface="Arial"/>
              </a:rPr>
              <a:t>безопасные для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Стёртые частички мебели, ковров и пала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Частички омертвевшей кожи, ногтей и волос человека и домашних питом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Перхо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Пыльца и споры комнатных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Волокна тка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  <a:ea typeface="Lucida Sans Unicode"/>
              </a:rPr>
              <a:t>- </a:t>
            </a:r>
            <a:r>
              <a:rPr b="0" i="1" lang="ru-RU" sz="2400" spc="-1" strike="noStrike" u="sng">
                <a:solidFill>
                  <a:srgbClr val="666699"/>
                </a:solidFill>
                <a:uFillTx/>
                <a:latin typeface="Arial"/>
                <a:ea typeface="Lucida Sans Unicode"/>
              </a:rPr>
              <a:t>опасные для здоровья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  <a:ea typeface="Lucida Sans Unicode"/>
              </a:rPr>
              <a:t>Грибки и другие микроорганиз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  <a:ea typeface="Lucida Sans Unicode"/>
              </a:rPr>
              <a:t>Продукты сгорания минерального топлива: дерева, угля, нефти - и выхлопные газы автомоби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  <a:ea typeface="Lucida Sans Unicode"/>
              </a:rPr>
              <a:t>Сигаретный д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  <a:ea typeface="Lucida Sans Unicode"/>
              </a:rPr>
              <a:t>Мельчайшие остатки строительных материалов и облупившейся кра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9999ff"/>
                </a:solidFill>
                <a:latin typeface="Arial"/>
              </a:rPr>
              <a:t>Меры борьбы с пыл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Прежде чем атаковать пыль, её надо заманить. Замечательной ловушкой служит ковё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Наличие паласов и ковров в доме имеет и ещё одно    преимущество: они крепко держат пыль, не позволяя ей при каждом дуновении ветерка подниматься в возду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Итак, одним из средств борьбы с пылью является пылесос.                                      Другим врагом пыли, конечно же, является мокрая тряпка. Необходимо каждый день протирать влажной тряпкой открытые полки шкафов, поверхности столов, подоконники, спинки кроватей и т.д. Хорошо при этом добавлять в воду поваренную соль. Она убивает пылевых кл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     </a:t>
            </a:r>
            <a:r>
              <a:rPr b="0" lang="ru-RU" sz="2000" spc="-1" strike="noStrike">
                <a:solidFill>
                  <a:srgbClr val="666699"/>
                </a:solidFill>
                <a:latin typeface="Arial"/>
                <a:ea typeface="Lucida Sans Unicode"/>
              </a:rPr>
              <a:t>Кроме того, ведя войну с пылью и клещами следует как можно чаще проветривать помещение, менять и обязательно гладить утюгом постельное бельё, пылесосить мебель, летом сушить одеяла, матрацы и подушки на солн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6699"/>
                </a:solidFill>
                <a:latin typeface="Arial"/>
                <a:ea typeface="Lucida Sans Unicode"/>
              </a:rPr>
              <a:t>       </a:t>
            </a:r>
            <a:r>
              <a:rPr b="0" lang="ru-RU" sz="2000" spc="-1" strike="noStrike">
                <a:solidFill>
                  <a:srgbClr val="666699"/>
                </a:solidFill>
                <a:latin typeface="Arial"/>
                <a:ea typeface="Lucida Sans Unicode"/>
              </a:rPr>
              <a:t>Отдельное внимание стоит уделить постельному белью. В нём скапливаются пылевые клещи, которые питаются отмершими частичками кож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9999ff"/>
                </a:solidFill>
                <a:uFillTx/>
                <a:latin typeface="Arial"/>
              </a:rPr>
              <a:t>Влияние пыли на здоровь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Экологи всего мира единодушны во мнении о том, что пыль небезопасна для здоровья человека. Вдыхание воздуха с высокой концентрацией пыли оказывает такое же вредное воздействие на лёгкие, как пол сигар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Кроме того, пыль, накапливающаяся у нас дома, способствует обострению таких хронических заболеваний, как астма, аллергия и сахарный диаб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Но и это ещё не всё. Пыль не только будит уже имеющиеся в организме болезни, но приводит к возникновению нов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 u="sng">
                <a:solidFill>
                  <a:srgbClr val="9999ff"/>
                </a:solidFill>
                <a:uFillTx/>
                <a:latin typeface="Arial"/>
              </a:rPr>
              <a:t>Болезни, вызванные пыл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9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8320" indent="-3283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заболевание вирусного харак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бронхиальная ас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арушение сл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заболевание п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  <a:ea typeface="Lucida Sans Unicode"/>
              </a:rPr>
              <a:t>инфаркт миокар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  <a:ea typeface="Lucida Sans Unicode"/>
              </a:rPr>
              <a:t>менинг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  <a:ea typeface="Lucida Sans Unicode"/>
              </a:rPr>
              <a:t>артериосклер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  <a:ea typeface="Lucida Sans Unicode"/>
              </a:rPr>
              <a:t>заболевание кож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  <a:ea typeface="Lucida Sans Unicode"/>
              </a:rPr>
              <a:t>конъюнкти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 u="sng">
                <a:solidFill>
                  <a:srgbClr val="9999ff"/>
                </a:solidFill>
                <a:uFillTx/>
                <a:latin typeface="Arial"/>
              </a:rPr>
              <a:t>Влияние пыли на здоровье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6699"/>
                </a:solidFill>
                <a:latin typeface="Arial"/>
              </a:rPr>
              <a:t>Но пыль «богата» не только опасными вирусами и микробами, но и «противными» микроорганизмами - клещ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spcBef>
                <a:spcPts val="499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3683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4537080" cy="35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4:04:23Z</dcterms:created>
  <dc:creator>Admin</dc:creator>
  <dc:description/>
  <dc:language>en-US</dc:language>
  <cp:lastModifiedBy>Admin</cp:lastModifiedBy>
  <dcterms:modified xsi:type="dcterms:W3CDTF">2011-02-17T16:41:40Z</dcterms:modified>
  <cp:revision>2</cp:revision>
  <dc:subject/>
  <dc:title>Областное научное общество учащихся «Поиск»  Школьное научное объединение «Мысль»</dc:title>
</cp:coreProperties>
</file>