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AD764-7099-4AC4-8EC4-0A94AB63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84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6840" y="4005360"/>
            <a:ext cx="82184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2AA33-6F59-4750-A153-0A696E66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120" y="198108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6840" y="400536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120" y="400536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7758A-B7A9-4E35-88D7-5474FD6E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460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5680" y="1981080"/>
            <a:ext cx="26460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14160" y="1981080"/>
            <a:ext cx="26460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6840" y="4005360"/>
            <a:ext cx="26460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5680" y="4005360"/>
            <a:ext cx="26460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14160" y="4005360"/>
            <a:ext cx="26460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446DA-97FC-4357-96B9-D7413AD8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2210-494A-4EE3-B218-A26DD2D8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218440" cy="38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12D6-010D-407C-B777-2A953D12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844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C75F-29D8-44F7-AF79-2939AB1B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04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1981080"/>
            <a:ext cx="40104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7018-9380-4C96-B3B8-4F114BB8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1DF9-FA94-487F-851C-8EACC050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D77E-69A9-435B-9926-5A397879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120" y="1981080"/>
            <a:ext cx="40104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400536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B7BF-CFF3-4DF1-9C68-B469BF8C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218440" cy="38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46677-44CB-4053-9428-0C9BE0CF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04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120" y="198108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120" y="400536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2CF5-7DFE-4C43-9273-97EEAC8B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120" y="198108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4005360"/>
            <a:ext cx="82184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2AF7-6B26-42B2-B706-084C73AD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84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6840" y="4005360"/>
            <a:ext cx="82184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1DCA-E6EB-4C5B-B539-7B622813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120" y="198108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400536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120" y="400536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2609-27FA-4DED-933F-F8060E83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460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5680" y="1981080"/>
            <a:ext cx="26460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14160" y="1981080"/>
            <a:ext cx="26460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6840" y="4005360"/>
            <a:ext cx="26460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5680" y="4005360"/>
            <a:ext cx="26460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14160" y="4005360"/>
            <a:ext cx="26460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F318-8771-428F-A9B9-E0313F9E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844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B8079-E924-4AF1-BD77-99206A21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04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981080"/>
            <a:ext cx="40104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C3B03-1A3F-4B18-9542-21F099DB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5E348-4877-4D35-99F0-7F45F355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7609D-E310-400B-B1C2-36A8A889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120" y="1981080"/>
            <a:ext cx="40104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0536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FFE2B-6DB9-4B7B-9753-0EF39A50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04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120" y="198108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120" y="400536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9783A-B834-4340-8F1A-CAFF3514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198108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005360"/>
            <a:ext cx="82184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9DB07-3889-4B8E-A655-DA3795E9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8468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122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23D79-52C6-4630-86A8-B5CA0976700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32840" cy="534960"/>
            <a:chOff x="0" y="0"/>
            <a:chExt cx="9132840" cy="53496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74680" cy="522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19920" cy="26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26720" cy="129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28880" cy="1270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28880" cy="129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25280" cy="1270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30320" cy="1270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26720" cy="127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25280" cy="1252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6840" y="1981080"/>
            <a:ext cx="821844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494160" cy="6846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16720" cy="2522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55880" cy="3146400"/>
              <a:chOff x="0" y="1066680"/>
              <a:chExt cx="2855880" cy="314640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65200" cy="6300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63400" cy="6318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74560" cy="6238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73120" cy="6300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74560" cy="6318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73120" cy="6220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71680" cy="62208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63400" cy="6220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6520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7312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22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8468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22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23EAC5E-6544-46E8-BBDD-1C1E279C493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440" y="1828440"/>
            <a:ext cx="600876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Arial"/>
              </a:rPr>
              <a:t>Учебно-исследовательская  конференция</a:t>
            </a:r>
            <a:br>
              <a:rPr sz="1800"/>
            </a:br>
            <a:r>
              <a:rPr b="1" lang="ru-RU" sz="1800" spc="-1" strike="noStrike">
                <a:solidFill>
                  <a:srgbClr val="666699"/>
                </a:solidFill>
                <a:latin typeface="Arial"/>
              </a:rPr>
              <a:t>«Сохранение  природного  и  культурного  наследия»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66699"/>
                </a:solidFill>
                <a:latin typeface="Arial"/>
              </a:rPr>
              <a:t>Школьное научное объединение «Мыс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666699"/>
                </a:solidFill>
                <a:latin typeface="Arial"/>
              </a:rPr>
              <a:t>Тема работы</a:t>
            </a:r>
            <a:r>
              <a:rPr b="1" lang="ru-RU" sz="1600" spc="-1" strike="noStrike">
                <a:solidFill>
                  <a:srgbClr val="666699"/>
                </a:solidFill>
                <a:latin typeface="Arial"/>
              </a:rPr>
              <a:t>: «Влияние пыли на здоровье челове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666699"/>
                </a:solidFill>
                <a:latin typeface="Arial"/>
              </a:rPr>
              <a:t>Направление</a:t>
            </a:r>
            <a:r>
              <a:rPr b="1" lang="ru-RU" sz="1600" spc="-1" strike="noStrike">
                <a:solidFill>
                  <a:srgbClr val="666699"/>
                </a:solidFill>
                <a:latin typeface="Arial"/>
              </a:rPr>
              <a:t>:Социальная  эк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666699"/>
                </a:solidFill>
                <a:latin typeface="Arial"/>
              </a:rPr>
              <a:t>Ф.И.О. автора</a:t>
            </a:r>
            <a:r>
              <a:rPr b="1" lang="ru-RU" sz="1600" spc="-1" strike="noStrike">
                <a:solidFill>
                  <a:srgbClr val="666699"/>
                </a:solidFill>
                <a:latin typeface="Arial"/>
              </a:rPr>
              <a:t>: Шульц Александра Александ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666699"/>
                </a:solidFill>
                <a:latin typeface="Arial"/>
              </a:rPr>
              <a:t>МКОУ «Русскополянская средняя общеобразовательная школа №2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666699"/>
                </a:solidFill>
                <a:latin typeface="Arial"/>
              </a:rPr>
              <a:t>Класс</a:t>
            </a:r>
            <a:r>
              <a:rPr b="1" lang="ru-RU" sz="1600" spc="-1" strike="noStrike">
                <a:solidFill>
                  <a:srgbClr val="666699"/>
                </a:solidFill>
                <a:latin typeface="Arial"/>
              </a:rPr>
              <a:t>: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666699"/>
                </a:solidFill>
                <a:latin typeface="Arial"/>
              </a:rPr>
              <a:t>Руководитель: Бевза Ираида Георгиевна, социальный педого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84720" y="1413000"/>
            <a:ext cx="288000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9999ff"/>
                </a:solidFill>
                <a:uFillTx/>
                <a:latin typeface="Arial"/>
              </a:rPr>
              <a:t>Пылевые клещ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7318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421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6699"/>
                </a:solidFill>
                <a:latin typeface="Times New Roman"/>
              </a:rPr>
              <a:t>После многочисленных исследований пыли и реакции на нее стало очевидным, что главным возбудителем аллергии является пылевой клещ, размер которого всего 0,4 миллиметра. Клещи хорошо размножаются и живут в условиях обычного микроклимата квартиры: +25°С и влажности 75-80%, а это означает, что в постели (перины, подушки, матрацы) обязательно будут заводиться клещи, даже если ее постоянно убирать, они будут появляться. Питаются пылевые клещи мелкими чешуйками кожи человека, которые мы теряет в среднем 1 грамм в неделю, а значит, им всегда будет чем питаться и будет где размножаться. Безусловно, человеку с аллергией на пыль очень тяжело противостоять возбудителю, но вполне реа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 u="sng">
                <a:solidFill>
                  <a:srgbClr val="9999ff"/>
                </a:solidFill>
                <a:uFillTx/>
                <a:latin typeface="Arial"/>
              </a:rPr>
              <a:t>Результаты исследовани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Исследование пыли в жилых помещения дома и в школе проводилось с помощью электронного микроскопа. Максимальное количество пыли было обнаружено на паласе, на клавиатуре, на окне, на тетради (разновидности пыл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 u="sng">
                <a:solidFill>
                  <a:srgbClr val="9999ff"/>
                </a:solidFill>
                <a:uFillTx/>
                <a:latin typeface="Arial"/>
              </a:rPr>
              <a:t>Результаты исслед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1160" y="1800360"/>
            <a:ext cx="403848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6699"/>
                </a:solidFill>
                <a:latin typeface="Arial"/>
              </a:rPr>
              <a:t>Рассмотрев частицы пыли под микроскопом, мы обнаружили, что они неоднородны по составу. На тетради была обнаружена мебельная пыль-1, на окне - личинки организма -2, на мониторе - лапка живого организма-4, на клавиатуре 3 - тканевая пыль-3, на  полке пыль в виде паутины-5, на цветке остатки насекомого-7. Пыль, собранная с ковровых дорожек, содержит более крупные частицы, которые соединены ворсинками, может включать шерсть домашних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1197000"/>
            <a:ext cx="2233800" cy="2166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720" y="3500280"/>
            <a:ext cx="1985760" cy="2376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896160"/>
            <a:ext cx="91440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1260360"/>
            <a:ext cx="2171520" cy="296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953480"/>
            <a:ext cx="91440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539640"/>
            <a:ext cx="3780000" cy="324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80000" y="496800"/>
            <a:ext cx="3419640" cy="3283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140360"/>
            <a:ext cx="3780000" cy="27176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48400" y="4114800"/>
            <a:ext cx="3352680" cy="2743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666699"/>
                </a:solidFill>
                <a:uFillTx/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66699"/>
                </a:solidFill>
                <a:latin typeface="Arial"/>
              </a:rPr>
              <a:t>Победить пыль — полностью изгнать её — невозможно! Но следует стараться сократить масштабы её «проживания» в наших дом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66699"/>
                </a:solidFill>
                <a:latin typeface="Arial"/>
              </a:rPr>
              <a:t>Единственным методом борьбы с пылью является уборка жилищ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66699"/>
                </a:solidFill>
                <a:latin typeface="Arial"/>
              </a:rPr>
              <a:t>Не все источники образования пыли безопасны для жизни и здоровья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66699"/>
                </a:solidFill>
                <a:latin typeface="Arial"/>
              </a:rPr>
              <a:t>Без должной заботы о помещении, в котором живет больной аллергией на бытовую пыль: уборки, ионизатора воздуха, разумных покупок - аллергия может развиться в астму, бронхиальные болезни, различной степени тяжести, риниты, трахеиты, дерматиты. Всего этого легко избежать, всего лишь следуя правильной жизненной позиции и заботе о своем здоровье при помощи ионизатора возду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66699"/>
                </a:solidFill>
                <a:latin typeface="Arial"/>
              </a:rPr>
              <a:t>Задумайтесь над тем, чем мы дыши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457200"/>
            <a:ext cx="836280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666699"/>
                </a:solidFill>
                <a:uFillTx/>
                <a:latin typeface="Arial"/>
              </a:rPr>
              <a:t>Дышите свежим воздухом, находитесь в чистом помещении и не болей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02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024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нести до окружающих важность проблемы, связанную  с пыл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 пыль как  источник  различных  заболе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02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024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Определить, что такое пы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Определить  источники пы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Рассмотреть  влияние  пыли  на здоровье 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Определить  меры  борьбы  с пыл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9999ff"/>
                </a:solidFill>
                <a:uFillTx/>
                <a:latin typeface="Freestyle Script"/>
              </a:rPr>
              <a:t>пы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9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8320" indent="-3283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6699"/>
                </a:solidFill>
                <a:latin typeface="Arial"/>
              </a:rPr>
              <a:t>Пыль-это непременный атрибут жилья человека. Она незримо обосновалась в наших домах, квартирах, школах, ведёт параллельную с нами жизнь, незаметно устанавливает свои порядки. Пыль обладает способностью влиять абсолютно на всё: на работу бытовой техники и всех существующих приборов, на состояние мебели и одежды, на качество воздуха в комнате, на здоровье</a:t>
            </a:r>
            <a:r>
              <a:rPr b="0" lang="ru-RU" sz="2000" spc="-1" strike="noStrike">
                <a:solidFill>
                  <a:srgbClr val="9999ff"/>
                </a:solidFill>
                <a:latin typeface="Arial"/>
              </a:rPr>
              <a:t> обитателей до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6699"/>
                </a:solidFill>
                <a:latin typeface="Arial"/>
                <a:ea typeface="Lucida Sans Unicode"/>
              </a:rPr>
              <a:t>Пыль - это совокупность микроскопических частиц солей, каменных пород, смол, паразитов и остатков живых организмов. Пыль неоднородна по структуре:  книжная пыль - серого цвета, состоит из мельчайших частиц (мелкодисперсная), древесная пыль – более крупная. Пыль, собранная с ковровых дорожек, содержит более крупные частицы, которые соединены ворсин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9999ff"/>
                </a:solidFill>
                <a:uFillTx/>
                <a:latin typeface="Arial"/>
              </a:rPr>
              <a:t>Источники пы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8320" indent="-3283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- </a:t>
            </a:r>
            <a:r>
              <a:rPr b="0" i="1" lang="ru-RU" sz="2400" spc="-1" strike="noStrike" u="sng">
                <a:solidFill>
                  <a:srgbClr val="666699"/>
                </a:solidFill>
                <a:uFillTx/>
                <a:latin typeface="Arial"/>
              </a:rPr>
              <a:t>безопасные для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320" indent="-3283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Стёртые частички мебели, ковров и пала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320" indent="-3283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Частички омертвевшей кожи, ногтей и волос человека и домашних питом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320" indent="-3283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Перхо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320" indent="-3283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Пыльца и споры комнатных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320" indent="-3283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Волокна тка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  <a:ea typeface="Lucida Sans Unicode"/>
              </a:rPr>
              <a:t>- </a:t>
            </a:r>
            <a:r>
              <a:rPr b="0" i="1" lang="ru-RU" sz="2400" spc="-1" strike="noStrike" u="sng">
                <a:solidFill>
                  <a:srgbClr val="666699"/>
                </a:solidFill>
                <a:uFillTx/>
                <a:latin typeface="Arial"/>
                <a:ea typeface="Lucida Sans Unicode"/>
              </a:rPr>
              <a:t>опасные для здоровья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  <a:ea typeface="Lucida Sans Unicode"/>
              </a:rPr>
              <a:t>Грибки и другие микроорганиз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  <a:ea typeface="Lucida Sans Unicode"/>
              </a:rPr>
              <a:t>Продукты сгорания минерального топлива: дерева, угля, нефти - и выхлопные газы автомоби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  <a:ea typeface="Lucida Sans Unicode"/>
              </a:rPr>
              <a:t>Сигаретный д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  <a:ea typeface="Lucida Sans Unicode"/>
              </a:rPr>
              <a:t>Мельчайшие остатки строительных материалов и облупившейся кра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9999ff"/>
                </a:solidFill>
                <a:latin typeface="Arial"/>
              </a:rPr>
              <a:t>Меры борьбы с пыль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66699"/>
                </a:solidFill>
                <a:latin typeface="Arial"/>
              </a:rPr>
              <a:t>Прежде чем атаковать пыль, её надо заманить. Замечательной ловушкой служит ковё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66699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666699"/>
                </a:solidFill>
                <a:latin typeface="Arial"/>
              </a:rPr>
              <a:t>Наличие паласов и ковров в доме имеет и ещё одно    преимущество: они крепко держат пыль, не позволяя ей при каждом дуновении ветерка подниматься в возду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66699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666699"/>
                </a:solidFill>
                <a:latin typeface="Arial"/>
              </a:rPr>
              <a:t>Итак, одним из средств борьбы с пылью является пылесос.                                      Другим врагом пыли, конечно же, является мокрая тряпка. Необходимо каждый день протирать влажной тряпкой открытые полки шкафов, поверхности столов, подоконники, спинки кроватей и т.д. Хорошо при этом добавлять в воду поваренную соль. Она убивает пылевых кл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</a:t>
            </a:r>
            <a:r>
              <a:rPr b="0" lang="ru-RU" sz="2000" spc="-1" strike="noStrike">
                <a:solidFill>
                  <a:srgbClr val="666699"/>
                </a:solidFill>
                <a:latin typeface="Arial"/>
                <a:ea typeface="Lucida Sans Unicode"/>
              </a:rPr>
              <a:t>Кроме того, ведя войну с пылью и клещами следует как можно чаще проветривать помещение, менять и обязательно гладить утюгом постельное бельё, пылесосить мебель, летом сушить одеяла, матрацы и подушки на солнц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6699"/>
                </a:solidFill>
                <a:latin typeface="Arial"/>
                <a:ea typeface="Lucida Sans Unicode"/>
              </a:rPr>
              <a:t>       </a:t>
            </a:r>
            <a:r>
              <a:rPr b="0" lang="ru-RU" sz="2000" spc="-1" strike="noStrike">
                <a:solidFill>
                  <a:srgbClr val="666699"/>
                </a:solidFill>
                <a:latin typeface="Arial"/>
                <a:ea typeface="Lucida Sans Unicode"/>
              </a:rPr>
              <a:t>Отдельное внимание стоит уделить постельному белью. В нём скапливаются пылевые клещи, которые питаются отмершими частичками кожи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9999ff"/>
                </a:solidFill>
                <a:uFillTx/>
                <a:latin typeface="Arial"/>
              </a:rPr>
              <a:t>Влияние пыли на здоровье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Экологи всего мира единодушны во мнении о том, что пыль небезопасна для здоровья человека. Вдыхание воздуха с высокой концентрацией пыли оказывает такое же вредное воздействие на лёгкие, как пол сигар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Кроме того, пыль, накапливающаяся у нас дома, способствует обострению таких хронических заболеваний, как астма, аллергия и сахарный диаб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Но и это ещё не всё. Пыль не только будит уже имеющиеся в организме болезни, но приводит к возникновению нов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9999ff"/>
                </a:solidFill>
                <a:uFillTx/>
                <a:latin typeface="Arial"/>
              </a:rPr>
              <a:t>Болезни, вызванные пыль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9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8320" indent="-3283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заболевание вирусного харак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бронхиальная аст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нарушение сл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заболевание п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  <a:ea typeface="Lucida Sans Unicode"/>
              </a:rPr>
              <a:t>инфаркт миокар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  <a:ea typeface="Lucida Sans Unicode"/>
              </a:rPr>
              <a:t>менинг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  <a:ea typeface="Lucida Sans Unicode"/>
              </a:rPr>
              <a:t>артериосклер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  <a:ea typeface="Lucida Sans Unicode"/>
              </a:rPr>
              <a:t>заболевание ко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  <a:ea typeface="Lucida Sans Unicode"/>
              </a:rPr>
              <a:t>конъюнкти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9999ff"/>
                </a:solidFill>
                <a:uFillTx/>
                <a:latin typeface="Arial"/>
              </a:rPr>
              <a:t>Влияние пыли на здоровье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6699"/>
                </a:solidFill>
                <a:latin typeface="Arial"/>
              </a:rPr>
              <a:t>Но пыль «богата» не только опасными вирусами и микробами, но и «противными» микроорганизмами - клещ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4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3683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835280" y="2997360"/>
            <a:ext cx="4537080" cy="3527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4:04:23Z</dcterms:created>
  <dc:creator>Admin</dc:creator>
  <dc:description/>
  <dc:language>en-US</dc:language>
  <cp:lastModifiedBy>Admin</cp:lastModifiedBy>
  <dcterms:modified xsi:type="dcterms:W3CDTF">2011-02-17T16:41:40Z</dcterms:modified>
  <cp:revision>2</cp:revision>
  <dc:subject/>
  <dc:title>Областное научное общество учащихся «Поиск»  Школьное научное объединение «Мысль»</dc:title>
</cp:coreProperties>
</file>