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8D8-BD89-4ADE-AD77-91506402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4D1-D0C6-4622-9EBF-174033B4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740-469A-4129-B5D4-BED0EF47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948-5165-43E3-8519-973CBE3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A5C-27D3-4F9B-B212-2FCFE94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C30-D5C8-492C-9A9E-7027358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744-6715-4190-90F5-4C5E198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D81-45FF-4808-B5B6-7AA7F5B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D7C-8A48-43CC-90D5-A45B1CD5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61D-271B-46A0-B080-D0CA27B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9E3-4F9B-4ECC-A7E8-F4B747C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A1C-2371-457E-A813-FBEEACA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60A-0FBE-4EB3-A8E8-04E9802C6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кружающий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137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dobe Caslon Pro Bold"/>
              </a:rPr>
              <a:t>«Что  растёт  на  подокон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dobe Caslon Pro Bold"/>
              </a:rPr>
              <a:t>и  на  клумбе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dobe Caslon Pro Bold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dobe Caslon Pro Bold"/>
              </a:rPr>
              <a:t>Учитель:    МОУ  СОШ  №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dobe Caslon Pro Bold"/>
              </a:rPr>
              <a:t>Куликова   Наталья  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dobe Caslon Pro Bold"/>
              </a:rPr>
              <a:t>Калл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3887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дина – Юж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фрика. Травянис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стение на дли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еренках.  Необх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 обильно поли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опрыскивать в 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д цве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 rot="382800">
            <a:off x="4932000" y="1915920"/>
            <a:ext cx="361008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Кал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dffe"/>
                </a:solidFill>
                <a:latin typeface="Adobe Caslon Pro Bold"/>
              </a:rPr>
              <a:t>Физминут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л цветок и вдруг 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спать не захо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вельнулся, потяну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Взвился вверх и поле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 утром лишь прос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а кружит и вь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F1"/>
          <p:cNvPicPr/>
          <p:nvPr/>
        </p:nvPicPr>
        <p:blipFill>
          <a:blip r:embed="rId1"/>
          <a:stretch/>
        </p:blipFill>
        <p:spPr>
          <a:xfrm>
            <a:off x="5003640" y="2133720"/>
            <a:ext cx="2735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dobe Caslon Pro Bold"/>
              </a:rPr>
              <a:t>Космея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веты яркие, имеют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ую окраску: белую, 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овую, красную, жёл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Космея» - означает «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шение». Эти ц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ействительно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крашением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538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Астр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ру с прямыми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ест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авних вре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«звезд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бы её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ли и с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й лепе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жались лу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ердцев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сем зо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Adobe Caslon Pro Bold"/>
              </a:rPr>
              <a:t>Гладиолус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У крылечка на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ко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Клумбу свеж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е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стал на стра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гладиолу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По латын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это «меч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dobe Caslon Pro Bold"/>
              </a:rPr>
              <a:t>Календула или ного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27640" cy="3527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27640" y="1268280"/>
            <a:ext cx="446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е имеет два н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я. Это растение, 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 его понюхать, пах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ом. Календу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енн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аром цветов кален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 полощут горло, об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ы. Её исполь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т при изготовлении к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, шампуней, м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dobe Caslon Pro Bold"/>
              </a:rPr>
              <a:t>Бархатц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dobe Caslon Pro Bold"/>
              </a:rPr>
              <a:t>Петунь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5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1 групп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Комнатны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Caslon Pro Bold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учеников с наи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ёнными комнатными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 и растениями клум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чить распознавать растения, разв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питывать любовь к растениям,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рас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2 групп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859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Цветы, растущ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на цветн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и клумб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dobe Caslon Pro Bold"/>
              </a:rPr>
              <a:t>Муравьишка Вопросик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dobe Caslon Pro Bold"/>
              </a:rPr>
              <a:t>Мудрая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043"/>
          <p:cNvPicPr/>
          <p:nvPr/>
        </p:nvPicPr>
        <p:blipFill>
          <a:blip r:embed="rId2"/>
          <a:stretch/>
        </p:blipFill>
        <p:spPr>
          <a:xfrm>
            <a:off x="961920" y="1916280"/>
            <a:ext cx="3029040" cy="42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044"/>
          <p:cNvPicPr/>
          <p:nvPr/>
        </p:nvPicPr>
        <p:blipFill>
          <a:blip r:embed="rId3"/>
          <a:stretch/>
        </p:blipFill>
        <p:spPr>
          <a:xfrm>
            <a:off x="5027760" y="1916280"/>
            <a:ext cx="3279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dobe Caslon Pro Bold"/>
              </a:rPr>
              <a:t>Бего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аска листьев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очень разно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. Высота растения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см до 2 м.На подо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ах выращивают н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лые бегонии.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онии – влаж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рких 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01242i"/>
          <p:cNvPicPr/>
          <p:nvPr/>
        </p:nvPicPr>
        <p:blipFill>
          <a:blip r:embed="rId2"/>
          <a:stretch/>
        </p:blipFill>
        <p:spPr>
          <a:xfrm rot="375000">
            <a:off x="5219280" y="1557000"/>
            <a:ext cx="34560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Бегони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01246i"/>
          <p:cNvPicPr/>
          <p:nvPr/>
        </p:nvPicPr>
        <p:blipFill>
          <a:blip r:embed="rId2"/>
          <a:stretch/>
        </p:blipFill>
        <p:spPr>
          <a:xfrm rot="20601600">
            <a:off x="539280" y="2637000"/>
            <a:ext cx="31147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B6744i"/>
          <p:cNvPicPr/>
          <p:nvPr/>
        </p:nvPicPr>
        <p:blipFill>
          <a:blip r:embed="rId3"/>
          <a:stretch/>
        </p:blipFill>
        <p:spPr>
          <a:xfrm rot="1401600">
            <a:off x="4858920" y="227664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Гиппеастр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е высотой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см. Ценятся бла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я своему цвет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– апреле по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ется из луковицы ц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ос, на котором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реди расскр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 3 – 4 больших 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img042"/>
          <p:cNvPicPr/>
          <p:nvPr/>
        </p:nvPicPr>
        <p:blipFill>
          <a:blip r:embed="rId2"/>
          <a:stretch/>
        </p:blipFill>
        <p:spPr>
          <a:xfrm rot="579000">
            <a:off x="464796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dobe Caslon Pro Bold"/>
              </a:rPr>
              <a:t>Фиал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672000" cy="430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2852640"/>
            <a:ext cx="40388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 проб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ы. Этот цв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любят фран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ы. Очень пыш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 цвет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Кактус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529080" cy="4165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0" y="1916280"/>
            <a:ext cx="43923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–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ёт очень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щивают в свет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щениях. Летом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вают редко, но 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. Зимой – ещё р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Adobe Caslon Pro Bold"/>
              </a:rPr>
              <a:t>Кактус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4:54:03Z</dcterms:created>
  <dc:creator>Admin</dc:creator>
  <dc:description/>
  <dc:language>en-US</dc:language>
  <cp:lastModifiedBy>Admin</cp:lastModifiedBy>
  <dcterms:modified xsi:type="dcterms:W3CDTF">2012-06-27T17:18:23Z</dcterms:modified>
  <cp:revision>3</cp:revision>
  <dc:subject/>
  <dc:title>Окружающий мир</dc:title>
</cp:coreProperties>
</file>