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28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4.png" ContentType="image/png"/>
  <Override PartName="/ppt/media/image21.gif" ContentType="image/gif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2A9F-D71A-4B8C-987D-EC410E2F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66F-0231-454C-A7F9-14499275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AA5-3344-4B0D-BFD6-6DD17F0F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68A-65CF-4B2A-ADD0-AB44B011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F6A-9014-43D1-9736-C097CF85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2478-9776-4339-B9C0-DE6B7BEA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FF7-488D-4C10-9214-CB2C6302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4A49-FAC8-4FC3-8EDE-7B5D0EE5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B74-5E53-4425-9101-A3CE7DA8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F120-1B8B-4DF2-B773-0F9D651F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C1E-1C12-48DF-AAC6-FB1B0BEA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50A4-CEB4-44FF-9B29-12EE3B88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E02B-7F4D-4F1C-8989-7CC50F807A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кружающий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2420640"/>
            <a:ext cx="81374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dobe Caslon Pro Bold"/>
              </a:rPr>
              <a:t>«Что  растёт  на  подоконн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dobe Caslon Pro Bold"/>
              </a:rPr>
              <a:t>и  на  клумбе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dobe Caslon Pro Bold"/>
              </a:rPr>
              <a:t>1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dobe Caslon Pro Bold"/>
              </a:rPr>
              <a:t>Учитель:    МОУ  СОШ  №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dobe Caslon Pro Bold"/>
              </a:rPr>
              <a:t>Куликова   Наталья   Ю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3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3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3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3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ff"/>
                </a:solidFill>
                <a:latin typeface="Adobe Caslon Pro Bold"/>
              </a:rPr>
              <a:t>Калл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3887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одина – Юж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Африка. Травянист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астение на дли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черенках.  Необх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мо обильно поли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опрыскивать в п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д цве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 rot="382800">
            <a:off x="4932000" y="1915920"/>
            <a:ext cx="3610080" cy="39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"/>
              </a:rPr>
              <a:t>Калл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0dffe"/>
                </a:solidFill>
                <a:latin typeface="Adobe Caslon Pro Bold"/>
              </a:rPr>
              <a:t>Физминут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ал цветок и вдруг просну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спать не захот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вельнулся, потяну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Взвился вверх и полет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нце утром лишь проснё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бочка кружит и вьё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1F1"/>
          <p:cNvPicPr/>
          <p:nvPr/>
        </p:nvPicPr>
        <p:blipFill>
          <a:blip r:embed="rId1"/>
          <a:stretch/>
        </p:blipFill>
        <p:spPr>
          <a:xfrm>
            <a:off x="5003640" y="2133720"/>
            <a:ext cx="27352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dobe Caslon Pro Bold"/>
              </a:rPr>
              <a:t>Космея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5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Цветы яркие, имеют 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ную окраску: белую, 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зовую, красную, жёлт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Космея» - означает «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ашение». Эти цве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ействительно явл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крашением са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53844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dobe Caslon Pro Bold"/>
              </a:rPr>
              <a:t>Астр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тру с прямыми е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пестк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давних врем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 «звездо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бы её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ли и с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й лепес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ежались луч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сердцев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сем зол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6633"/>
                </a:solidFill>
                <a:latin typeface="Adobe Caslon Pro Bold"/>
              </a:rPr>
              <a:t>Гладиолус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У крылечка наш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школ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Клумбу свеж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те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Встал на страж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гладиолу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По латын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это «меч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dobe Caslon Pro Bold"/>
              </a:rPr>
              <a:t>Календула или ногот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527640" cy="3527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427640" y="1268280"/>
            <a:ext cx="4465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е имеет два н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я. Это растение, 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 его понюхать, пах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карством. Календул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карственное раст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аром цветов кален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ы полощут горло, об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ю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ы. Её исполь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т при изготовлении к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в, шампуней, мы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dobe Caslon Pro Bold"/>
              </a:rPr>
              <a:t>Бархатцы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8407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900"/>
                </a:solidFill>
                <a:latin typeface="Adobe Caslon Pro Bold"/>
              </a:rPr>
              <a:t>Петунья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551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1 групп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8800" spc="-1" strike="noStrike">
                <a:solidFill>
                  <a:srgbClr val="009900"/>
                </a:solidFill>
                <a:latin typeface="Arial"/>
              </a:rPr>
              <a:t>Комнатны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1" lang="ru-RU" sz="8800" spc="-1" strike="noStrike">
                <a:solidFill>
                  <a:srgbClr val="009900"/>
                </a:solidFill>
                <a:latin typeface="Arial"/>
              </a:rPr>
              <a:t>растени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dobe Caslon Pro Bold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 учеников с наибол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остранёнными комнатными 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 и растениями клум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чить распознавать растения, разв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ое вооб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оспитывать любовь к растениям,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крас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2 групп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60640"/>
            <a:ext cx="7859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Цветы, растущ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на цветник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и клумб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1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dobe Caslon Pro Bold"/>
              </a:rPr>
              <a:t>Муравьишка Вопросик</a:t>
            </a:r>
            <a:br>
              <a:rPr sz="4000"/>
            </a:br>
            <a:r>
              <a:rPr b="1" lang="ru-RU" sz="4000" spc="-1" strike="noStrike">
                <a:solidFill>
                  <a:srgbClr val="009900"/>
                </a:solidFill>
                <a:latin typeface="Adobe Caslon Pro Bold"/>
              </a:rPr>
              <a:t>Мудрая Черепа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img043"/>
          <p:cNvPicPr/>
          <p:nvPr/>
        </p:nvPicPr>
        <p:blipFill>
          <a:blip r:embed="rId2"/>
          <a:stretch/>
        </p:blipFill>
        <p:spPr>
          <a:xfrm>
            <a:off x="961920" y="1916280"/>
            <a:ext cx="3029040" cy="42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img044"/>
          <p:cNvPicPr/>
          <p:nvPr/>
        </p:nvPicPr>
        <p:blipFill>
          <a:blip r:embed="rId3"/>
          <a:stretch/>
        </p:blipFill>
        <p:spPr>
          <a:xfrm>
            <a:off x="5027760" y="1916280"/>
            <a:ext cx="32796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dobe Caslon Pro Bold"/>
              </a:rPr>
              <a:t>Бегон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аска листьев мо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ь очень разнооб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. Высота растения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 см до 2 м.На подо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ах выращивают низ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лые бегонии. Р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гонии – влажные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рких стр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b01242i"/>
          <p:cNvPicPr/>
          <p:nvPr/>
        </p:nvPicPr>
        <p:blipFill>
          <a:blip r:embed="rId2"/>
          <a:stretch/>
        </p:blipFill>
        <p:spPr>
          <a:xfrm rot="375000">
            <a:off x="5219280" y="1557000"/>
            <a:ext cx="345600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dobe Caslon Pro Bold"/>
              </a:rPr>
              <a:t>Бегони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b01246i"/>
          <p:cNvPicPr/>
          <p:nvPr/>
        </p:nvPicPr>
        <p:blipFill>
          <a:blip r:embed="rId2"/>
          <a:stretch/>
        </p:blipFill>
        <p:spPr>
          <a:xfrm rot="20601600">
            <a:off x="539280" y="2637000"/>
            <a:ext cx="3114720" cy="259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B6744i"/>
          <p:cNvPicPr/>
          <p:nvPr/>
        </p:nvPicPr>
        <p:blipFill>
          <a:blip r:embed="rId3"/>
          <a:stretch/>
        </p:blipFill>
        <p:spPr>
          <a:xfrm rot="1401600">
            <a:off x="4858920" y="2276640"/>
            <a:ext cx="3529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Гиппеастр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е высотой 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 см. Ценятся бла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ря своему цвет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рте – апреле поя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ется из луковицы ц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нос, на котором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реди расскр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я 3 – 4 больших 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img042"/>
          <p:cNvPicPr/>
          <p:nvPr/>
        </p:nvPicPr>
        <p:blipFill>
          <a:blip r:embed="rId2"/>
          <a:stretch/>
        </p:blipFill>
        <p:spPr>
          <a:xfrm rot="579000">
            <a:off x="4647960" y="2103480"/>
            <a:ext cx="40384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dobe Caslon Pro Bold"/>
              </a:rPr>
              <a:t>Фиал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672000" cy="4309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2920" y="2852640"/>
            <a:ext cx="40388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вол проб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ы. Этот цв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любят фран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ы. Очень пышно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го цвет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dobe Caslon Pro Bold"/>
              </a:rPr>
              <a:t>Кактус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529080" cy="4165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0" y="1916280"/>
            <a:ext cx="4392360" cy="34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на – Амер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ёт очень медл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ащивают в светл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ещениях. Летом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вают редко, но об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. Зимой – ещё ре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3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3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Adobe Caslon Pro Bold"/>
              </a:rPr>
              <a:t>Кактусы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5272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4:54:03Z</dcterms:created>
  <dc:creator>Admin</dc:creator>
  <dc:description/>
  <dc:language>en-US</dc:language>
  <cp:lastModifiedBy>Admin</cp:lastModifiedBy>
  <dcterms:modified xsi:type="dcterms:W3CDTF">2012-06-27T17:18:23Z</dcterms:modified>
  <cp:revision>3</cp:revision>
  <dc:subject/>
  <dc:title>Окружающий мир</dc:title>
</cp:coreProperties>
</file>