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EA37-18B0-4E8F-A035-723B4A3B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8F26-EADF-4E16-853D-C8FBFFDD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73F0-FBB8-483D-A614-FA6D4845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5688-AE8A-43F5-83ED-3243A4AC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4AC4-3303-486E-ADCF-A13603D5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6DB8-6A0F-4E21-A587-C150704D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101C-B248-4815-944F-6E20FABD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BF4A-547B-4970-8352-71791F1B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4CCD-D821-4740-B379-35DE5234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685F-B74D-4954-B98F-59607271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9AD6-1EE1-4E7C-B534-58A8D159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FBBC-CAE3-4CB4-9719-004CDA42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9EA1-C10B-4789-A42E-A167921F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F813-574F-4CED-A2E6-8C07DCDE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F007-6C5E-4CB0-8065-678C6BDD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C03E-4498-4A3A-89FB-0853A5E9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2EFD-3D90-4B8F-AEBD-0141BAF1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6D3E-F94E-4227-AC3A-D5E9E358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205C-022E-4B49-A0F3-FD23BDAE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D9F-62CD-4D57-A256-ED337033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44A0-BBA7-4CE9-B3F0-4E2A0CFD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C8EE-A05D-4F2A-B2C7-DE539439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AC1A-E8CB-4B2D-9608-1A539C5A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CB0A-2162-4337-A2CD-149EB7E5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EDE3-C19D-4F16-96EF-9DE79E3A6F9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987D-BA8A-41E7-8E9A-EE458B1B50D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4344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92800" y="0"/>
            <a:ext cx="3751200" cy="4419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099120" cy="689940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868720" cy="675972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225440"/>
            <a:ext cx="8229600" cy="391824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12716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662520" cy="434484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4729320" cy="584028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152280"/>
            <a:ext cx="4240080" cy="6431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059440" cy="624852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4821480" cy="678168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30400" y="0"/>
            <a:ext cx="465768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4832640" cy="690732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4981680" cy="693432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52480" y="-76320"/>
            <a:ext cx="5451480" cy="693432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457600" cy="678168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 №25</cp:lastModifiedBy>
  <dcterms:modified xsi:type="dcterms:W3CDTF">2008-08-28T14:29:5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