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A37D-7D8A-432B-B482-29AF977A2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A6F4-F6CA-44C1-A1FD-BEC7EED0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9CC6-B8B5-4A7A-8BF7-F6D324382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6647-1358-4E10-854A-BC82475C0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0ECA-FE11-404C-8717-802663EB0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18513-873D-4CE2-B5C4-69F4A3DC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56FE0-963F-468E-94EE-27FC65C1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09BB-4C3B-4EDE-B2B8-936967D5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6167-E28B-455D-A414-CFFF7016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7190-018A-449C-A0A7-F64C8658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B7F60-81D2-4146-91D1-E7EF4BBC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74AA-FC85-49C7-9FD8-CD2F0514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43C6-E3D2-4324-9367-2A0DFCA2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90F96-DF95-4C31-AF50-D2097192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EEFA-A0BF-430B-8FB3-53118612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9C877-D881-48AF-9099-CB827BA0B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7EE1-4814-4F0C-94D7-ED221B81D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2CE2-26B6-460D-93D1-138C46B8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1392-6D3F-45AD-AB06-C9333193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5DAA-CC96-403D-B14E-C0CA316F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0056-B038-47B7-AE30-106EA6F0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C578-4AE3-4C82-9E5D-428277E4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7752-2415-42E2-A255-DED23A38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24AF-66C8-4B5A-BA8B-125B69D0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DFCB-880A-4B14-884D-4C3F803F796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CFF6-B51F-41E4-AC79-A886F7134AA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4344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392800" y="0"/>
            <a:ext cx="3751200" cy="4419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6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6099120" cy="6899400"/>
          </a:xfrm>
          <a:prstGeom prst="rect">
            <a:avLst/>
          </a:prstGeom>
          <a:ln w="0">
            <a:noFill/>
          </a:ln>
        </p:spPr>
      </p:pic>
    </p:spTree>
  </p:cSld>
  <p:transition advTm="6000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76520" y="0"/>
            <a:ext cx="5868720" cy="6759720"/>
          </a:xfrm>
          <a:prstGeom prst="rect">
            <a:avLst/>
          </a:prstGeom>
          <a:ln w="0">
            <a:noFill/>
          </a:ln>
        </p:spPr>
      </p:pic>
    </p:spTree>
  </p:cSld>
  <p:transition advTm="6000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225440"/>
            <a:ext cx="8229600" cy="3918240"/>
          </a:xfrm>
          <a:prstGeom prst="rect">
            <a:avLst/>
          </a:prstGeom>
          <a:ln w="0">
            <a:noFill/>
          </a:ln>
        </p:spPr>
      </p:pic>
    </p:spTree>
  </p:cSld>
  <p:transition advTm="6000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12716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p:transition advTm="6000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662520" cy="4344840"/>
          </a:xfrm>
          <a:prstGeom prst="rect">
            <a:avLst/>
          </a:prstGeom>
          <a:ln w="0">
            <a:noFill/>
          </a:ln>
        </p:spPr>
      </p:pic>
    </p:spTree>
  </p:cSld>
  <p:transition advTm="6000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0" y="304920"/>
            <a:ext cx="4729320" cy="5840280"/>
          </a:xfrm>
          <a:prstGeom prst="rect">
            <a:avLst/>
          </a:prstGeom>
          <a:ln w="0">
            <a:noFill/>
          </a:ln>
        </p:spPr>
      </p:pic>
    </p:spTree>
  </p:cSld>
  <p:transition advTm="600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14600" y="152280"/>
            <a:ext cx="4240080" cy="64310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059440" cy="6248520"/>
          </a:xfrm>
          <a:prstGeom prst="rect">
            <a:avLst/>
          </a:prstGeom>
          <a:ln w="0">
            <a:noFill/>
          </a:ln>
        </p:spPr>
      </p:pic>
    </p:spTree>
  </p:cSld>
  <p:transition advTm="6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4821480" cy="6781680"/>
          </a:xfrm>
          <a:prstGeom prst="rect">
            <a:avLst/>
          </a:prstGeom>
          <a:ln w="0">
            <a:noFill/>
          </a:ln>
        </p:spPr>
      </p:pic>
    </p:spTree>
  </p:cSld>
  <p:transition advTm="6000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030400" y="0"/>
            <a:ext cx="4657680" cy="6858000"/>
          </a:xfrm>
          <a:prstGeom prst="rect">
            <a:avLst/>
          </a:prstGeom>
          <a:ln w="0">
            <a:noFill/>
          </a:ln>
        </p:spPr>
      </p:pic>
    </p:spTree>
  </p:cSld>
  <p:transition advTm="6000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81080" y="0"/>
            <a:ext cx="4832640" cy="6907320"/>
          </a:xfrm>
          <a:prstGeom prst="rect">
            <a:avLst/>
          </a:prstGeom>
          <a:ln w="0">
            <a:noFill/>
          </a:ln>
        </p:spPr>
      </p:pic>
    </p:spTree>
  </p:cSld>
  <p:transition advTm="6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4981680" cy="6934320"/>
          </a:xfrm>
          <a:prstGeom prst="rect">
            <a:avLst/>
          </a:prstGeom>
          <a:ln w="0">
            <a:noFill/>
          </a:ln>
        </p:spPr>
      </p:pic>
    </p:spTree>
  </p:cSld>
  <p:transition advTm="6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752480" y="-76320"/>
            <a:ext cx="5451480" cy="6934320"/>
          </a:xfrm>
          <a:prstGeom prst="rect">
            <a:avLst/>
          </a:prstGeom>
          <a:ln w="0">
            <a:noFill/>
          </a:ln>
        </p:spPr>
      </p:pic>
    </p:spTree>
  </p:cSld>
  <p:transition advTm="6000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457600" cy="6781680"/>
          </a:xfrm>
          <a:prstGeom prst="rect">
            <a:avLst/>
          </a:prstGeom>
          <a:ln w="0">
            <a:noFill/>
          </a:ln>
        </p:spPr>
      </p:pic>
    </p:spTree>
  </p:cSld>
  <p:transition advTm="6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Школа №25</cp:lastModifiedBy>
  <dcterms:modified xsi:type="dcterms:W3CDTF">2008-08-28T14:29:5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