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5E3-5F47-41ED-8C98-E66206B4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D12-F7A6-4900-9394-585FD92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F29-5831-4A64-9BFC-C618B11D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6D6-222B-4FF2-8235-8F40E0F6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3140-2D4A-4C28-860E-0D6C88C0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25C1-E63E-439D-BCA3-BDB87956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6715-FE8C-48D0-A464-BBCD4C21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7C9E-5938-4ADE-92B6-97766367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F428-A2F2-40BA-BC69-AB160718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5AF-ACB1-4C90-A9C0-30AD0316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D19C-6681-4170-8BFC-3116C05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7C4-CB1E-41EF-85B0-6EBB176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398-BEC2-4B09-8E4C-41E75ED4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BAE1-1CFB-4840-B688-B144579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453F-6BF6-488F-972D-001CB87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593-F3F7-49FF-A828-32E851FC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69D-B7CB-40E9-9692-C722CE28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CB9-F1B5-4FB8-8A88-71C1BB12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0D2-7FFC-4743-AAC0-3F6E184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B1B-24B6-4AAD-A9A5-667045AB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8EF-810F-449A-97CD-32230422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0C6-CAAB-4128-A3A9-26A42E2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7A0-0FAB-4581-AAC2-41A05B8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7E3-7F14-4F80-BC7D-CA29030D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AE80-3842-4EC3-832A-24AA063837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45f67"/>
                    </a:gs>
                    <a:gs pos="5000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2709-4FE0-4539-82EE-CCAC4D120D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320" y="914040"/>
            <a:ext cx="6782040" cy="28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истемы стихос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3657240"/>
            <a:ext cx="62499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ь рифм – моя стих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егко пишу стихи 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раздумий , без отсроч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бегу от строчки к  строчк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к финским скалам буры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ался с каламбур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Минае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ЕХСЛОЖНЫЕ РАЗМЕРЫ СТИХ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КТИЛЬ(греч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ktylos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лец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ФИБРАХИЙ(греч. 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h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ругом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chy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раткий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ПЕСТ(гре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aistos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ражённый назад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7"/>
          <p:cNvGrpSpPr/>
          <p:nvPr/>
        </p:nvGrpSpPr>
        <p:grpSpPr>
          <a:xfrm>
            <a:off x="1371600" y="1828800"/>
            <a:ext cx="4038480" cy="914400"/>
            <a:chOff x="1371600" y="1828800"/>
            <a:chExt cx="4038480" cy="914400"/>
          </a:xfrm>
        </p:grpSpPr>
        <p:sp>
          <p:nvSpPr>
            <p:cNvPr id="256" name="Line 5"/>
            <p:cNvSpPr/>
            <p:nvPr/>
          </p:nvSpPr>
          <p:spPr>
            <a:xfrm>
              <a:off x="1371600" y="2362320"/>
              <a:ext cx="12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 flipV="1">
              <a:off x="1905120" y="1981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7"/>
            <p:cNvSpPr/>
            <p:nvPr/>
          </p:nvSpPr>
          <p:spPr>
            <a:xfrm rot="10800000">
              <a:off x="2971800" y="18288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8"/>
            <p:cNvSpPr/>
            <p:nvPr/>
          </p:nvSpPr>
          <p:spPr>
            <a:xfrm rot="10800000">
              <a:off x="4495680" y="18288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1752480" y="3962520"/>
            <a:ext cx="4038840" cy="990360"/>
            <a:chOff x="1752480" y="3962520"/>
            <a:chExt cx="4038840" cy="990360"/>
          </a:xfrm>
        </p:grpSpPr>
        <p:sp>
          <p:nvSpPr>
            <p:cNvPr id="261" name="Line 9"/>
            <p:cNvSpPr/>
            <p:nvPr/>
          </p:nvSpPr>
          <p:spPr>
            <a:xfrm>
              <a:off x="3429000" y="457200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 flipV="1">
              <a:off x="3886200" y="411444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 rot="10800000">
              <a:off x="1752480" y="396252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 rot="10800000">
              <a:off x="4876920" y="403848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9"/>
          <p:cNvGrpSpPr/>
          <p:nvPr/>
        </p:nvGrpSpPr>
        <p:grpSpPr>
          <a:xfrm>
            <a:off x="1676520" y="5943600"/>
            <a:ext cx="4800600" cy="914400"/>
            <a:chOff x="1676520" y="5943600"/>
            <a:chExt cx="4800600" cy="914400"/>
          </a:xfrm>
        </p:grpSpPr>
        <p:sp>
          <p:nvSpPr>
            <p:cNvPr id="266" name="Line 13"/>
            <p:cNvSpPr/>
            <p:nvPr/>
          </p:nvSpPr>
          <p:spPr>
            <a:xfrm>
              <a:off x="5257800" y="6629400"/>
              <a:ext cx="12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 flipV="1">
              <a:off x="5715000" y="617184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15"/>
            <p:cNvSpPr/>
            <p:nvPr/>
          </p:nvSpPr>
          <p:spPr>
            <a:xfrm rot="10800000">
              <a:off x="1676520" y="59436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16"/>
            <p:cNvSpPr/>
            <p:nvPr/>
          </p:nvSpPr>
          <p:spPr>
            <a:xfrm rot="10800000">
              <a:off x="3429000" y="59436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6234120" y="2022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 4, 7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6462720" y="430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 5, 8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7316640" y="5943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 6, 9,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редели размер стихотвор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убит подо Ржев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езымянном болот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ятой роте, на левом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жестоком налёт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.Твардовск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05160" y="1523520"/>
            <a:ext cx="3886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князь желал испить шеломом Дону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расный стяг, на белую хоругв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глянул и стремя золотое трон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щё на русском, на степном ветр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.Щипачё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 flipV="1">
            <a:off x="2819520" y="1447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 flipV="1">
            <a:off x="2514600" y="19047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 flipV="1">
            <a:off x="3505320" y="23619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 flipV="1">
            <a:off x="2590920" y="28954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 flipV="1">
            <a:off x="3733920" y="33526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 flipV="1">
            <a:off x="2286000" y="37335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3657600" y="42670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1066680" y="5638680"/>
            <a:ext cx="3505320" cy="914400"/>
            <a:chOff x="1066680" y="5638680"/>
            <a:chExt cx="3505320" cy="914400"/>
          </a:xfrm>
        </p:grpSpPr>
        <p:sp>
          <p:nvSpPr>
            <p:cNvPr id="284" name="Line 14"/>
            <p:cNvSpPr/>
            <p:nvPr/>
          </p:nvSpPr>
          <p:spPr>
            <a:xfrm>
              <a:off x="3681720" y="6324480"/>
              <a:ext cx="89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 flipV="1">
              <a:off x="4015440" y="5866920"/>
              <a:ext cx="3337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utoShape 16"/>
            <p:cNvSpPr/>
            <p:nvPr/>
          </p:nvSpPr>
          <p:spPr>
            <a:xfrm rot="10800000">
              <a:off x="1066680" y="5638680"/>
              <a:ext cx="66744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7"/>
            <p:cNvSpPr/>
            <p:nvPr/>
          </p:nvSpPr>
          <p:spPr>
            <a:xfrm rot="10800000">
              <a:off x="2346120" y="5638680"/>
              <a:ext cx="66744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1600200" y="594360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НАП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9"/>
          <p:cNvSpPr/>
          <p:nvPr/>
        </p:nvSpPr>
        <p:spPr>
          <a:xfrm flipV="1">
            <a:off x="6629400" y="1447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0"/>
          <p:cNvSpPr/>
          <p:nvPr/>
        </p:nvSpPr>
        <p:spPr>
          <a:xfrm flipV="1">
            <a:off x="8001000" y="1447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1"/>
          <p:cNvSpPr/>
          <p:nvPr/>
        </p:nvSpPr>
        <p:spPr>
          <a:xfrm flipV="1">
            <a:off x="6248520" y="19047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"/>
          <p:cNvSpPr/>
          <p:nvPr/>
        </p:nvSpPr>
        <p:spPr>
          <a:xfrm flipV="1">
            <a:off x="7696080" y="19047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3"/>
          <p:cNvSpPr/>
          <p:nvPr/>
        </p:nvSpPr>
        <p:spPr>
          <a:xfrm flipV="1">
            <a:off x="5867280" y="23619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4"/>
          <p:cNvSpPr/>
          <p:nvPr/>
        </p:nvSpPr>
        <p:spPr>
          <a:xfrm flipV="1">
            <a:off x="6553080" y="28191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5"/>
          <p:cNvSpPr/>
          <p:nvPr/>
        </p:nvSpPr>
        <p:spPr>
          <a:xfrm flipV="1">
            <a:off x="8153280" y="28191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6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7"/>
          <p:cNvSpPr/>
          <p:nvPr/>
        </p:nvSpPr>
        <p:spPr>
          <a:xfrm flipV="1">
            <a:off x="7924680" y="32763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8"/>
          <p:cNvSpPr/>
          <p:nvPr/>
        </p:nvSpPr>
        <p:spPr>
          <a:xfrm flipV="1">
            <a:off x="6858000" y="3733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9"/>
          <p:cNvSpPr/>
          <p:nvPr/>
        </p:nvSpPr>
        <p:spPr>
          <a:xfrm flipV="1">
            <a:off x="830592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0"/>
          <p:cNvSpPr/>
          <p:nvPr/>
        </p:nvSpPr>
        <p:spPr>
          <a:xfrm flipV="1">
            <a:off x="6629400" y="42670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1"/>
          <p:cNvSpPr/>
          <p:nvPr/>
        </p:nvSpPr>
        <p:spPr>
          <a:xfrm flipV="1">
            <a:off x="7543800" y="42670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V="1">
            <a:off x="71629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 flipV="1">
            <a:off x="7086600" y="51814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8458200" y="51051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5"/>
          <p:cNvGrpSpPr/>
          <p:nvPr/>
        </p:nvGrpSpPr>
        <p:grpSpPr>
          <a:xfrm>
            <a:off x="6019560" y="6095520"/>
            <a:ext cx="2286000" cy="457560"/>
            <a:chOff x="6019560" y="6095520"/>
            <a:chExt cx="2286000" cy="457560"/>
          </a:xfrm>
        </p:grpSpPr>
        <p:sp>
          <p:nvSpPr>
            <p:cNvPr id="306" name="AutoShape 36"/>
            <p:cNvSpPr/>
            <p:nvPr/>
          </p:nvSpPr>
          <p:spPr>
            <a:xfrm rot="10800000">
              <a:off x="6019560" y="6095880"/>
              <a:ext cx="962280" cy="4572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7"/>
            <p:cNvSpPr/>
            <p:nvPr/>
          </p:nvSpPr>
          <p:spPr>
            <a:xfrm>
              <a:off x="7463520" y="6415920"/>
              <a:ext cx="842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V="1">
              <a:off x="7824240" y="6095520"/>
              <a:ext cx="420840" cy="13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40"/>
          <p:cNvSpPr/>
          <p:nvPr/>
        </p:nvSpPr>
        <p:spPr>
          <a:xfrm>
            <a:off x="6553800" y="62784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ЯМ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8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русского языка и литературы МОУ «СОШ №7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Саратов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ова Елена Николаев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Organization Chart 7"/>
          <p:cNvGrpSpPr/>
          <p:nvPr/>
        </p:nvGrpSpPr>
        <p:grpSpPr>
          <a:xfrm>
            <a:off x="0" y="304920"/>
            <a:ext cx="8978400" cy="5587560"/>
            <a:chOff x="0" y="304920"/>
            <a:chExt cx="8978400" cy="5587560"/>
          </a:xfrm>
        </p:grpSpPr>
        <p:cxnSp>
          <p:nvCxnSpPr>
            <p:cNvPr id="166" name="_s1028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501160" y="1527120"/>
              <a:ext cx="1117800" cy="3143160"/>
            </a:xfrm>
            <a:prstGeom prst="bentConnector3">
              <a:avLst>
                <a:gd name="adj1" fmla="val 12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68" idx="2"/>
            </p:cNvCxnSpPr>
            <p:nvPr/>
          </p:nvCxnSpPr>
          <p:spPr>
            <a:xfrm flipV="1">
              <a:off x="4488840" y="2539800"/>
              <a:ext cx="3240" cy="111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30"/>
            <p:cNvCxnSpPr>
              <a:stCxn id="172" idx="0"/>
              <a:endCxn id="168" idx="2"/>
            </p:cNvCxnSpPr>
            <p:nvPr/>
          </p:nvCxnSpPr>
          <p:spPr>
            <a:xfrm flipH="1" flipV="1" rot="5400000">
              <a:off x="2359080" y="1527120"/>
              <a:ext cx="1117800" cy="3143160"/>
            </a:xfrm>
            <a:prstGeom prst="bentConnector3">
              <a:avLst>
                <a:gd name="adj1" fmla="val 12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_s1031"/>
            <p:cNvSpPr/>
            <p:nvPr/>
          </p:nvSpPr>
          <p:spPr>
            <a:xfrm>
              <a:off x="3142440" y="30492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Русско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стихосложе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1032"/>
            <p:cNvSpPr/>
            <p:nvPr/>
          </p:nvSpPr>
          <p:spPr>
            <a:xfrm>
              <a:off x="0" y="365760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Силлабическо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1033"/>
            <p:cNvSpPr/>
            <p:nvPr/>
          </p:nvSpPr>
          <p:spPr>
            <a:xfrm>
              <a:off x="3142440" y="365760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Тоническо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6284880" y="365760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Силлабо-тоническо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838080" y="2666880"/>
            <a:ext cx="784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imes New Roman"/>
              </a:rPr>
              <a:t>Зависит от соизмеримости стр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7"/>
          <p:cNvSpPr/>
          <p:nvPr/>
        </p:nvSpPr>
        <p:spPr>
          <a:xfrm rot="10800000">
            <a:off x="1599840" y="5333760"/>
            <a:ext cx="2514600" cy="1143000"/>
          </a:xfrm>
          <a:prstGeom prst="pie">
            <a:avLst/>
          </a:prstGeom>
          <a:solidFill>
            <a:srgbClr val="b6cdd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9"/>
          <p:cNvSpPr/>
          <p:nvPr/>
        </p:nvSpPr>
        <p:spPr>
          <a:xfrm>
            <a:off x="3733920" y="5867280"/>
            <a:ext cx="5043240" cy="733680"/>
          </a:xfrm>
          <a:prstGeom prst="pie">
            <a:avLst/>
          </a:prstGeom>
          <a:solidFill>
            <a:srgbClr val="b6cdd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оническое стихос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 признаком соизмеримости строк служит количество ударных слог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ылинный стих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ударных слог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утым берегом река Днепр поровняла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ы мелкие песочки осыпали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песком вода возмутила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елёных лугах развалила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3504960" y="3657600"/>
            <a:ext cx="759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5486400" y="35812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7086600" y="35812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2971800" y="40384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H="1">
            <a:off x="4419360" y="4038480"/>
            <a:ext cx="75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5790960" y="4038480"/>
            <a:ext cx="75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H="1">
            <a:off x="2819160" y="4495680"/>
            <a:ext cx="75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H="1">
            <a:off x="3809880" y="44956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>
            <a:off x="4952880" y="44956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H="1">
            <a:off x="3657600" y="4876920"/>
            <a:ext cx="76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>
            <a:off x="5029200" y="49528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7" descr="05Z0007"/>
          <p:cNvPicPr/>
          <p:nvPr/>
        </p:nvPicPr>
        <p:blipFill>
          <a:blip r:embed="rId1"/>
          <a:stretch/>
        </p:blipFill>
        <p:spPr>
          <a:xfrm>
            <a:off x="6400800" y="4572000"/>
            <a:ext cx="212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оническое стихос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сенный ст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в зависимости от протяжённости строк в песнях, может иметь два, три, четыре главных удар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качалась в саду груш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 яблонью кудрявою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 яблонью зелёною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 яблонью зелёно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 flipV="1">
            <a:off x="3200400" y="35049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6172200" y="35049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 flipV="1">
            <a:off x="3048120" y="4114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8"/>
          <p:cNvSpPr/>
          <p:nvPr/>
        </p:nvSpPr>
        <p:spPr>
          <a:xfrm flipV="1">
            <a:off x="5943600" y="4114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 flipV="1">
            <a:off x="304812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3048120" y="5257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оническое стихос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ёшный ст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свободный стих со смежными рифма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ходите, подходит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только карманы берегит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глаза протрите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вот и я развесёлый потешник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й столичный раешник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 своей потешной панорамою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блику обморачиваю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е пятаки заколачиваю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502920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AG00374_"/>
          <p:cNvPicPr/>
          <p:nvPr/>
        </p:nvPicPr>
        <p:blipFill>
          <a:blip r:embed="rId1"/>
          <a:stretch/>
        </p:blipFill>
        <p:spPr>
          <a:xfrm>
            <a:off x="6629400" y="1828800"/>
            <a:ext cx="1479600" cy="1428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j0282736"/>
          <p:cNvPicPr/>
          <p:nvPr/>
        </p:nvPicPr>
        <p:blipFill>
          <a:blip r:embed="rId2"/>
          <a:stretch/>
        </p:blipFill>
        <p:spPr>
          <a:xfrm>
            <a:off x="7924680" y="2971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Line 9"/>
          <p:cNvSpPr/>
          <p:nvPr/>
        </p:nvSpPr>
        <p:spPr>
          <a:xfrm>
            <a:off x="609588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39625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6248520" y="44197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6248520" y="4800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5105520" y="6095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7543800" y="419112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24200 h 685800"/>
              <a:gd name="textAreaBottom" fmla="*/ 4766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2740974"/>
                <a:lnTo>
                  <a:pt x="7200" y="21153"/>
                </a:lnTo>
                <a:lnTo>
                  <a:pt x="0" y="17280"/>
                </a:lnTo>
                <a:lnTo>
                  <a:pt x="7200" y="12513"/>
                </a:lnTo>
                <a:lnTo>
                  <a:pt x="7200" y="15195"/>
                </a:lnTo>
                <a:arcTo wR="21600" hR="7821" stAng="2740974" swAng="-2474898"/>
                <a:lnTo>
                  <a:pt x="21121" y="9459"/>
                </a:lnTo>
                <a:arcTo wR="21600" hR="7821" stAng="-266076" swAng="-5133924"/>
                <a:close/>
              </a:path>
              <a:path fill="darkenLess"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-266076"/>
                <a:lnTo>
                  <a:pt x="21121" y="9459"/>
                </a:lnTo>
                <a:arcTo wR="21600" hR="7821" stAng="-266076" swAng="-5133924"/>
                <a:close/>
              </a:path>
            </a:pathLst>
          </a:cu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6629400" y="541008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24200 h 685800"/>
              <a:gd name="textAreaBottom" fmla="*/ 4766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2740974"/>
                <a:lnTo>
                  <a:pt x="7200" y="21153"/>
                </a:lnTo>
                <a:lnTo>
                  <a:pt x="0" y="17280"/>
                </a:lnTo>
                <a:lnTo>
                  <a:pt x="7200" y="12513"/>
                </a:lnTo>
                <a:lnTo>
                  <a:pt x="7200" y="15195"/>
                </a:lnTo>
                <a:arcTo wR="21600" hR="7821" stAng="2740974" swAng="-2474898"/>
                <a:lnTo>
                  <a:pt x="21121" y="9459"/>
                </a:lnTo>
                <a:arcTo wR="21600" hR="7821" stAng="-266076" swAng="-5133924"/>
                <a:close/>
              </a:path>
              <a:path fill="darkenLess"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-266076"/>
                <a:lnTo>
                  <a:pt x="21121" y="9459"/>
                </a:lnTo>
                <a:arcTo wR="21600" hR="7821" stAng="-266076" swAng="-5133924"/>
                <a:close/>
              </a:path>
            </a:pathLst>
          </a:cu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52400" y="-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иллабическое  стихослож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м признаком служит общее (равное) количество слогов в строке. Характерно для языков с постоянным ударением: французского, испанского, итальянского. В России в основном применялось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 – XV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м честный лице деве велми украшае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а та же ничесоже не лепо дерза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я же срама того знается сюду и онуду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смиренно я держит низу низпущенны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о, аки бы к земли пристроен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еон Полоцк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Сколько слогов в строк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Привычна ли для русского языка такая систем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иллабо-тоническая сист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а на упорядоченном расположении ударных и безударных слогов. Разработана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е В.К.Тредиаковским и М.В.Ломоносовым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лабо-тонический стих состоит из стоп – повторяющихся слоговых групп,  состоящих из ударного  и безударных слог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1828800" y="65530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 rot="10800000">
            <a:off x="5028840" y="5866920"/>
            <a:ext cx="1219320" cy="762120"/>
          </a:xfrm>
          <a:prstGeom prst="pie">
            <a:avLst/>
          </a:pr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187800" y="62895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да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 flipV="1">
            <a:off x="2286000" y="617184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997320" y="6137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уда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вусложные размер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ей (гре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eio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лясовой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мб (гре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mb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1981080" y="2133720"/>
            <a:ext cx="2590560" cy="761760"/>
            <a:chOff x="1981080" y="2133720"/>
            <a:chExt cx="2590560" cy="761760"/>
          </a:xfrm>
        </p:grpSpPr>
        <p:grpSp>
          <p:nvGrpSpPr>
            <p:cNvPr id="223" name="Group 6"/>
            <p:cNvGrpSpPr/>
            <p:nvPr/>
          </p:nvGrpSpPr>
          <p:grpSpPr>
            <a:xfrm>
              <a:off x="1981080" y="2209680"/>
              <a:ext cx="1067040" cy="381240"/>
              <a:chOff x="1981080" y="2209680"/>
              <a:chExt cx="1067040" cy="381240"/>
            </a:xfrm>
          </p:grpSpPr>
          <p:sp>
            <p:nvSpPr>
              <p:cNvPr id="224" name="Line 4"/>
              <p:cNvSpPr/>
              <p:nvPr/>
            </p:nvSpPr>
            <p:spPr>
              <a:xfrm>
                <a:off x="1981080" y="2590920"/>
                <a:ext cx="106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5"/>
              <p:cNvSpPr/>
              <p:nvPr/>
            </p:nvSpPr>
            <p:spPr>
              <a:xfrm flipV="1">
                <a:off x="2286000" y="2209680"/>
                <a:ext cx="3808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AutoShape 7"/>
            <p:cNvSpPr/>
            <p:nvPr/>
          </p:nvSpPr>
          <p:spPr>
            <a:xfrm rot="10800000">
              <a:off x="3352320" y="2133720"/>
              <a:ext cx="1219320" cy="76176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8"/>
          <p:cNvGrpSpPr/>
          <p:nvPr/>
        </p:nvGrpSpPr>
        <p:grpSpPr>
          <a:xfrm>
            <a:off x="1980720" y="4114440"/>
            <a:ext cx="2896200" cy="762120"/>
            <a:chOff x="1980720" y="4114440"/>
            <a:chExt cx="2896200" cy="762120"/>
          </a:xfrm>
        </p:grpSpPr>
        <p:sp>
          <p:nvSpPr>
            <p:cNvPr id="228" name="AutoShape 15"/>
            <p:cNvSpPr/>
            <p:nvPr/>
          </p:nvSpPr>
          <p:spPr>
            <a:xfrm rot="10800000">
              <a:off x="1980720" y="4114440"/>
              <a:ext cx="1219320" cy="76212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>
              <a:off x="3809880" y="464832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 flipV="1">
              <a:off x="4267080" y="411444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5928840" y="225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3, 5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57440" y="43084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, 4, 6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редели размер стихослож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4025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чатся тучи, вьются туч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идимкою лу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ещает снег летучий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тно небо, ночь мутн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С. Пушкин. «Бес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ут белые снеги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по нитке скользя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ть и жить мне б свет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, наверно, нельз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.Евтушенко. «Идут белые снеги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2133720" y="1523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3276720" y="1523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V="1">
            <a:off x="2057400" y="1981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V="1">
            <a:off x="3276720" y="1981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 flipV="1">
            <a:off x="2819520" y="2438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 flipV="1">
            <a:off x="4343400" y="25142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V="1">
            <a:off x="2895480" y="297144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3962520" y="2971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2286000" y="3428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"/>
          <p:cNvSpPr/>
          <p:nvPr/>
        </p:nvSpPr>
        <p:spPr>
          <a:xfrm flipV="1">
            <a:off x="1981080" y="396216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 flipV="1">
            <a:off x="3048120" y="39621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9"/>
          <p:cNvSpPr/>
          <p:nvPr/>
        </p:nvSpPr>
        <p:spPr>
          <a:xfrm flipV="1">
            <a:off x="4191120" y="38858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"/>
          <p:cNvSpPr/>
          <p:nvPr/>
        </p:nvSpPr>
        <p:spPr>
          <a:xfrm flipV="1">
            <a:off x="2514600" y="44193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1523880" y="6400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22"/>
          <p:cNvSpPr/>
          <p:nvPr/>
        </p:nvSpPr>
        <p:spPr>
          <a:xfrm rot="10800000">
            <a:off x="2666880" y="5791320"/>
            <a:ext cx="914400" cy="914400"/>
          </a:xfrm>
          <a:prstGeom prst="pie">
            <a:avLst/>
          </a:pr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3"/>
          <p:cNvSpPr/>
          <p:nvPr/>
        </p:nvSpPr>
        <p:spPr>
          <a:xfrm flipV="1">
            <a:off x="1981080" y="59432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4039560" y="6172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Николаевна</cp:lastModifiedBy>
  <dcterms:modified xsi:type="dcterms:W3CDTF">2010-05-27T13:34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