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4B67-BA29-4C50-828E-5C06F689B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A173-9DD1-4BFE-8715-0BCBA313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9E3D-5DD8-4AF1-9206-86651BF43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4157-27EC-42B0-8654-B39C75C9E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C7BF-1F3A-4C09-9E87-C60C87CF1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901B-F56C-4FB5-92C3-EC43C4B5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C66A-F76B-4943-8604-D1DD5028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6F66-A227-4E11-80FA-89807CEB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51E0-AFD7-4668-A0C0-F6F2D9DB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38BB-3231-493B-B08E-AD534FAD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D4F3-BBC2-44E7-A06F-E7266FF0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6EFC-A7D2-48AC-8F3F-01C11382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5D16-1FDF-4F97-80A2-18769ADB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5181-2D10-40CF-A815-3E03B91D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A30A-ED18-485E-AC77-179F1272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449F-707E-472C-98FB-6AAECCA75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218B-4B31-4C1A-BCA8-ECD48877D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D9D6-01C4-4185-AF52-F2360C82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7E19-C4EF-4AF4-813A-C7D0DA01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4530-B85F-47D0-8237-83E32921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38F7-83C5-4218-9014-7D35D02E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5FA1-1424-4742-81B8-618A8F42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C259-410B-47C2-8212-9C094C90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354E-67FE-4FB4-A988-333C1F12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545f67"/>
                </a:gs>
                <a:gs pos="100000">
                  <a:srgbClr val="b6cdd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545f67"/>
                </a:gs>
                <a:gs pos="100000">
                  <a:srgbClr val="b6cdd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545f67"/>
                </a:gs>
                <a:gs pos="100000">
                  <a:srgbClr val="b6cdd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545f67"/>
                </a:gs>
                <a:gs pos="100000">
                  <a:srgbClr val="b6cdd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424b59"/>
                </a:gs>
                <a:gs pos="100000">
                  <a:srgbClr val="8ea1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b6cd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b6cd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5E87-E8C4-459A-BE9A-88FED43C7B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545f67"/>
                </a:gs>
                <a:gs pos="100000">
                  <a:srgbClr val="b6cdd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545f67"/>
                </a:gs>
                <a:gs pos="100000">
                  <a:srgbClr val="b6cdd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545f67"/>
                </a:gs>
                <a:gs pos="100000">
                  <a:srgbClr val="b6cdd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545f67"/>
                </a:gs>
                <a:gs pos="100000">
                  <a:srgbClr val="b6cdd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424b59"/>
                </a:gs>
                <a:gs pos="100000">
                  <a:srgbClr val="8ea1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b6cd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b6cd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424b59"/>
                </a:gs>
                <a:gs pos="100000">
                  <a:srgbClr val="8ea1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6cdde"/>
                      </a:gs>
                      <a:gs pos="100000">
                        <a:srgbClr val="545f67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45f67"/>
                      </a:gs>
                      <a:gs pos="100000">
                        <a:srgbClr val="b6cdd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545f67"/>
                      </a:gs>
                      <a:gs pos="100000">
                        <a:srgbClr val="b6cdde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b6cdde"/>
                      </a:gs>
                      <a:gs pos="100000">
                        <a:srgbClr val="545f6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545f67"/>
                    </a:gs>
                    <a:gs pos="100000">
                      <a:srgbClr val="b6cdd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6cdde"/>
                    </a:gs>
                    <a:gs pos="100000">
                      <a:srgbClr val="545f6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45f67"/>
                    </a:gs>
                    <a:gs pos="100000">
                      <a:srgbClr val="b6cdde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6cdde"/>
                    </a:gs>
                    <a:gs pos="100000">
                      <a:srgbClr val="545f6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b6cdde"/>
                    </a:gs>
                    <a:gs pos="100000">
                      <a:srgbClr val="545f6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545f67"/>
                    </a:gs>
                    <a:gs pos="100000">
                      <a:srgbClr val="b6cdde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545f67"/>
                    </a:gs>
                    <a:gs pos="50000">
                      <a:srgbClr val="b6cdde"/>
                    </a:gs>
                    <a:gs pos="100000">
                      <a:srgbClr val="545f6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b6cdde"/>
                    </a:gs>
                    <a:gs pos="100000">
                      <a:srgbClr val="545f6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b6cdde"/>
                    </a:gs>
                    <a:gs pos="100000">
                      <a:srgbClr val="545f6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6cdde"/>
                    </a:gs>
                    <a:gs pos="100000">
                      <a:srgbClr val="545f6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5E7C-70A1-4E52-BF79-250B0E73C6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09320" y="914040"/>
            <a:ext cx="6782040" cy="280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Системы стихосложен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3657240"/>
            <a:ext cx="624996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ласть рифм – моя стихия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легко пишу стихи я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 раздумий , без отсроч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бегу от строчки к  строчке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же к финским скалам буры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щался с каламбуром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митрий Минае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4,124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4,124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РЕХСЛОЖНЫЕ РАЗМЕРЫ СТИХ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КТИЛЬ(греч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ktylos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лец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МФИБРАХИЙ(греч. 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ph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кругом +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achy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краткий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АПЕСТ(греч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paistos –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отражённый назад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7"/>
          <p:cNvGrpSpPr/>
          <p:nvPr/>
        </p:nvGrpSpPr>
        <p:grpSpPr>
          <a:xfrm>
            <a:off x="1371600" y="1828800"/>
            <a:ext cx="4038480" cy="914400"/>
            <a:chOff x="1371600" y="1828800"/>
            <a:chExt cx="4038480" cy="914400"/>
          </a:xfrm>
        </p:grpSpPr>
        <p:sp>
          <p:nvSpPr>
            <p:cNvPr id="256" name="Line 5"/>
            <p:cNvSpPr/>
            <p:nvPr/>
          </p:nvSpPr>
          <p:spPr>
            <a:xfrm>
              <a:off x="1371600" y="2362320"/>
              <a:ext cx="12193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6"/>
            <p:cNvSpPr/>
            <p:nvPr/>
          </p:nvSpPr>
          <p:spPr>
            <a:xfrm flipV="1">
              <a:off x="1905120" y="1981080"/>
              <a:ext cx="3808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AutoShape 7"/>
            <p:cNvSpPr/>
            <p:nvPr/>
          </p:nvSpPr>
          <p:spPr>
            <a:xfrm rot="10800000">
              <a:off x="2971800" y="1828800"/>
              <a:ext cx="914400" cy="914400"/>
            </a:xfrm>
            <a:prstGeom prst="pie">
              <a:avLst/>
            </a:prstGeom>
            <a:solidFill>
              <a:srgbClr val="b6cd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AutoShape 8"/>
            <p:cNvSpPr/>
            <p:nvPr/>
          </p:nvSpPr>
          <p:spPr>
            <a:xfrm rot="10800000">
              <a:off x="4495680" y="1828800"/>
              <a:ext cx="914400" cy="914400"/>
            </a:xfrm>
            <a:prstGeom prst="pie">
              <a:avLst/>
            </a:prstGeom>
            <a:solidFill>
              <a:srgbClr val="b6cd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Group 18"/>
          <p:cNvGrpSpPr/>
          <p:nvPr/>
        </p:nvGrpSpPr>
        <p:grpSpPr>
          <a:xfrm>
            <a:off x="1752480" y="3962520"/>
            <a:ext cx="4038840" cy="990360"/>
            <a:chOff x="1752480" y="3962520"/>
            <a:chExt cx="4038840" cy="990360"/>
          </a:xfrm>
        </p:grpSpPr>
        <p:sp>
          <p:nvSpPr>
            <p:cNvPr id="261" name="Line 9"/>
            <p:cNvSpPr/>
            <p:nvPr/>
          </p:nvSpPr>
          <p:spPr>
            <a:xfrm>
              <a:off x="3429000" y="457200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10"/>
            <p:cNvSpPr/>
            <p:nvPr/>
          </p:nvSpPr>
          <p:spPr>
            <a:xfrm flipV="1">
              <a:off x="3886200" y="4114440"/>
              <a:ext cx="4572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AutoShape 11"/>
            <p:cNvSpPr/>
            <p:nvPr/>
          </p:nvSpPr>
          <p:spPr>
            <a:xfrm rot="10800000">
              <a:off x="1752480" y="3962520"/>
              <a:ext cx="914400" cy="914400"/>
            </a:xfrm>
            <a:prstGeom prst="pie">
              <a:avLst/>
            </a:prstGeom>
            <a:solidFill>
              <a:srgbClr val="b6cd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AutoShape 12"/>
            <p:cNvSpPr/>
            <p:nvPr/>
          </p:nvSpPr>
          <p:spPr>
            <a:xfrm rot="10800000">
              <a:off x="4876920" y="4038480"/>
              <a:ext cx="914400" cy="914400"/>
            </a:xfrm>
            <a:prstGeom prst="pie">
              <a:avLst/>
            </a:prstGeom>
            <a:solidFill>
              <a:srgbClr val="b6cd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19"/>
          <p:cNvGrpSpPr/>
          <p:nvPr/>
        </p:nvGrpSpPr>
        <p:grpSpPr>
          <a:xfrm>
            <a:off x="1676520" y="5943600"/>
            <a:ext cx="4800600" cy="914400"/>
            <a:chOff x="1676520" y="5943600"/>
            <a:chExt cx="4800600" cy="914400"/>
          </a:xfrm>
        </p:grpSpPr>
        <p:sp>
          <p:nvSpPr>
            <p:cNvPr id="266" name="Line 13"/>
            <p:cNvSpPr/>
            <p:nvPr/>
          </p:nvSpPr>
          <p:spPr>
            <a:xfrm>
              <a:off x="5257800" y="6629400"/>
              <a:ext cx="12193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14"/>
            <p:cNvSpPr/>
            <p:nvPr/>
          </p:nvSpPr>
          <p:spPr>
            <a:xfrm flipV="1">
              <a:off x="5715000" y="6171840"/>
              <a:ext cx="4572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15"/>
            <p:cNvSpPr/>
            <p:nvPr/>
          </p:nvSpPr>
          <p:spPr>
            <a:xfrm rot="10800000">
              <a:off x="1676520" y="5943600"/>
              <a:ext cx="914400" cy="914400"/>
            </a:xfrm>
            <a:prstGeom prst="pie">
              <a:avLst/>
            </a:prstGeom>
            <a:solidFill>
              <a:srgbClr val="b6cd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16"/>
            <p:cNvSpPr/>
            <p:nvPr/>
          </p:nvSpPr>
          <p:spPr>
            <a:xfrm rot="10800000">
              <a:off x="3429000" y="5943600"/>
              <a:ext cx="914400" cy="914400"/>
            </a:xfrm>
            <a:prstGeom prst="pie">
              <a:avLst/>
            </a:prstGeom>
            <a:solidFill>
              <a:srgbClr val="b6cd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Text Box 20"/>
          <p:cNvSpPr/>
          <p:nvPr/>
        </p:nvSpPr>
        <p:spPr>
          <a:xfrm>
            <a:off x="6234120" y="20224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, 4, 7,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21"/>
          <p:cNvSpPr/>
          <p:nvPr/>
        </p:nvSpPr>
        <p:spPr>
          <a:xfrm>
            <a:off x="6462720" y="430848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, 5, 8,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22"/>
          <p:cNvSpPr/>
          <p:nvPr/>
        </p:nvSpPr>
        <p:spPr>
          <a:xfrm>
            <a:off x="7316640" y="59436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, 6, 9,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8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3" dur="5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Определи размер стихотворен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 убит подо Ржево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безымянном болоте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ятой роте, на левом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жестоком налёте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.Твардовский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05160" y="1523520"/>
            <a:ext cx="38862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 князь желал испить шеломом Дону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красный стяг, на белую хоругв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зглянул и стремя золотое трону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щё на русском, на степном ветру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.Щипачё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"/>
          <p:cNvSpPr/>
          <p:nvPr/>
        </p:nvSpPr>
        <p:spPr>
          <a:xfrm flipV="1">
            <a:off x="2819520" y="144756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6"/>
          <p:cNvSpPr/>
          <p:nvPr/>
        </p:nvSpPr>
        <p:spPr>
          <a:xfrm flipV="1">
            <a:off x="2514600" y="190476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7"/>
          <p:cNvSpPr/>
          <p:nvPr/>
        </p:nvSpPr>
        <p:spPr>
          <a:xfrm flipV="1">
            <a:off x="3505320" y="236196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8"/>
          <p:cNvSpPr/>
          <p:nvPr/>
        </p:nvSpPr>
        <p:spPr>
          <a:xfrm flipV="1">
            <a:off x="2590920" y="28954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9"/>
          <p:cNvSpPr/>
          <p:nvPr/>
        </p:nvSpPr>
        <p:spPr>
          <a:xfrm flipV="1">
            <a:off x="3733920" y="33526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10"/>
          <p:cNvSpPr/>
          <p:nvPr/>
        </p:nvSpPr>
        <p:spPr>
          <a:xfrm flipV="1">
            <a:off x="2286000" y="373356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11"/>
          <p:cNvSpPr/>
          <p:nvPr/>
        </p:nvSpPr>
        <p:spPr>
          <a:xfrm flipV="1">
            <a:off x="3657600" y="4267080"/>
            <a:ext cx="763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Group 13"/>
          <p:cNvGrpSpPr/>
          <p:nvPr/>
        </p:nvGrpSpPr>
        <p:grpSpPr>
          <a:xfrm>
            <a:off x="1066680" y="5638680"/>
            <a:ext cx="3505320" cy="914400"/>
            <a:chOff x="1066680" y="5638680"/>
            <a:chExt cx="3505320" cy="914400"/>
          </a:xfrm>
        </p:grpSpPr>
        <p:sp>
          <p:nvSpPr>
            <p:cNvPr id="284" name="Line 14"/>
            <p:cNvSpPr/>
            <p:nvPr/>
          </p:nvSpPr>
          <p:spPr>
            <a:xfrm>
              <a:off x="3681720" y="6324480"/>
              <a:ext cx="890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15"/>
            <p:cNvSpPr/>
            <p:nvPr/>
          </p:nvSpPr>
          <p:spPr>
            <a:xfrm flipV="1">
              <a:off x="4015440" y="5866920"/>
              <a:ext cx="3337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AutoShape 16"/>
            <p:cNvSpPr/>
            <p:nvPr/>
          </p:nvSpPr>
          <p:spPr>
            <a:xfrm rot="10800000">
              <a:off x="1066680" y="5638680"/>
              <a:ext cx="667440" cy="914400"/>
            </a:xfrm>
            <a:prstGeom prst="pie">
              <a:avLst/>
            </a:prstGeom>
            <a:solidFill>
              <a:srgbClr val="b6cd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AutoShape 17"/>
            <p:cNvSpPr/>
            <p:nvPr/>
          </p:nvSpPr>
          <p:spPr>
            <a:xfrm rot="10800000">
              <a:off x="2346120" y="5638680"/>
              <a:ext cx="667440" cy="914400"/>
            </a:xfrm>
            <a:prstGeom prst="pie">
              <a:avLst/>
            </a:prstGeom>
            <a:solidFill>
              <a:srgbClr val="b6cd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Text Box 18"/>
          <p:cNvSpPr/>
          <p:nvPr/>
        </p:nvSpPr>
        <p:spPr>
          <a:xfrm>
            <a:off x="1600200" y="5943600"/>
            <a:ext cx="223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АНАПЕ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9"/>
          <p:cNvSpPr/>
          <p:nvPr/>
        </p:nvSpPr>
        <p:spPr>
          <a:xfrm flipV="1">
            <a:off x="6629400" y="144756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20"/>
          <p:cNvSpPr/>
          <p:nvPr/>
        </p:nvSpPr>
        <p:spPr>
          <a:xfrm flipV="1">
            <a:off x="8001000" y="144756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21"/>
          <p:cNvSpPr/>
          <p:nvPr/>
        </p:nvSpPr>
        <p:spPr>
          <a:xfrm flipV="1">
            <a:off x="6248520" y="190476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22"/>
          <p:cNvSpPr/>
          <p:nvPr/>
        </p:nvSpPr>
        <p:spPr>
          <a:xfrm flipV="1">
            <a:off x="7696080" y="190476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23"/>
          <p:cNvSpPr/>
          <p:nvPr/>
        </p:nvSpPr>
        <p:spPr>
          <a:xfrm flipV="1">
            <a:off x="5867280" y="236196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24"/>
          <p:cNvSpPr/>
          <p:nvPr/>
        </p:nvSpPr>
        <p:spPr>
          <a:xfrm flipV="1">
            <a:off x="6553080" y="281916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25"/>
          <p:cNvSpPr/>
          <p:nvPr/>
        </p:nvSpPr>
        <p:spPr>
          <a:xfrm flipV="1">
            <a:off x="8153280" y="281916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26"/>
          <p:cNvSpPr/>
          <p:nvPr/>
        </p:nvSpPr>
        <p:spPr>
          <a:xfrm flipV="1">
            <a:off x="6400800" y="327636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27"/>
          <p:cNvSpPr/>
          <p:nvPr/>
        </p:nvSpPr>
        <p:spPr>
          <a:xfrm flipV="1">
            <a:off x="7924680" y="327636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8"/>
          <p:cNvSpPr/>
          <p:nvPr/>
        </p:nvSpPr>
        <p:spPr>
          <a:xfrm flipV="1">
            <a:off x="6858000" y="373356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29"/>
          <p:cNvSpPr/>
          <p:nvPr/>
        </p:nvSpPr>
        <p:spPr>
          <a:xfrm flipV="1">
            <a:off x="8305920" y="38098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30"/>
          <p:cNvSpPr/>
          <p:nvPr/>
        </p:nvSpPr>
        <p:spPr>
          <a:xfrm flipV="1">
            <a:off x="6629400" y="42670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31"/>
          <p:cNvSpPr/>
          <p:nvPr/>
        </p:nvSpPr>
        <p:spPr>
          <a:xfrm flipV="1">
            <a:off x="7543800" y="42670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32"/>
          <p:cNvSpPr/>
          <p:nvPr/>
        </p:nvSpPr>
        <p:spPr>
          <a:xfrm flipV="1">
            <a:off x="7162920" y="47242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33"/>
          <p:cNvSpPr/>
          <p:nvPr/>
        </p:nvSpPr>
        <p:spPr>
          <a:xfrm flipV="1">
            <a:off x="7086600" y="51814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34"/>
          <p:cNvSpPr/>
          <p:nvPr/>
        </p:nvSpPr>
        <p:spPr>
          <a:xfrm flipV="1">
            <a:off x="8458200" y="510516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Group 35"/>
          <p:cNvGrpSpPr/>
          <p:nvPr/>
        </p:nvGrpSpPr>
        <p:grpSpPr>
          <a:xfrm>
            <a:off x="6019560" y="6095520"/>
            <a:ext cx="2286000" cy="457560"/>
            <a:chOff x="6019560" y="6095520"/>
            <a:chExt cx="2286000" cy="457560"/>
          </a:xfrm>
        </p:grpSpPr>
        <p:sp>
          <p:nvSpPr>
            <p:cNvPr id="306" name="AutoShape 36"/>
            <p:cNvSpPr/>
            <p:nvPr/>
          </p:nvSpPr>
          <p:spPr>
            <a:xfrm rot="10800000">
              <a:off x="6019560" y="6095880"/>
              <a:ext cx="962280" cy="457200"/>
            </a:xfrm>
            <a:prstGeom prst="pie">
              <a:avLst/>
            </a:prstGeom>
            <a:solidFill>
              <a:srgbClr val="b6cd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37"/>
            <p:cNvSpPr/>
            <p:nvPr/>
          </p:nvSpPr>
          <p:spPr>
            <a:xfrm>
              <a:off x="7463520" y="6415920"/>
              <a:ext cx="8420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38"/>
            <p:cNvSpPr/>
            <p:nvPr/>
          </p:nvSpPr>
          <p:spPr>
            <a:xfrm flipV="1">
              <a:off x="7824240" y="6095520"/>
              <a:ext cx="420840" cy="137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Text Box 40"/>
          <p:cNvSpPr/>
          <p:nvPr/>
        </p:nvSpPr>
        <p:spPr>
          <a:xfrm>
            <a:off x="6553800" y="627840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ЯМ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81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5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зентацию подготовила учитель русского языка и литературы МОУ «СОШ №7»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. Саратова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афова Елена Николаевн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" name="Organization Chart 7"/>
          <p:cNvGrpSpPr/>
          <p:nvPr/>
        </p:nvGrpSpPr>
        <p:grpSpPr>
          <a:xfrm>
            <a:off x="0" y="304920"/>
            <a:ext cx="8978400" cy="5587560"/>
            <a:chOff x="0" y="304920"/>
            <a:chExt cx="8978400" cy="5587560"/>
          </a:xfrm>
        </p:grpSpPr>
        <p:cxnSp>
          <p:nvCxnSpPr>
            <p:cNvPr id="166" name="_s1028"/>
            <p:cNvCxnSpPr>
              <a:stCxn id="167" idx="0"/>
              <a:endCxn id="168" idx="2"/>
            </p:cNvCxnSpPr>
            <p:nvPr/>
          </p:nvCxnSpPr>
          <p:spPr>
            <a:xfrm flipV="1" rot="16200000">
              <a:off x="5501160" y="1527120"/>
              <a:ext cx="1117800" cy="3143160"/>
            </a:xfrm>
            <a:prstGeom prst="bentConnector3">
              <a:avLst>
                <a:gd name="adj1" fmla="val 1227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1029"/>
            <p:cNvCxnSpPr>
              <a:stCxn id="170" idx="0"/>
              <a:endCxn id="168" idx="2"/>
            </p:cNvCxnSpPr>
            <p:nvPr/>
          </p:nvCxnSpPr>
          <p:spPr>
            <a:xfrm flipV="1">
              <a:off x="4488840" y="2539800"/>
              <a:ext cx="3240" cy="1117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1030"/>
            <p:cNvCxnSpPr>
              <a:stCxn id="172" idx="0"/>
              <a:endCxn id="168" idx="2"/>
            </p:cNvCxnSpPr>
            <p:nvPr/>
          </p:nvCxnSpPr>
          <p:spPr>
            <a:xfrm flipH="1" flipV="1" rot="5400000">
              <a:off x="2359080" y="1527120"/>
              <a:ext cx="1117800" cy="3143160"/>
            </a:xfrm>
            <a:prstGeom prst="bentConnector3">
              <a:avLst>
                <a:gd name="adj1" fmla="val 1227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8" name="_s1031"/>
            <p:cNvSpPr/>
            <p:nvPr/>
          </p:nvSpPr>
          <p:spPr>
            <a:xfrm>
              <a:off x="3142440" y="304920"/>
              <a:ext cx="2693520" cy="2234880"/>
            </a:xfrm>
            <a:prstGeom prst="roundRect">
              <a:avLst>
                <a:gd name="adj" fmla="val 16667"/>
              </a:avLst>
            </a:prstGeom>
            <a:solidFill>
              <a:srgbClr val="b6cd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Русское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стихосложени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_s1032"/>
            <p:cNvSpPr/>
            <p:nvPr/>
          </p:nvSpPr>
          <p:spPr>
            <a:xfrm>
              <a:off x="0" y="3657600"/>
              <a:ext cx="2693520" cy="2234880"/>
            </a:xfrm>
            <a:prstGeom prst="roundRect">
              <a:avLst>
                <a:gd name="adj" fmla="val 16667"/>
              </a:avLst>
            </a:prstGeom>
            <a:solidFill>
              <a:srgbClr val="b6cd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Силлабическое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_s1033"/>
            <p:cNvSpPr/>
            <p:nvPr/>
          </p:nvSpPr>
          <p:spPr>
            <a:xfrm>
              <a:off x="3142440" y="3657600"/>
              <a:ext cx="2693520" cy="2234880"/>
            </a:xfrm>
            <a:prstGeom prst="roundRect">
              <a:avLst>
                <a:gd name="adj" fmla="val 16667"/>
              </a:avLst>
            </a:prstGeom>
            <a:solidFill>
              <a:srgbClr val="b6cd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Тоническое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_s1034"/>
            <p:cNvSpPr/>
            <p:nvPr/>
          </p:nvSpPr>
          <p:spPr>
            <a:xfrm>
              <a:off x="6284880" y="3657600"/>
              <a:ext cx="2693520" cy="2234880"/>
            </a:xfrm>
            <a:prstGeom prst="roundRect">
              <a:avLst>
                <a:gd name="adj" fmla="val 16667"/>
              </a:avLst>
            </a:prstGeom>
            <a:solidFill>
              <a:srgbClr val="b6cd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Силлабо-тоническое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Text Box 15"/>
          <p:cNvSpPr/>
          <p:nvPr/>
        </p:nvSpPr>
        <p:spPr>
          <a:xfrm>
            <a:off x="838080" y="2666880"/>
            <a:ext cx="7848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Times New Roman"/>
              </a:rPr>
              <a:t>Зависит от соизмеримости стро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17"/>
          <p:cNvSpPr/>
          <p:nvPr/>
        </p:nvSpPr>
        <p:spPr>
          <a:xfrm rot="10800000">
            <a:off x="1599840" y="5333760"/>
            <a:ext cx="2514600" cy="1143000"/>
          </a:xfrm>
          <a:prstGeom prst="pie">
            <a:avLst/>
          </a:prstGeom>
          <a:solidFill>
            <a:srgbClr val="b6cdde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19"/>
          <p:cNvSpPr/>
          <p:nvPr/>
        </p:nvSpPr>
        <p:spPr>
          <a:xfrm>
            <a:off x="3733920" y="5867280"/>
            <a:ext cx="5043240" cy="733680"/>
          </a:xfrm>
          <a:prstGeom prst="pie">
            <a:avLst/>
          </a:prstGeom>
          <a:solidFill>
            <a:srgbClr val="b6cdd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Тоническое стихослож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м признаком соизмеримости строк служит количество ударных слогов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Былинный стих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3 ударных слог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рутым берегом река Днепр поровнялася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лты мелкие песочки осыпалися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 песком вода возмутилася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зелёных лугах развалилас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9"/>
          <p:cNvSpPr/>
          <p:nvPr/>
        </p:nvSpPr>
        <p:spPr>
          <a:xfrm flipH="1">
            <a:off x="3504960" y="3657600"/>
            <a:ext cx="7596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7"/>
          <p:cNvSpPr/>
          <p:nvPr/>
        </p:nvSpPr>
        <p:spPr>
          <a:xfrm flipH="1">
            <a:off x="5486400" y="3581280"/>
            <a:ext cx="763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8"/>
          <p:cNvSpPr/>
          <p:nvPr/>
        </p:nvSpPr>
        <p:spPr>
          <a:xfrm flipH="1">
            <a:off x="7086600" y="3581280"/>
            <a:ext cx="763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9"/>
          <p:cNvSpPr/>
          <p:nvPr/>
        </p:nvSpPr>
        <p:spPr>
          <a:xfrm flipH="1">
            <a:off x="2971800" y="4038480"/>
            <a:ext cx="763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0"/>
          <p:cNvSpPr/>
          <p:nvPr/>
        </p:nvSpPr>
        <p:spPr>
          <a:xfrm flipH="1">
            <a:off x="4419360" y="4038480"/>
            <a:ext cx="7596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21"/>
          <p:cNvSpPr/>
          <p:nvPr/>
        </p:nvSpPr>
        <p:spPr>
          <a:xfrm flipH="1">
            <a:off x="5790960" y="4038480"/>
            <a:ext cx="7596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2"/>
          <p:cNvSpPr/>
          <p:nvPr/>
        </p:nvSpPr>
        <p:spPr>
          <a:xfrm flipH="1">
            <a:off x="2819160" y="4495680"/>
            <a:ext cx="7596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23"/>
          <p:cNvSpPr/>
          <p:nvPr/>
        </p:nvSpPr>
        <p:spPr>
          <a:xfrm flipH="1">
            <a:off x="3809880" y="4495680"/>
            <a:ext cx="763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24"/>
          <p:cNvSpPr/>
          <p:nvPr/>
        </p:nvSpPr>
        <p:spPr>
          <a:xfrm flipH="1">
            <a:off x="4952880" y="4495680"/>
            <a:ext cx="763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25"/>
          <p:cNvSpPr/>
          <p:nvPr/>
        </p:nvSpPr>
        <p:spPr>
          <a:xfrm flipH="1">
            <a:off x="3657600" y="4876920"/>
            <a:ext cx="763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26"/>
          <p:cNvSpPr/>
          <p:nvPr/>
        </p:nvSpPr>
        <p:spPr>
          <a:xfrm flipH="1">
            <a:off x="5029200" y="4952880"/>
            <a:ext cx="763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27" descr="05Z0007"/>
          <p:cNvPicPr/>
          <p:nvPr/>
        </p:nvPicPr>
        <p:blipFill>
          <a:blip r:embed="rId1"/>
          <a:stretch/>
        </p:blipFill>
        <p:spPr>
          <a:xfrm>
            <a:off x="6400800" y="4572000"/>
            <a:ext cx="2124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Тоническое стихослож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есенный сти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,в зависимости от протяжённости строк в песнях, может иметь два, три, четыре главных ударения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качалась в саду грушиц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д яблонью кудрявою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д яблонью зелёною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д яблонью зелёною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5"/>
          <p:cNvSpPr/>
          <p:nvPr/>
        </p:nvSpPr>
        <p:spPr>
          <a:xfrm flipV="1">
            <a:off x="3200400" y="350496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6"/>
          <p:cNvSpPr/>
          <p:nvPr/>
        </p:nvSpPr>
        <p:spPr>
          <a:xfrm flipV="1">
            <a:off x="6172200" y="350496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7"/>
          <p:cNvSpPr/>
          <p:nvPr/>
        </p:nvSpPr>
        <p:spPr>
          <a:xfrm flipV="1">
            <a:off x="3048120" y="411444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8"/>
          <p:cNvSpPr/>
          <p:nvPr/>
        </p:nvSpPr>
        <p:spPr>
          <a:xfrm flipV="1">
            <a:off x="5943600" y="411444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9"/>
          <p:cNvSpPr/>
          <p:nvPr/>
        </p:nvSpPr>
        <p:spPr>
          <a:xfrm flipV="1">
            <a:off x="3048120" y="47242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0"/>
          <p:cNvSpPr/>
          <p:nvPr/>
        </p:nvSpPr>
        <p:spPr>
          <a:xfrm flipV="1">
            <a:off x="3048120" y="525744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4,124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4,124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4,124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4,124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4,124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4,124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4,124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4,124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Тоническое стихослож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Раёшный стих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свободный стих со смежными рифмам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ходите, подходите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 только карманы берегит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глаза протрите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вот и я развесёлый потешник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вестный столичный раешник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 своей потешной панорамою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ублику обморачиваю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бе пятаки заколачиваю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5029200" y="31240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7" descr="AG00374_"/>
          <p:cNvPicPr/>
          <p:nvPr/>
        </p:nvPicPr>
        <p:blipFill>
          <a:blip r:embed="rId1"/>
          <a:stretch/>
        </p:blipFill>
        <p:spPr>
          <a:xfrm>
            <a:off x="6629400" y="1828800"/>
            <a:ext cx="1479600" cy="1428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j0282736"/>
          <p:cNvPicPr/>
          <p:nvPr/>
        </p:nvPicPr>
        <p:blipFill>
          <a:blip r:embed="rId2"/>
          <a:stretch/>
        </p:blipFill>
        <p:spPr>
          <a:xfrm>
            <a:off x="7924680" y="29718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03" name="Line 9"/>
          <p:cNvSpPr/>
          <p:nvPr/>
        </p:nvSpPr>
        <p:spPr>
          <a:xfrm>
            <a:off x="6095880" y="35053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0"/>
          <p:cNvSpPr/>
          <p:nvPr/>
        </p:nvSpPr>
        <p:spPr>
          <a:xfrm>
            <a:off x="3962520" y="39625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1"/>
          <p:cNvSpPr/>
          <p:nvPr/>
        </p:nvSpPr>
        <p:spPr>
          <a:xfrm>
            <a:off x="6248520" y="44197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12"/>
          <p:cNvSpPr/>
          <p:nvPr/>
        </p:nvSpPr>
        <p:spPr>
          <a:xfrm>
            <a:off x="6248520" y="48006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3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5105520" y="60958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15"/>
          <p:cNvSpPr/>
          <p:nvPr/>
        </p:nvSpPr>
        <p:spPr>
          <a:xfrm>
            <a:off x="7543800" y="419112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24200 h 685800"/>
              <a:gd name="textAreaBottom" fmla="*/ 4766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21" stAng="-5400000" swAng="5400000"/>
                <a:lnTo>
                  <a:pt x="21600" y="11097"/>
                </a:lnTo>
                <a:arcTo wR="21600" hR="7821" stAng="0" swAng="2740974"/>
                <a:lnTo>
                  <a:pt x="7200" y="21153"/>
                </a:lnTo>
                <a:lnTo>
                  <a:pt x="0" y="17280"/>
                </a:lnTo>
                <a:lnTo>
                  <a:pt x="7200" y="12513"/>
                </a:lnTo>
                <a:lnTo>
                  <a:pt x="7200" y="15195"/>
                </a:lnTo>
                <a:arcTo wR="21600" hR="7821" stAng="2740974" swAng="-2474898"/>
                <a:lnTo>
                  <a:pt x="21121" y="9459"/>
                </a:lnTo>
                <a:arcTo wR="21600" hR="7821" stAng="-266076" swAng="-5133924"/>
                <a:close/>
              </a:path>
              <a:path fill="darkenLess" w="21600" h="21600">
                <a:moveTo>
                  <a:pt x="0" y="0"/>
                </a:moveTo>
                <a:arcTo wR="21600" hR="7821" stAng="-5400000" swAng="5400000"/>
                <a:lnTo>
                  <a:pt x="21600" y="11097"/>
                </a:lnTo>
                <a:arcTo wR="21600" hR="7821" stAng="0" swAng="-266076"/>
                <a:lnTo>
                  <a:pt x="21121" y="9459"/>
                </a:lnTo>
                <a:arcTo wR="21600" hR="7821" stAng="-266076" swAng="-5133924"/>
                <a:close/>
              </a:path>
            </a:pathLst>
          </a:custGeom>
          <a:solidFill>
            <a:srgbClr val="b6cd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16"/>
          <p:cNvSpPr/>
          <p:nvPr/>
        </p:nvSpPr>
        <p:spPr>
          <a:xfrm>
            <a:off x="6629400" y="541008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24200 h 685800"/>
              <a:gd name="textAreaBottom" fmla="*/ 4766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21" stAng="-5400000" swAng="5400000"/>
                <a:lnTo>
                  <a:pt x="21600" y="11097"/>
                </a:lnTo>
                <a:arcTo wR="21600" hR="7821" stAng="0" swAng="2740974"/>
                <a:lnTo>
                  <a:pt x="7200" y="21153"/>
                </a:lnTo>
                <a:lnTo>
                  <a:pt x="0" y="17280"/>
                </a:lnTo>
                <a:lnTo>
                  <a:pt x="7200" y="12513"/>
                </a:lnTo>
                <a:lnTo>
                  <a:pt x="7200" y="15195"/>
                </a:lnTo>
                <a:arcTo wR="21600" hR="7821" stAng="2740974" swAng="-2474898"/>
                <a:lnTo>
                  <a:pt x="21121" y="9459"/>
                </a:lnTo>
                <a:arcTo wR="21600" hR="7821" stAng="-266076" swAng="-5133924"/>
                <a:close/>
              </a:path>
              <a:path fill="darkenLess" w="21600" h="21600">
                <a:moveTo>
                  <a:pt x="0" y="0"/>
                </a:moveTo>
                <a:arcTo wR="21600" hR="7821" stAng="-5400000" swAng="5400000"/>
                <a:lnTo>
                  <a:pt x="21600" y="11097"/>
                </a:lnTo>
                <a:arcTo wR="21600" hR="7821" stAng="0" swAng="-266076"/>
                <a:lnTo>
                  <a:pt x="21121" y="9459"/>
                </a:lnTo>
                <a:arcTo wR="21600" hR="7821" stAng="-266076" swAng="-5133924"/>
                <a:close/>
              </a:path>
            </a:pathLst>
          </a:custGeom>
          <a:solidFill>
            <a:srgbClr val="b6cd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9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5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8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5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5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0" dur="500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52400" y="-36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иллабическое  стихосложени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18960" y="11426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ым признаком служит общее (равное) количество слогов в строке. Характерно для языков с постоянным ударением: французского, испанского, итальянского. В России в основном применялось 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VII – XVIII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ках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ам честный лице деве велми украшает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да та же ничесоже не лепо дерзает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намя же срама того знается сюду и онуду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смиренно я держит низу низпущенны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тоянно, аки бы к земли пристроенны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меон Полоцкий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*Сколько слогов в строке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*Привычна ли для русского языка такая система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4,124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4,124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4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0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7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0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3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6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2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5" dur="5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8" dur="500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3" dur="5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8" dur="500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Силлабо-тоническая систем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48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ана на упорядоченном расположении ударных и безударных слогов. Разработана 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XVII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ке В.К.Тредиаковским и М.В.Ломоносовым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ллабо-тонический стих состоит из стоп – повторяющихся слоговых групп,  состоящих из ударного  и безударных слог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4"/>
          <p:cNvSpPr/>
          <p:nvPr/>
        </p:nvSpPr>
        <p:spPr>
          <a:xfrm>
            <a:off x="1828800" y="655308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5"/>
          <p:cNvSpPr/>
          <p:nvPr/>
        </p:nvSpPr>
        <p:spPr>
          <a:xfrm rot="10800000">
            <a:off x="5028840" y="5866920"/>
            <a:ext cx="1219320" cy="762120"/>
          </a:xfrm>
          <a:prstGeom prst="pie">
            <a:avLst/>
          </a:prstGeom>
          <a:solidFill>
            <a:srgbClr val="b6cd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3187800" y="628956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дар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7"/>
          <p:cNvSpPr/>
          <p:nvPr/>
        </p:nvSpPr>
        <p:spPr>
          <a:xfrm flipV="1">
            <a:off x="2286000" y="6171840"/>
            <a:ext cx="3808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6997320" y="61372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езудар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4,124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4,124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4,124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4,124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Двусложные размер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47560" y="1447560"/>
            <a:ext cx="7491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орей (греч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oreio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плясовой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мб (греч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mbo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8"/>
          <p:cNvGrpSpPr/>
          <p:nvPr/>
        </p:nvGrpSpPr>
        <p:grpSpPr>
          <a:xfrm>
            <a:off x="1981080" y="2133720"/>
            <a:ext cx="2590560" cy="761760"/>
            <a:chOff x="1981080" y="2133720"/>
            <a:chExt cx="2590560" cy="761760"/>
          </a:xfrm>
        </p:grpSpPr>
        <p:grpSp>
          <p:nvGrpSpPr>
            <p:cNvPr id="223" name="Group 6"/>
            <p:cNvGrpSpPr/>
            <p:nvPr/>
          </p:nvGrpSpPr>
          <p:grpSpPr>
            <a:xfrm>
              <a:off x="1981080" y="2209680"/>
              <a:ext cx="1067040" cy="381240"/>
              <a:chOff x="1981080" y="2209680"/>
              <a:chExt cx="1067040" cy="381240"/>
            </a:xfrm>
          </p:grpSpPr>
          <p:sp>
            <p:nvSpPr>
              <p:cNvPr id="224" name="Line 4"/>
              <p:cNvSpPr/>
              <p:nvPr/>
            </p:nvSpPr>
            <p:spPr>
              <a:xfrm>
                <a:off x="1981080" y="2590920"/>
                <a:ext cx="10670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5"/>
              <p:cNvSpPr/>
              <p:nvPr/>
            </p:nvSpPr>
            <p:spPr>
              <a:xfrm flipV="1">
                <a:off x="2286000" y="2209680"/>
                <a:ext cx="38088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AutoShape 7"/>
            <p:cNvSpPr/>
            <p:nvPr/>
          </p:nvSpPr>
          <p:spPr>
            <a:xfrm rot="10800000">
              <a:off x="3352320" y="2133720"/>
              <a:ext cx="1219320" cy="761760"/>
            </a:xfrm>
            <a:prstGeom prst="pie">
              <a:avLst/>
            </a:prstGeom>
            <a:solidFill>
              <a:srgbClr val="b6cd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Group 18"/>
          <p:cNvGrpSpPr/>
          <p:nvPr/>
        </p:nvGrpSpPr>
        <p:grpSpPr>
          <a:xfrm>
            <a:off x="1980720" y="4114440"/>
            <a:ext cx="2896200" cy="762120"/>
            <a:chOff x="1980720" y="4114440"/>
            <a:chExt cx="2896200" cy="762120"/>
          </a:xfrm>
        </p:grpSpPr>
        <p:sp>
          <p:nvSpPr>
            <p:cNvPr id="228" name="AutoShape 15"/>
            <p:cNvSpPr/>
            <p:nvPr/>
          </p:nvSpPr>
          <p:spPr>
            <a:xfrm rot="10800000">
              <a:off x="1980720" y="4114440"/>
              <a:ext cx="1219320" cy="762120"/>
            </a:xfrm>
            <a:prstGeom prst="pie">
              <a:avLst/>
            </a:prstGeom>
            <a:solidFill>
              <a:srgbClr val="b6cd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6"/>
            <p:cNvSpPr/>
            <p:nvPr/>
          </p:nvSpPr>
          <p:spPr>
            <a:xfrm>
              <a:off x="3809880" y="4648320"/>
              <a:ext cx="10670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7"/>
            <p:cNvSpPr/>
            <p:nvPr/>
          </p:nvSpPr>
          <p:spPr>
            <a:xfrm flipV="1">
              <a:off x="4267080" y="4114440"/>
              <a:ext cx="5335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Text Box 19"/>
          <p:cNvSpPr/>
          <p:nvPr/>
        </p:nvSpPr>
        <p:spPr>
          <a:xfrm>
            <a:off x="5928840" y="22510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3, 5, 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6157440" y="43084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2, 4, 6,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4,124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4,124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4,124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4,124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8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7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4,124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94,124,-11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8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Определи размер стихосложен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40258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чатся тучи, вьются тучи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видимкою лун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вещает снег летучий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тно небо, ночь мутн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.С. Пушкин. «Бесы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321160" y="1523520"/>
            <a:ext cx="36705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дут белые снеги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по нитке скользя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ть и жить мне б свете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, наверно, нельзя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.Евтушенко. «Идут белые снеги»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8"/>
          <p:cNvSpPr/>
          <p:nvPr/>
        </p:nvSpPr>
        <p:spPr>
          <a:xfrm flipV="1">
            <a:off x="2133720" y="15238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9"/>
          <p:cNvSpPr/>
          <p:nvPr/>
        </p:nvSpPr>
        <p:spPr>
          <a:xfrm flipV="1">
            <a:off x="3276720" y="15238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0"/>
          <p:cNvSpPr/>
          <p:nvPr/>
        </p:nvSpPr>
        <p:spPr>
          <a:xfrm flipV="1">
            <a:off x="2057400" y="19810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1"/>
          <p:cNvSpPr/>
          <p:nvPr/>
        </p:nvSpPr>
        <p:spPr>
          <a:xfrm flipV="1">
            <a:off x="3276720" y="19810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2"/>
          <p:cNvSpPr/>
          <p:nvPr/>
        </p:nvSpPr>
        <p:spPr>
          <a:xfrm flipV="1">
            <a:off x="2819520" y="2438280"/>
            <a:ext cx="1522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3"/>
          <p:cNvSpPr/>
          <p:nvPr/>
        </p:nvSpPr>
        <p:spPr>
          <a:xfrm flipV="1">
            <a:off x="4343400" y="251424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4"/>
          <p:cNvSpPr/>
          <p:nvPr/>
        </p:nvSpPr>
        <p:spPr>
          <a:xfrm flipV="1">
            <a:off x="2895480" y="297144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5"/>
          <p:cNvSpPr/>
          <p:nvPr/>
        </p:nvSpPr>
        <p:spPr>
          <a:xfrm flipV="1">
            <a:off x="3962520" y="297144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6"/>
          <p:cNvSpPr/>
          <p:nvPr/>
        </p:nvSpPr>
        <p:spPr>
          <a:xfrm flipV="1">
            <a:off x="2286000" y="342864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7"/>
          <p:cNvSpPr/>
          <p:nvPr/>
        </p:nvSpPr>
        <p:spPr>
          <a:xfrm flipV="1">
            <a:off x="1981080" y="3962160"/>
            <a:ext cx="1526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8"/>
          <p:cNvSpPr/>
          <p:nvPr/>
        </p:nvSpPr>
        <p:spPr>
          <a:xfrm flipV="1">
            <a:off x="3048120" y="396216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9"/>
          <p:cNvSpPr/>
          <p:nvPr/>
        </p:nvSpPr>
        <p:spPr>
          <a:xfrm flipV="1">
            <a:off x="4191120" y="388584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20"/>
          <p:cNvSpPr/>
          <p:nvPr/>
        </p:nvSpPr>
        <p:spPr>
          <a:xfrm flipV="1">
            <a:off x="2514600" y="4419360"/>
            <a:ext cx="1522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21"/>
          <p:cNvSpPr/>
          <p:nvPr/>
        </p:nvSpPr>
        <p:spPr>
          <a:xfrm>
            <a:off x="1523880" y="6400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22"/>
          <p:cNvSpPr/>
          <p:nvPr/>
        </p:nvSpPr>
        <p:spPr>
          <a:xfrm rot="10800000">
            <a:off x="2666880" y="5791320"/>
            <a:ext cx="914400" cy="914400"/>
          </a:xfrm>
          <a:prstGeom prst="pie">
            <a:avLst/>
          </a:prstGeom>
          <a:solidFill>
            <a:srgbClr val="b6cd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23"/>
          <p:cNvSpPr/>
          <p:nvPr/>
        </p:nvSpPr>
        <p:spPr>
          <a:xfrm flipV="1">
            <a:off x="1981080" y="594324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24"/>
          <p:cNvSpPr/>
          <p:nvPr/>
        </p:nvSpPr>
        <p:spPr>
          <a:xfrm>
            <a:off x="4039560" y="61722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Р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86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 Николаевна</cp:lastModifiedBy>
  <dcterms:modified xsi:type="dcterms:W3CDTF">2010-05-27T13:34:5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