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92E-9283-4D60-9595-A5B0631C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6C6-C460-48A5-935E-58E5301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FBA4F-1EBA-4E74-A5F9-E1C1DFA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99609-CD76-4020-B985-AC393B7B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04275-FB06-4486-982F-72830B5C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44A3-B8F6-4A6B-AF0F-74444CA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41FC-2673-4D01-8BA0-0189BE4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3477-867B-4819-86E4-C7786CFF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084AA-38EA-4541-9AD5-EDE36D2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DDAA0-FAD1-4458-90B7-6804CE33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6523-429D-485D-985E-5770D09A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674CD-F8A5-4F10-AB70-6236391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48A-F9FF-4A35-9A5D-71DC0B1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BAE66-274C-443C-A9B0-F1BAAD24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C6AC9-B890-4F3E-89C6-EDC08848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4D768-B972-4599-9608-AF57ECB1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AF8E7-2CE8-4C15-996A-7877B906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12BD5-B935-4BBE-88FF-1EDB5A3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DC86B-8707-497B-9BB9-EC8A07F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91B9-C303-46AA-8175-B0FA88F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1184B-5B68-4584-AF28-CD5F73E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C1507-7862-4D74-973F-2B130801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92DBD-0F88-48BB-891D-3EC95B1D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4F2-2DD9-4A7F-8B47-22F21548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83F4B-44CC-4366-BA0A-5A363B65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4FC99-E50C-462F-A40C-D2163325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6CCCD-85B2-43AE-AC07-0BBBBD09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4D00-BC80-42B8-AEAB-16DBCA3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8DAB-04DD-4F40-81DC-9F89DC43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385DB-D89B-4352-9562-6693C55F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E4A1D-5F43-4451-9FE2-798AB36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18447-53FB-48D2-94DE-F37455E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5E2E-C1CB-4FF1-BBD7-0F6EB25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64EC-1E11-4389-836E-7F78698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325-CFDC-4E49-AE84-6367872B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492D-9829-4A98-8706-F56E3FC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00BA0-D0FC-422A-943E-6B88F8CE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F700-F789-4F65-91DA-1CA1185C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8D93D-96FD-45EB-8A07-0424C475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66256-918E-464B-B57A-94351A3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F2E93-5943-4A89-AE6C-A5968CC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50372-A5EC-46E3-8B3E-D6FE601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9FA82-3158-445F-B11D-DF9A9D7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BD516-941B-4A6A-8F95-D3E5BA0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69FCD-74ED-4FA3-9380-BE0D640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8E42-BD18-458C-97A8-CE12D1E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AD19E-D1E6-48A4-A31A-886F43C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CB41E-F733-46DE-84C8-5185A20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9BBC5-7028-4CC1-81AB-D274ED82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B98E2-7943-421B-AD60-1A70EA3D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74995-DA6D-4312-8505-90F585A2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3DA1-6964-4DE9-833B-3A5B4E30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281-8504-4A55-B676-AB8D4D7A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5E1B-CC01-45E3-A307-85A130AB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225C-DD97-4A15-8315-FB0F977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14EF-969F-4396-80E3-DF355BA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772-E5F5-48CF-8F99-9E3FC2C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FEA-2DB0-4CB2-924F-69CD5FC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752-1C1A-4CA6-BCDD-012497D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DF5-14F2-47AF-BEF4-7C9F010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7CAD-40FB-4EDA-80C9-4E185447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EBD-BD5C-4B6F-9FF5-B4B9D3F5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BB40-FD79-41D8-AAAA-18C2E68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ADDC-39B7-4360-BD76-857A6893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F2FE-B889-49D8-9AAE-1104A82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8021-57EE-4034-A386-2E10A235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8C8A-3296-4D14-B990-94B9035F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EEA-B39E-44B4-B7DD-848D7E1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DB34-0BB2-4C1E-8DC1-84B4AAE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BD1F-90A4-4444-9DC5-B12A41C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6035-F3E8-4481-BA4F-02D1D489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7FCD-E348-43DE-B9CC-628C839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12AD-3ABC-4C35-BF09-86A87DC0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3E0F-6BBD-477A-9703-AF5DDB11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3D54-6004-42D1-A34B-E245EF29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135E9-29B8-4EFA-B395-4113098B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D8572-1FA5-4363-95E1-AA4EB09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AF7C1-771D-4F4B-AE00-6C1907A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E50-A577-4382-873A-7A02DF4E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3D010-1BEC-4B6C-BE23-C11E21A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58CE1-B2E4-4233-A2DA-298F6F1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D0CC1-CE57-4C72-80E1-8C700F9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18C01-9B66-432A-9AE5-049719A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D8FF0-762B-4BFB-BEC1-D2FD195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1AD98-EE72-472C-A6B6-3AEEA85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F2444-B8A0-4537-8C5C-86EC9CB1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FE080-8D3E-40BB-AC8A-DCF8B98D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6DACC-6CD9-4501-83AE-B91C7711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8E83-3C4A-4903-AEEA-64AD22EF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304-0C81-4438-966C-6BE8F0D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BF74-39E2-4704-AAE0-53BFA42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6015D-2759-461F-9BEE-8475161E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BF79-5611-4F12-9DF4-FCB1246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F615-DA1B-47B8-8032-533904F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13083-73B2-4A83-AEE5-818E9A34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A667-46DC-4354-A707-4A0152D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DA5C-1CA1-4998-8DE2-74D8C17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A0BF8-FB19-43CD-8B9F-FC5AFEAD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29FC-875D-4877-BBB2-F8C5CFF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F59B-357A-462B-B814-BB0F4768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BB7-16B4-4749-B30E-EBD1B55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050B-12D5-4F57-BD5C-3748B2F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40906-4A53-4E63-8D3F-D9E13B7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102B-DBA6-4B79-9B55-68F61DF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981D-8D5D-47D0-A5CF-D8442FB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6EAC-01A7-4C68-8A18-F51A017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3059-B680-46A2-B13F-394D135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3AA3-D356-46FA-8F7B-86223EFE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E546-4D94-409D-B35D-A6FE868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FFDC-FA98-416F-AE82-2366F8D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2FA1-96F8-475D-96CF-E3BA5DD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90B-E4B7-4CB6-9A1A-F1B23F7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EE56-D701-4858-815B-1377416F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ADDE-587D-4A2B-ACC3-CBD4F6E1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199C-0B7A-4D45-84D9-82F55238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08D01-85D5-4BBE-AEE3-D30352B2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39862-B9EE-470B-A635-CD70849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935E-1220-4263-8903-40986B16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945D-82C1-49F3-B3E5-755239C0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0D5E-908C-463D-B3FF-8DE0B6EC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4E99E-0184-4D5B-873B-46F52907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BEC6-A0B2-437B-8655-486F7AE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493-B959-4C00-9FF7-4275296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C6A8-C617-4514-922E-B2DE661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48DE-AC4B-4E35-AFF5-0908FB8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6612F-8E34-4C5B-973C-96B1BB2C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6A81-8BB8-463A-8782-4EA7A6E9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C56C3-9BB1-40F8-B15A-BBCB1F0D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83D1-5530-4DF8-B578-30DCED3C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5B6F6-3158-439D-8939-B13607C8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A8174-B7E2-485A-88E5-8A3F099D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35933-2781-4102-8384-825B41BC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5507B-EF8D-4BAD-8C18-D651FC6C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016-B3B7-4D9B-81D7-A025C83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F731-2386-41BD-8046-2903790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E443-C4B1-4639-A0E2-771BBE9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0E0C-A5CB-4466-B112-6FA9FF0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C851-3FED-4AF3-AE8E-3176FD6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6D4A-BA1C-4907-8EDC-38FF923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B91B-08C4-410B-B10D-4C9CC2E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7817-E6B8-45E8-858E-EE5E7D4A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375C0-F907-42BB-9079-E7A8C6D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7041F-C85E-4658-B133-653BE99A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2EB00-9272-431B-809D-0DFB98EF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400-94CE-45FC-9660-C2790475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8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8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0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2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E4A-22B0-4549-959E-975B4BACC5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134-6874-403E-B004-2D5E3031F3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F68B-604F-47E7-9BB1-E39DBD6D34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AB74-32DF-4AAB-A825-4E3C91F4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5A7-4DBF-4E37-B5FB-899CBD01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81D-6BE6-486F-98AE-3AEAD7149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3FA9-0D6C-4710-895A-45EA112E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9B8A-B95A-4390-96B8-D7ECD255C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E80-B504-4B56-875B-50FCDF728F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3000-F64C-40BE-B7E5-9E81EBDF09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9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B75-ED13-49FB-8831-57BC4B6A6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редующиеся гласные в корне с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259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БОУ СОШ №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«А» клас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о-гуманита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: Кругл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ф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оп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спанс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нельз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ска (вин. п. доску; мн.ч. доски, досок, доск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в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м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ухов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533520"/>
            <a:ext cx="861048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Говори правильно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сные в корне сл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2895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ряемые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уда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да-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752120" y="1828800"/>
            <a:ext cx="7621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495680" y="175248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00800" y="1752480"/>
            <a:ext cx="6094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666880" y="3809880"/>
            <a:ext cx="3429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оверяемые безудар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тибю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3124080"/>
            <a:ext cx="3276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дующие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\о, и\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конечной согласной ко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уд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наличия суффикса а после ко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ни, правописание которых надо запомн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лексического значения кор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0" y="0"/>
            <a:ext cx="922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 групп корней с чередующимися гласными а\о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8423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группа корней: а)раст-ращ-рос, б)лаг-лож, в)скак-ско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группа корней: а)гар-гор, б)зар-зор, в)клан-клон, твар-твор, пазд-поз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группа корней: кас-к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группа корней: плав-п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группа корней: а)мак-мок, б)равн-ров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7615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ер-бир                  ин-и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ер-тир                  занимать-зан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р-дир                 сжимать-сж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-пир                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Исключения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??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ел-сти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лест-блис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р-м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Жег-жи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т-ч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152280" y="228600"/>
            <a:ext cx="802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едующиеся гласные и\е в корне слова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Выбрать вариант  с буквой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изл…жение б)прик…снуться в)ск…ч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)з…рь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Выбрать вариант с буквой 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р…стение б)разг…рался в)пл…вцы     г)ур…ве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Выбрать вариант с буквой 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ск…кать б)обм…кнуть в)р…внина г)р…с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Выбрать вариант с буквой 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утв…рь б)покл…н в)пл…вники г)ср…вни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Выбрать вариант с буквой 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соб…ру б)бл…стит в)соч…тание г)зам…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Выбрать вариант с буквой 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заж…гается б)расст…лю в)выб…рает г)уд…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80880" y="457200"/>
            <a:ext cx="83059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верь себ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Вставить пропущенные буквы и знаки препинания.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                Рыбалк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-360" y="22860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н…малась з…ря и озеро расст…лалось ра(с,з)глаже(н,нн)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…вниной. Лучи солнца к…снулись берега и роса забл…стала. Припом…наю знакомые стихи: «Шиповник раскрывает лепестки и вздрагивают головы р…стений и к свет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д…раются р…стки…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нулись чайки и пол…тели почти к…саясь воды. Ути(н,нн)ый выводок из зар…слей трос…ников выт…нувшись ц…почкой куда(то) засп…шил. (В)переди выск…чила краснопёрка бл…снув р…скошными пл…вниками и пл…снула хвостом. Ути(н,нн)ое семейство бойко переб…рая лапками то(же) направилось туда и зам…рая от предчу…ствия удачи я б…ру удочку и направлю лодку в то(же) место. Вот леска нат…нулась и я пот…рая руки от (не)терпения подумал Сегодня попируем! Но ,увы, это пр…цепились водор…сли и разозлё(н,нн)ый я распутываю их дли(н,нн)ую бороду. Пернатым везёт болше. Сг…рая от зависти и кляня судьбу я всё(же) (не)соб…раюсь (с,з)давать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инута и попл…вок уходит в воду…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0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0" y="457200"/>
            <a:ext cx="76960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nPABJIEHUEO6PA3OBAHUEM</cp:lastModifiedBy>
  <dcterms:modified xsi:type="dcterms:W3CDTF">2012-06-27T13:17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