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438A-42C7-478E-957A-1ADEDF0F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A68B-F4BF-4839-A117-2B33BAB1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F253F-7344-4F4A-8509-8229BEC7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C51E6-05EB-485E-A6BC-64A2310C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7CE39-8F9C-48B8-A581-FE93CDA3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9E061-6EF9-44E3-80A2-DC944110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B0156-3C3D-4FA1-80E5-C5F52CF6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B1A89-0ACC-49D0-9C01-0D42C3DF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A2633-0113-4E80-90BE-F8F2983A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E4451-D817-42F0-A1B1-3A32FE1A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DB4CA-9E3F-45DA-88B8-D59B997D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902E7-C9FF-46B7-B6F9-17E5977B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19F-2D44-4FD0-B481-359525BD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EDC6F-07F0-471D-83C7-F9B2A530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4B1C2-8BA9-4CA0-A9D0-2FCFB5A9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2C3EC-03BA-4151-AA4A-BA0DFA34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5F5D4-495F-4C35-9F35-8FA65BBD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1D4C7-CE8C-4E18-BB08-D5594058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EBF8C-C53A-4342-A379-78A8CBE8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C16DE-0E5D-494F-8585-86F0BB84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94736-B765-4FD9-840F-D37C37D0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0221B-5BB3-4F7B-BD7C-90929790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9809B-0882-43D0-8132-638885F4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F0D-266A-4625-A420-6E9B40B4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4F7A7-8EF2-4927-9BA1-5B22D664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1A441-7ED9-4627-B64D-8BAA6D77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F6D33-727D-4F99-82F0-CBCF6A26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8C19C-9216-4796-822C-BCCF9DF6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4B9E2-1301-42C4-A6B0-15DBF73F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CF22C-9AB6-493F-931B-BD636F5D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469F6-0809-4A8D-9075-EA512474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5A8DF-DA5E-41DC-9543-8E9A0714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F67AF-DB6A-43CA-B8C6-BD629045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9F062-43A7-4FF4-AE07-EB1DA9F2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B085-01AE-4013-839F-6A30D93F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AC570-0268-487C-A442-8EBE468E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70C74-7DF8-4761-B7D6-1F74DB82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EAE7C-4096-4EC4-8AB3-CA7FB8C6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9CD60-36AA-482D-BB33-D5F48BE1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7F57B-055B-4A7B-B4A7-C13DB8E6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516A7-4C70-4D02-B97B-5549E642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D2636-175F-479F-BA65-5B569451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D02CB-E2A4-46CC-B2D2-D88F693D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BD348-F79D-4EA5-92E3-A873DFDE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EC221-B905-42B5-9441-94367245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D155-79D6-4A11-AAC5-CD8EAEA3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9FE79-34ED-4958-9D13-8A8C3649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4D19C-E74E-4708-AC88-FBFCF0E6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32AAB-4567-4BEE-B39E-04581F89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C8BE1-2736-4128-A033-93188552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30459-B1DC-444F-97F5-E8CC8C89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F04B-A4AA-4764-A663-9FDE20C1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BFDB-2350-4019-A991-D4AA6275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FB7B-7BAC-4614-9884-DD4D7B80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A16C-1579-4472-9FB4-AE6868D3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3C92-13CD-48FE-A2EF-817C8C9D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9008-0518-4582-B3BB-070127BA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5591-7E37-4433-A4DD-A796BE7C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94C8-0DE9-46C1-8124-371A5B36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1860-DD2B-4F76-93BD-94358402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4659-16D2-44A7-818F-8E496080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EDD7-E96B-4600-A46F-7F4B349A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D4281-4CC5-4C6E-BF5E-3A3F44DD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B17C4-5B25-4521-B119-4B641A8D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DF9CF-B816-423C-BF9D-55D10C5C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58987-D1F5-4482-A080-82BA4EED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DFE6A-1C44-47A8-88E9-0AA70E4D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30C3-979D-4A0A-B81D-7F405407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C828B-0D27-47BE-A9D1-4D1F8AEE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80D9C-56BD-4055-9354-6CE91071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DE31B-A324-48B8-ADA7-71FB097F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8DB90-BB5F-475D-8F27-907859CD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B7F8E-E13B-4F6D-96DA-5413ACE6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871D2-F5B0-4A74-86CA-0F28A1D3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591D8-117C-486C-8E5E-6510B34D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74F0DF-B5F8-4638-BE25-F756146E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A7C69D-CEEF-4747-BEA6-42866072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F7AD2B-B480-466E-B120-E23DCBD0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2686-D03C-4ED1-B72A-960B4421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04B498-39E7-4A1F-BB35-C43E995F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FA528C-87EF-4BCE-BDEB-E8EE86C3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08333D-743B-415F-8F96-15C9DE12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31F4E2-7524-4051-BC66-E16AE204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79F777-32A8-4497-86C5-11179506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DC59A2-917B-4664-AA05-CBCC33F3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123FE0-2450-4AD6-A404-AA4C6D11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F20BC3-CC8A-470B-9C44-ACB8FBD3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88DC4E-E354-4AD8-923B-7CF4ADE7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10A08-F24B-4E5D-96FA-320F637D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315A-D859-4354-AEBF-A67D39F2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77CB1-CECF-44A3-AB73-D1DFE81B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45B82-AA0F-455A-899A-B109C361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E468C-6861-4516-92B2-F276B1F8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C9952-D517-437A-80B5-2439F71C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3EF3B-D327-4CFB-BA3C-B94AE478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5452C-87B1-489F-852B-E17DB628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1A5FA-1B4C-48AF-9D0B-0350A499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E9D85-34C6-4855-9F22-F0965AB9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0BBB9-F8C0-4C1A-8A7E-BB67784D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C04B2-2302-4E07-9D92-FF2BC923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24D7-0304-4003-8A24-3E32B094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56367-1058-472A-898E-224181CB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33EA5-4027-4621-A41B-7E6F417A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CAA0F-5536-4E08-9C51-33474CBE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B9EFB-CFD8-4329-AD33-8CA63A9E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4DE9F-E94B-4AD6-B1E2-E42171AC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E3820-4828-4841-9426-F479B33F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6BBFD-890A-45AB-ABB7-0A12EFBF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D8267-3AA4-4B90-AF8F-728C0724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0EC58-F678-49AC-A134-332ED966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B6F4C-DBC4-40F6-A34B-D7FC9BBA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5B2-2FA5-4B31-A422-515D2580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3C182-C3D1-4248-9356-02A4CD03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04326-3109-46CA-B55F-E2E14C17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BB0DA-225B-4306-A0B1-D6473E69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2828A-AE5C-45B3-8F63-89A657F6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C3697-7E8D-4A38-97ED-9C98F7B6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485EB-B18A-41A5-8C1B-4983AFB8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041B3-BFF8-4990-91DA-3CB26C34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3335C-FA8A-4649-A848-03A21C8C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B0C67-9537-4525-9D5A-0873412A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9D2A1-267D-4C01-8172-1B6C0B87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C4D-38B8-46DC-AD1B-003C85BF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AE862-DECE-4F77-AFF8-F1D2D5C1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55837-28C8-458B-8758-2CC914B0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A67F5-BCA0-4035-9E3F-D3CF44FC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64FC0-D715-4911-9D33-62E0577C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0A38B-78A5-4B41-9CD8-F339FB1D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3FC9C-3523-41CD-B70B-C00B2C3E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E5E47-BCD2-489B-B4C3-F365186D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9F3A0-7E58-40A9-9C45-2EAC039A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58307-C650-45D7-81E0-54210D36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8DB93-78C1-4434-B3E4-57424226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774-F80F-41AB-B29C-D88E8DDF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205CF-EA2B-4B99-A2D6-D6526FA5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8A3C5-F54E-478B-81C8-EBE8C989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88DE6-BC21-48EA-BA7B-7F8048CD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EC2A4-D72D-4604-B825-734F4364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347AE-2EA9-4D95-ACEB-940374DF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B5CE3-2058-4521-BD83-D423E41D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78B9A-BACC-4733-A539-26D6EA9D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5351B-4B9B-4A8D-A8B3-015F7AB2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3D90A-D9EA-4A43-B326-1524F8E6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FEFDF-A7A5-46D0-BE1D-BE1067BA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09.xml"/><Relationship Id="rId32" Type="http://schemas.openxmlformats.org/officeDocument/2006/relationships/slideLayout" Target="../slideLayouts/slideLayout110.xml"/><Relationship Id="rId33" Type="http://schemas.openxmlformats.org/officeDocument/2006/relationships/slideLayout" Target="../slideLayouts/slideLayout111.xml"/><Relationship Id="rId34" Type="http://schemas.openxmlformats.org/officeDocument/2006/relationships/slideLayout" Target="../slideLayouts/slideLayout112.xml"/><Relationship Id="rId35" Type="http://schemas.openxmlformats.org/officeDocument/2006/relationships/slideLayout" Target="../slideLayouts/slideLayout113.xml"/><Relationship Id="rId36" Type="http://schemas.openxmlformats.org/officeDocument/2006/relationships/slideLayout" Target="../slideLayouts/slideLayout114.xml"/><Relationship Id="rId37" Type="http://schemas.openxmlformats.org/officeDocument/2006/relationships/slideLayout" Target="../slideLayouts/slideLayout115.xml"/><Relationship Id="rId38" Type="http://schemas.openxmlformats.org/officeDocument/2006/relationships/slideLayout" Target="../slideLayouts/slideLayout116.xml"/><Relationship Id="rId39" Type="http://schemas.openxmlformats.org/officeDocument/2006/relationships/slideLayout" Target="../slideLayouts/slideLayout117.xml"/><Relationship Id="rId40" Type="http://schemas.openxmlformats.org/officeDocument/2006/relationships/slideLayout" Target="../slideLayouts/slideLayout118.xml"/><Relationship Id="rId41" Type="http://schemas.openxmlformats.org/officeDocument/2006/relationships/slideLayout" Target="../slideLayouts/slideLayout119.xml"/><Relationship Id="rId4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978C-70FC-4C4F-836B-C626C97C7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8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8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8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8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8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9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0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0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2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DB35-7B63-469A-BAE6-04FA723A34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1"/>
    <p:sldLayoutId id="2147483767" r:id="rId32"/>
    <p:sldLayoutId id="2147483768" r:id="rId33"/>
    <p:sldLayoutId id="2147483769" r:id="rId34"/>
    <p:sldLayoutId id="2147483770" r:id="rId35"/>
    <p:sldLayoutId id="2147483771" r:id="rId36"/>
    <p:sldLayoutId id="2147483772" r:id="rId37"/>
    <p:sldLayoutId id="2147483773" r:id="rId38"/>
    <p:sldLayoutId id="2147483774" r:id="rId39"/>
    <p:sldLayoutId id="2147483775" r:id="rId40"/>
    <p:sldLayoutId id="2147483776" r:id="rId41"/>
    <p:sldLayoutId id="2147483777" r:id="rId4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7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8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05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0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0CB2-BAF0-47E7-8C1C-0FF27ED6211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954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958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2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983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8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6F71-1703-430D-A962-19D7CE04C21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287C-06EB-48E3-AC14-AC0D78AD9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C8A6-DC72-4DA9-857D-47A2D71C1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6010-AEFB-4288-8174-16A86836D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0D95-7A5F-40EF-9A5A-964C27558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5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0ACD-8D6F-48E2-9432-21C1BAD30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0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0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4642-9630-4151-AC20-A21FBF0C18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5867-757A-4048-9BC1-E84B10C3D70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84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88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89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91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3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9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4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6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07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1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2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5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9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0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1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2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3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4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5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6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27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55E4-B6F9-42D6-BD77-F2BE25E270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ередующиеся гласные в корне сл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2590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БОУ СОШ №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 «А» клас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циально-гуманита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читель: Кругликова Л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609120" y="19051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ф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иоптр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испанс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куме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нельз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ска (вин. п. доску; мн.ч. доски, досок, доска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рев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рем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ухов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304920" y="533520"/>
            <a:ext cx="8610480" cy="1523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latin typeface="Arial"/>
              </a:rPr>
              <a:t>Говори правильно</a:t>
            </a:r>
            <a:endParaRPr b="0" lang="en-US" sz="18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Гласные в корне сло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52280" y="2971800"/>
            <a:ext cx="2895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веряемые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зудар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да-во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1752120" y="1828800"/>
            <a:ext cx="76212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495680" y="1752480"/>
            <a:ext cx="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400800" y="1752480"/>
            <a:ext cx="60948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666880" y="3809880"/>
            <a:ext cx="34290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проверяемые безудар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роб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рек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стибю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867280" y="3124080"/>
            <a:ext cx="32767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редующие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\о, и\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висят от конечной согласной кор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висят от удар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висят от наличия суффикса а после кор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рни, правописание которых надо запомни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висят от лексического значения корн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0" y="0"/>
            <a:ext cx="9229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5 групп корней с чередующимися гласными а\о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88423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группа корней: а)раст-ращ-рос, б)лаг-лож, в)скак-ско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Исключения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группа корней: а)гар-гор, б)зар-зор, в)клан-клон, твар-твор, пазд-поз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Исключения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группа корней: кас-ко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Исключения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группа корней: плав-п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Исключения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группа корней: а)мак-мок, б)равн-ров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Исключения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??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0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0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0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0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0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0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0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0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0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0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0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0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7615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Бер-бир                  ин-и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Тер-тир                  занимать-заня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ер-дир                 сжимать-сжат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ер-пир                 </a:t>
            </a:r>
            <a:r>
              <a:rPr b="0" lang="en-US" sz="3200" spc="-1" strike="noStrike" u="sng">
                <a:solidFill>
                  <a:srgbClr val="2f1311"/>
                </a:solidFill>
                <a:uFillTx/>
                <a:latin typeface="Arial"/>
              </a:rPr>
              <a:t>Исключения: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??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тел-сти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Блест-блис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ер-мир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Жег-жиг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ет-ч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152280" y="228600"/>
            <a:ext cx="8029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едующиеся гласные и\е в корне слова</a:t>
            </a:r>
            <a:endParaRPr b="0" lang="en-US" sz="1800" spc="1" strike="noStrike">
              <a:ln w="0">
                <a:noFill/>
              </a:ln>
              <a:solidFill>
                <a:srgbClr val="3333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0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0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0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0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 Выбрать вариант  с буквой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)изл…жение б)прик…снуться в)ск…чо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)з…рьк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 Выбрать вариант с буквой 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)р…стение б)разг…рался в)пл…вцы     г)ур…вен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 Выбрать вариант с буквой О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)ск…кать б)обм…кнуть в)р…внина г)р…сл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 Выбрать вариант с буквой О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)утв…рь б)покл…н в)пл…вники г)ср…вни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 Выбрать вариант с буквой И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)соб…ру б)бл…стит в)соч…тание г)зам…ра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6. Выбрать вариант с буквой Е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)заж…гается б)расст…лю в)выб…рает г)уд…ра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380880" y="457200"/>
            <a:ext cx="830592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оверь себ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0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0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10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0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0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0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0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0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0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0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0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10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0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0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0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0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0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0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0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0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0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0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0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0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0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0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0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Вставить пропущенные буквы и знаки препинания.</a:t>
            </a:r>
            <a:br>
              <a:rPr sz="4000"/>
            </a:b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                    Рыбалка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-360" y="22860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ан…малась з…ря и озеро расст…лалось ра(с,з)глаже(н,нн)о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…вниной. Лучи солнца к…снулись берега и роса забл…стала. Припом…наю знакомые стихи: «Шиповник раскрывает лепестки и вздрагивают головы р…стений и к свет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од…раются р…стки…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оснулись чайки и пол…тели почти к…саясь воды. Ути(н,нн)ый выводок из зар…слей трос…ников выт…нувшись ц…почкой куда(то) засп…шил. (В)переди выск…чила краснопёрка бл…снув р…скошными пл…вниками и пл…снула хвостом. Ути(н,нн)ое семейство бойко переб…рая лапками то(же) направилось туда и зам…рая от предчу…ствия удачи я б…ру удочку и направлю лодку в то(же) место. Вот леска нат…нулась и я пот…рая руки от (не)терпения подумал Сегодня попируем! Но ,увы, это пр…цепились водор…сли и разозлё(н,нн)ый я распутываю их дли(н,нн)ую бороду. Пернатым везёт болше. Сг…рая от зависти и кляня судьбу я всё(же) (не)соб…раюсь (с,з)даватьс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инута и попл…вок уходит в воду…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77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770" fill="hold"/>
                                        <p:tgtEl>
                                          <p:spTgt spid="10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0" dur="77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0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0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0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0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0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0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0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 txBox="1"/>
          <p:nvPr/>
        </p:nvSpPr>
        <p:spPr>
          <a:xfrm>
            <a:off x="0" y="457200"/>
            <a:ext cx="7696080" cy="58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nPABJIEHUEO6PA3OBAHUEM</cp:lastModifiedBy>
  <dcterms:modified xsi:type="dcterms:W3CDTF">2012-06-27T13:17:3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