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8A7-ED02-4189-B412-17E6044A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4C82-61BC-43D4-914F-BE267E8F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9851-FA98-482E-80F4-58A89620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9AE-0178-4A62-B92A-6E7D2B0D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BC4-7297-48FA-AB00-73FC4900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7A3-24FD-4673-B699-4908E6C1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F6C-6F46-4037-AD9B-048A998C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6760-D688-4C79-80C6-3D135761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C670-D3AD-4B18-A1E6-764AA691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11D1-78E4-4506-A2F2-DD5763CC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CB4-1CDD-4467-883E-6707A249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DF46-9203-4339-B48A-AB961173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2B9A-DF21-4428-A7AE-FD61D5800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76200" y="1962000"/>
            <a:ext cx="8391600" cy="14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БЕЛКИ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62720" y="5157720"/>
            <a:ext cx="84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Ученица 10 «Д» класса: Перевертень Анна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Учитель: Дунаева И.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91360" y="573084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Москва 2010 г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26920" y="189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Химические свойства бе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341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1.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Monotype Corsiva"/>
              </a:rPr>
              <a:t>Гидролиз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 (кислотно-основный, ферментативный), в результате которого образуются аминокисл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637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2.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Monotype Corsiva"/>
              </a:rPr>
              <a:t>Денатурация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 – нарушение природной структуры белка под действием нагревания или химических реаг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3313080" cy="2865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80000" y="407664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4395960"/>
            <a:ext cx="518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Денатурированный белок теряет свои биологические св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659320" cy="20034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37960" y="4149720"/>
            <a:ext cx="2521080" cy="18525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826920" y="189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Цветные реакции на бе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413000"/>
            <a:ext cx="594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1.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Monotype Corsiva"/>
              </a:rPr>
              <a:t>Ксантопротеиновая</a:t>
            </a: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 – взаимодействие с концентрированной азотной кислотой, которое сопровождается появлением желтой окра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43280" y="4076640"/>
            <a:ext cx="630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2. 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Monotype Corsiva"/>
              </a:rPr>
              <a:t>Биуретовая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 – взаимодействие слабощелочных растворов белков с раствором сульфата меди (</a:t>
            </a: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II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), в результате которой появляется фиолетово-синяя окра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59280" y="771480"/>
            <a:ext cx="4038480" cy="510552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468360" y="1125360"/>
            <a:ext cx="38163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Жизнь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это спос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существ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белковых т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5157720"/>
            <a:ext cx="30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Monotype Corsiva"/>
              </a:rPr>
              <a:t>Ф.Энгель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54936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Monotype Corsiva"/>
              </a:rPr>
              <a:t>Белки</a:t>
            </a:r>
            <a:r>
              <a:rPr b="0" lang="en-US" sz="4000" spc="-1" strike="noStrike">
                <a:solidFill>
                  <a:srgbClr val="333399"/>
                </a:solidFill>
                <a:latin typeface="Monotype Corsiva"/>
              </a:rPr>
              <a:t> – высокомолекулярные природные соединения (биополимеры), состоящие из остатков аминокислот, которые соединены пептидной связью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314172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Monotype Corsiva"/>
              </a:rPr>
              <a:t>Бел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50198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onotype Corsiva"/>
              </a:rPr>
              <a:t>Протеи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19840" y="50054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onotype Corsiva"/>
              </a:rPr>
              <a:t>Протеид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16000" y="4103640"/>
            <a:ext cx="863640" cy="863640"/>
          </a:xfrm>
          <a:prstGeom prst="line">
            <a:avLst/>
          </a:prstGeom>
          <a:ln w="28440">
            <a:solidFill>
              <a:srgbClr val="00008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4103640"/>
            <a:ext cx="1008000" cy="792360"/>
          </a:xfrm>
          <a:prstGeom prst="line">
            <a:avLst/>
          </a:prstGeom>
          <a:ln w="28440">
            <a:solidFill>
              <a:srgbClr val="00008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 состав белковых веществ входят: углерод, водород, кислород, азот, сера, фосфо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Гемоглобин –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omic Sans MS"/>
              </a:rPr>
              <a:t>3032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omic Sans MS"/>
              </a:rPr>
              <a:t>4816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omic Sans MS"/>
              </a:rPr>
              <a:t>872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omic Sans MS"/>
              </a:rPr>
              <a:t>780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omic Sans MS"/>
              </a:rPr>
              <a:t>8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Fe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omic Sans MS"/>
              </a:rPr>
              <a:t>4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Молекулярная масса белков колеблется от нескольких тысяч до нескольких миллион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Mr белка яйца = 36 000, Mr белка мышц = 1 50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Качественный состав бе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9280" y="2519280"/>
            <a:ext cx="8785440" cy="414972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0" y="260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Monotype Corsiva"/>
              </a:rPr>
              <a:t>Первичная структура</a:t>
            </a:r>
            <a:r>
              <a:rPr b="0" lang="en-US" sz="4000" spc="-1" strike="noStrike">
                <a:solidFill>
                  <a:srgbClr val="333399"/>
                </a:solidFill>
                <a:latin typeface="Monotype Corsiva"/>
              </a:rPr>
              <a:t> – последовательность чередования аминокислотных остатков в полипептидной цеп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3505320" cy="617220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635280" y="189000"/>
            <a:ext cx="5257800" cy="75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Monotype Corsiva"/>
              </a:rPr>
              <a:t>Вторичная структура</a:t>
            </a:r>
            <a:r>
              <a:rPr b="0" lang="en-US" sz="3600" spc="-1" strike="noStrike">
                <a:solidFill>
                  <a:srgbClr val="333399"/>
                </a:solidFill>
                <a:latin typeface="Monotype Corsiva"/>
              </a:rPr>
              <a:t> – пространственная конфигурация полипептидной цепи, то есть ее возможное расположение в пространст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onotype Corsiva"/>
              </a:rPr>
              <a:t>Для белков наиболее часто встречающимся вариантом вторичной структуры  является </a:t>
            </a: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спираль</a:t>
            </a:r>
            <a:r>
              <a:rPr b="0" lang="en-US" sz="36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888000" cy="590400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0" y="404640"/>
            <a:ext cx="5003640" cy="86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Monotype Corsiva"/>
              </a:rPr>
              <a:t>Третичная структура</a:t>
            </a:r>
            <a:r>
              <a:rPr b="0" lang="en-US" sz="3600" spc="-1" strike="noStrike">
                <a:solidFill>
                  <a:srgbClr val="333399"/>
                </a:solidFill>
                <a:latin typeface="Monotype Corsiva"/>
              </a:rPr>
              <a:t> – трехмерная  конфигурация, которую принимает в пространстве закрученная спира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onotype Corsiva"/>
              </a:rPr>
              <a:t>Третичной структурой объясняется специфичность белковой молекулы и ее биологическая актив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816360" cy="48960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4284720" y="770040"/>
            <a:ext cx="485928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Monotype Corsiva"/>
              </a:rPr>
              <a:t>Четвертичная структура</a:t>
            </a:r>
            <a:r>
              <a:rPr b="0" lang="en-US" sz="3600" spc="-1" strike="noStrike">
                <a:solidFill>
                  <a:srgbClr val="333399"/>
                </a:solidFill>
                <a:latin typeface="Monotype Corsiva"/>
              </a:rPr>
              <a:t> – расположение в пространстве нескольких полипептидных цепей, каждая из которых имеет свою первичную, вторичную и третичную структуру и называется </a:t>
            </a: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субъединицей</a:t>
            </a:r>
            <a:r>
              <a:rPr b="0" lang="en-US" sz="36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26920" y="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Comic Sans MS"/>
              </a:rPr>
              <a:t>Функции бе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Строительная (пластическая) –</a:t>
            </a:r>
            <a:r>
              <a:rPr b="0" lang="en-US" sz="2800" spc="-1" strike="noStrike">
                <a:solidFill>
                  <a:srgbClr val="333399"/>
                </a:solidFill>
                <a:latin typeface="Monotype Corsiva"/>
              </a:rPr>
              <a:t> белки участвуют в образовании оболочки клетки, органоидов и мембран клетк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Каталитическая – </a:t>
            </a:r>
            <a:r>
              <a:rPr b="0" lang="en-US" sz="2800" spc="-1" strike="noStrike">
                <a:solidFill>
                  <a:srgbClr val="333399"/>
                </a:solidFill>
                <a:latin typeface="Monotype Corsiva"/>
              </a:rPr>
              <a:t>все клеточные катализаторы – белки (активные центры фермент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Двигательная – </a:t>
            </a:r>
            <a:r>
              <a:rPr b="0" lang="en-US" sz="2800" spc="-1" strike="noStrike">
                <a:solidFill>
                  <a:srgbClr val="333399"/>
                </a:solidFill>
                <a:latin typeface="Monotype Corsiva"/>
              </a:rPr>
              <a:t>сократительные белки вызывают всякое движ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Транспортная – </a:t>
            </a:r>
            <a:r>
              <a:rPr b="0" lang="en-US" sz="2800" spc="-1" strike="noStrike">
                <a:solidFill>
                  <a:srgbClr val="333399"/>
                </a:solidFill>
                <a:latin typeface="Monotype Corsiva"/>
              </a:rPr>
              <a:t>белок крови гемоглобин присоединяет кислород и разносит его по всем ткан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Защитная – </a:t>
            </a:r>
            <a:r>
              <a:rPr b="0" lang="en-US" sz="2800" spc="-1" strike="noStrike">
                <a:solidFill>
                  <a:srgbClr val="333399"/>
                </a:solidFill>
                <a:latin typeface="Monotype Corsiva"/>
              </a:rPr>
              <a:t>выработка белковых тел и антител для обезвреживания чужеродных веще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Энергетическая – </a:t>
            </a:r>
            <a:r>
              <a:rPr b="0" lang="en-US" sz="2800" spc="-1" strike="noStrike">
                <a:solidFill>
                  <a:srgbClr val="333399"/>
                </a:solidFill>
                <a:latin typeface="Monotype Corsiva"/>
              </a:rPr>
              <a:t>1 г белка эквивалентен 17,6 кДж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Рецепторная – </a:t>
            </a:r>
            <a:r>
              <a:rPr b="0" lang="en-US" sz="2800" spc="-1" strike="noStrike">
                <a:solidFill>
                  <a:srgbClr val="333399"/>
                </a:solidFill>
                <a:latin typeface="Monotype Corsiva"/>
              </a:rPr>
              <a:t>реакция на внешний раздраж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05:29:24Z</dcterms:created>
  <dc:creator/>
  <dc:description/>
  <dc:language>en-US</dc:language>
  <cp:lastModifiedBy>комп</cp:lastModifiedBy>
  <dcterms:modified xsi:type="dcterms:W3CDTF">2010-04-09T16:20:08Z</dcterms:modified>
  <cp:revision>6</cp:revision>
  <dc:subject/>
  <dc:title>Перевертень</dc:title>
</cp:coreProperties>
</file>