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752-7955-4342-A88D-24C3BA21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ADC-5A80-4FC1-B6E6-F2E4EC6E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901-FA04-496B-BDFE-830478B1F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874-04E9-4BC3-973D-89A87F6D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980-95BB-4363-8877-3FD433A7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B36-8EF9-41A3-8A35-039CCCF2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96A-A411-4AD4-A315-CF56EFCB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D29-84EE-46E9-8FE3-4E50BD48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C49-AC13-498B-8E4E-F7573C0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EC9-17B6-4E95-B4F2-95E1FD1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43F-1CAD-4B80-AE0D-2285A030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B6B-90C7-4164-A0B5-6A179CD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ED2C-87F8-4502-9A4A-478D066E6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76200" y="1962000"/>
            <a:ext cx="839160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БЕЛКИ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62720" y="515772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Ученица 10 «Д» класса: Перевертень Анн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Учитель: Дунаева И.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91360" y="573084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осква 2010 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2692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Химические свойства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341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1.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Monotype Corsiva"/>
              </a:rPr>
              <a:t>Гидролиз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(кислотно-основный, ферментативный), в результате которого образуются аминокис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37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2.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Monotype Corsiva"/>
              </a:rPr>
              <a:t>Денатурация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 – нарушение природной структуры белка под действием нагревания или химических реаг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3313080" cy="2865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80000" y="407664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80000" y="4395960"/>
            <a:ext cx="51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Денатурированный белок теряет свои биологические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659320" cy="200340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37960" y="4149720"/>
            <a:ext cx="2521080" cy="185256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826920" y="18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Цветные реакции на б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13000"/>
            <a:ext cx="59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1.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Monotype Corsiva"/>
              </a:rPr>
              <a:t>Ксантопротеиновая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– взаимодействие с концентрированной азотной кислотой, которое сопровождается появлением желтой окра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3280" y="4076640"/>
            <a:ext cx="6300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2.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Monotype Corsiva"/>
              </a:rPr>
              <a:t>Биуретовая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– взаимодействие слабощелочных растворов белков с раствором сульфата меди (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I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), в результате которой появляется фиолетово-синяя окра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59280" y="771480"/>
            <a:ext cx="4038480" cy="5105520"/>
          </a:xfrm>
          <a:prstGeom prst="rect">
            <a:avLst/>
          </a:prstGeom>
          <a:ln w="28440">
            <a:solidFill>
              <a:srgbClr val="00008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468360" y="1125360"/>
            <a:ext cx="3816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Жизн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это спос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существ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белковых т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5157720"/>
            <a:ext cx="30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Monotype Corsiva"/>
              </a:rPr>
              <a:t>Ф.Энгель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549360"/>
            <a:ext cx="896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Monotype Corsiva"/>
              </a:rPr>
              <a:t>Белки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 – высокомолекулярные природные соединения (биополимеры), состоящие из остатков аминокислот, которые соединены пептидной связью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31417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Monotype Corsiva"/>
              </a:rPr>
              <a:t>Б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0198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Протеи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19840" y="50054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Протеи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16000" y="4103640"/>
            <a:ext cx="863640" cy="86364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4103640"/>
            <a:ext cx="1008000" cy="792360"/>
          </a:xfrm>
          <a:prstGeom prst="line">
            <a:avLst/>
          </a:prstGeom>
          <a:ln w="28440">
            <a:solidFill>
              <a:srgbClr val="00008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В состав белковых веществ входят: углерод, водород, кислород, азот, сера, фосф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Гемоглобин –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3032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4816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872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N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780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8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e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Comic Sans MS"/>
              </a:rPr>
              <a:t>4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Молекулярная масса белков колеблется от нескольких тысяч до нескольких миллио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Mr белка яйца = 36 000, Mr белка мышц = 1 50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Comic Sans MS"/>
              </a:rPr>
              <a:t>Качественный состав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2519280"/>
            <a:ext cx="8785440" cy="41497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260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Monotype Corsiva"/>
              </a:rPr>
              <a:t>Первичная структура</a:t>
            </a:r>
            <a:r>
              <a:rPr b="0" lang="en-US" sz="4000" spc="-1" strike="noStrike">
                <a:solidFill>
                  <a:srgbClr val="333399"/>
                </a:solidFill>
                <a:latin typeface="Monotype Corsiva"/>
              </a:rPr>
              <a:t> – последовательность чередования аминокислотных остатков в полипептидной цеп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505320" cy="61722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635280" y="189000"/>
            <a:ext cx="5257800" cy="75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Monotype Corsiva"/>
              </a:rPr>
              <a:t>Вторичная структура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 – пространственная конфигурация полипептидной цепи, то есть ее возможное расположение в простран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Для белков наиболее часто встречающимся вариантом вторичной структуры  является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спираль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88000" cy="59040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0" y="404640"/>
            <a:ext cx="5003640" cy="86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Monotype Corsiva"/>
              </a:rPr>
              <a:t>Третичная структура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 – трехмерная  конфигурация, которую принимает в пространстве закрученная спира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Третичной структурой объясняется специфичность белковой молекулы и ее биологическая актив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4896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4284720" y="770040"/>
            <a:ext cx="48592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Monotype Corsiva"/>
              </a:rPr>
              <a:t>Четвертичная структура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 – расположение в пространстве нескольких полипептидных цепей, каждая из которых имеет свою первичную, вторичную и третичную структуру и называется </a:t>
            </a:r>
            <a:r>
              <a:rPr b="1" lang="en-US" sz="3600" spc="-1" strike="noStrike">
                <a:solidFill>
                  <a:srgbClr val="333399"/>
                </a:solidFill>
                <a:latin typeface="Monotype Corsiva"/>
              </a:rPr>
              <a:t>субъединицей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Comic Sans MS"/>
              </a:rPr>
              <a:t>Функции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Строительная (пластическая) –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 белки участвуют в образовании оболочки клетки, органоидов и мембран клетк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Каталитическ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все клеточные катализаторы – белки (активные центры фермен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Двигательн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сократительные белки вызывают всякое движ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Транспортн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белок крови гемоглобин присоединяет кислород и разносит его по всем ткан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Защитн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выработка белковых тел и антител для обезвреживания чужеродных веще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Энергетическ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1 г белка эквивалентен 17,6 кДж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Рецепторная – </a:t>
            </a:r>
            <a:r>
              <a:rPr b="0" lang="en-US" sz="2800" spc="-1" strike="noStrike">
                <a:solidFill>
                  <a:srgbClr val="333399"/>
                </a:solidFill>
                <a:latin typeface="Monotype Corsiva"/>
              </a:rPr>
              <a:t>реакция на внешний раздраж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05:29:24Z</dcterms:created>
  <dc:creator/>
  <dc:description/>
  <dc:language>en-US</dc:language>
  <cp:lastModifiedBy>комп</cp:lastModifiedBy>
  <dcterms:modified xsi:type="dcterms:W3CDTF">2010-04-09T16:20:08Z</dcterms:modified>
  <cp:revision>6</cp:revision>
  <dc:subject/>
  <dc:title>Перевертень</dc:title>
</cp:coreProperties>
</file>