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46E-34BE-42C1-A39D-E9502B94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C8D-6102-4C37-ACEA-86426A1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F12-8C26-4F14-8CF8-710AC5EA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78F-0C2B-4219-A6AD-1178C985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B27B-C7DB-45E2-98AF-DC36BB34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7F55-1CCD-4CD0-B6FD-6B556C5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FBE0-005D-4874-AE4D-EC6949F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F916-B8F2-4700-803D-4C96413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147-8932-467F-A191-0EBC6A8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F0E-ABAF-4D0A-9636-7ADC149B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1EF-901F-4FFD-BC37-F96F33F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8B6-5BBE-4E5A-B01C-64FD2D5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E528-7BFB-4EA3-80D9-9616CC5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7B2-C755-47D5-8D16-16B1AAC5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3FF-7C42-40E7-B5FA-86BE675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517-A2E8-4AB0-87B4-D0E8966E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D7F0-B52E-47AB-B8AA-A02BE026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EB4-2B9C-4C7E-B2EE-C25631A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753-AE81-4D64-AA4F-525FE12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81C-12D6-40B9-B90E-52A8FB3D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4C2-7362-48A4-BF7D-642D8F63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2ED-2C5B-4095-8D5B-7AB26C4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898-2D89-4DD4-B70E-25AD95B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034-7274-442F-860C-C21E66E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E2C-9A2E-45A5-9149-5628B4E123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18C-9E1F-461B-9A5F-10F869E9966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457200" y="0"/>
            <a:ext cx="769608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r feiern Geburtsta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5" descr="оонпн"/>
          <p:cNvPicPr/>
          <p:nvPr/>
        </p:nvPicPr>
        <p:blipFill>
          <a:blip r:embed="rId3"/>
          <a:stretch/>
        </p:blipFill>
        <p:spPr>
          <a:xfrm>
            <a:off x="1676520" y="2438280"/>
            <a:ext cx="4800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ь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762120" y="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einen Roch mit Blu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ch habe am 3. Mai Geburtstag. Du bist herzlich eingeladen. Komme bitte 16 Uhr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ртпарипкркеппр"/>
          <p:cNvPicPr/>
          <p:nvPr/>
        </p:nvPicPr>
        <p:blipFill>
          <a:blip r:embed="rId2"/>
          <a:stretch/>
        </p:blipFill>
        <p:spPr>
          <a:xfrm>
            <a:off x="1066680" y="3048120"/>
            <a:ext cx="541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r bringt auch Brot, Butter, Käse u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Wurst. Ralf hilft ihm. Sabine deckt den Tisch. Sie bringt aus der  Gabeln, Tassen.  Gabi hilft ih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оонпн"/>
          <p:cNvPicPr/>
          <p:nvPr/>
        </p:nvPicPr>
        <p:blipFill>
          <a:blip r:embed="rId3"/>
          <a:stretch/>
        </p:blipFill>
        <p:spPr>
          <a:xfrm>
            <a:off x="0" y="3657600"/>
            <a:ext cx="2819520" cy="320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ртпарипкркеппр"/>
          <p:cNvPicPr/>
          <p:nvPr/>
        </p:nvPicPr>
        <p:blipFill>
          <a:blip r:embed="rId4"/>
          <a:stretch/>
        </p:blipFill>
        <p:spPr>
          <a:xfrm>
            <a:off x="2819520" y="3657600"/>
            <a:ext cx="325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оекрекрп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5"/>
          <p:cNvSpPr txBox="1"/>
          <p:nvPr/>
        </p:nvSpPr>
        <p:spPr>
          <a:xfrm rot="5400000">
            <a:off x="2399760" y="2247840"/>
            <a:ext cx="601956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die Tas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4" descr="н5у4ну"/>
          <p:cNvPicPr/>
          <p:nvPr/>
        </p:nvPicPr>
        <p:blipFill>
          <a:blip r:embed="rId1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5"/>
          <p:cNvSpPr txBox="1"/>
          <p:nvPr/>
        </p:nvSpPr>
        <p:spPr>
          <a:xfrm rot="5400000">
            <a:off x="1850040" y="2459520"/>
            <a:ext cx="6553080" cy="1633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der Tal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Tanz, immer tanz,…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Braucht Marie zum neue Schule,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Kriegt Marie zum Tanze Schuh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5" descr="ыфсыфсчфы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Geburtstag, Geburtstag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s ist ein schöner Tag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feiern wir und singen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tanzen wir und spring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spielen wir und lache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und essen tolle Sachen!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i"/>
          <p:cNvPicPr/>
          <p:nvPr/>
        </p:nvPicPr>
        <p:blipFill>
          <a:blip r:embed="rId1"/>
          <a:stretch/>
        </p:blipFill>
        <p:spPr>
          <a:xfrm>
            <a:off x="0" y="152280"/>
            <a:ext cx="34290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5"/>
          <p:cNvSpPr txBox="1"/>
          <p:nvPr/>
        </p:nvSpPr>
        <p:spPr>
          <a:xfrm rot="5400000">
            <a:off x="1770840" y="302904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nen Teddybä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543кее"/>
          <p:cNvPicPr/>
          <p:nvPr/>
        </p:nvPicPr>
        <p:blipFill>
          <a:blip r:embed="rId1"/>
          <a:stretch/>
        </p:blipFill>
        <p:spPr>
          <a:xfrm>
            <a:off x="152280" y="1219320"/>
            <a:ext cx="3257640" cy="5410080"/>
          </a:xfrm>
          <a:prstGeom prst="rect">
            <a:avLst/>
          </a:prstGeom>
          <a:ln w="0">
            <a:noFill/>
          </a:ln>
        </p:spPr>
      </p:pic>
      <p:sp>
        <p:nvSpPr>
          <p:cNvPr id="205" name="WordArt 5"/>
          <p:cNvSpPr txBox="1"/>
          <p:nvPr/>
        </p:nvSpPr>
        <p:spPr>
          <a:xfrm>
            <a:off x="2514600" y="2362320"/>
            <a:ext cx="662940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in neues Fahrr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г5н54н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5"/>
          <p:cNvSpPr txBox="1"/>
          <p:nvPr/>
        </p:nvSpPr>
        <p:spPr>
          <a:xfrm rot="5400000">
            <a:off x="2726280" y="2421360"/>
            <a:ext cx="5715000" cy="254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ein Kle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н7897нг"/>
          <p:cNvPicPr/>
          <p:nvPr/>
        </p:nvPicPr>
        <p:blipFill>
          <a:blip r:embed="rId1"/>
          <a:stretch/>
        </p:blipFill>
        <p:spPr>
          <a:xfrm>
            <a:off x="0" y="228600"/>
            <a:ext cx="2666880" cy="66294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 rot="5400000">
            <a:off x="2383200" y="2154960"/>
            <a:ext cx="6019920" cy="216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eue Schuh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трепкуп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65530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 rot="5400000">
            <a:off x="1773720" y="2916720"/>
            <a:ext cx="6172200" cy="1100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ine Schildkröt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тит"/>
          <p:cNvPicPr/>
          <p:nvPr/>
        </p:nvPicPr>
        <p:blipFill>
          <a:blip r:embed="rId1"/>
          <a:stretch/>
        </p:blipFill>
        <p:spPr>
          <a:xfrm>
            <a:off x="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914400" y="0"/>
            <a:ext cx="685800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chreibware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гн"/>
          <p:cNvPicPr/>
          <p:nvPr/>
        </p:nvPicPr>
        <p:blipFill>
          <a:blip r:embed="rId1"/>
          <a:stretch/>
        </p:blipFill>
        <p:spPr>
          <a:xfrm>
            <a:off x="0" y="-533520"/>
            <a:ext cx="3276720" cy="73915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762120" y="0"/>
            <a:ext cx="5562360" cy="14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in Aquariu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8T04:27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