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04FA-FA23-4542-B016-9A1EFD5A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6F59-51C0-4B7F-86A3-A7CD0943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4DB-38EA-45D8-A9C2-C49F8C18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CDD3-FD17-463B-854F-A2259D35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2DD4-7830-4533-BFB6-D558AE00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5DEB-2555-4828-8707-0536600F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29FF-FF38-4C54-9EEB-F43BB093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5E1D-314B-422A-94DB-777B0633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87EB-73DE-4783-8E11-237BAF90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73A9-E15C-4EA1-9988-5E2B35BF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AAE5-6439-48EE-8272-93578EF9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FFE-76EE-4C15-85DA-06CF8FAE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8649-FE95-49B4-B5E2-164915E8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945A-02C6-455C-8061-298D87D4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4991-1B05-48A2-A48E-9234DBB2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85F8-02DE-4860-839A-664DDB9B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DDF6-40DD-435F-85D9-D715B0CE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1037D-EA2F-47E2-A80B-EA4B3A02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229D0-9839-4A39-AE74-F28A882A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9E01A-D380-4F7A-AC17-6624EE29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EF195-D29A-485D-8381-1EA7841C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4C490-1F16-4E8C-9D28-96A46589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D6E-17EE-4EE8-B360-3333B8E9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75880-CDE4-47BC-AE40-2357E70E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F6721-051C-4AA2-A140-8A51F86A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4EEEB-5A4E-4C03-95FD-A28B96EE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F8DF3-1F31-4586-A24B-A75ACFCB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7EFA1-CD19-4D25-8E7D-FED846F6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D932C-6C5D-46C9-B18A-F5D9343E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E4C7A-A099-4105-8F24-3FEEB826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C2B6B-A0FD-4BEC-AD32-29CE7CCE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8EEE0-C6BB-433D-A266-27688848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EC340-02BE-4554-8DE8-F9DE420E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F267-A74F-4511-A004-31114E5E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2DB6E-C806-4F2E-A028-E36F3859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9F511-50D8-4A12-8004-FEACF7F5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05EED-D3CA-4BB1-9A7B-838E38EA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FE26F-BBE2-41C2-BFF1-049EF753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E380E-4737-434E-B100-B9366FA8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099F4-C3F1-4992-9443-94B4192C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5B4D9-CACB-4216-8E9A-42A826A0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1DDC6-7D16-437A-8D9A-289548DD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F34E3-308C-451A-8952-886D1A4A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EC8FF-AC52-4228-AB5A-8CE56CC7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F9C5-60EA-445D-99A2-62CDDE8B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605F7-0CFD-401E-B7F9-7E9E421F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6E0FB-AA48-4CBF-BBFD-F93BC7CF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7BC68-5252-4914-A02C-1B6D9AB9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1C5AB-4971-4BE3-8229-D7D537E6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BF642-BC90-4A85-B5F9-7D5B2485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A58CF-B3BA-4B1F-AECA-2AEE676A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1FA15-628E-442C-A361-53C492B3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58C38-60C2-4C20-8064-052E2E37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0F5C4-E2CA-4845-BBC3-8EB57782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3E9E9-2D47-4707-981F-952A887F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D10F-5344-4B09-BD80-415CD152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1ED0D-7193-4BCF-A97D-AF7215D8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5F8-D986-42E9-852B-ABC641EA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692F-39A3-4983-B9BF-FBB55CFB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E46B-9995-4BA4-B03A-99096A47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9790-BFB6-409A-8D2D-7FEC3C4F18C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0F77-496F-4C23-A7FF-60FAB6AB761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9EF8-0F39-45AA-BC4A-2059681B8A1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1BDC-87D9-436F-AB74-5E2F0859B58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AD14-8D32-4D65-80CA-5E1FA09FD26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8d3e"/>
                </a:solidFill>
                <a:latin typeface="Verdana"/>
              </a:rPr>
              <a:t>Игра – это серьезно</a:t>
            </a:r>
            <a:endParaRPr b="1" lang="en-US" sz="8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4929120" y="3286080"/>
            <a:ext cx="3143160" cy="2786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Классификация подвижных игр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Элементар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южетные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ессюжет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гры-заба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ттракцио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лож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портивные иг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148360" y="3429000"/>
            <a:ext cx="2879640" cy="1665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804000" y="765000"/>
            <a:ext cx="1246320" cy="2121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Классификация подвижных игр</a:t>
            </a:r>
            <a:br>
              <a:rPr sz="3200"/>
            </a:b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по степени физической нагрузк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гры малой подвиж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гры средней подвиж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гры высокой подвиж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Классификация подвижных игр по двигательному содержанию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гры с ходьб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гры с бег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гры с прыжк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гры с метани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8d3e"/>
                </a:solidFill>
                <a:latin typeface="Verdana"/>
              </a:rPr>
              <a:t>Сюжетно-ролевая игра</a:t>
            </a:r>
            <a:endParaRPr b="1" lang="en-US" sz="7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4681440" cy="3511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372360" y="3716280"/>
            <a:ext cx="2155680" cy="2693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Сюжетно-ролевая игр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529920"/>
            <a:ext cx="8183520" cy="4684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7f09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Это такая игра, в которой дети берут на себя роли взрослых людей, и в специально создаваемых ими игровых, воображаемых условиях воспроизводят (или моделируют) деятельность взрослых и отношения между ним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07f09"/>
                </a:solidFill>
                <a:latin typeface="Arial"/>
              </a:rPr>
              <a:t>Основные       </a:t>
            </a:r>
            <a:br>
              <a:rPr sz="5400"/>
            </a:br>
            <a:r>
              <a:rPr b="1" lang="en-US" sz="5400" spc="-1" strike="noStrike">
                <a:solidFill>
                  <a:srgbClr val="f07f09"/>
                </a:solidFill>
                <a:latin typeface="Arial"/>
              </a:rPr>
              <a:t>      аспекты </a:t>
            </a:r>
            <a:br>
              <a:rPr sz="5400"/>
            </a:br>
            <a:r>
              <a:rPr b="1" lang="en-US" sz="5400" spc="-1" strike="noStrike">
                <a:solidFill>
                  <a:srgbClr val="f07f09"/>
                </a:solidFill>
                <a:latin typeface="Arial"/>
              </a:rPr>
              <a:t>      игровой </a:t>
            </a:r>
            <a:br>
              <a:rPr sz="5400"/>
            </a:br>
            <a:r>
              <a:rPr b="1" lang="en-US" sz="5400" spc="-1" strike="noStrike">
                <a:solidFill>
                  <a:srgbClr val="f07f09"/>
                </a:solidFill>
                <a:latin typeface="Arial"/>
              </a:rPr>
              <a:t>  деятельности</a:t>
            </a:r>
            <a:br>
              <a:rPr sz="5400"/>
            </a:b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580000" y="692280"/>
            <a:ext cx="2841840" cy="2841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7-конечная звезда 6"/>
          <p:cNvSpPr/>
          <p:nvPr/>
        </p:nvSpPr>
        <p:spPr>
          <a:xfrm>
            <a:off x="2843280" y="1628640"/>
            <a:ext cx="3930480" cy="2928960"/>
          </a:xfrm>
          <a:prstGeom prst="pie">
            <a:avLst/>
          </a:prstGeom>
          <a:solidFill>
            <a:srgbClr val="ffc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словия для развития игро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"/>
          <p:cNvSpPr/>
          <p:nvPr/>
        </p:nvSpPr>
        <p:spPr>
          <a:xfrm rot="21015600">
            <a:off x="5668560" y="331560"/>
            <a:ext cx="2921040" cy="1439640"/>
          </a:xfrm>
          <a:prstGeom prst="rect">
            <a:avLst/>
          </a:prstGeom>
          <a:solidFill>
            <a:srgbClr val="f07f0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Построение развивающего простр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5"/>
          <p:cNvSpPr/>
          <p:nvPr/>
        </p:nvSpPr>
        <p:spPr>
          <a:xfrm>
            <a:off x="324000" y="4724280"/>
            <a:ext cx="2589120" cy="1901880"/>
          </a:xfrm>
          <a:prstGeom prst="rect">
            <a:avLst/>
          </a:prstGeom>
          <a:solidFill>
            <a:srgbClr val="f07f0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Наличие комфорт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ме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для каждого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4"/>
          <p:cNvSpPr/>
          <p:nvPr/>
        </p:nvSpPr>
        <p:spPr>
          <a:xfrm flipH="1" rot="19969800">
            <a:off x="6442560" y="3500280"/>
            <a:ext cx="2295720" cy="1815840"/>
          </a:xfrm>
          <a:prstGeom prst="rect">
            <a:avLst/>
          </a:prstGeom>
          <a:solidFill>
            <a:srgbClr val="fff1c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Каждому возрасту своя игр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4"/>
          <p:cNvSpPr/>
          <p:nvPr/>
        </p:nvSpPr>
        <p:spPr>
          <a:xfrm flipH="1" rot="1383000">
            <a:off x="249840" y="2491920"/>
            <a:ext cx="2466720" cy="1602000"/>
          </a:xfrm>
          <a:prstGeom prst="rect">
            <a:avLst/>
          </a:prstGeom>
          <a:solidFill>
            <a:srgbClr val="fff1c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Учет половых различий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4"/>
          <p:cNvSpPr/>
          <p:nvPr/>
        </p:nvSpPr>
        <p:spPr>
          <a:xfrm flipH="1" rot="42600">
            <a:off x="3708000" y="4869000"/>
            <a:ext cx="2578320" cy="1755720"/>
          </a:xfrm>
          <a:prstGeom prst="rect">
            <a:avLst/>
          </a:prstGeom>
          <a:solidFill>
            <a:srgbClr val="9f2936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Обеспечение условной изолирован-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4"/>
          <p:cNvSpPr/>
          <p:nvPr/>
        </p:nvSpPr>
        <p:spPr>
          <a:xfrm flipH="1" rot="21585000">
            <a:off x="1185120" y="260280"/>
            <a:ext cx="2854440" cy="1800360"/>
          </a:xfrm>
          <a:prstGeom prst="rect">
            <a:avLst/>
          </a:prstGeom>
          <a:solidFill>
            <a:srgbClr val="9f2936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Возможность самостоятельно менять игровую сре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f2936"/>
                </a:solidFill>
                <a:latin typeface="Arial"/>
              </a:rPr>
              <a:t>Формирование оснований для развития детской игры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03280" y="1773360"/>
            <a:ext cx="7531200" cy="468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седы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алоги с детьм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ение художественной литературы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евые прогулки и экскурси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ие технических средств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блюдения за играми других детей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ие музыкального репертуар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ление альбомов, книг по теме игры и т.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2089440" cy="2089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8920" y="5157360"/>
            <a:ext cx="81788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f2936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9f2936"/>
                </a:solidFill>
                <a:latin typeface="Arial"/>
              </a:rPr>
              <a:t>Содействие становлению    </a:t>
            </a:r>
            <a:br>
              <a:rPr sz="3200"/>
            </a:br>
            <a:r>
              <a:rPr b="1" lang="en-US" sz="3200" spc="-1" strike="noStrike">
                <a:solidFill>
                  <a:srgbClr val="9f2936"/>
                </a:solidFill>
                <a:latin typeface="Verdana"/>
              </a:rPr>
              <a:t>      </a:t>
            </a:r>
            <a:r>
              <a:rPr b="1" lang="en-US" sz="3200" spc="-1" strike="noStrike">
                <a:solidFill>
                  <a:srgbClr val="9f2936"/>
                </a:solidFill>
                <a:latin typeface="Arial"/>
              </a:rPr>
              <a:t>игрового опыта ребенка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560" y="1483920"/>
            <a:ext cx="7804440" cy="4179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ство с атрибутами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ство с предметами-заместителями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игрового пространств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ажение типичных черт роли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ы-имитации, режиссёрские, конструктивные и подвижные игры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чной труд, изодеяте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948360" y="4076640"/>
            <a:ext cx="1737000" cy="2287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324000" y="476280"/>
            <a:ext cx="8458200" cy="5979240"/>
            <a:chOff x="324000" y="476280"/>
            <a:chExt cx="8458200" cy="5979240"/>
          </a:xfrm>
        </p:grpSpPr>
        <p:cxnSp>
          <p:nvCxnSpPr>
            <p:cNvPr id="288" name="_s49156"/>
            <p:cNvCxnSpPr>
              <a:stCxn id="289" idx="1"/>
              <a:endCxn id="290" idx="2"/>
            </p:cNvCxnSpPr>
            <p:nvPr/>
          </p:nvCxnSpPr>
          <p:spPr>
            <a:xfrm rot="10800000">
              <a:off x="2860560" y="1329480"/>
              <a:ext cx="846360" cy="469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1" name="_s49157"/>
            <p:cNvCxnSpPr>
              <a:stCxn id="292" idx="1"/>
              <a:endCxn id="290" idx="2"/>
            </p:cNvCxnSpPr>
            <p:nvPr/>
          </p:nvCxnSpPr>
          <p:spPr>
            <a:xfrm rot="10800000">
              <a:off x="2860560" y="1329480"/>
              <a:ext cx="846360" cy="3420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3" name="_s49158"/>
            <p:cNvCxnSpPr>
              <a:stCxn id="294" idx="1"/>
              <a:endCxn id="290" idx="2"/>
            </p:cNvCxnSpPr>
            <p:nvPr/>
          </p:nvCxnSpPr>
          <p:spPr>
            <a:xfrm rot="10800000">
              <a:off x="2860560" y="1329480"/>
              <a:ext cx="846360" cy="213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5" name="_s49159"/>
            <p:cNvCxnSpPr>
              <a:stCxn id="296" idx="1"/>
              <a:endCxn id="290" idx="2"/>
            </p:cNvCxnSpPr>
            <p:nvPr/>
          </p:nvCxnSpPr>
          <p:spPr>
            <a:xfrm rot="10800000">
              <a:off x="2860560" y="1329480"/>
              <a:ext cx="846360" cy="85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0" name="_s49160"/>
            <p:cNvSpPr/>
            <p:nvPr/>
          </p:nvSpPr>
          <p:spPr>
            <a:xfrm>
              <a:off x="324000" y="476280"/>
              <a:ext cx="5074920" cy="853920"/>
            </a:xfrm>
            <a:prstGeom prst="roundRect">
              <a:avLst>
                <a:gd name="adj" fmla="val 16667"/>
              </a:avLst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Роль взрослого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в игровой деятельности дете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49161"/>
            <p:cNvSpPr/>
            <p:nvPr/>
          </p:nvSpPr>
          <p:spPr>
            <a:xfrm>
              <a:off x="3707280" y="1757520"/>
              <a:ext cx="5074920" cy="853920"/>
            </a:xfrm>
            <a:prstGeom prst="roundRect">
              <a:avLst>
                <a:gd name="adj" fmla="val 16667"/>
              </a:avLst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Носитель игровых умени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49162"/>
            <p:cNvSpPr/>
            <p:nvPr/>
          </p:nvSpPr>
          <p:spPr>
            <a:xfrm>
              <a:off x="3707280" y="3038760"/>
              <a:ext cx="5074920" cy="853920"/>
            </a:xfrm>
            <a:prstGeom prst="roundRect">
              <a:avLst>
                <a:gd name="adj" fmla="val 16667"/>
              </a:avLst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Партнёр в игр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49163"/>
            <p:cNvSpPr/>
            <p:nvPr/>
          </p:nvSpPr>
          <p:spPr>
            <a:xfrm>
              <a:off x="3707280" y="4320000"/>
              <a:ext cx="5074920" cy="853920"/>
            </a:xfrm>
            <a:prstGeom prst="roundRect">
              <a:avLst>
                <a:gd name="adj" fmla="val 16667"/>
              </a:avLst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Помощник в организации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и регуляции игр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49164"/>
            <p:cNvSpPr/>
            <p:nvPr/>
          </p:nvSpPr>
          <p:spPr>
            <a:xfrm>
              <a:off x="3707280" y="5601600"/>
              <a:ext cx="5068440" cy="853920"/>
            </a:xfrm>
            <a:prstGeom prst="roundRect">
              <a:avLst>
                <a:gd name="adj" fmla="val 16667"/>
              </a:avLst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Наблюдател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24000" y="3789360"/>
            <a:ext cx="2447640" cy="2173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8d3e"/>
                </a:solidFill>
                <a:latin typeface="Verdana"/>
              </a:rPr>
              <a:t>Игра - </a:t>
            </a:r>
            <a:endParaRPr b="1" lang="en-US" sz="8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онцепция дошкольного воспитания определяет игру как самоценную деятельность, дающую дошкольнику свободу выбора, возможность реализовать себя, достичь состояния эмоционального комфорта, причастности к детскому обществу, получить опыт взаимодействия. Именно в игре происходит становление ребенка как личности, его психическое развитие, формирование учебной и трудовой деятель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789624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Спасибо за внимание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280" y="810720"/>
            <a:ext cx="800748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700" spc="-1" strike="noStrike">
                <a:solidFill>
                  <a:srgbClr val="f07f09"/>
                </a:solidFill>
                <a:latin typeface="Arial"/>
              </a:rPr>
              <a:t>ТЕОРЕТИКИ ИГРЫ</a:t>
            </a:r>
            <a:endParaRPr b="1" lang="en-US" sz="37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6411960" cy="402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6b9f25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.В.Выготс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6b9f25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.Б.Элькони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6b9f25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Н.Леонтье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6b9f25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В.Запороже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6b9f25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С.Мухи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1121040" y="336240"/>
            <a:ext cx="6973560" cy="6250320"/>
            <a:chOff x="1121040" y="336240"/>
            <a:chExt cx="6973560" cy="6250320"/>
          </a:xfrm>
        </p:grpSpPr>
        <p:sp>
          <p:nvSpPr>
            <p:cNvPr id="227" name="_s46084"/>
            <p:cNvSpPr/>
            <p:nvPr/>
          </p:nvSpPr>
          <p:spPr>
            <a:xfrm flipH="1" flipV="1">
              <a:off x="3371400" y="2355840"/>
              <a:ext cx="616680" cy="55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46085"/>
            <p:cNvSpPr/>
            <p:nvPr/>
          </p:nvSpPr>
          <p:spPr>
            <a:xfrm>
              <a:off x="1886040" y="1024200"/>
              <a:ext cx="1744200" cy="1563480"/>
            </a:xfrm>
            <a:prstGeom prst="ellips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b9f25"/>
                  </a:solidFill>
                  <a:latin typeface="Arial"/>
                </a:rPr>
                <a:t>театрализован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46086"/>
            <p:cNvSpPr/>
            <p:nvPr/>
          </p:nvSpPr>
          <p:spPr>
            <a:xfrm flipH="1">
              <a:off x="2859840" y="3461760"/>
              <a:ext cx="87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46087"/>
            <p:cNvSpPr/>
            <p:nvPr/>
          </p:nvSpPr>
          <p:spPr>
            <a:xfrm>
              <a:off x="1121040" y="2679480"/>
              <a:ext cx="1744920" cy="1563480"/>
            </a:xfrm>
            <a:prstGeom prst="ellips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b9f25"/>
                  </a:solidFill>
                  <a:latin typeface="Arial"/>
                </a:rPr>
                <a:t>творческ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46088"/>
            <p:cNvSpPr/>
            <p:nvPr/>
          </p:nvSpPr>
          <p:spPr>
            <a:xfrm flipH="1">
              <a:off x="3371400" y="4014720"/>
              <a:ext cx="616680" cy="55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46089"/>
            <p:cNvSpPr/>
            <p:nvPr/>
          </p:nvSpPr>
          <p:spPr>
            <a:xfrm>
              <a:off x="1886040" y="4335120"/>
              <a:ext cx="1744200" cy="1564200"/>
            </a:xfrm>
            <a:prstGeom prst="ellips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b9f25"/>
                  </a:solidFill>
                  <a:latin typeface="Arial"/>
                </a:rPr>
                <a:t>познаватель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46090"/>
            <p:cNvSpPr/>
            <p:nvPr/>
          </p:nvSpPr>
          <p:spPr>
            <a:xfrm>
              <a:off x="4605480" y="4243320"/>
              <a:ext cx="0" cy="78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46091"/>
            <p:cNvSpPr/>
            <p:nvPr/>
          </p:nvSpPr>
          <p:spPr>
            <a:xfrm>
              <a:off x="3732840" y="5023080"/>
              <a:ext cx="1744920" cy="1563480"/>
            </a:xfrm>
            <a:prstGeom prst="ellips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b9f25"/>
                  </a:solidFill>
                  <a:latin typeface="Arial"/>
                </a:rPr>
                <a:t>дидактическ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46092"/>
            <p:cNvSpPr/>
            <p:nvPr/>
          </p:nvSpPr>
          <p:spPr>
            <a:xfrm>
              <a:off x="5222160" y="4014720"/>
              <a:ext cx="616680" cy="55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46093"/>
            <p:cNvSpPr/>
            <p:nvPr/>
          </p:nvSpPr>
          <p:spPr>
            <a:xfrm>
              <a:off x="5582880" y="4338000"/>
              <a:ext cx="1744200" cy="1563480"/>
            </a:xfrm>
            <a:prstGeom prst="ellips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b9f25"/>
                  </a:solidFill>
                  <a:latin typeface="Arial"/>
                </a:rPr>
                <a:t>музыкаль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46094"/>
            <p:cNvSpPr/>
            <p:nvPr/>
          </p:nvSpPr>
          <p:spPr>
            <a:xfrm>
              <a:off x="5477760" y="3461760"/>
              <a:ext cx="87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46095"/>
            <p:cNvSpPr/>
            <p:nvPr/>
          </p:nvSpPr>
          <p:spPr>
            <a:xfrm>
              <a:off x="6349680" y="2679480"/>
              <a:ext cx="1744920" cy="1563480"/>
            </a:xfrm>
            <a:prstGeom prst="ellips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b9f25"/>
                  </a:solidFill>
                  <a:latin typeface="Arial"/>
                </a:rPr>
                <a:t>подражатель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46096"/>
            <p:cNvSpPr/>
            <p:nvPr/>
          </p:nvSpPr>
          <p:spPr>
            <a:xfrm flipV="1">
              <a:off x="5222160" y="2355840"/>
              <a:ext cx="616680" cy="55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46097"/>
            <p:cNvSpPr/>
            <p:nvPr/>
          </p:nvSpPr>
          <p:spPr>
            <a:xfrm>
              <a:off x="5582880" y="1021320"/>
              <a:ext cx="1744200" cy="1564200"/>
            </a:xfrm>
            <a:prstGeom prst="ellips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b9f25"/>
                  </a:solidFill>
                  <a:latin typeface="Arial"/>
                </a:rPr>
                <a:t>сюжет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46098"/>
            <p:cNvSpPr/>
            <p:nvPr/>
          </p:nvSpPr>
          <p:spPr>
            <a:xfrm flipV="1">
              <a:off x="4605480" y="1899720"/>
              <a:ext cx="0" cy="78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46099"/>
            <p:cNvSpPr/>
            <p:nvPr/>
          </p:nvSpPr>
          <p:spPr>
            <a:xfrm>
              <a:off x="3732840" y="336240"/>
              <a:ext cx="1744920" cy="1563480"/>
            </a:xfrm>
            <a:prstGeom prst="ellips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b9f25"/>
                  </a:solidFill>
                  <a:latin typeface="Arial"/>
                </a:rPr>
                <a:t>подвиж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46100"/>
            <p:cNvSpPr/>
            <p:nvPr/>
          </p:nvSpPr>
          <p:spPr>
            <a:xfrm>
              <a:off x="3732840" y="2682000"/>
              <a:ext cx="1744920" cy="1564200"/>
            </a:xfrm>
            <a:prstGeom prst="ellips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b9f25"/>
                  </a:solidFill>
                  <a:latin typeface="Arial"/>
                </a:rPr>
                <a:t>ВИ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b9f25"/>
                  </a:solidFill>
                  <a:latin typeface="Arial"/>
                </a:rPr>
                <a:t>ИГ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8d3e"/>
                </a:solidFill>
                <a:latin typeface="Arial"/>
              </a:rPr>
              <a:t>Дидактическая игра</a:t>
            </a:r>
            <a:endParaRPr b="1" lang="en-US" sz="8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4608720" cy="3456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372360" y="41385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8d3e"/>
                </a:solidFill>
                <a:latin typeface="Arial"/>
              </a:rPr>
              <a:t>Дидактическая игра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03280" y="530280"/>
            <a:ext cx="8183520" cy="484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Дидактическая игра представляет собой многоплановое, сложное педагогическое явление: она является и игровым методом обучения детей дошкольного возраста, и формой обучения, и самостоятельной игровой деятельностью, и средством всестороннего воспитания личности ребенка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Классификация дидактических игр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3520" cy="4411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6b02"/>
                </a:solidFill>
                <a:latin typeface="Verdana"/>
              </a:rPr>
              <a:t>Словесные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Словесные игры построены на словах и действиях играющих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"Отгадай-ка?", "Магазин", "Да – нет", "Назови три предмета", "Назови одним словом«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6b02"/>
                </a:solidFill>
                <a:latin typeface="Verdana"/>
              </a:rPr>
              <a:t>Настольно-печатные</a:t>
            </a:r>
            <a:r>
              <a:rPr b="1" lang="en-US" sz="1800" spc="-1" strike="noStrike">
                <a:solidFill>
                  <a:srgbClr val="b26b02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Подбор картинок по пара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- Подбор картинок по общему признак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- Запоминание состава, количества и расположения картино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- Составление разрезных картинок и куби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- Описание, рассказ о картине с показом действий, движений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(парные картинки, лото, домино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6b02"/>
                </a:solidFill>
                <a:latin typeface="Verdana"/>
              </a:rPr>
              <a:t>С игрушками и предметами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В играх с предметами используются игрушки и реальные предметы, Играя с ними, дети учатся сравнивать, устанавливать сходство и различие предметов, с их помощью дети знакомятся со свойствами предметов и их признаками: цветом, величиной, формой, качеством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8d3e"/>
                </a:solidFill>
                <a:latin typeface="Verdana"/>
              </a:rPr>
              <a:t>Подвижные игры</a:t>
            </a:r>
            <a:endParaRPr b="1" lang="en-US" sz="8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4360" y="2576520"/>
            <a:ext cx="3887640" cy="38098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012000" y="3933720"/>
            <a:ext cx="2571480" cy="2451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d3e"/>
                </a:solidFill>
                <a:latin typeface="Verdana"/>
              </a:rPr>
              <a:t>Подвижная игра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это сознательная, активная деятельность ребенка, характеризующаяся точным и своевременным выполнением заданий, связанных с обязательными для всех играющих правил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3:01:33Z</dcterms:created>
  <dc:creator>Admin</dc:creator>
  <dc:description/>
  <dc:language>en-US</dc:language>
  <cp:lastModifiedBy>методист</cp:lastModifiedBy>
  <dcterms:modified xsi:type="dcterms:W3CDTF">2012-06-28T15:19:19Z</dcterms:modified>
  <cp:revision>22</cp:revision>
  <dc:subject/>
  <dc:title>игра</dc:title>
</cp:coreProperties>
</file>