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376-8604-40A2-BF34-2FD9740D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491-4922-4154-9717-4D7934A9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CA01-A2D8-430B-8509-2D9E5672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EF7B-0F80-413A-AD90-CB986154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E798-E691-41BC-873A-77002059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E653-69E3-492E-9E26-3E1E90D8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6543-D95F-451F-BE12-26BBF6AA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BDE8-2591-413C-BCC2-C65A5BA9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C82C-933F-4BCC-A663-3CBF2A4B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9259-49DC-4B4D-A36F-C19730C3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01EF-F10D-4969-881C-F903ED4F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D4C-61AD-4449-AF72-8537E7CC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26AB-E4C7-4C87-8FE3-02862EDA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4315-FBF4-4FE7-9FC5-660AEA00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623F-2157-441C-82F6-2BE8D483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88DC-5234-4C54-B19B-410C8B15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081D-DFD0-446E-B60F-7CD88FD6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1F152-A26C-49F0-9B47-13DA7FE6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AC46B-90C1-48CF-9E7D-C3F134CC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8AF79-E84E-4CB4-8ECB-CC4F6925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58F71-7707-46D4-BC6A-17394577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79423-2AC9-4F47-AD1E-207C6EA9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A7C-974E-4064-A715-FCB63D28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6EA09-188C-4014-9F17-E7677F85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4FAC-276B-4335-8EA9-8D9AEC08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A1429-8EC9-4AED-B354-23C8F233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A4B76-4AB7-4ACD-97CB-4F921D60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285CC-27D9-494C-A428-566D0855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B130E-2EDB-421F-9241-BEF028B2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415B6-19DE-47EE-A4CC-FE177478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C8F66-357D-403C-81CE-979C4FF5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C9C24-26BF-43AA-9EBC-14B39839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858E5-C066-4B5E-A640-A6ED28AB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FBD-0CFD-4980-94E9-067B01B9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F1837-9225-46D3-8F4C-43F2F36F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F51E2-57AF-4AAD-BC41-5C5DBFF4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F0DCB-1A48-4C33-81A7-E9BF897A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D6F83-3C80-41CF-A45F-E3A3FAE5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8E0EF-CE9F-4B70-BB28-94837508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41B20-1CD6-4E07-949E-DB6F71A7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41215-957A-4621-87BF-CB4A9DBF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70504-CEE5-4774-8C9E-7D2B82C7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255A5-D4DC-4F31-A969-B36B3607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74A07-1268-46C6-B893-04A9DC07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AF3-996A-49E6-91A8-A849A09D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8340F-301A-4939-8F8D-0C431267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BEF12-0054-49BA-81D5-3CB8F80C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01AA7-2C77-4D40-BA9E-D91DCCDA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21F2E-141D-4BCD-910E-74CEBAB7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BFEF9-1C1A-4489-A164-90EBC34B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01D74-EA3D-4A73-B8E9-75EF06AE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B3DF5-E011-4E9C-9798-6A956DB1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314D2-9C8A-4A5D-8C24-F029BFB7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2CD45-C6B4-4192-8530-731E0546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A9D4B-D71D-4AE1-B205-C6639F19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736-CD93-4284-B29A-907587F1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C6EC1-5B0C-4F05-81A5-948DB21F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9F81-B883-4913-BD00-C5D3AC79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D2C-CC69-4DE5-B9AC-50B82602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B464-FF8A-4008-8AB3-D8B9AA03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1616-D70A-439E-90A2-9CB1525B1BA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AFDA-64A9-48DC-B9D9-95050FB008B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A6E0-05AA-40A9-AC27-2962CD56E49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9571-1FF5-4DAB-8AC4-AE11298B0FB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BA43-472C-478E-9C6A-2BEFC353EA29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8d3e"/>
                </a:solidFill>
                <a:latin typeface="Verdana"/>
              </a:rPr>
              <a:t>Игра – это серьезно</a:t>
            </a:r>
            <a:endParaRPr b="1" lang="en-US" sz="8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4929120" y="3286080"/>
            <a:ext cx="3143160" cy="2786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Классификация подвижных игр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Элементар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южетные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ессюжет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гры-заба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ттракцио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Слож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портивные иг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148360" y="3429000"/>
            <a:ext cx="2879640" cy="1665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804000" y="765000"/>
            <a:ext cx="1246320" cy="2121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Классификация подвижных игр</a:t>
            </a:r>
            <a:br>
              <a:rPr sz="3200"/>
            </a:b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по степени физической нагрузк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гры малой подвиж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гры средней подвиж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гры высокой подвиж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Классификация подвижных игр по двигательному содержанию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гры с ходьб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гры с бег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гры с прыж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гры с метани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8d3e"/>
                </a:solidFill>
                <a:latin typeface="Verdana"/>
              </a:rPr>
              <a:t>Сюжетно-ролевая игра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4681440" cy="3511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372360" y="3716280"/>
            <a:ext cx="2155680" cy="2693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Сюжетно-ролевая игр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3280" y="529920"/>
            <a:ext cx="8183520" cy="4684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7f09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Это такая игра, в которой дети берут на себя роли взрослых людей, и в специально создаваемых ими игровых, воображаемых условиях воспроизводят (или моделируют) деятельность взрослых и отношения между ним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07f09"/>
                </a:solidFill>
                <a:latin typeface="Arial"/>
              </a:rPr>
              <a:t>Основные       </a:t>
            </a:r>
            <a:br>
              <a:rPr sz="5400"/>
            </a:br>
            <a:r>
              <a:rPr b="1" lang="en-US" sz="5400" spc="-1" strike="noStrike">
                <a:solidFill>
                  <a:srgbClr val="f07f09"/>
                </a:solidFill>
                <a:latin typeface="Arial"/>
              </a:rPr>
              <a:t>      аспекты </a:t>
            </a:r>
            <a:br>
              <a:rPr sz="5400"/>
            </a:br>
            <a:r>
              <a:rPr b="1" lang="en-US" sz="5400" spc="-1" strike="noStrike">
                <a:solidFill>
                  <a:srgbClr val="f07f09"/>
                </a:solidFill>
                <a:latin typeface="Arial"/>
              </a:rPr>
              <a:t>      игровой </a:t>
            </a:r>
            <a:br>
              <a:rPr sz="5400"/>
            </a:br>
            <a:r>
              <a:rPr b="1" lang="en-US" sz="5400" spc="-1" strike="noStrike">
                <a:solidFill>
                  <a:srgbClr val="f07f09"/>
                </a:solidFill>
                <a:latin typeface="Arial"/>
              </a:rPr>
              <a:t>  деятельности</a:t>
            </a:r>
            <a:br>
              <a:rPr sz="5400"/>
            </a:b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580000" y="692280"/>
            <a:ext cx="2841840" cy="2841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7-конечная звезда 6"/>
          <p:cNvSpPr/>
          <p:nvPr/>
        </p:nvSpPr>
        <p:spPr>
          <a:xfrm>
            <a:off x="2843280" y="1628640"/>
            <a:ext cx="3930480" cy="2928960"/>
          </a:xfrm>
          <a:prstGeom prst="pie">
            <a:avLst/>
          </a:prstGeom>
          <a:solidFill>
            <a:srgbClr val="ffc0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словия для развития игро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"/>
          <p:cNvSpPr/>
          <p:nvPr/>
        </p:nvSpPr>
        <p:spPr>
          <a:xfrm rot="21015600">
            <a:off x="5668560" y="331560"/>
            <a:ext cx="2921040" cy="1439640"/>
          </a:xfrm>
          <a:prstGeom prst="rect">
            <a:avLst/>
          </a:prstGeom>
          <a:solidFill>
            <a:srgbClr val="f07f0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Построение развивающего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5"/>
          <p:cNvSpPr/>
          <p:nvPr/>
        </p:nvSpPr>
        <p:spPr>
          <a:xfrm>
            <a:off x="324000" y="4724280"/>
            <a:ext cx="2589120" cy="1901880"/>
          </a:xfrm>
          <a:prstGeom prst="rect">
            <a:avLst/>
          </a:prstGeom>
          <a:solidFill>
            <a:srgbClr val="f07f09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Наличие комфорт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ме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для каждого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4"/>
          <p:cNvSpPr/>
          <p:nvPr/>
        </p:nvSpPr>
        <p:spPr>
          <a:xfrm flipH="1" rot="19969800">
            <a:off x="6442560" y="3500280"/>
            <a:ext cx="2295720" cy="1815840"/>
          </a:xfrm>
          <a:prstGeom prst="rect">
            <a:avLst/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Каждому возрасту своя игр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4"/>
          <p:cNvSpPr/>
          <p:nvPr/>
        </p:nvSpPr>
        <p:spPr>
          <a:xfrm flipH="1" rot="1383000">
            <a:off x="249840" y="2491920"/>
            <a:ext cx="2466720" cy="1602000"/>
          </a:xfrm>
          <a:prstGeom prst="rect">
            <a:avLst/>
          </a:prstGeom>
          <a:solidFill>
            <a:srgbClr val="fff1c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Учет половых различий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4"/>
          <p:cNvSpPr/>
          <p:nvPr/>
        </p:nvSpPr>
        <p:spPr>
          <a:xfrm flipH="1" rot="42600">
            <a:off x="3708000" y="4869000"/>
            <a:ext cx="2578320" cy="1755720"/>
          </a:xfrm>
          <a:prstGeom prst="rect">
            <a:avLst/>
          </a:prstGeom>
          <a:solidFill>
            <a:srgbClr val="9f2936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беспечение условной изолирован-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4"/>
          <p:cNvSpPr/>
          <p:nvPr/>
        </p:nvSpPr>
        <p:spPr>
          <a:xfrm flipH="1" rot="21585000">
            <a:off x="1185120" y="260280"/>
            <a:ext cx="2854440" cy="1800360"/>
          </a:xfrm>
          <a:prstGeom prst="rect">
            <a:avLst/>
          </a:prstGeom>
          <a:solidFill>
            <a:srgbClr val="9f2936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Возможность самостоятельно менять игровую сре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f2936"/>
                </a:solidFill>
                <a:latin typeface="Arial"/>
              </a:rPr>
              <a:t>Формирование оснований для развития детской игры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03280" y="1773360"/>
            <a:ext cx="7531200" cy="468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ед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алоги с детьм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ение художественной литератур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евые прогулки и экскурси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технических средств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блюдения за играми других дете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музыкального репертуар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ление альбомов, книг по теме игры и т.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2089440" cy="2089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8920" y="5157360"/>
            <a:ext cx="81788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f2936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9f2936"/>
                </a:solidFill>
                <a:latin typeface="Arial"/>
              </a:rPr>
              <a:t>Содействие становлению    </a:t>
            </a:r>
            <a:br>
              <a:rPr sz="3200"/>
            </a:br>
            <a:r>
              <a:rPr b="1" lang="en-US" sz="3200" spc="-1" strike="noStrike">
                <a:solidFill>
                  <a:srgbClr val="9f2936"/>
                </a:solidFill>
                <a:latin typeface="Verdana"/>
              </a:rPr>
              <a:t>      </a:t>
            </a:r>
            <a:r>
              <a:rPr b="1" lang="en-US" sz="3200" spc="-1" strike="noStrike">
                <a:solidFill>
                  <a:srgbClr val="9f2936"/>
                </a:solidFill>
                <a:latin typeface="Arial"/>
              </a:rPr>
              <a:t>игрового опыта ребенка: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560" y="1483920"/>
            <a:ext cx="7804440" cy="4179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атрибутам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предметами-заместителям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игрового пространства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ажение типичных черт роли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ы-имитации, режиссёрские, конструктивные и подвижные игры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9f2936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чной труд, изодеяте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948360" y="4076640"/>
            <a:ext cx="1737000" cy="2287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324000" y="476280"/>
            <a:ext cx="8458200" cy="5979240"/>
            <a:chOff x="324000" y="476280"/>
            <a:chExt cx="8458200" cy="5979240"/>
          </a:xfrm>
        </p:grpSpPr>
        <p:cxnSp>
          <p:nvCxnSpPr>
            <p:cNvPr id="288" name="_s49156"/>
            <p:cNvCxnSpPr>
              <a:stCxn id="289" idx="1"/>
              <a:endCxn id="290" idx="2"/>
            </p:cNvCxnSpPr>
            <p:nvPr/>
          </p:nvCxnSpPr>
          <p:spPr>
            <a:xfrm rot="10800000">
              <a:off x="2860560" y="1329480"/>
              <a:ext cx="846360" cy="469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1" name="_s49157"/>
            <p:cNvCxnSpPr>
              <a:stCxn id="292" idx="1"/>
              <a:endCxn id="290" idx="2"/>
            </p:cNvCxnSpPr>
            <p:nvPr/>
          </p:nvCxnSpPr>
          <p:spPr>
            <a:xfrm rot="10800000">
              <a:off x="2860560" y="1329480"/>
              <a:ext cx="846360" cy="342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3" name="_s49158"/>
            <p:cNvCxnSpPr>
              <a:stCxn id="294" idx="1"/>
              <a:endCxn id="290" idx="2"/>
            </p:cNvCxnSpPr>
            <p:nvPr/>
          </p:nvCxnSpPr>
          <p:spPr>
            <a:xfrm rot="10800000">
              <a:off x="2860560" y="1329480"/>
              <a:ext cx="846360" cy="213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5" name="_s49159"/>
            <p:cNvCxnSpPr>
              <a:stCxn id="296" idx="1"/>
              <a:endCxn id="290" idx="2"/>
            </p:cNvCxnSpPr>
            <p:nvPr/>
          </p:nvCxnSpPr>
          <p:spPr>
            <a:xfrm rot="10800000">
              <a:off x="2860560" y="1329480"/>
              <a:ext cx="846360" cy="85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0" name="_s49160"/>
            <p:cNvSpPr/>
            <p:nvPr/>
          </p:nvSpPr>
          <p:spPr>
            <a:xfrm>
              <a:off x="324000" y="476280"/>
              <a:ext cx="5074920" cy="853920"/>
            </a:xfrm>
            <a:prstGeom prst="roundRect">
              <a:avLst>
                <a:gd name="adj" fmla="val 16667"/>
              </a:avLst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Роль взрослого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в игровой деятельности дете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49161"/>
            <p:cNvSpPr/>
            <p:nvPr/>
          </p:nvSpPr>
          <p:spPr>
            <a:xfrm>
              <a:off x="3707280" y="1757520"/>
              <a:ext cx="5074920" cy="853920"/>
            </a:xfrm>
            <a:prstGeom prst="roundRect">
              <a:avLst>
                <a:gd name="adj" fmla="val 16667"/>
              </a:avLst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Носитель игровых умени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49162"/>
            <p:cNvSpPr/>
            <p:nvPr/>
          </p:nvSpPr>
          <p:spPr>
            <a:xfrm>
              <a:off x="3707280" y="3038760"/>
              <a:ext cx="5074920" cy="853920"/>
            </a:xfrm>
            <a:prstGeom prst="roundRect">
              <a:avLst>
                <a:gd name="adj" fmla="val 16667"/>
              </a:avLst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Партнёр в игр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49163"/>
            <p:cNvSpPr/>
            <p:nvPr/>
          </p:nvSpPr>
          <p:spPr>
            <a:xfrm>
              <a:off x="3707280" y="4320000"/>
              <a:ext cx="5074920" cy="853920"/>
            </a:xfrm>
            <a:prstGeom prst="roundRect">
              <a:avLst>
                <a:gd name="adj" fmla="val 16667"/>
              </a:avLst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Помощник в организации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и регуляции игр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9164"/>
            <p:cNvSpPr/>
            <p:nvPr/>
          </p:nvSpPr>
          <p:spPr>
            <a:xfrm>
              <a:off x="3707280" y="5601600"/>
              <a:ext cx="5068440" cy="853920"/>
            </a:xfrm>
            <a:prstGeom prst="roundRect">
              <a:avLst>
                <a:gd name="adj" fmla="val 16667"/>
              </a:avLst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Arial"/>
                </a:rPr>
                <a:t>Наблюдател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24000" y="3789360"/>
            <a:ext cx="2447640" cy="2173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8d3e"/>
                </a:solidFill>
                <a:latin typeface="Verdana"/>
              </a:rPr>
              <a:t>Игра - </a:t>
            </a:r>
            <a:endParaRPr b="1" lang="en-US" sz="8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онцепция дошкольного воспитания определяет игру как самоценную деятельность, дающую дошкольнику свободу выбора, возможность реализовать себя, достичь состояния эмоционального комфорта, причастности к детскому обществу, получить опыт взаимодействия. Именно в игре происходит становление ребенка как личности, его психическое развитие, формирование учебной и трудовой деятель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789624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Спасибо за внимание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280" y="810720"/>
            <a:ext cx="800748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700" spc="-1" strike="noStrike">
                <a:solidFill>
                  <a:srgbClr val="f07f09"/>
                </a:solidFill>
                <a:latin typeface="Arial"/>
              </a:rPr>
              <a:t>ТЕОРЕТИКИ ИГРЫ</a:t>
            </a:r>
            <a:endParaRPr b="1" lang="en-US" sz="37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6411960" cy="402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6b9f25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.В.Выготс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6b9f25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.Б.Элькони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6b9f25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Н.Леонтье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6b9f25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В.Запороже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6b9f25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С.Мухи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1121040" y="336240"/>
            <a:ext cx="6973560" cy="6250320"/>
            <a:chOff x="1121040" y="336240"/>
            <a:chExt cx="6973560" cy="6250320"/>
          </a:xfrm>
        </p:grpSpPr>
        <p:sp>
          <p:nvSpPr>
            <p:cNvPr id="227" name="_s46084"/>
            <p:cNvSpPr/>
            <p:nvPr/>
          </p:nvSpPr>
          <p:spPr>
            <a:xfrm flipH="1" flipV="1">
              <a:off x="3371400" y="2355840"/>
              <a:ext cx="616680" cy="55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46085"/>
            <p:cNvSpPr/>
            <p:nvPr/>
          </p:nvSpPr>
          <p:spPr>
            <a:xfrm>
              <a:off x="1886040" y="1024200"/>
              <a:ext cx="1744200" cy="1563480"/>
            </a:xfrm>
            <a:prstGeom prst="ellips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b9f25"/>
                  </a:solidFill>
                  <a:latin typeface="Arial"/>
                </a:rPr>
                <a:t>театрализован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46086"/>
            <p:cNvSpPr/>
            <p:nvPr/>
          </p:nvSpPr>
          <p:spPr>
            <a:xfrm flipH="1">
              <a:off x="2859840" y="3461760"/>
              <a:ext cx="87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46087"/>
            <p:cNvSpPr/>
            <p:nvPr/>
          </p:nvSpPr>
          <p:spPr>
            <a:xfrm>
              <a:off x="1121040" y="2679480"/>
              <a:ext cx="1744920" cy="1563480"/>
            </a:xfrm>
            <a:prstGeom prst="ellips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b9f25"/>
                  </a:solidFill>
                  <a:latin typeface="Arial"/>
                </a:rPr>
                <a:t>творческ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46088"/>
            <p:cNvSpPr/>
            <p:nvPr/>
          </p:nvSpPr>
          <p:spPr>
            <a:xfrm flipH="1">
              <a:off x="3371400" y="4014720"/>
              <a:ext cx="616680" cy="55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46089"/>
            <p:cNvSpPr/>
            <p:nvPr/>
          </p:nvSpPr>
          <p:spPr>
            <a:xfrm>
              <a:off x="1886040" y="4335120"/>
              <a:ext cx="1744200" cy="1564200"/>
            </a:xfrm>
            <a:prstGeom prst="ellips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b9f25"/>
                  </a:solidFill>
                  <a:latin typeface="Arial"/>
                </a:rPr>
                <a:t>познаватель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46090"/>
            <p:cNvSpPr/>
            <p:nvPr/>
          </p:nvSpPr>
          <p:spPr>
            <a:xfrm>
              <a:off x="4605480" y="4243320"/>
              <a:ext cx="0" cy="78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46091"/>
            <p:cNvSpPr/>
            <p:nvPr/>
          </p:nvSpPr>
          <p:spPr>
            <a:xfrm>
              <a:off x="3732840" y="5023080"/>
              <a:ext cx="1744920" cy="1563480"/>
            </a:xfrm>
            <a:prstGeom prst="ellips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b9f25"/>
                  </a:solidFill>
                  <a:latin typeface="Arial"/>
                </a:rPr>
                <a:t>дидактическ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46092"/>
            <p:cNvSpPr/>
            <p:nvPr/>
          </p:nvSpPr>
          <p:spPr>
            <a:xfrm>
              <a:off x="5222160" y="4014720"/>
              <a:ext cx="616680" cy="55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46093"/>
            <p:cNvSpPr/>
            <p:nvPr/>
          </p:nvSpPr>
          <p:spPr>
            <a:xfrm>
              <a:off x="5582880" y="4338000"/>
              <a:ext cx="1744200" cy="1563480"/>
            </a:xfrm>
            <a:prstGeom prst="ellips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b9f25"/>
                  </a:solidFill>
                  <a:latin typeface="Arial"/>
                </a:rPr>
                <a:t>музыкаль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46094"/>
            <p:cNvSpPr/>
            <p:nvPr/>
          </p:nvSpPr>
          <p:spPr>
            <a:xfrm>
              <a:off x="5477760" y="3461760"/>
              <a:ext cx="87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46095"/>
            <p:cNvSpPr/>
            <p:nvPr/>
          </p:nvSpPr>
          <p:spPr>
            <a:xfrm>
              <a:off x="6349680" y="2679480"/>
              <a:ext cx="1744920" cy="1563480"/>
            </a:xfrm>
            <a:prstGeom prst="ellips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b9f25"/>
                  </a:solidFill>
                  <a:latin typeface="Arial"/>
                </a:rPr>
                <a:t>подражатель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46096"/>
            <p:cNvSpPr/>
            <p:nvPr/>
          </p:nvSpPr>
          <p:spPr>
            <a:xfrm flipV="1">
              <a:off x="5222160" y="2355840"/>
              <a:ext cx="616680" cy="55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46097"/>
            <p:cNvSpPr/>
            <p:nvPr/>
          </p:nvSpPr>
          <p:spPr>
            <a:xfrm>
              <a:off x="5582880" y="1021320"/>
              <a:ext cx="1744200" cy="1564200"/>
            </a:xfrm>
            <a:prstGeom prst="ellips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b9f25"/>
                  </a:solidFill>
                  <a:latin typeface="Arial"/>
                </a:rPr>
                <a:t>сюжет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46098"/>
            <p:cNvSpPr/>
            <p:nvPr/>
          </p:nvSpPr>
          <p:spPr>
            <a:xfrm flipV="1">
              <a:off x="4605480" y="1899720"/>
              <a:ext cx="0" cy="78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46099"/>
            <p:cNvSpPr/>
            <p:nvPr/>
          </p:nvSpPr>
          <p:spPr>
            <a:xfrm>
              <a:off x="3732840" y="336240"/>
              <a:ext cx="1744920" cy="1563480"/>
            </a:xfrm>
            <a:prstGeom prst="ellips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b9f25"/>
                  </a:solidFill>
                  <a:latin typeface="Arial"/>
                </a:rPr>
                <a:t>подвиж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46100"/>
            <p:cNvSpPr/>
            <p:nvPr/>
          </p:nvSpPr>
          <p:spPr>
            <a:xfrm>
              <a:off x="3732840" y="2682000"/>
              <a:ext cx="1744920" cy="1564200"/>
            </a:xfrm>
            <a:prstGeom prst="ellipse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b9f25"/>
                  </a:solidFill>
                  <a:latin typeface="Arial"/>
                </a:rPr>
                <a:t>ВИ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6b9f25"/>
                  </a:solidFill>
                  <a:latin typeface="Arial"/>
                </a:rPr>
                <a:t>ИГ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8d3e"/>
                </a:solidFill>
                <a:latin typeface="Arial"/>
              </a:rPr>
              <a:t>Дидактическая игра</a:t>
            </a:r>
            <a:endParaRPr b="1" lang="en-US" sz="8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4608720" cy="3456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372360" y="41385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8d3e"/>
                </a:solidFill>
                <a:latin typeface="Arial"/>
              </a:rPr>
              <a:t>Дидактическая игра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3280" y="530280"/>
            <a:ext cx="8183520" cy="4843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Дидактическая игра представляет собой многоплановое, сложное педагогическое явление: она является и игровым методом обучения детей дошкольного возраста, и формой обучения, и самостоятельной игровой деятельностью, и средством всестороннего воспитания личности ребенка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Классификация дидактических игр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3520" cy="4411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6b02"/>
                </a:solidFill>
                <a:latin typeface="Verdana"/>
              </a:rPr>
              <a:t>Словесные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Словесные игры построены на словах и действиях играющих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"Отгадай-ка?", "Магазин", "Да – нет", "Назови три предмета", "Назови одним словом«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6b02"/>
                </a:solidFill>
                <a:latin typeface="Verdana"/>
              </a:rPr>
              <a:t>Настольно-печатные</a:t>
            </a:r>
            <a:r>
              <a:rPr b="1" lang="en-US" sz="1800" spc="-1" strike="noStrike">
                <a:solidFill>
                  <a:srgbClr val="b26b02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Подбор картинок по пара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- Подбор картинок по общему признак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- Запоминание состава, количества и расположения картино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- Составление разрезных картинок и кубик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- Описание, рассказ о картине с показом действий, движений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(парные картинки, лото, домино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6b02"/>
                </a:solidFill>
                <a:latin typeface="Verdana"/>
              </a:rPr>
              <a:t>С игрушками и предметами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- В играх с предметами используются игрушки и реальные предметы, Играя с ними, дети учатся сравнивать, устанавливать сходство и различие предметов, с их помощью дети знакомятся со свойствами предметов и их признаками: цветом, величиной, формой, качеством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8d3e"/>
                </a:solidFill>
                <a:latin typeface="Verdana"/>
              </a:rPr>
              <a:t>Подвижные игры</a:t>
            </a:r>
            <a:endParaRPr b="1" lang="en-US" sz="8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4360" y="2576520"/>
            <a:ext cx="3887640" cy="38098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012000" y="3933720"/>
            <a:ext cx="2571480" cy="2451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d3e"/>
                </a:solidFill>
                <a:latin typeface="Verdana"/>
              </a:rPr>
              <a:t>Подвижная игра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то сознательная, активная деятельность ребенка, характеризующаяся точным и своевременным выполнением заданий, связанных с обязательными для всех играющих правил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3:01:33Z</dcterms:created>
  <dc:creator>Admin</dc:creator>
  <dc:description/>
  <dc:language>en-US</dc:language>
  <cp:lastModifiedBy>методист</cp:lastModifiedBy>
  <dcterms:modified xsi:type="dcterms:W3CDTF">2012-06-28T15:19:19Z</dcterms:modified>
  <cp:revision>22</cp:revision>
  <dc:subject/>
  <dc:title>игра</dc:title>
</cp:coreProperties>
</file>