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6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4.gif" ContentType="image/gif"/>
  <Override PartName="/ppt/media/image12.wmf" ContentType="image/x-wmf"/>
  <Override PartName="/ppt/media/image21.gif" ContentType="image/gif"/>
  <Override PartName="/ppt/media/image19.gif" ContentType="image/gif"/>
  <Override PartName="/ppt/media/image1.png" ContentType="image/png"/>
  <Override PartName="/ppt/media/image2.jpeg" ContentType="image/jpeg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4B7-378D-4329-9D7B-DC5DE5F2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F89-6D67-4DEC-B574-37033A45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5B0-0852-45ED-8390-6E15539C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9F2-94BE-4DB0-80C8-E5911B1A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AF5-D36C-45D8-A0A4-8ED7F899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E498-4D93-4BD1-8403-C8D693EF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D544-10FB-413F-A038-93D79012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EA4A-F1A0-4CB3-9E42-A5EDA818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5158-B1B2-431C-8FA4-1A98EDB5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55C5-4D47-4B9C-B5FA-A569FEC0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224C-36A7-4ED5-AB4D-268F7305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1B7-CF8B-4C3B-98C2-D43CC1ED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2E3-5783-43B0-9554-5A612F39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C6B-705C-4E0D-BCA4-F82CA078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D66D-E046-430D-97EA-8261C4E6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FE43-D1AC-4A53-8DC2-4D12E61E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5E6-1D73-44A3-96D1-9F51FE53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457-5338-48A2-8AAB-79C8799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92C1-58AF-49EE-A98E-35F58652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0A6-F5C9-4379-AE97-8196CC5C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C33-32A5-4078-9766-5DCBEE58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DEEA-0EC4-46D7-B29E-FFB6767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216-1AAE-4CEB-BCB0-E7B1D87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322-A46B-4A6F-923C-E35936DC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9CB-2143-4627-8DD2-C0E051972B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ABA8-F09A-417C-9562-917806B408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 rot="21148800">
            <a:off x="0" y="1846080"/>
            <a:ext cx="8962920" cy="22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к относиться к заимствованиям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имствованные слова – это такие иноязычные слова, которые полностью вошли в лексическую систему русского языка. Они приобрели лексическое значение, фонетическое оформление, грамматические признаки, свойственные русскому языку, употребляются в различных стилях, пишутся буквами русского алфави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Особенно интенсивно проникали в русский язык иноязычные слова в </a:t>
            </a:r>
            <a:r>
              <a:rPr b="1" lang="en-US" sz="1600" spc="-1" strike="noStrike">
                <a:solidFill>
                  <a:srgbClr val="b9efee"/>
                </a:solidFill>
                <a:latin typeface="Garamond"/>
              </a:rPr>
              <a:t>XVIII</a:t>
            </a: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 веке. Преобразования, проведённые Петром </a:t>
            </a:r>
            <a:r>
              <a:rPr b="1" lang="en-US" sz="1600" spc="-1" strike="noStrike">
                <a:solidFill>
                  <a:srgbClr val="b9efee"/>
                </a:solidFill>
                <a:latin typeface="Garamond"/>
              </a:rPr>
              <a:t>I</a:t>
            </a: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 в России, сблизили её с западноевропейскими государствами. Появилось много военных, музыкальных терминов, изобразительного, театрального искусства,</a:t>
            </a:r>
            <a:br>
              <a:rPr sz="1600"/>
            </a:br>
            <a:r>
              <a:rPr b="1" lang="ru-RU" sz="1600" spc="-1" strike="noStrike">
                <a:solidFill>
                  <a:srgbClr val="b9efee"/>
                </a:solidFill>
                <a:latin typeface="Garamond"/>
              </a:rPr>
              <a:t>названия новых  предметов, быта, одежды.</a:t>
            </a:r>
            <a:endParaRPr b="1" lang="en-US" sz="1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1365120" cy="1536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148360" y="3284640"/>
            <a:ext cx="1171440" cy="1047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76720" y="2133720"/>
            <a:ext cx="1400400" cy="99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1295280" cy="863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4788000" y="4653000"/>
            <a:ext cx="172872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79280" y="2924280"/>
            <a:ext cx="1812960" cy="1208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7451640" y="2565360"/>
            <a:ext cx="971640" cy="144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2627280" y="2205000"/>
            <a:ext cx="1398600" cy="209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2484360" y="4724280"/>
            <a:ext cx="1779840" cy="142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4880" y="19162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немец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53320" y="1700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француз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7840" y="16286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голланд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51240" y="177336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Из англий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7020000" y="4221000"/>
            <a:ext cx="1512720" cy="16844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Заимствования конца ХХ-го века коснулись разных сфер жизни: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2349360"/>
            <a:ext cx="1824120" cy="1121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1671120"/>
            <a:ext cx="7775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Техническ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компьютер, дисплей, файл, бай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Спортивн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бобслей,</a:t>
            </a:r>
            <a:r>
              <a:rPr b="0" lang="ru-MD" sz="3200" spc="-1" strike="noStrike">
                <a:solidFill>
                  <a:srgbClr val="ffffff"/>
                </a:solidFill>
                <a:latin typeface="Garamond"/>
              </a:rPr>
              <a:t> овертайм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Финансов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коммерческо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(бартер, брокер, дилер, дистрибьютор, лизин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Искусств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римейк, ток-шоу, андеграунд, трилл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66"/>
                </a:solidFill>
                <a:latin typeface="Garamond"/>
              </a:rPr>
              <a:t>*Общественно-политической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брифинг, рейтинг, лобб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28000" y="4221000"/>
            <a:ext cx="2016000" cy="134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00360" y="404280"/>
            <a:ext cx="60595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уристы (</a:t>
            </a:r>
            <a:r>
              <a:rPr b="0" lang="ru-RU" sz="2800" spc="-1" strike="noStrike">
                <a:solidFill>
                  <a:srgbClr val="00ff99"/>
                </a:solidFill>
                <a:latin typeface="Garamond"/>
              </a:rPr>
              <a:t>пуризм от лат. </a:t>
            </a:r>
            <a:r>
              <a:rPr b="0" lang="en-US" sz="2800" spc="-1" strike="noStrike">
                <a:solidFill>
                  <a:srgbClr val="00ff99"/>
                </a:solidFill>
                <a:latin typeface="Garamond"/>
              </a:rPr>
              <a:t>purus </a:t>
            </a:r>
            <a:r>
              <a:rPr b="0" lang="ru-RU" sz="2800" spc="-1" strike="noStrike">
                <a:solidFill>
                  <a:srgbClr val="00ff99"/>
                </a:solidFill>
                <a:latin typeface="Garamond"/>
              </a:rPr>
              <a:t>«чистый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) боролись против иноязычных заимствований, неологизмов, против проникновения в язык ненормативных элементов. Они предлагали заменить заимствования русскими словами, которые сами придумывали: просад (вместо аллея), шарокат (вместо бильярд), мокроступы (вместо галоши), ловкосилие (вместо гимнастика), живуля (вместо автомат)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1541520" cy="1726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974960" cy="2852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952720" cy="2133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13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 середине </a:t>
            </a:r>
            <a:r>
              <a:rPr b="1" lang="en-US" sz="2000" spc="-1" strike="noStrike">
                <a:solidFill>
                  <a:srgbClr val="b9efee"/>
                </a:solidFill>
                <a:latin typeface="Garamond"/>
              </a:rPr>
              <a:t>XVIII 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века, благодаря гению великого русского учёного М. Ломоносова, наш язык значительно очистился от иностранных слов без всякого ущерба для русской науки.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960560" cy="2198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635280" y="2781360"/>
            <a:ext cx="1752840" cy="2608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732720" y="321300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46720" y="49039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sec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96600" y="501336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нтомо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8960" y="55166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секомое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77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0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так, что касается введения в русскую речь иностранных слов, то не нужно от них открещиваться,  но и не нужно ими злоупотреблять. Известный процент иностранных слов врастает в язы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о там, где можно найти коренное русское слово, нужно его находи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700360" y="0"/>
            <a:ext cx="2663640" cy="1492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348000" y="4365720"/>
            <a:ext cx="2521080" cy="1700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1441440" cy="1441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352520" y="471168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елеф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6120" y="4676760"/>
            <a:ext cx="36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альнеразговор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3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12:12:36Z</dcterms:created>
  <dc:creator>Елена</dc:creator>
  <dc:description/>
  <dc:language>en-US</dc:language>
  <cp:lastModifiedBy>Елена</cp:lastModifiedBy>
  <dcterms:modified xsi:type="dcterms:W3CDTF">2008-04-04T16:41:37Z</dcterms:modified>
  <cp:revision>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