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11.png" ContentType="image/png"/>
  <Override PartName="/ppt/media/image7.jpeg" ContentType="image/jpeg"/>
  <Override PartName="/ppt/media/image6.gif" ContentType="image/gif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4.gif" ContentType="image/gif"/>
  <Override PartName="/ppt/media/image12.wmf" ContentType="image/x-wmf"/>
  <Override PartName="/ppt/media/image21.gif" ContentType="image/gif"/>
  <Override PartName="/ppt/media/image19.gif" ContentType="image/gif"/>
  <Override PartName="/ppt/media/image1.png" ContentType="image/png"/>
  <Override PartName="/ppt/media/image2.jpeg" ContentType="image/jpeg"/>
  <Override PartName="/ppt/media/image5.gif" ContentType="image/gif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ED47-F42C-40E7-8293-C4CDC5FF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8B68-12AE-455B-BB11-20FC7B0E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AFA1-373E-4426-8069-D1AA44A82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2F85-4F8F-4A3E-B687-DE56E4237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E464-AC5D-4350-8930-6E29D8ADD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3E76-0C15-4999-A868-60028AFA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60FD-C810-417D-AEE1-1FC0A903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EE86-3A63-4A5E-B260-7A7E183B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EEB0-3482-4B5F-83E5-AB68C646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0C40-B265-4D2B-95DF-06908A46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E60A-BD66-4A62-973D-36A2AD87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032B-6AAF-4522-B936-BF991C73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8731-AF4C-49D9-8360-C646C329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D355-94C9-45F8-B8A3-5708D8F4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723E-19F1-40BF-AB1A-CC1730D2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540B-BD57-4DF5-81AE-36F013F9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7807-9F8E-4CA4-94D6-3491F566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A481-BBD7-4D02-B57C-AD44402E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C169-14E9-423A-9588-6CD1FF7B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E878-6346-435A-BC05-EA5451F6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D212-A3AF-4F9D-A10D-7685D652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E627-DE7C-4506-B6C3-15B16E93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EB3B-0069-4468-A060-D8C0454C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4412-3F55-452E-BC15-EAF36728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60E7-532F-49AA-BD35-17068E63E01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138F-8142-4374-B428-B5A05605197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 rot="21148800">
            <a:off x="0" y="1846080"/>
            <a:ext cx="8962920" cy="22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ак относиться к заимствованиям?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Заимствованные слова – это такие иноязычные слова, которые полностью вошли в лексическую систему русского языка. Они приобрели лексическое значение, фонетическое оформление, грамматические признаки, свойственные русскому языку, употребляются в различных стилях, пишутся буквами русского алфавит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9efee"/>
                </a:solidFill>
                <a:latin typeface="Garamond"/>
              </a:rPr>
              <a:t>Особенно интенсивно проникали в русский язык иноязычные слова в </a:t>
            </a:r>
            <a:r>
              <a:rPr b="1" lang="en-US" sz="1600" spc="-1" strike="noStrike">
                <a:solidFill>
                  <a:srgbClr val="b9efee"/>
                </a:solidFill>
                <a:latin typeface="Garamond"/>
              </a:rPr>
              <a:t>XVIII</a:t>
            </a:r>
            <a:r>
              <a:rPr b="1" lang="ru-RU" sz="1600" spc="-1" strike="noStrike">
                <a:solidFill>
                  <a:srgbClr val="b9efee"/>
                </a:solidFill>
                <a:latin typeface="Garamond"/>
              </a:rPr>
              <a:t> веке. Преобразования, проведённые Петром </a:t>
            </a:r>
            <a:r>
              <a:rPr b="1" lang="en-US" sz="1600" spc="-1" strike="noStrike">
                <a:solidFill>
                  <a:srgbClr val="b9efee"/>
                </a:solidFill>
                <a:latin typeface="Garamond"/>
              </a:rPr>
              <a:t>I</a:t>
            </a:r>
            <a:r>
              <a:rPr b="1" lang="ru-RU" sz="1600" spc="-1" strike="noStrike">
                <a:solidFill>
                  <a:srgbClr val="b9efee"/>
                </a:solidFill>
                <a:latin typeface="Garamond"/>
              </a:rPr>
              <a:t> в России, сблизили её с западноевропейскими государствами. Появилось много военных, музыкальных терминов, изобразительного, театрального искусства,</a:t>
            </a:r>
            <a:br>
              <a:rPr sz="1600"/>
            </a:br>
            <a:r>
              <a:rPr b="1" lang="ru-RU" sz="1600" spc="-1" strike="noStrike">
                <a:solidFill>
                  <a:srgbClr val="b9efee"/>
                </a:solidFill>
                <a:latin typeface="Garamond"/>
              </a:rPr>
              <a:t>названия новых  предметов, быта, одежды.</a:t>
            </a:r>
            <a:endParaRPr b="1" lang="en-US" sz="1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1365120" cy="1536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148360" y="3284640"/>
            <a:ext cx="1171440" cy="1047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5076720" y="2133720"/>
            <a:ext cx="1400400" cy="990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395280" y="4581360"/>
            <a:ext cx="1295280" cy="863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4788000" y="4653000"/>
            <a:ext cx="1728720" cy="1200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179280" y="2924280"/>
            <a:ext cx="1812960" cy="12081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7451640" y="2565360"/>
            <a:ext cx="971640" cy="1443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9"/>
          <a:stretch/>
        </p:blipFill>
        <p:spPr>
          <a:xfrm>
            <a:off x="2627280" y="2205000"/>
            <a:ext cx="1398600" cy="2098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0"/>
          <a:stretch/>
        </p:blipFill>
        <p:spPr>
          <a:xfrm>
            <a:off x="2484360" y="4724280"/>
            <a:ext cx="1779840" cy="14241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44880" y="191628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Из немец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53320" y="170028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Из француз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67840" y="1628640"/>
            <a:ext cx="220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Из голланд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51240" y="1773360"/>
            <a:ext cx="20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Из англий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1"/>
          <a:stretch/>
        </p:blipFill>
        <p:spPr>
          <a:xfrm>
            <a:off x="7020000" y="4221000"/>
            <a:ext cx="1512720" cy="1684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Заимствования конца ХХ-го века коснулись разных сфер жизни: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164360" y="2349360"/>
            <a:ext cx="1824120" cy="1121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1671120"/>
            <a:ext cx="7775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66"/>
                </a:solidFill>
                <a:latin typeface="Garamond"/>
              </a:rPr>
              <a:t>*Технической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(компьютер, дисплей, файл, байт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66"/>
                </a:solidFill>
                <a:latin typeface="Garamond"/>
              </a:rPr>
              <a:t>*Спортивной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(бобслей,</a:t>
            </a:r>
            <a:r>
              <a:rPr b="0" lang="ru-MD" sz="3200" spc="-1" strike="noStrike">
                <a:solidFill>
                  <a:srgbClr val="ffffff"/>
                </a:solidFill>
                <a:latin typeface="Garamond"/>
              </a:rPr>
              <a:t> овертайм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66"/>
                </a:solidFill>
                <a:latin typeface="Garamond"/>
              </a:rPr>
              <a:t>*Финансовой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и </a:t>
            </a:r>
            <a:r>
              <a:rPr b="0" lang="ru-RU" sz="3200" spc="-1" strike="noStrike">
                <a:solidFill>
                  <a:srgbClr val="ccff66"/>
                </a:solidFill>
                <a:latin typeface="Garamond"/>
              </a:rPr>
              <a:t>коммерческой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(бартер, брокер, дилер, дистрибьютор, лизин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66"/>
                </a:solidFill>
                <a:latin typeface="Garamond"/>
              </a:rPr>
              <a:t>*Искусства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римейк, ток-шоу, андеграунд, триллер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66"/>
                </a:solidFill>
                <a:latin typeface="Garamond"/>
              </a:rPr>
              <a:t>*Общественно-политической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брифинг, рейтинг, лобб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7128000" y="4221000"/>
            <a:ext cx="2016000" cy="1349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700360" y="404280"/>
            <a:ext cx="60595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уристы (</a:t>
            </a:r>
            <a:r>
              <a:rPr b="0" lang="ru-RU" sz="2800" spc="-1" strike="noStrike">
                <a:solidFill>
                  <a:srgbClr val="00ff99"/>
                </a:solidFill>
                <a:latin typeface="Garamond"/>
              </a:rPr>
              <a:t>пуризм от лат. </a:t>
            </a:r>
            <a:r>
              <a:rPr b="0" lang="en-US" sz="2800" spc="-1" strike="noStrike">
                <a:solidFill>
                  <a:srgbClr val="00ff99"/>
                </a:solidFill>
                <a:latin typeface="Garamond"/>
              </a:rPr>
              <a:t>purus </a:t>
            </a:r>
            <a:r>
              <a:rPr b="0" lang="ru-RU" sz="2800" spc="-1" strike="noStrike">
                <a:solidFill>
                  <a:srgbClr val="00ff99"/>
                </a:solidFill>
                <a:latin typeface="Garamond"/>
              </a:rPr>
              <a:t>«чистый»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) боролись против иноязычных заимствований, неологизмов, против проникновения в язык ненормативных элементов. Они предлагали заменить заимствования русскими словами, которые сами придумывали: просад (вместо аллея), шарокат (вместо бильярд), мокроступы (вместо галоши), ловкосилие (вместо гимнастика), живуля (вместо автомат) и др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68360" y="2924280"/>
            <a:ext cx="1541520" cy="1726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1974960" cy="2852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0" y="4724280"/>
            <a:ext cx="2952720" cy="2133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56000" y="404640"/>
            <a:ext cx="6130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В середине </a:t>
            </a:r>
            <a:r>
              <a:rPr b="1" lang="en-US" sz="2000" spc="-1" strike="noStrike">
                <a:solidFill>
                  <a:srgbClr val="b9efee"/>
                </a:solidFill>
                <a:latin typeface="Garamond"/>
              </a:rPr>
              <a:t>XVIII </a:t>
            </a: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века, благодаря гению великого русского учёного М. Ломоносова, наш язык значительно очистился от иностранных слов без всякого ущерба для русской науки.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1960560" cy="2198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3635280" y="2781360"/>
            <a:ext cx="1752840" cy="2608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611280" y="3284640"/>
            <a:ext cx="1457280" cy="1457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6732720" y="3213000"/>
            <a:ext cx="1457280" cy="1457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46720" y="4903920"/>
            <a:ext cx="16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nsect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996600" y="5013360"/>
            <a:ext cx="144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Энтомо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78960" y="5516640"/>
            <a:ext cx="23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Насекомое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77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0" dur="77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2" dur="77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4" dur="77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Итак, что касается введения в русскую речь иностранных слов, то не нужно от них открещиваться,  но и не нужно ими злоупотреблять. Известный процент иностранных слов врастает в язык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Но там, где можно найти коренное русское слово, нужно его находить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700360" y="0"/>
            <a:ext cx="2663640" cy="1492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3348000" y="4365720"/>
            <a:ext cx="2521080" cy="1700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77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770" fill="hold"/>
                                        <p:tgtEl>
                                          <p:spTgt spid="1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340000" y="692280"/>
            <a:ext cx="3657600" cy="2444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3780000" y="4221000"/>
            <a:ext cx="1441440" cy="14414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352520" y="4711680"/>
            <a:ext cx="18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Телеф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86120" y="4676760"/>
            <a:ext cx="36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Дальнеразговор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77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770" fill="hold"/>
                                        <p:tgtEl>
                                          <p:spTgt spid="1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2" dur="77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4" dur="77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353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12:12:36Z</dcterms:created>
  <dc:creator>Елена</dc:creator>
  <dc:description/>
  <dc:language>en-US</dc:language>
  <cp:lastModifiedBy>Елена</cp:lastModifiedBy>
  <dcterms:modified xsi:type="dcterms:W3CDTF">2008-04-04T16:41:37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