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Произвольный показ 1" id="0">
      <p:sldLst>
        <p:sld r:id="rId17"/>
      </p:sldLst>
    </p:custShow>
    <p:custShow name="Произвольный показ 2" id="1">
      <p:sldLst>
        <p:sld r:id="rId19"/>
        <p:sld r:id="rId18"/>
      </p:sldLst>
    </p:custShow>
    <p:custShow name="Произвольный показ 3" id="2">
      <p:sldLst>
        <p:sld r:id="rId18"/>
      </p:sldLst>
    </p:custShow>
    <p:custShow name="Произвольный показ 4" id="3">
      <p:sldLst>
        <p:sld r:id="rId18"/>
        <p:sld r:id="rId19"/>
      </p:sldLst>
    </p:custShow>
    <p:custShow name="Произвольный показ 5" id="4">
      <p:sldLst>
        <p:sld r:id="rId19"/>
      </p:sldLst>
    </p:custShow>
    <p:custShow name="Произвольный показ 6" id="5">
      <p:sldLst>
        <p:sld r:id="rId19"/>
      </p:sldLst>
    </p:custShow>
    <p:custShow name="Произвольный показ 7" id="6">
      <p:sldLst>
        <p:sld r:id="rId19"/>
      </p:sldLst>
    </p:custShow>
    <p:custShow name="Произвольный показ 8" id="7">
      <p:sldLst>
        <p:sld r:id="rId20"/>
      </p:sldLst>
    </p:custShow>
    <p:custShow name="Произвольный показ 9" id="8">
      <p:sldLst>
        <p:sld r:id="rId20"/>
      </p:sldLst>
    </p:custShow>
    <p:custShow name="Произвольный показ 10" id="9">
      <p:sldLst>
        <p:sld r:id="rId20"/>
      </p:sldLst>
    </p:custShow>
    <p:custShow name="Произвольный показ 11" id="10">
      <p:sldLst>
        <p:sld r:id="rId21"/>
      </p:sldLst>
    </p:custShow>
    <p:custShow name="Произвольный показ 12" id="11">
      <p:sldLst>
        <p:sld r:id="rId22"/>
      </p:sldLst>
    </p:custShow>
    <p:custShow name="Произвольный показ 13" id="12">
      <p:sldLst>
        <p:sld r:id="rId22"/>
      </p:sldLst>
    </p:custShow>
    <p:custShow name="Произвольный показ 14" id="13">
      <p:sldLst>
        <p:sld r:id="rId23"/>
      </p:sldLst>
    </p:custShow>
    <p:custShow name="Произвольный показ 15" id="14">
      <p:sldLst>
        <p:sld r:id="rId19"/>
      </p:sldLst>
    </p:custShow>
    <p:custShow name="Произвольный показ 16" id="15">
      <p:sldLst>
        <p:sld r:id="rId19"/>
      </p:sldLst>
    </p:custShow>
    <p:custShow name="Произвольный показ 17" id="16">
      <p:sldLst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94F-5F72-4707-940F-330CB24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D0E-457A-420D-8C72-2C4A56BF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519-39BC-4B28-83EA-B8BC8D8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617-6C60-4C04-94CA-5B91767A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02E-33D4-4754-B9D3-AC0D196F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481-B9A7-4E2E-A253-C797C49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29B-29B4-432C-958B-519454AD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594-C8F8-463F-9ED5-E6C8BE1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1A0-4736-44FC-A4B9-C2BAF7BC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3CE-DB8C-4F7D-95E1-6ACEA9E4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8EA-8039-4F0E-AB61-9AA4869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CE3-5A4B-4DDF-B190-4BC777B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8A2-1E5A-4707-8501-C46F73D1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Выбираем</a:t>
            </a:r>
            <a:br>
              <a:rPr sz="80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  правильное</a:t>
            </a:r>
            <a:br>
              <a:rPr sz="80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           пит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96920"/>
            <a:ext cx="844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Традиционное пит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975280" cy="4499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404640"/>
            <a:ext cx="63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Что выбр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6200" y="142560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радицио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1413000"/>
            <a:ext cx="527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ст-ф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американский вид пит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3743280" cy="3914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3887640" cy="3887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209840" cy="629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716360" y="2565360"/>
            <a:ext cx="42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М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знат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54072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577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433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572680" cy="5239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749680" cy="2752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32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М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врач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64000" cy="648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817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-171360"/>
            <a:ext cx="7775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бители фаст фу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024360" cy="2997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556000" y="3213000"/>
            <a:ext cx="3195360" cy="3451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364000" y="2205000"/>
            <a:ext cx="3527640" cy="26607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20640"/>
            <a:ext cx="799128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Гамбурге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3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30 минут та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иг мак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3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игры в фу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Картоф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фр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7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копания гря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Кока-кол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6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пла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04640"/>
            <a:ext cx="732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итание должно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ави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Нельзя переед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итаться след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регулярно –  4 – 5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течении дня нужно 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олочные, мясные, рыб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укты, фрукты, овощ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хлеб, кру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Еда должна быть теп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Нельзя есть на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651040" cy="3600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82836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038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463680"/>
            <a:ext cx="776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означает в пере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ражение «фаст фуд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6200" y="2119320"/>
            <a:ext cx="45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хорош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560" y="3200400"/>
            <a:ext cx="38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горяч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4880" y="461808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быстрая 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040" y="392040"/>
            <a:ext cx="532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акого пит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идержива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древний челов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42040" y="3056040"/>
            <a:ext cx="49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вегетари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9196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- сыро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8560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тради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579840" cy="532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560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680" y="176040"/>
            <a:ext cx="648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азовите прави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жим питания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200" y="240840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4-5 раз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334476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2 раза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6200" y="435276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3 раза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880" y="176040"/>
            <a:ext cx="68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лавное достои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радицион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680" y="2479680"/>
            <a:ext cx="75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быстрота пригото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6200" y="3560760"/>
            <a:ext cx="486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залог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640" y="4653000"/>
            <a:ext cx="602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можно есть на х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981240" cy="5040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4427640" y="679320"/>
            <a:ext cx="453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вильн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традицион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доровь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503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916360" y="3284640"/>
            <a:ext cx="6048360" cy="3400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еловеку нужно 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встать и чтобы с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прыгать, кувырк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сни петь, дружить, смея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 расти и разви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 при этом не бол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ужно правильно пи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 самых юных лет уметь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371760" cy="4149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Еда – средство общения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927760" cy="395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90332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Еда 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источник жиз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260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Вегетариан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7345440" cy="4792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Сыро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80160" y="3357720"/>
            <a:ext cx="3152880" cy="3230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5184720" cy="3889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2200" y="260280"/>
            <a:ext cx="39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Фаст-ф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835080" cy="2587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435120" cy="2224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2724120" cy="2754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284720" y="4795920"/>
            <a:ext cx="504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В переводе с англий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АСТ-ФУД – быст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8:48:36Z</dcterms:created>
  <dc:creator>Котэ</dc:creator>
  <dc:description/>
  <dc:language>en-US</dc:language>
  <cp:lastModifiedBy>Роман</cp:lastModifiedBy>
  <dcterms:modified xsi:type="dcterms:W3CDTF">2012-06-28T07:32:10Z</dcterms:modified>
  <cp:revision>15</cp:revision>
  <dc:subject/>
  <dc:title>Слайд 1</dc:title>
</cp:coreProperties>
</file>