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Произвольный показ 1" id="0">
      <p:sldLst>
        <p:sld r:id="rId17"/>
      </p:sldLst>
    </p:custShow>
    <p:custShow name="Произвольный показ 2" id="1">
      <p:sldLst>
        <p:sld r:id="rId19"/>
        <p:sld r:id="rId18"/>
      </p:sldLst>
    </p:custShow>
    <p:custShow name="Произвольный показ 3" id="2">
      <p:sldLst>
        <p:sld r:id="rId18"/>
      </p:sldLst>
    </p:custShow>
    <p:custShow name="Произвольный показ 4" id="3">
      <p:sldLst>
        <p:sld r:id="rId18"/>
        <p:sld r:id="rId19"/>
      </p:sldLst>
    </p:custShow>
    <p:custShow name="Произвольный показ 5" id="4">
      <p:sldLst>
        <p:sld r:id="rId19"/>
      </p:sldLst>
    </p:custShow>
    <p:custShow name="Произвольный показ 6" id="5">
      <p:sldLst>
        <p:sld r:id="rId19"/>
      </p:sldLst>
    </p:custShow>
    <p:custShow name="Произвольный показ 7" id="6">
      <p:sldLst>
        <p:sld r:id="rId19"/>
      </p:sldLst>
    </p:custShow>
    <p:custShow name="Произвольный показ 8" id="7">
      <p:sldLst>
        <p:sld r:id="rId20"/>
      </p:sldLst>
    </p:custShow>
    <p:custShow name="Произвольный показ 9" id="8">
      <p:sldLst>
        <p:sld r:id="rId20"/>
      </p:sldLst>
    </p:custShow>
    <p:custShow name="Произвольный показ 10" id="9">
      <p:sldLst>
        <p:sld r:id="rId20"/>
      </p:sldLst>
    </p:custShow>
    <p:custShow name="Произвольный показ 11" id="10">
      <p:sldLst>
        <p:sld r:id="rId21"/>
      </p:sldLst>
    </p:custShow>
    <p:custShow name="Произвольный показ 12" id="11">
      <p:sldLst>
        <p:sld r:id="rId22"/>
      </p:sldLst>
    </p:custShow>
    <p:custShow name="Произвольный показ 13" id="12">
      <p:sldLst>
        <p:sld r:id="rId22"/>
      </p:sldLst>
    </p:custShow>
    <p:custShow name="Произвольный показ 14" id="13">
      <p:sldLst>
        <p:sld r:id="rId23"/>
      </p:sldLst>
    </p:custShow>
    <p:custShow name="Произвольный показ 15" id="14">
      <p:sldLst>
        <p:sld r:id="rId19"/>
      </p:sldLst>
    </p:custShow>
    <p:custShow name="Произвольный показ 16" id="15">
      <p:sldLst>
        <p:sld r:id="rId19"/>
      </p:sldLst>
    </p:custShow>
    <p:custShow name="Произвольный показ 17" id="16">
      <p:sldLst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16C2-B7A1-41EA-9229-E38790A29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44A0-8B1E-47E2-AFFC-05BEC321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A29B-74AD-48E4-A0BA-A8A3331BD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24A3-D04B-4348-84EC-1B863E774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9CD0-15D5-4577-94D3-36F64F10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F60F-DCA6-4F21-910B-C3E96BE3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15F9-95F2-497E-A03E-69B6AF57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BB0B-CCD8-45B1-A0CA-AF262309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3000-299B-495A-B6A3-37BBE796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6680-8AA1-42B0-8940-1E39F8DF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E4DD-C31B-4A7B-8F15-F6887233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3C9E-62F7-484E-B5EB-49A30A22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997E-4583-4474-BC34-DF47BB7E1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r>
              <a:rPr b="1" lang="en-US" sz="8000" spc="-1" strike="noStrike">
                <a:solidFill>
                  <a:srgbClr val="0000ff"/>
                </a:solidFill>
                <a:latin typeface="Arial"/>
              </a:rPr>
              <a:t>Выбираем</a:t>
            </a:r>
            <a:br>
              <a:rPr sz="8000"/>
            </a:br>
            <a:r>
              <a:rPr b="1" lang="en-US" sz="8000" spc="-1" strike="noStrike">
                <a:solidFill>
                  <a:srgbClr val="0000ff"/>
                </a:solidFill>
                <a:latin typeface="Arial"/>
              </a:rPr>
              <a:t>    правильное</a:t>
            </a:r>
            <a:br>
              <a:rPr sz="8000"/>
            </a:br>
            <a:r>
              <a:rPr b="1" lang="en-US" sz="8000" spc="-1" strike="noStrike">
                <a:solidFill>
                  <a:srgbClr val="0000ff"/>
                </a:solidFill>
                <a:latin typeface="Arial"/>
              </a:rPr>
              <a:t>             питани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196920"/>
            <a:ext cx="844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Традиционное пит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692360" y="1628640"/>
            <a:ext cx="5975280" cy="449928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11120" y="404640"/>
            <a:ext cx="635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Что выбрать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6200" y="1425600"/>
            <a:ext cx="397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Традицион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пит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1413000"/>
            <a:ext cx="527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Фаст-фу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(американский вид пита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932360" y="2637000"/>
            <a:ext cx="3743280" cy="391464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68360" y="2637000"/>
            <a:ext cx="3887640" cy="388764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209840" cy="62910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4716360" y="2565360"/>
            <a:ext cx="4248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Arial"/>
              </a:rPr>
              <a:t>Мнени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Arial"/>
              </a:rPr>
              <a:t>знато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9540720" y="1484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25774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24334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8572680" cy="523908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227640" y="3933720"/>
            <a:ext cx="2749680" cy="275292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03280" y="160020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Arial"/>
              </a:rPr>
              <a:t>Мнени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Arial"/>
              </a:rPr>
              <a:t>врач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4464000" cy="64800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68173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4360" y="-171360"/>
            <a:ext cx="777528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юбители фаст фуд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79280" y="1989000"/>
            <a:ext cx="3024360" cy="299736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556000" y="3213000"/>
            <a:ext cx="3195360" cy="345132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364000" y="2205000"/>
            <a:ext cx="3527640" cy="266076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4360" y="620640"/>
            <a:ext cx="7991280" cy="58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Гамбургер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230 кк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- 30 минут танц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Биг мак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430 кк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- 1 час игры в футбо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Картофел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фри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270 кк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- 1 час копания гряд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Кока-кола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160 кк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- 1 час пла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04640"/>
            <a:ext cx="73278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Питание должно бы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равильны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Нельзя перееда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Питаться следу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регулярно –  4 – 5 ра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в ден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В течении дня нужно е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молочные, мясные, рыб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родукты, фрукты, овощ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хлеб, круп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Еда должна быть тепл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Нельзя есть на х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300720" y="333360"/>
            <a:ext cx="2651040" cy="36003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9828360" y="1268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" dur="20387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63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4760" y="463680"/>
            <a:ext cx="7764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Что означает в перевод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ыражение «фаст фуд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96200" y="2119320"/>
            <a:ext cx="455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- хорошая 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00560" y="3200400"/>
            <a:ext cx="385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- горячая 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04880" y="4618080"/>
            <a:ext cx="368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- быстрая е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4040" y="392040"/>
            <a:ext cx="5324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Какого пита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придерживал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древний человек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42040" y="3056040"/>
            <a:ext cx="491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- вегетариан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564000" y="3919680"/>
            <a:ext cx="43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- сыро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485604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- традицион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84360" y="620640"/>
            <a:ext cx="3579840" cy="5329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932360" y="692280"/>
            <a:ext cx="3456000" cy="5184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3680" y="176040"/>
            <a:ext cx="648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Назовите правиль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режим питания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6200" y="2408400"/>
            <a:ext cx="829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- 4-5 раз в д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6200" y="3344760"/>
            <a:ext cx="829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- 2 раза в д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6200" y="4352760"/>
            <a:ext cx="829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- 3 раза в д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7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0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1880" y="176040"/>
            <a:ext cx="6861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Главное достоин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традиционного пи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эт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73680" y="2479680"/>
            <a:ext cx="758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- быстрота пригото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76200" y="3560760"/>
            <a:ext cx="486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- залог здоров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640" y="4653000"/>
            <a:ext cx="602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- можно есть на ход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50920" y="907920"/>
            <a:ext cx="3981240" cy="504036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142" name=""/>
          <p:cNvSpPr/>
          <p:nvPr/>
        </p:nvSpPr>
        <p:spPr>
          <a:xfrm>
            <a:off x="4427640" y="679320"/>
            <a:ext cx="4537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Правильно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(традиционно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питание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зало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здоровь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681440" cy="350352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916360" y="3284640"/>
            <a:ext cx="6048360" cy="34002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260280"/>
            <a:ext cx="6192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Человеку нужно ес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Чтобы встать и чтобы се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Чтобы прыгать, кувыркать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Песни петь, дружить, смеять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Чтоб расти и развивать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И при этом не боле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Нужно правильно пита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 самых юных лет уметь.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508720" y="2349360"/>
            <a:ext cx="3371760" cy="414972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Еда – средство общения люд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547640" y="2133720"/>
            <a:ext cx="5927760" cy="39510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1903320"/>
            <a:ext cx="81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             </a:t>
            </a: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Еда  –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Arial"/>
              </a:rPr>
              <a:t>источник жизн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42920" y="26028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Вегетарианц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042920" y="1557360"/>
            <a:ext cx="7345440" cy="479268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Сыроед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780160" y="3357720"/>
            <a:ext cx="3152880" cy="323028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5184720" cy="388944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92200" y="260280"/>
            <a:ext cx="390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Фаст-фу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3835080" cy="258768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611280" y="4365720"/>
            <a:ext cx="3435120" cy="222408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5580000" y="1773360"/>
            <a:ext cx="2724120" cy="275436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4284720" y="4795920"/>
            <a:ext cx="50482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В переводе с английск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ФАСТ-ФУД – быстр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08:48:36Z</dcterms:created>
  <dc:creator>Котэ</dc:creator>
  <dc:description/>
  <dc:language>en-US</dc:language>
  <cp:lastModifiedBy>Роман</cp:lastModifiedBy>
  <dcterms:modified xsi:type="dcterms:W3CDTF">2012-06-28T07:32:10Z</dcterms:modified>
  <cp:revision>15</cp:revision>
  <dc:subject/>
  <dc:title>Слайд 1</dc:title>
</cp:coreProperties>
</file>