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49FBE-B098-43F6-83A6-140A445C7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BC4D7-C57C-49D0-A36C-C91F6549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FDBD3-D468-4737-B25D-3B2EEBD9A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C1065-AD13-4301-ABB6-18446B300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C51A-3A7E-42D8-9519-FE43DBF25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BD2D-974A-46ED-8134-F5A644E2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1D5C-3CF8-4F6F-9C5D-B5C1FE24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5BB1-AC9B-427C-B4B1-8E2DB9D1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D57F-BAFE-44F5-83DC-8406A2AD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2067-C0CE-4C50-8B4D-497180EE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F411-5D6A-4C60-86B7-F3D67D94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DE134-A7A6-4866-AAA8-BF63526E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6330-DC2B-471F-AEEF-600B955A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079B-ED62-4226-A37F-8E3AD5EF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87CA-BF7E-477A-9F0F-D4B49D63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F2F5-A607-4FB1-A1E8-7005AE8AA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C38D-84B1-4143-97CC-6AE322B2C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32879-4D5D-4292-AF51-1978BD9A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5E9AB-1376-4160-B76D-DE390D1F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C0F5E-B41F-4BC7-BC09-2C82900F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2C5CA-E376-445A-AEB0-87C83155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C34BF-64F5-4891-A00D-CF8CEA1F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AA335-F517-4821-9EEE-5CBA078C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FE64D-458D-496E-A0D0-8668430E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2FAE-0CE4-48E3-820C-F428C0714E9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2B4F-450B-477F-B9F8-A90C4CCCBA9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12"/>
          <p:cNvSpPr txBox="1"/>
          <p:nvPr/>
        </p:nvSpPr>
        <p:spPr>
          <a:xfrm>
            <a:off x="1763640" y="1700280"/>
            <a:ext cx="5616720" cy="32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ок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усского языка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900000" y="126828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539640" y="1413000"/>
            <a:ext cx="806472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Молодцы, ребята!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пасибо за работу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а уроке!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755640" y="1268280"/>
            <a:ext cx="74898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ы пришли сюда учиться,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е лениться, а трудиться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аботаем старательно,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лушаем внимательно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5"/>
          <p:cNvSpPr txBox="1"/>
          <p:nvPr/>
        </p:nvSpPr>
        <p:spPr>
          <a:xfrm>
            <a:off x="1763640" y="1413000"/>
            <a:ext cx="5688000" cy="215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инутка 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расивого письма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116000" y="321300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рманчи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1042920" y="422100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исти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1042920" y="5373720"/>
            <a:ext cx="70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реше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2195640" y="1844640"/>
            <a:ext cx="468144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Arial"/>
              </a:rPr>
              <a:t>киииие</a:t>
            </a:r>
            <a:r>
              <a:rPr b="0" lang="ru-RU" sz="8800" spc="-1" strike="noStrike">
                <a:solidFill>
                  <a:srgbClr val="ffffff"/>
                </a:solidFill>
                <a:latin typeface="comic"/>
              </a:rPr>
              <a:t> 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comic"/>
              </a:rPr>
              <a:t>киииее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6"/>
          <p:cNvSpPr/>
          <p:nvPr/>
        </p:nvSpPr>
        <p:spPr>
          <a:xfrm>
            <a:off x="1619280" y="2349360"/>
            <a:ext cx="5977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уществительные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Беглый гласный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24000" y="119700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знакомимс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написанием уменьшительно-ласкательных суффиксов -чик-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ик- и -ек- в именах существительны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95280" y="378936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удем формировать умение правильно писать буквы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этих суффиксах, основываясь на беглость гласно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179280" y="1341360"/>
            <a:ext cx="871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ратный словарь на К, на ЧИК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затем на ЕК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Суффикс -чик- - обозначает род деятельности человек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Суффикс -чик- - уменьшительно-ласкательны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Суффикс -ик- - уменьшительно- ласкательны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539640" y="1052640"/>
            <a:ext cx="799308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вод: в суффиксах существительных с уменьшительно-ласкательным значением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ишется И (листИК, карманЧИК), если при изменении формы слова в суффиксе сохраняется гласный (листИКи, карманЧИКи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ишется буква Е (ящичЕК, орешЕК), если при изменении формы слова из суффикса исчезает гласный (ящичКи, орешКи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1187280" y="1413000"/>
            <a:ext cx="6769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И     -      И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Е     -       Е 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Line 5"/>
          <p:cNvSpPr/>
          <p:nvPr/>
        </p:nvSpPr>
        <p:spPr>
          <a:xfrm flipV="1">
            <a:off x="5003640" y="980640"/>
            <a:ext cx="136872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6372360" y="981000"/>
            <a:ext cx="129528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Line 7"/>
          <p:cNvSpPr/>
          <p:nvPr/>
        </p:nvSpPr>
        <p:spPr>
          <a:xfrm flipH="1">
            <a:off x="5148360" y="2852640"/>
            <a:ext cx="1295280" cy="7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6443640" y="2852640"/>
            <a:ext cx="1224000" cy="7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Line 9"/>
          <p:cNvSpPr/>
          <p:nvPr/>
        </p:nvSpPr>
        <p:spPr>
          <a:xfrm>
            <a:off x="6084720" y="3284640"/>
            <a:ext cx="115128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Line 10"/>
          <p:cNvSpPr/>
          <p:nvPr/>
        </p:nvSpPr>
        <p:spPr>
          <a:xfrm flipH="1">
            <a:off x="5940360" y="3284640"/>
            <a:ext cx="936720" cy="115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5:40:46Z</dcterms:created>
  <dc:creator>Ирина</dc:creator>
  <dc:description/>
  <dc:language>en-US</dc:language>
  <cp:lastModifiedBy>Ирина</cp:lastModifiedBy>
  <dcterms:modified xsi:type="dcterms:W3CDTF">2012-06-28T03:51:43Z</dcterms:modified>
  <cp:revision>7</cp:revision>
  <dc:subject/>
  <dc:title>Слайд 1</dc:title>
</cp:coreProperties>
</file>