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AF8A-AC91-4EA1-BF60-09AD4FCA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3CD2-364B-4F7D-86E7-23298FD2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9688-AED3-4B6A-94C5-818AEC48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B6F0-CA64-4D65-AFAC-48755E11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8C98-F6CF-43AD-ABD3-C0112D59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5395-76A1-469A-A139-4C2BEF12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C4FE-5C4C-4E02-8C5E-C25C5FBB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2B7C-A044-4902-A55F-095ADEDF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E265-B149-4A34-8369-4112569E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7878-6926-428C-A6D0-7874E114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80E3-1971-4F78-8993-837AD2B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2BAA-9B28-400C-955D-E2AB086E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F83C-1069-4A11-87EB-1DA922F0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3A1B-711F-4AD9-8FDE-B25FEDD4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970B-B47D-4C88-9EE2-AFFF61D4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99B5-3870-4ACA-8200-368D2FBE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2EAC-C544-47D5-BC7F-9CC80B07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D0D6-21F5-4F5E-AEDA-E13ABB4E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FFC9-C2C1-410B-84CC-4AD3E462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91CB-DDA2-4A23-99EF-00DD8145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DF1C-A3F0-4C41-B7D8-9446404A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E174-7EB3-45E7-93A1-26280678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5539-8F36-4D13-8FED-7430E25B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B937-52E0-4220-BD76-BE513DD1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1CAA-22AD-4611-B959-0EE60E1FA1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682F-2777-47A6-8DE7-799732B87F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12"/>
          <p:cNvSpPr txBox="1"/>
          <p:nvPr/>
        </p:nvSpPr>
        <p:spPr>
          <a:xfrm>
            <a:off x="1763640" y="1700280"/>
            <a:ext cx="561672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ого язык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900000" y="1268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9640" y="1413000"/>
            <a:ext cx="8064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олодцы, ребята!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работу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 уроке!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755640" y="1268280"/>
            <a:ext cx="74898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ы пришли сюда учиться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 лениться, а трудиться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ем старательно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ушаем внимательно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5"/>
          <p:cNvSpPr txBox="1"/>
          <p:nvPr/>
        </p:nvSpPr>
        <p:spPr>
          <a:xfrm>
            <a:off x="1763640" y="1413000"/>
            <a:ext cx="5688000" cy="21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нутка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асивого письм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16000" y="3213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рманчи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042920" y="4221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сти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042920" y="537372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реше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195640" y="1844640"/>
            <a:ext cx="46814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киииие</a:t>
            </a:r>
            <a:r>
              <a:rPr b="0" lang="ru-RU" sz="8800" spc="-1" strike="noStrike">
                <a:solidFill>
                  <a:srgbClr val="ffffff"/>
                </a:solidFill>
                <a:latin typeface="comic"/>
              </a:rPr>
              <a:t> 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mic"/>
              </a:rPr>
              <a:t>киииее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1619280" y="2349360"/>
            <a:ext cx="59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уществительны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Беглый гласн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197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комим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написанием уменьшительно-ласкательных суффиксов -чик-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ик- и -ек- в именах существительн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95280" y="37893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ем формировать умение правильно писать буквы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их суффиксах, основываясь на беглость глас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79280" y="134136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тный словарь на К, на ЧИК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затем на Е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уффикс -чик- - обозначает род деятельности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уффикс -чик- - уменьшительно-ласкательны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уффикс -ик- - уменьшительно- ласкательны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39640" y="1052640"/>
            <a:ext cx="799308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: в суффиксах существительных с уменьшительно-ласкательным значени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шется И (листИК, карманЧИК), если при изменении формы слова в суффиксе сохраняется гласный (листИКи, карманЧИКи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шется буква Е (ящичЕК, орешЕК), если при изменении формы слова из суффикса исчезает гласный (ящичКи, орешКи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187280" y="1413000"/>
            <a:ext cx="6769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И     -      И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Е     -       Е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5"/>
          <p:cNvSpPr/>
          <p:nvPr/>
        </p:nvSpPr>
        <p:spPr>
          <a:xfrm flipV="1">
            <a:off x="5003640" y="980640"/>
            <a:ext cx="136872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372360" y="981000"/>
            <a:ext cx="129528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7"/>
          <p:cNvSpPr/>
          <p:nvPr/>
        </p:nvSpPr>
        <p:spPr>
          <a:xfrm flipH="1">
            <a:off x="5148360" y="2852640"/>
            <a:ext cx="129528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6443640" y="2852640"/>
            <a:ext cx="122400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6084720" y="3284640"/>
            <a:ext cx="115128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10"/>
          <p:cNvSpPr/>
          <p:nvPr/>
        </p:nvSpPr>
        <p:spPr>
          <a:xfrm flipH="1">
            <a:off x="5940360" y="3284640"/>
            <a:ext cx="93672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40:46Z</dcterms:created>
  <dc:creator>Ирина</dc:creator>
  <dc:description/>
  <dc:language>en-US</dc:language>
  <cp:lastModifiedBy>Ирина</cp:lastModifiedBy>
  <dcterms:modified xsi:type="dcterms:W3CDTF">2012-06-28T03:51:43Z</dcterms:modified>
  <cp:revision>7</cp:revision>
  <dc:subject/>
  <dc:title>Слайд 1</dc:title>
</cp:coreProperties>
</file>