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FFA-655E-4E96-BACF-F043B83E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150-FC0C-42D7-A8C7-D8C21859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31C-26E8-4740-80F7-F2CA4FE8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C10-99F9-49FA-83B4-CEF1314C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330E-6873-4C55-81EB-652D69F1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2FDB-A3B2-47CA-9130-423C55BF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0ABB-66E5-4EF7-9A08-65E2BDE4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20DD-7E78-4879-95F8-1F60A6BE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ACD4-3E6F-4ACE-97FB-1C094D2E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2E15-FD1A-4FAB-8DD6-6D442F0C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5C58-95D5-4677-B0DF-CFCDDDF2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3CC-141E-4EC3-B4C5-9865D259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E6FB-61CE-46BE-8288-16E89142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C14B-8789-419C-B9BE-8AFD7CFC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E073-AA7B-42EA-98C5-43640D90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A3CB-91B6-472B-88A5-8BC379C7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8D98-59B2-4E7D-B7BF-0E3DCDB0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4EE4-9EA1-42FA-8A22-E61CA1E1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1364-88CD-4C90-8FBC-7993C44F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6E67-3C5D-437B-9CBD-F1B05A11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56B0-3524-4E50-9C12-8227223C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09C6-19B3-4BC6-8072-8093A760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7D2-9E32-415D-869D-213BA69E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4435-EFC1-4FFC-97D6-D64829E9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CCF5-90E5-4044-8B56-777CF946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1B50-0DF4-40EB-8775-1B6B94E9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352E6-32B7-4BB6-86F1-1AE8C30F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8436-DF7C-4FF3-91CA-75259732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979C-4563-495C-9AE9-06D08964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2EA0-34D1-407B-96C2-99232ACE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C6EDA-AC78-495D-8172-75A943B8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468C-756C-4472-B08A-431C5005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7FCB1-DDE0-464D-943B-B05E2863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D65-D15C-4A83-89C4-E117CFAB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AD607-97F0-409E-97A7-F4CE5948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288F5-506A-46C1-A05C-380B6051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B1C0-2472-4937-B799-2A2CF14D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33B39-5DAC-45F1-B695-BDC4B4CD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884F-FE41-4B25-8C69-D02E212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3F4F-5153-4C65-994A-9C94E98B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3A791-6A8C-4DC3-A1C8-85160D47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3E404-4342-4672-94F6-41F9C73B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22A26-F154-480B-B2D4-85D94C85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80C8-0200-4666-9D37-666C4DF3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F6C-2884-4CAD-8672-2F37227E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C228B-1372-4386-BA5C-1C0F0BB2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E69A-D75D-4616-8238-096BD8E1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76489-CA06-4BE8-A3F1-E9A6F102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0ABAD-9CE4-4204-98BB-3ADFFF7C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CFBDD-E2A4-4E8F-991C-E4B9FA98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DB775-C859-4DE9-B8AE-A2716EC1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5020-0746-4612-BDE6-155CE8A2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42CC4-1191-4D92-824A-6B732C89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29A9F-C593-4240-8C82-C5B15080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BE2C3-D038-4920-94B0-7109E413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6DE-4864-46E0-8943-A0D6D68A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8F4A2-154D-4BE5-8E4E-75679F5E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D0AD6-1505-4190-88E8-B61E4E94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288A7-339C-4F6B-BC33-BBBF6872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7AC8-1518-48DE-AA85-91E09F1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9C94B-E9DC-48CA-B08F-F3CA275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9548-F06F-4C39-BE75-9F5BE912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6B212-E2C2-4A3D-B680-4E45620A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10244-EBE7-46BC-952C-3AABE05E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39425-D26C-40AF-A86D-A2184BE7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6ACE-8D10-4519-98D2-08C29583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9F3-9A3B-4727-9F90-1A8D5489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A5B6D-AEE7-4C0E-86CE-911822DE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608F-C7FB-4726-AC4A-86EB8B0A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041BA-A6F9-4E4F-B87D-1187C7CE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6E620-A415-41D3-B5D6-09D65CB0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C808-3C8B-4049-900F-70A2B0EE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14A89-9601-496D-808E-1C219147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BBDB7-FDF7-4857-AC7E-C5BAA341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61C5B-B545-4374-B70F-28FC204A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0E0DC-F8A9-48FC-BD4B-9B7155B1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77D3C-E6DA-4959-8DB1-509BEEED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759-C4BB-43F0-8750-21B90D75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C6D53-376F-4795-9B64-2FF0F956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BD334-DB19-4A5A-85CB-72145A75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27B8E-7DEB-499F-850A-2E43AC41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57A14-AB45-49C7-AA15-F4B9F1E2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5E3DB-EFEC-4902-A64B-314BE6DA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674AC-F19F-45CE-8C65-99884E30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6B994-F508-4196-BBCE-A3AA16A0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4FF91-4EFB-4D2B-9C0B-04B86FE3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FD5B0-F0D4-4FCA-921C-AC81A84F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E7918-19DF-4EE3-9E7A-AA3A599F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F90-F30B-4619-A00A-60970CCE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22E93-9B71-4106-B8F2-70BB72CE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25F65-2C3D-4287-89A5-56DC20AF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8A56A-4754-4217-A589-71DF64CC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F3515-C296-4EA3-B1BE-9CD23DC2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B9A4C-CA12-42C7-B29C-C0771227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A1E01-4DF2-4E39-9CC9-BF6BB19E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E5C6E-B59B-4EF9-B1CC-231EC114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2DB8-D726-4BE4-BEF8-D6181930F5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F78B-683B-4160-A2C8-13749020C8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A3A9-2D30-4478-BEF6-AD8520D1E4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C8CC-D3D3-471D-BFFC-43737073BB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50E1-3E87-4D3D-9ACA-CB1ED641CB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9334-6E53-491F-9DD2-EAFE5C6E9B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F70B-2BBA-4FDB-A097-25F4972814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697-38AA-445D-8401-95B62404C0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9040" y="334800"/>
            <a:ext cx="7772400" cy="1743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МБОУ СОШ с.Наскафты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Артемьева Е.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Прямоугольник 6" descr=""/>
          <p:cNvPicPr/>
          <p:nvPr/>
        </p:nvPicPr>
        <p:blipFill>
          <a:blip r:embed="rId2"/>
          <a:stretch/>
        </p:blipFill>
        <p:spPr>
          <a:xfrm>
            <a:off x="682560" y="1633680"/>
            <a:ext cx="4572000" cy="1815840"/>
          </a:xfrm>
          <a:prstGeom prst="rect">
            <a:avLst/>
          </a:prstGeom>
          <a:ln w="0">
            <a:noFill/>
          </a:ln>
        </p:spPr>
      </p:pic>
      <p:sp>
        <p:nvSpPr>
          <p:cNvPr id="373" name="Стрелка вправо 1"/>
          <p:cNvSpPr/>
          <p:nvPr/>
        </p:nvSpPr>
        <p:spPr>
          <a:xfrm>
            <a:off x="8172360" y="6453360"/>
            <a:ext cx="503280" cy="14436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Прямоугольник 3" descr=""/>
          <p:cNvPicPr/>
          <p:nvPr/>
        </p:nvPicPr>
        <p:blipFill>
          <a:blip r:embed="rId3"/>
          <a:stretch/>
        </p:blipFill>
        <p:spPr>
          <a:xfrm>
            <a:off x="3492360" y="3200400"/>
            <a:ext cx="4572000" cy="18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D:\102_FUJI\DSC00910.JPG"/>
          <p:cNvPicPr/>
          <p:nvPr/>
        </p:nvPicPr>
        <p:blipFill>
          <a:blip r:embed="rId1"/>
          <a:stretch/>
        </p:blipFill>
        <p:spPr>
          <a:xfrm>
            <a:off x="1552680" y="2421000"/>
            <a:ext cx="6060960" cy="3562200"/>
          </a:xfrm>
          <a:prstGeom prst="rect">
            <a:avLst/>
          </a:prstGeom>
          <a:ln w="0">
            <a:noFill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414360" y="811080"/>
            <a:ext cx="8327880" cy="1621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D:\102_FUJI\DSC00924.JPG"/>
          <p:cNvPicPr/>
          <p:nvPr/>
        </p:nvPicPr>
        <p:blipFill>
          <a:blip r:embed="rId1"/>
          <a:stretch/>
        </p:blipFill>
        <p:spPr>
          <a:xfrm>
            <a:off x="2195640" y="1557360"/>
            <a:ext cx="5505480" cy="329724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1" descr=""/>
          <p:cNvPicPr/>
          <p:nvPr/>
        </p:nvPicPr>
        <p:blipFill>
          <a:blip r:embed="rId2"/>
          <a:stretch/>
        </p:blipFill>
        <p:spPr>
          <a:xfrm>
            <a:off x="682560" y="18900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D:\102_FUJI\DSC00915.JPG"/>
          <p:cNvPicPr/>
          <p:nvPr/>
        </p:nvPicPr>
        <p:blipFill>
          <a:blip r:embed="rId1"/>
          <a:stretch/>
        </p:blipFill>
        <p:spPr>
          <a:xfrm>
            <a:off x="539640" y="620640"/>
            <a:ext cx="5329440" cy="3178080"/>
          </a:xfrm>
          <a:prstGeom prst="rect">
            <a:avLst/>
          </a:prstGeom>
          <a:ln w="0">
            <a:noFill/>
          </a:ln>
        </p:spPr>
      </p:pic>
      <p:pic>
        <p:nvPicPr>
          <p:cNvPr id="380" name="Заголовок 1" descr=""/>
          <p:cNvPicPr/>
          <p:nvPr/>
        </p:nvPicPr>
        <p:blipFill>
          <a:blip r:embed="rId2"/>
          <a:stretch/>
        </p:blipFill>
        <p:spPr>
          <a:xfrm>
            <a:off x="457200" y="36360"/>
            <a:ext cx="8229600" cy="101772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2"/>
          <p:cNvSpPr/>
          <p:nvPr/>
        </p:nvSpPr>
        <p:spPr>
          <a:xfrm>
            <a:off x="324000" y="3933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И, получив тетрадь с карандашами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За парту сели первый в жизни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D:\102_FUJI\DSC00927.JPG"/>
          <p:cNvPicPr/>
          <p:nvPr/>
        </p:nvPicPr>
        <p:blipFill>
          <a:blip r:embed="rId3"/>
          <a:stretch/>
        </p:blipFill>
        <p:spPr>
          <a:xfrm>
            <a:off x="4572000" y="3789360"/>
            <a:ext cx="4421160" cy="26719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9:36:35Z</dcterms:created>
  <dc:creator>Катенок</dc:creator>
  <dc:description/>
  <dc:language>en-US</dc:language>
  <cp:lastModifiedBy>User</cp:lastModifiedBy>
  <dcterms:modified xsi:type="dcterms:W3CDTF">2012-06-27T16:30:51Z</dcterms:modified>
  <cp:revision>39</cp:revision>
  <dc:subject/>
  <dc:title>Презентация PowerPoint</dc:title>
</cp:coreProperties>
</file>