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783E-1AD7-439C-9366-71EAB7800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A3D4-C4F5-48AD-951D-7F890F89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8D63-6A13-4DDA-9610-ABDC3216E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24D9-1AF7-4CDC-8BE2-C60440F22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EE70-5ED9-4444-886A-25BF251B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DC70-F12E-4EAB-BB72-62A34B3B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3A79-DB6D-465F-895C-842BC5EF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BB89-61E5-428B-9DCA-0DEB870C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1BEE-1782-4FDE-B845-18F8BB36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01F4-D0C2-4865-A0D5-6ACB4E38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2C9B-586F-4400-9E2C-197848C0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318A-FB22-45CC-8C0B-EF713806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96EF-0B9B-4A09-8FEF-1BB2F440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DA7B-2C00-4748-A372-400C62D3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E78B-FD2B-4ABF-B85D-204485C3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1FAE-C754-4B75-8990-C8FE5C19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E19A-6C19-4700-85DD-A93045B90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B2254-CF99-40D9-BCEC-9FF1C3B90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27CEC-8F46-4DCF-8E75-47BFE462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FE980-05BF-4826-9FC1-7D779997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5F83F-A342-4CE5-A69F-EFEE1D68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53836-4210-4670-B1AF-6F2158DB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159B-63C9-4983-B8A3-B0C2CEC4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EB9BF-E619-4721-99D6-5021A33B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00B7A-8023-463C-89D6-27EC881D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A4B0D-05DA-4630-B92A-E6638A2F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E23C4-306B-4DC6-8EBE-2D61AB33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B7832-D68A-49D6-B71E-B9D35BCA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10C8C-79EA-4236-B27D-FB1FA4A75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B516A-F16D-4D33-B54D-0B610AA6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004E5-8FE5-4F26-95F2-8F4BFE63C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34540-FB97-4929-ADCA-8F820740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0B6DD-820A-4FE6-A59B-5F247316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FDDF-BF58-4714-A31D-1ECD1E8A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09EA6-5CDD-4766-99D0-98C7A15A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97115-FCE0-4611-A950-260B5CC7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B2189-1A75-4D04-8E14-D95E2653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2B7CF-C5F3-47B4-920B-021C451C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5A12D-6A80-445B-9C2C-1FD8CC1C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F220A-6FA9-4B58-A6E1-A582E2B2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BFC41-4E56-42DC-BB0A-622F5A47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1FA5C-E1F8-413D-B259-FD2467B0A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C4F57-1A1C-46D5-8FFD-2BC24B0B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99B3E-496B-4F44-9444-062D934AE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7A98-8F02-464F-BDF5-577CF5FC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862B9-0726-4623-8FF3-D67A96BA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F30EC-C7BF-44D1-89D0-D73ABBCB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8DD8C-1D3A-466B-9A20-90752675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B9B01-BC2F-494B-B73D-A05D225A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40317-4632-4DB2-8007-C21E4BA0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B7023-7D60-43C7-A93F-A2418185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49D7E-B25C-43A5-BF1F-4E611517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559AE-7498-451D-8373-FEE36F5D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53085-A6B6-4CA4-BAA4-EDEA9A1C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AC020-EB35-402E-9F9C-4F82229EF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E8DE-E5C8-4AFB-A0EA-5A756843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E9579-2B20-456F-80AA-E983602A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0BBCF-D0AF-4819-910A-907C0A64E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4B023-2215-42C7-9592-79FBFFAF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1FF58-D3A9-439F-BD97-40A39552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CC1F5-7A51-41BB-9701-4AAC4807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5B84D-0CE1-4DB0-8963-B50FEFB9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A3302-DADB-493C-9F15-E109C3A5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F7038-0168-48A9-BECF-C547A108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0F8C7-0A26-408B-9E67-A358408E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6C928-D69D-4825-A76B-EB8E5177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F3FE-9455-4321-A785-A7FAEF88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4FFED-00EF-4826-9CC1-AEDE9022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EAA39-D981-47DF-A84F-7F1B309B5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0B1C0-CA53-4EA0-91E1-F0EED203A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BA4AB-121C-4187-B670-F041E517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D960D-726F-4C3E-AD8A-50513E88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5672A-DF46-4E75-AD25-E909437E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FC3B9-8FAB-4186-AE4B-7D533B9D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FD65D-0A94-4974-8C25-44E71203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6978D-51B7-4CE1-9AC4-89EB5872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6087F-AE0F-4F0B-838E-E9ED3512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7150-BBC5-4004-9AEF-8DACBA4C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90D24-559B-404D-9BE6-FC90EFF1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5535C-F647-4672-981D-FF36D90F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CBE98-B940-4030-861F-1F52BD7D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BF6F7-26FE-4DA7-9328-D6C6E0B28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6C77B-8920-43E3-841A-EC33A951E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7980F-3F61-4D2E-A559-ACB6DA06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C4829-F709-4741-9CA4-15B4AA66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4C1F5-37C4-4840-A28D-BDD37CF6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A4FED-DF17-4875-B9FD-22CC9F46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88C1A-4ACE-4971-B96A-DE569BFF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21EA-F5FB-49B4-AACA-77268BCB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C8075-712E-478D-B046-DE7053CA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3941B-440E-42AF-A4A2-90B50E51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3A889-381F-4128-A25E-E055B440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54FE5-B69E-422E-B52B-00C166B4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654E5-EBE2-410D-8479-31340703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AE2B8-CC77-4A1F-9328-FE8C6AE2F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5E333-E07B-474B-A6A4-1ED0E60D3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265B-67FF-4C13-A4B7-0534E0793AF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C465-ABCF-4582-AC98-907F869AE2F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DA0B-000F-449E-91D9-5CBA3EC11C0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37BC-0FE1-49F5-915B-27F9F52DDBF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F270-84CB-43EE-A274-629F35E2F65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C46A-CA34-43A3-9023-E6D3E0EC380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2907-4156-425F-B467-1A6D9798463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D5E7-B8C5-4176-B71F-C691058F277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89040" y="334800"/>
            <a:ext cx="7772400" cy="17431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371600" y="4869000"/>
            <a:ext cx="6400800" cy="76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Lucida Sans Unicode"/>
              </a:rPr>
              <a:t>МБОУ СОШ с.Наскафтым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Lucida Sans Unicode"/>
              </a:rPr>
              <a:t>Артемьева Е.Я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Прямоугольник 6" descr=""/>
          <p:cNvPicPr/>
          <p:nvPr/>
        </p:nvPicPr>
        <p:blipFill>
          <a:blip r:embed="rId2"/>
          <a:stretch/>
        </p:blipFill>
        <p:spPr>
          <a:xfrm>
            <a:off x="682560" y="1633680"/>
            <a:ext cx="4572000" cy="1815840"/>
          </a:xfrm>
          <a:prstGeom prst="rect">
            <a:avLst/>
          </a:prstGeom>
          <a:ln w="0">
            <a:noFill/>
          </a:ln>
        </p:spPr>
      </p:pic>
      <p:sp>
        <p:nvSpPr>
          <p:cNvPr id="373" name="Стрелка вправо 1"/>
          <p:cNvSpPr/>
          <p:nvPr/>
        </p:nvSpPr>
        <p:spPr>
          <a:xfrm>
            <a:off x="8172360" y="6453360"/>
            <a:ext cx="503280" cy="144360"/>
          </a:xfrm>
          <a:prstGeom prst="rightArrow">
            <a:avLst>
              <a:gd name="adj1" fmla="val 50000"/>
              <a:gd name="adj2" fmla="val 5003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Прямоугольник 3" descr=""/>
          <p:cNvPicPr/>
          <p:nvPr/>
        </p:nvPicPr>
        <p:blipFill>
          <a:blip r:embed="rId3"/>
          <a:stretch/>
        </p:blipFill>
        <p:spPr>
          <a:xfrm>
            <a:off x="3492360" y="3200400"/>
            <a:ext cx="4572000" cy="18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D:\102_FUJI\DSC00910.JPG"/>
          <p:cNvPicPr/>
          <p:nvPr/>
        </p:nvPicPr>
        <p:blipFill>
          <a:blip r:embed="rId1"/>
          <a:stretch/>
        </p:blipFill>
        <p:spPr>
          <a:xfrm>
            <a:off x="1552680" y="2421000"/>
            <a:ext cx="6060960" cy="3562200"/>
          </a:xfrm>
          <a:prstGeom prst="rect">
            <a:avLst/>
          </a:prstGeom>
          <a:ln w="0">
            <a:noFill/>
          </a:ln>
        </p:spPr>
      </p:pic>
      <p:pic>
        <p:nvPicPr>
          <p:cNvPr id="376" name="Заголовок 1" descr=""/>
          <p:cNvPicPr/>
          <p:nvPr/>
        </p:nvPicPr>
        <p:blipFill>
          <a:blip r:embed="rId2"/>
          <a:stretch/>
        </p:blipFill>
        <p:spPr>
          <a:xfrm>
            <a:off x="414360" y="811080"/>
            <a:ext cx="8327880" cy="1621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split dir="out" orient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D:\102_FUJI\DSC00924.JPG"/>
          <p:cNvPicPr/>
          <p:nvPr/>
        </p:nvPicPr>
        <p:blipFill>
          <a:blip r:embed="rId1"/>
          <a:stretch/>
        </p:blipFill>
        <p:spPr>
          <a:xfrm>
            <a:off x="2195640" y="1557360"/>
            <a:ext cx="5505480" cy="3297240"/>
          </a:xfrm>
          <a:prstGeom prst="rect">
            <a:avLst/>
          </a:prstGeom>
          <a:ln w="0">
            <a:noFill/>
          </a:ln>
        </p:spPr>
      </p:pic>
      <p:pic>
        <p:nvPicPr>
          <p:cNvPr id="378" name="Заголовок 1" descr=""/>
          <p:cNvPicPr/>
          <p:nvPr/>
        </p:nvPicPr>
        <p:blipFill>
          <a:blip r:embed="rId2"/>
          <a:stretch/>
        </p:blipFill>
        <p:spPr>
          <a:xfrm>
            <a:off x="682560" y="189000"/>
            <a:ext cx="8229600" cy="113976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D:\102_FUJI\DSC00915.JPG"/>
          <p:cNvPicPr/>
          <p:nvPr/>
        </p:nvPicPr>
        <p:blipFill>
          <a:blip r:embed="rId1"/>
          <a:stretch/>
        </p:blipFill>
        <p:spPr>
          <a:xfrm>
            <a:off x="539640" y="620640"/>
            <a:ext cx="5329440" cy="3178080"/>
          </a:xfrm>
          <a:prstGeom prst="rect">
            <a:avLst/>
          </a:prstGeom>
          <a:ln w="0">
            <a:noFill/>
          </a:ln>
        </p:spPr>
      </p:pic>
      <p:pic>
        <p:nvPicPr>
          <p:cNvPr id="380" name="Заголовок 1" descr=""/>
          <p:cNvPicPr/>
          <p:nvPr/>
        </p:nvPicPr>
        <p:blipFill>
          <a:blip r:embed="rId2"/>
          <a:stretch/>
        </p:blipFill>
        <p:spPr>
          <a:xfrm>
            <a:off x="457200" y="36360"/>
            <a:ext cx="8229600" cy="101772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2"/>
          <p:cNvSpPr/>
          <p:nvPr/>
        </p:nvSpPr>
        <p:spPr>
          <a:xfrm>
            <a:off x="324000" y="3933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И, получив тетрадь с карандашами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Calibri"/>
              </a:rPr>
              <a:t>За парту сели первый в жизни раз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2" descr="D:\102_FUJI\DSC00927.JPG"/>
          <p:cNvPicPr/>
          <p:nvPr/>
        </p:nvPicPr>
        <p:blipFill>
          <a:blip r:embed="rId3"/>
          <a:stretch/>
        </p:blipFill>
        <p:spPr>
          <a:xfrm>
            <a:off x="4572000" y="3789360"/>
            <a:ext cx="4421160" cy="26719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2T09:36:35Z</dcterms:created>
  <dc:creator>Катенок</dc:creator>
  <dc:description/>
  <dc:language>en-US</dc:language>
  <cp:lastModifiedBy>User</cp:lastModifiedBy>
  <dcterms:modified xsi:type="dcterms:W3CDTF">2012-06-27T16:30:51Z</dcterms:modified>
  <cp:revision>39</cp:revision>
  <dc:subject/>
  <dc:title>Презентация PowerPoint</dc:title>
</cp:coreProperties>
</file>