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34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media/image36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292-1CE6-4FB7-ADA8-470B049A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6A46-2278-485B-A241-DF280C4A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5514-8D79-404A-8F6B-785133AB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08F6-16F6-4323-A152-FBEE557A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DEC6-E158-4959-A48A-EB47DC20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981A-C597-4BFB-A39D-4A2B709C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24E5-D1D9-43D8-B4F4-0C964F2F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D1E9-BFFF-4588-8B7D-DE84E025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6C3D-F7D4-47C0-868A-EF2E85FB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53D1-0C43-468B-96FF-4925893A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9EAF-BC94-4D51-B575-85675AF3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8213-80F5-42C6-8A01-7B595C9B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5245-3A82-4488-BB6F-8F3AB958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2DAB-A2CE-41E8-ADF6-A1B621F5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6B41-F334-4449-A21A-363A3C34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7724-EBE2-41CD-A02E-3994E3DC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C393-D47A-4B29-A588-89B5AB04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50D71-40AE-4B58-A430-46CC98BE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88B5B-F286-4962-B4CC-050B68FF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FF5F1-1A26-4522-BCE2-8CF8F71F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6FECC-AD28-4730-9986-0C489709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604DE-1882-46A6-A55A-F9DAA76F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172D-1A38-4F2C-B959-4AFEA7FD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1DF48-940E-4BFC-BFEA-BF0F897D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D7CD4-FFB6-4F45-8144-19E6223E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65C2B-B208-43AC-AD45-5AE2401F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0D9AE-7418-4B3C-9179-237723EE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CA62B-BDFA-4293-988E-414F4591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62F20-A357-4BDB-9DF3-A4857083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98A31-3FF7-4464-86AA-62041618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73763-8AE0-4394-B48A-9641E13C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56A6D-B54C-46D3-8608-C2487063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2D720-54DA-4EF7-B877-8296EA84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757-DBFB-4FA6-9390-E69A2C70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C7EF8-8B83-455F-9A02-3FE077AA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F876C-F026-482C-A389-5318C07A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08563-F05D-45F9-8CD6-0B220DBD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E93AD-1193-443D-974D-2E994EDB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338D9-A9E0-46ED-B083-70FC452C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F6423-11C3-4ABE-848B-7B7621A7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AF19B-D4B3-4D1E-BE44-80AF723E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E632C-D56A-4058-8CB7-708F36F6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45D87-4D6A-4D4E-86FF-B8484387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4E3D-5B9E-4277-9B6A-F6E003C4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78DC-6AE4-4F2D-816D-0EA8766B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87AC-2B42-4833-87C6-EE4D8104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F148-37B8-4AD4-8565-AD71DA0E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A3C1-CA03-4893-A7EC-4CE91778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2EFA-65E4-4C9F-B7F3-3B65E3B12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0C54-052E-4AE7-B503-742FFBC93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9901-F743-4DBE-839A-C0268C64F84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61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65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90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934F-B0B3-4604-93B3-28D40E0A3E8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4.jpeg"/><Relationship Id="rId3" Type="http://schemas.openxmlformats.org/officeDocument/2006/relationships/hyperlink" Target="http://www.yandex.ru/" TargetMode="External"/><Relationship Id="rId4" Type="http://schemas.openxmlformats.org/officeDocument/2006/relationships/hyperlink" Target="http://www.yandex.ru/" TargetMode="External"/><Relationship Id="rId5" Type="http://schemas.openxmlformats.org/officeDocument/2006/relationships/image" Target="../media/image37.pn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66ff"/>
                </a:solidFill>
                <a:latin typeface="Arial Rounded MT Bold"/>
              </a:rPr>
              <a:t>Пятидесятилетию полёта человека в космос посвящается…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352680" y="44197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513160" cy="25243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152280" y="2819520"/>
            <a:ext cx="2057400" cy="27064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971800" y="289080"/>
            <a:ext cx="594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ff"/>
                </a:solidFill>
                <a:latin typeface="Arial"/>
              </a:rPr>
              <a:t>ПТИЦЫ</a:t>
            </a:r>
            <a:br>
              <a:rPr sz="1800"/>
            </a:br>
            <a:r>
              <a:rPr b="1" lang="en-US" sz="1800" spc="-1" strike="noStrike">
                <a:solidFill>
                  <a:srgbClr val="cc66ff"/>
                </a:solidFill>
                <a:latin typeface="Arial"/>
              </a:rPr>
              <a:t>В результате советско-чехословацких экспериментов впервые в невесомости родилось живое существо: на орбите вылупились из яиц восемь птенцов японского перепела. Эксперимент проводился с целью выяснить, можно ли в космосе развести натуральное хозяйство на случай межпланетных поле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2743560"/>
            <a:ext cx="6324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ff"/>
                </a:solidFill>
                <a:latin typeface="Arial"/>
              </a:rPr>
              <a:t>КОШКИ</a:t>
            </a:r>
            <a:br>
              <a:rPr sz="1800"/>
            </a:br>
            <a:r>
              <a:rPr b="1" lang="ru-RU" sz="1800" spc="-1" strike="noStrike">
                <a:solidFill>
                  <a:srgbClr val="cc66ff"/>
                </a:solidFill>
                <a:latin typeface="Arial"/>
              </a:rPr>
              <a:t>Пионером космоса должен был стать кот Феликс, однако незадолго до старта он сбежал, так что в полет на борту ракеты «Вероник» отправили кошку Фелисетт. Животное чувствовало себя нормально, о чем свидетельствовали вживленные в голову электроды,  считывающие нервные импульсы. Второй запуск кошки, также произведенный Францией, прошел неудач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266720" y="277920"/>
            <a:ext cx="4419720" cy="29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ff"/>
                </a:solidFill>
                <a:latin typeface="Arial"/>
              </a:rPr>
              <a:t>КРОЛИК</a:t>
            </a:r>
            <a:br>
              <a:rPr sz="1800"/>
            </a:br>
            <a:r>
              <a:rPr b="0" lang="ru-RU" sz="1800" spc="-1" strike="noStrike">
                <a:solidFill>
                  <a:srgbClr val="cc66ff"/>
                </a:solidFill>
                <a:latin typeface="Arial"/>
              </a:rPr>
              <a:t>Единственный длинноухий астронавт – крольчиха Марфуша, летавшая в компании собак Отважной и Снежинки. </a:t>
            </a:r>
            <a:r>
              <a:rPr b="0" lang="ru-RU" sz="1800" spc="-1" strike="noStrike">
                <a:solidFill>
                  <a:srgbClr val="cc66ff"/>
                </a:solidFill>
                <a:latin typeface="Arial"/>
              </a:rPr>
              <a:t>Крольчиха была «на сносях»: таким образом ученые исследовали, как невесомость влияет на потомство. </a:t>
            </a:r>
            <a:br>
              <a:rPr sz="18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657600" cy="3159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2633760" cy="2886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819520" y="4191120"/>
            <a:ext cx="606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ff"/>
                </a:solidFill>
                <a:latin typeface="Arial"/>
              </a:rPr>
              <a:t>ПАУКИ</a:t>
            </a:r>
            <a:br>
              <a:rPr sz="1800"/>
            </a:br>
            <a:r>
              <a:rPr b="1" lang="ru-RU" sz="1800" spc="-1" strike="noStrike">
                <a:solidFill>
                  <a:srgbClr val="cc66ff"/>
                </a:solidFill>
                <a:latin typeface="Arial"/>
              </a:rPr>
              <a:t>На борт космической станции «Скайлэб» доставили двух крестовиков - Арабеллу и Аниту. Пауки слегка растерялись в невесомости и первые сети сплели с неровными ячейками. Но вскоре освоились и ткали «кружева», как на Земле. В космос также летали мухи-дрозофилы, кузнечики-мормоны, круглые черви, ули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95480" y="228600"/>
            <a:ext cx="60962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ff"/>
                </a:solidFill>
                <a:latin typeface="Arial"/>
              </a:rPr>
              <a:t>ЧЕРЕПАХИ</a:t>
            </a:r>
            <a:br>
              <a:rPr sz="1800"/>
            </a:br>
            <a:r>
              <a:rPr b="1" lang="ru-RU" sz="1800" spc="-1" strike="noStrike">
                <a:solidFill>
                  <a:srgbClr val="cc66ff"/>
                </a:solidFill>
                <a:latin typeface="Arial"/>
              </a:rPr>
              <a:t>На них исследовали влияние перегрузок на организм. Использовались среднеазиатские тортилы: они способны обходиться без пищи до двух недель, комфортно существовать в разреженном воздухе, впадать в летаргический сон. В полете пресмыкающихся полностью обездвижили в специальных клетках. Испытания прошли успешно, если не считать, что от перегрузок у некоторых особей вылезли глаза из орбит.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2667240" cy="2517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304920" y="33526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276720" y="3580200"/>
            <a:ext cx="563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ff"/>
                </a:solidFill>
                <a:latin typeface="Arial"/>
              </a:rPr>
              <a:t>ЛЯГУШКИ</a:t>
            </a:r>
            <a:br>
              <a:rPr sz="1800"/>
            </a:br>
            <a:r>
              <a:rPr b="1" lang="ru-RU" sz="1800" spc="-1" strike="noStrike">
                <a:solidFill>
                  <a:srgbClr val="cc66ff"/>
                </a:solidFill>
                <a:latin typeface="Arial"/>
              </a:rPr>
              <a:t>На орбитальный спутник «OFO-A» Штаты отправили двух лягушек-быков. Задачей было исследовать сенсорный орган, отвечающий за ориентацию животного в пространстве. В 1990 г. японский репортер Тойохиро Акияма привез с собой на станцию «Мир» древесных лягушек. А в 1995-м Япония отправила летать трит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790720" cy="3962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352680" y="838080"/>
            <a:ext cx="548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ff"/>
                </a:solidFill>
                <a:latin typeface="Arial"/>
              </a:rPr>
              <a:t>ОБЕЗЬЯНЫ </a:t>
            </a:r>
            <a:br>
              <a:rPr sz="1800"/>
            </a:br>
            <a:r>
              <a:rPr b="1" lang="ru-RU" sz="1800" spc="-1" strike="noStrike">
                <a:solidFill>
                  <a:srgbClr val="cc66ff"/>
                </a:solidFill>
                <a:latin typeface="Arial"/>
              </a:rPr>
              <a:t>Макак-резус Сэм. Он поднялся на высоту 88 км, вернулся живой, но до границы космоса - 100 км не долетел. Поэтому первым космонавтом-приматом считают шимпанзе Хэма, летавшего в 1961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09720" y="151920"/>
            <a:ext cx="350532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"/>
              </a:rPr>
              <a:t>Первый успешный полет в космос с возвращением на Землю состоялся в 1960 году: пассажирами были Белка и Стрелка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429000" cy="30178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2438280" y="3276720"/>
            <a:ext cx="29257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441972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Памятник первому живому существу в космосе - собаке Лайке установлен в Москве на территории Института военной медицины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20228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3352320"/>
            <a:ext cx="8381880" cy="32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ccff"/>
                </a:solidFill>
                <a:latin typeface="Arial"/>
              </a:rPr>
              <a:t>В 2010 году вышел российский мультфильм, рассказывающий о полёте отважных астронавток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 Black"/>
              </a:rPr>
              <a:t>Первый человек, успешно полетевший в космос –  космонавт – </a:t>
            </a:r>
            <a:br>
              <a:rPr sz="3200"/>
            </a:br>
            <a:r>
              <a:rPr b="1" lang="en-US" sz="4000" spc="-1" strike="noStrike">
                <a:solidFill>
                  <a:srgbClr val="66ccff"/>
                </a:solidFill>
                <a:latin typeface="Arial Black"/>
              </a:rPr>
              <a:t>Юрий Алексеевич Гагари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968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69343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Выход человека в космо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495680" y="838080"/>
            <a:ext cx="4496040" cy="33735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52149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Запуск первой космической ракеты «Восток»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141800" cy="4762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5105520" y="1747440"/>
            <a:ext cx="3790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«Юрий Гагарин»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В космической ракете</a:t>
            </a:r>
            <a:br>
              <a:rPr sz="2400"/>
            </a:b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С название «Восток»</a:t>
            </a:r>
            <a:br>
              <a:rPr sz="2400"/>
            </a:b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Он первым на планете</a:t>
            </a:r>
            <a:br>
              <a:rPr sz="2400"/>
            </a:b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Подняться к звёздам смог.</a:t>
            </a:r>
            <a:br>
              <a:rPr sz="2400"/>
            </a:b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Поёт об этом песни</a:t>
            </a:r>
            <a:br>
              <a:rPr sz="2400"/>
            </a:b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Весенняя капель:</a:t>
            </a:r>
            <a:br>
              <a:rPr sz="2400"/>
            </a:b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Навеки будут вместе</a:t>
            </a:r>
            <a:br>
              <a:rPr sz="2400"/>
            </a:b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Гагарин и апрель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В.Степ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 Black"/>
              </a:rPr>
              <a:t>Уже в старину людей интересовало, а что же там?..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0" y="1828800"/>
            <a:ext cx="3276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c66"/>
                </a:solidFill>
                <a:latin typeface="Vrinda"/>
              </a:rPr>
              <a:t>                 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Чтобы глаз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                      </a:t>
            </a: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вооружи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И со звездами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                           </a:t>
            </a: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дружи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Млечный путь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                 </a:t>
            </a: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увидеть чтоб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Нужен мощный …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                     </a:t>
            </a:r>
            <a:r>
              <a:rPr b="1" lang="en-US" sz="2400" spc="-1" strike="noStrike">
                <a:solidFill>
                  <a:srgbClr val="ffcc66"/>
                </a:solidFill>
                <a:latin typeface="Agency FB"/>
              </a:rPr>
              <a:t>(телескоп)</a:t>
            </a: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038840" cy="3984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rcRect l="2205" t="60847" r="74724" b="3237"/>
          <a:stretch/>
        </p:blipFill>
        <p:spPr>
          <a:xfrm>
            <a:off x="7620120" y="4267080"/>
            <a:ext cx="1371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8534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Планеты и спутники планеты Земл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52280" y="36576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495680" y="3657600"/>
            <a:ext cx="4530960" cy="3021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2438280" y="914400"/>
            <a:ext cx="3556080" cy="2617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019920" y="91440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5"/>
          <a:srcRect l="0" t="0" r="30008" b="0"/>
          <a:stretch/>
        </p:blipFill>
        <p:spPr>
          <a:xfrm>
            <a:off x="304920" y="914400"/>
            <a:ext cx="2062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 Black"/>
              </a:rPr>
              <a:t>12 апреля – День Космонавтик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57200" y="2243160"/>
            <a:ext cx="70866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5029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1600" spc="-1" strike="noStrike">
                <a:solidFill>
                  <a:srgbClr val="66ccff"/>
                </a:solidFill>
                <a:latin typeface="Arial"/>
              </a:rPr>
              <a:t>В. Орлов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«Космонавт» </a:t>
            </a:r>
            <a:br>
              <a:rPr sz="24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Когда последний закруглен 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виток.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Так хорошо сойти на Землю 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снова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И окунуться после всех тревог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В живую красоту всего земного.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Галактика в свеченье звездных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трасс,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Нам на нее глядеть, 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не наглядеться,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Но, поднимаясь в небо, 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всякий раз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Своей Земле мы оставляем </a:t>
            </a:r>
            <a:br>
              <a:rPr sz="2000"/>
            </a:br>
            <a:r>
              <a:rPr b="1" lang="en-US" sz="2000" spc="-1" strike="noStrike">
                <a:solidFill>
                  <a:srgbClr val="66ccff"/>
                </a:solidFill>
                <a:latin typeface="Arial"/>
              </a:rPr>
              <a:t>сердце.</a:t>
            </a:r>
            <a:br>
              <a:rPr sz="2000"/>
            </a:b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524560" y="304920"/>
            <a:ext cx="3486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676520" y="380880"/>
            <a:ext cx="579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сылки, на используемые в работе сайт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286000" cy="612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71804" t="290" r="1285" b="86054"/>
          <a:stretch/>
        </p:blipFill>
        <p:spPr>
          <a:xfrm>
            <a:off x="533520" y="1981080"/>
            <a:ext cx="2209680" cy="6318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52280" y="301716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ртинк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На главную страницу Яндекса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5520" y="3124080"/>
            <a:ext cx="905040" cy="3524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6"/>
          <a:srcRect l="67410" t="95185" r="0" b="0"/>
          <a:stretch/>
        </p:blipFill>
        <p:spPr>
          <a:xfrm>
            <a:off x="380880" y="4114800"/>
            <a:ext cx="33530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 Black"/>
              </a:rPr>
              <a:t>Учёные всего мира бились над тем, как «добраться до звёзд…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  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Космос звал людей всегда,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   Но не знал никто тогда,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   Как же в Космос долететь,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   Как же все там осмотреть?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   Вот Гагарин полетел,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   Хорошенько осмотрел,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   Землю нашу увидал,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   С восхищением сказал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«Ты прекрасна, мать-Земля,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   Восхищен тобою я!»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   Поздравляем космонавтов,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                          Летчиков и астронавтов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33339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28600" y="4038120"/>
            <a:ext cx="3733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cc66"/>
                </a:solidFill>
                <a:latin typeface="Verdana"/>
              </a:rPr>
              <a:t>                               </a:t>
            </a: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Телескопо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                        </a:t>
            </a: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сотни ле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          </a:t>
            </a: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Изучаю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                 </a:t>
            </a: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жизнь плане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          </a:t>
            </a: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Нам расскаже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                         </a:t>
            </a: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обо все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          </a:t>
            </a: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Умный дядя …</a:t>
            </a:r>
            <a:r>
              <a:rPr b="1" lang="en-US" sz="1200" spc="-1" strike="noStrike">
                <a:solidFill>
                  <a:srgbClr val="ffcc66"/>
                </a:solidFill>
                <a:latin typeface="Verdana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Verdana"/>
              </a:rPr>
              <a:t>                     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Verdana"/>
              </a:rPr>
              <a:t>                             </a:t>
            </a:r>
            <a:r>
              <a:rPr b="1" lang="en-US" sz="1200" spc="-1" strike="noStrike">
                <a:solidFill>
                  <a:srgbClr val="ffcc66"/>
                </a:solidFill>
                <a:latin typeface="Verdana"/>
              </a:rPr>
              <a:t>(астроном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3331" t="15927" r="50004" b="10000"/>
          <a:stretch/>
        </p:blipFill>
        <p:spPr>
          <a:xfrm>
            <a:off x="4203720" y="380880"/>
            <a:ext cx="4721040" cy="6477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886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43200" y="228600"/>
            <a:ext cx="4114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 Black"/>
              </a:rPr>
              <a:t>Современные телескоп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-1705" t="10089" r="0" b="0"/>
          <a:stretch/>
        </p:blipFill>
        <p:spPr>
          <a:xfrm>
            <a:off x="990720" y="1447920"/>
            <a:ext cx="731520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cff"/>
                </a:solidFill>
                <a:latin typeface="Arial"/>
              </a:rPr>
              <a:t>Одежда космонавта - скафандр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648320" cy="32986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809880" y="3124080"/>
            <a:ext cx="51562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"/>
              </a:rPr>
              <a:t>Также в космосе до первого человека побывали такие животные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2666880" cy="26244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276720" y="1065240"/>
            <a:ext cx="5410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Arial"/>
              </a:rPr>
              <a:t>РЫБЫ </a:t>
            </a:r>
            <a:br>
              <a:rPr sz="2000"/>
            </a:br>
            <a:r>
              <a:rPr b="1" lang="en-US" sz="2000" spc="-1" strike="noStrike">
                <a:solidFill>
                  <a:srgbClr val="cc66ff"/>
                </a:solidFill>
                <a:latin typeface="Arial"/>
              </a:rPr>
              <a:t>Эксперименты с этими позвоночными проводили в СССР еще в 60-е годы, используя меченосцев, рыб-ежей и прочих жителей морей. Широкую известность приобрел американский полет с рыбами-жабами, на которых проверяли воздействие невесомости на нервную систему. Этот вид выбрали потому, что структура его слухового аппарата аналогична человеческому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2286000" cy="21398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971800" y="4724280"/>
            <a:ext cx="5791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ff"/>
                </a:solidFill>
                <a:latin typeface="Arial"/>
              </a:rPr>
              <a:t>ГРЫЗУНЫ</a:t>
            </a: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cc66ff"/>
                </a:solidFill>
                <a:latin typeface="Arial"/>
              </a:rPr>
              <a:t>Мало кто знает, что вместе с Белкой и Стрелкой в полет отправились две крысы и 40 мышей. В Космосе побывали тысячи грызунов, но история их имена не сохранила. В 1960 г. в СССР стартовала морская свинка в компании собаки Чернушк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й</cp:lastModifiedBy>
  <dcterms:modified xsi:type="dcterms:W3CDTF">2011-11-12T17:07:2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