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36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183-9F95-4142-AAE1-441239BA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05C-8DB6-4DDE-9465-0303081E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1BC-3795-449D-A300-767840B6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9E2-CF01-4889-BBB5-24E46E23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D45F-231A-400E-9F72-119BE887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823B-DDE9-4329-8CA9-2D9E490D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B07F-B88A-49DF-901B-161BCBA7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3FC0-9DE4-41BA-9672-4B2C538B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561B-E322-4D76-B985-BB9BD37A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3AC4-3A55-40F7-955E-6896A56D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F439-D109-4A17-B76A-2F6C28BA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F51-5D92-4C79-8941-F845EE45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FFB4-7A39-434E-ADCF-225C3015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4D20-F5B4-485D-9982-A067A9CE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6BF2-FCE9-4A90-B379-D6388A82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5343-D7DE-4FA0-86D3-9A8DC9B0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5B11-9DBD-40A1-9A26-290770B8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B759-DD6A-4F83-A0BB-AE2DC0D1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C1529-D5D9-46C6-8787-4A764EE2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A370D-33BC-48AC-8F92-D899F67A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12DD-8380-4E58-9121-7495D5AC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10544-5EA1-49B9-849E-2F9EEF97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2E2-AB9C-4F5A-BD2C-1FF534CA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C254C-D0D6-460F-874D-1DE647C2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27D3F-D306-4D07-B591-E86459EF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47025-BAD4-437F-9904-3F4551E0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B04E3-2AAD-4CB2-8719-DC6BA8B2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26E8F-98B4-4D71-B2C2-3476F86A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C9097-F252-41EB-B26E-2C559C1F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0A446-49C1-4AB0-A03C-D762E94E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8AF3B-E28E-4AF6-837D-4180CC0D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D1455-A27E-403F-A0E2-40F799C7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38622-7B80-439F-999B-7751BABE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FD8A-69BE-4EC9-9956-F288BEAE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5FFD4-1105-4477-A55B-F1592B31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FE765-A687-4F3F-8807-9706CB3D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43B55-5A12-4524-A090-2A75CCDF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63B1E-FEF3-4387-8728-70C9860E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0A0E2-6306-48F9-B140-6C6DB6AB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130C4-135A-4B48-BE37-439AE32B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9CDA6-ACEE-481A-909A-6EA6AFE9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EA4C2-5DDF-4753-ADA5-64544B97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02661-39CE-4B17-85D4-50D92125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E63-74C4-42EC-8F76-62238B2C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BEE-3471-4499-AEA6-8CE023A2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190-6AE3-462F-A2AE-1100B297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E61-7B11-4F5E-ABC6-C381347E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6F1-9AD2-40F9-9A22-84A33285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2F1F-D907-449B-BF04-D0905BE00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A742-5A37-47C3-975B-B04CF910C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5F76-1AEB-43B7-AD5F-D14B5F243AE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6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6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C9D0-7D42-42EB-A74B-E6443D10F26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4.jpeg"/><Relationship Id="rId3" Type="http://schemas.openxmlformats.org/officeDocument/2006/relationships/hyperlink" Target="http://www.yandex.ru/" TargetMode="External"/><Relationship Id="rId4" Type="http://schemas.openxmlformats.org/officeDocument/2006/relationships/hyperlink" Target="http://www.yandex.ru/" TargetMode="External"/><Relationship Id="rId5" Type="http://schemas.openxmlformats.org/officeDocument/2006/relationships/image" Target="../media/image37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66ff"/>
                </a:solidFill>
                <a:latin typeface="Arial Rounded MT Bold"/>
              </a:rPr>
              <a:t>Пятидесятилетию полёта человека в космос посвящается…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352680" y="44197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513160" cy="2524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2057400" cy="27064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971800" y="289080"/>
            <a:ext cx="59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ff"/>
                </a:solidFill>
                <a:latin typeface="Arial"/>
              </a:rPr>
              <a:t>ПТИЦЫ</a:t>
            </a:r>
            <a:br>
              <a:rPr sz="1800"/>
            </a:br>
            <a:r>
              <a:rPr b="1" lang="en-US" sz="1800" spc="-1" strike="noStrike">
                <a:solidFill>
                  <a:srgbClr val="cc66ff"/>
                </a:solidFill>
                <a:latin typeface="Arial"/>
              </a:rPr>
              <a:t>В результате советско-чехословацких экспериментов впервые в невесомости родилось живое существо: на орбите вылупились из яиц восемь птенцов японского перепела. Эксперимент проводился с целью выяснить, можно ли в космосе развести натуральное хозяйство на случай межпланетных поле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2743560"/>
            <a:ext cx="632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КОШКИ</a:t>
            </a:r>
            <a:br>
              <a:rPr sz="1800"/>
            </a:b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Пионером космоса должен был стать кот Феликс, однако незадолго до старта он сбежал, так что в полет на борту ракеты «Вероник» отправили кошку Фелисетт. Животное чувствовало себя нормально, о чем свидетельствовали вживленные в голову электроды,  считывающие нервные импульсы. Второй запуск кошки, также произведенный Францией, прошел неудач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66720" y="277920"/>
            <a:ext cx="441972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ff"/>
                </a:solidFill>
                <a:latin typeface="Arial"/>
              </a:rPr>
              <a:t>КРОЛИК</a:t>
            </a:r>
            <a:br>
              <a:rPr sz="1800"/>
            </a:br>
            <a:r>
              <a:rPr b="0" lang="ru-RU" sz="1800" spc="-1" strike="noStrike">
                <a:solidFill>
                  <a:srgbClr val="cc66ff"/>
                </a:solidFill>
                <a:latin typeface="Arial"/>
              </a:rPr>
              <a:t>Единственный длинноухий астронавт – крольчиха Марфуша, летавшая в компании собак Отважной и Снежинки. </a:t>
            </a:r>
            <a:r>
              <a:rPr b="0" lang="ru-RU" sz="1800" spc="-1" strike="noStrike">
                <a:solidFill>
                  <a:srgbClr val="cc66ff"/>
                </a:solidFill>
                <a:latin typeface="Arial"/>
              </a:rPr>
              <a:t>Крольчиха была «на сносях»: таким образом ученые исследовали, как невесомость влияет на потомство. </a:t>
            </a:r>
            <a:br>
              <a:rPr sz="18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657600" cy="3159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2633760" cy="2886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819520" y="4191120"/>
            <a:ext cx="606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ПАУКИ</a:t>
            </a:r>
            <a:br>
              <a:rPr sz="1800"/>
            </a:b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На борт космической станции «Скайлэб» доставили двух крестовиков - Арабеллу и Аниту. Пауки слегка растерялись в невесомости и первые сети сплели с неровными ячейками. Но вскоре освоились и ткали «кружева», как на Земле. В космос также летали мухи-дрозофилы, кузнечики-мормоны, круглые черви, ули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480" y="228600"/>
            <a:ext cx="6096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ЧЕРЕПАХИ</a:t>
            </a:r>
            <a:br>
              <a:rPr sz="1800"/>
            </a:b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На них исследовали влияние перегрузок на организм. Использовались среднеазиатские тортилы: они способны обходиться без пищи до двух недель, комфортно существовать в разреженном воздухе, впадать в летаргический сон. В полете пресмыкающихся полностью обездвижили в специальных клетках. Испытания прошли успешно, если не считать, что от перегрузок у некоторых особей вылезли глаза из орбит.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2667240" cy="2517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276720" y="358020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ЛЯГУШКИ</a:t>
            </a:r>
            <a:br>
              <a:rPr sz="1800"/>
            </a:b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На орбитальный спутник «OFO-A» Штаты отправили двух лягушек-быков. Задачей было исследовать сенсорный орган, отвечающий за ориентацию животного в пространстве. В 1990 г. японский репортер Тойохиро Акияма привез с собой на станцию «Мир» древесных лягушек. А в 1995-м Япония отправила летать трит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790720" cy="3962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352680" y="83808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ОБЕЗЬЯНЫ </a:t>
            </a:r>
            <a:br>
              <a:rPr sz="1800"/>
            </a:b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Макак-резус Сэм. Он поднялся на высоту 88 км, вернулся живой, но до границы космоса - 100 км не долетел. Поэтому первым космонавтом-приматом считают шимпанзе Хэма, летавшего в 1961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09720" y="151920"/>
            <a:ext cx="35053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Первый успешный полет в космос с возвращением на Землю состоялся в 1960 году: пассажирами были Белка и Стрелка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429000" cy="3017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438280" y="3276720"/>
            <a:ext cx="29257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441972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Памятник первому живому существу в космосе - собаке Лайке установлен в Москве на территории Института военной медицины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2022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3352320"/>
            <a:ext cx="8381880" cy="32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ccff"/>
                </a:solidFill>
                <a:latin typeface="Arial"/>
              </a:rPr>
              <a:t>В 2010 году вышел российский мультфильм, рассказывающий о полёте отважных астронавток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 Black"/>
              </a:rPr>
              <a:t>Первый человек, успешно полетевший в космос –  космонавт – </a:t>
            </a:r>
            <a:br>
              <a:rPr sz="3200"/>
            </a:br>
            <a:r>
              <a:rPr b="1" lang="en-US" sz="4000" spc="-1" strike="noStrike">
                <a:solidFill>
                  <a:srgbClr val="66ccff"/>
                </a:solidFill>
                <a:latin typeface="Arial Black"/>
              </a:rPr>
              <a:t>Юрий Алексеевич Гагари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968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69343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Выход человека в косм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4496040" cy="33735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52149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апуск первой космической ракеты «Восток»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141800" cy="4762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105520" y="1747440"/>
            <a:ext cx="3790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«Юрий Гагарин»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В космической ракете</a:t>
            </a: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С название «Восток»</a:t>
            </a: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Он первым на планете</a:t>
            </a: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Подняться к звёздам смог.</a:t>
            </a: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Поёт об этом песни</a:t>
            </a: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Весенняя капель:</a:t>
            </a: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Навеки будут вместе</a:t>
            </a: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Гагарин и апрель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В.Степ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 Black"/>
              </a:rPr>
              <a:t>Уже в старину людей интересовало, а что же там?..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0" y="1828800"/>
            <a:ext cx="3276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c66"/>
                </a:solidFill>
                <a:latin typeface="Vrinda"/>
              </a:rPr>
              <a:t>                 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Чтобы глаз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вооружи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И со звездами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     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дружи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Млечный путь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                 </a:t>
            </a: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увидеть чтоб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Нужен мощный …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(телескоп)</a:t>
            </a: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038840" cy="3984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rcRect l="2205" t="60847" r="74724" b="3237"/>
          <a:stretch/>
        </p:blipFill>
        <p:spPr>
          <a:xfrm>
            <a:off x="7620120" y="4267080"/>
            <a:ext cx="1371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8534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Планеты и спутники планеты Земл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52280" y="36576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495680" y="3657600"/>
            <a:ext cx="4530960" cy="3021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2438280" y="914400"/>
            <a:ext cx="3556080" cy="2617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019920" y="91440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rcRect l="0" t="0" r="30008" b="0"/>
          <a:stretch/>
        </p:blipFill>
        <p:spPr>
          <a:xfrm>
            <a:off x="304920" y="914400"/>
            <a:ext cx="2062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 Black"/>
              </a:rPr>
              <a:t>12 апреля – День Космонавти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57200" y="2243160"/>
            <a:ext cx="70866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5029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В. Орлов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«Космонавт» </a:t>
            </a:r>
            <a:br>
              <a:rPr sz="24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Когда последний закруглен 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виток.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Так хорошо сойти на Землю 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снова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И окунуться после всех тревог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В живую красоту всего земного.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Галактика в свеченье звездных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трасс,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Нам на нее глядеть, 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не наглядеться,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Но, поднимаясь в небо, 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всякий раз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Своей Земле мы оставляем 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сердце.</a:t>
            </a:r>
            <a:br>
              <a:rPr sz="2000"/>
            </a:b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524560" y="304920"/>
            <a:ext cx="3486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676520" y="380880"/>
            <a:ext cx="579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сылки, на используемые в работе сай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286000" cy="612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71804" t="290" r="1285" b="86054"/>
          <a:stretch/>
        </p:blipFill>
        <p:spPr>
          <a:xfrm>
            <a:off x="533520" y="1981080"/>
            <a:ext cx="2209680" cy="631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52280" y="301716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ртин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На главную страницу Яндекс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5520" y="3124080"/>
            <a:ext cx="905040" cy="3524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6"/>
          <a:srcRect l="67410" t="95185" r="0" b="0"/>
          <a:stretch/>
        </p:blipFill>
        <p:spPr>
          <a:xfrm>
            <a:off x="380880" y="4114800"/>
            <a:ext cx="33530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 Black"/>
              </a:rPr>
              <a:t>Учёные всего мира бились над тем, как «добраться до звёзд…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Космос звал людей всегда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Но не знал никто тогда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Как же в Космос долететь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Как же все там осмотреть?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Вот Гагарин полетел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Хорошенько осмотрел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Землю нашу увидал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С восхищением сказал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«Ты прекрасна, мать-Земля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Восхищен тобою я!»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Поздравляем космонавтов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Летчиков и астронавтов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3333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28600" y="4038120"/>
            <a:ext cx="3733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cc66"/>
                </a:solidFill>
                <a:latin typeface="Verdana"/>
              </a:rPr>
              <a:t>                              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Телескоп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                       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сотни ле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         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Изучаю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                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жизнь план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         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Нам расскаже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                        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обо все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         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Умный дядя …</a:t>
            </a:r>
            <a:r>
              <a:rPr b="1" lang="en-US" sz="1200" spc="-1" strike="noStrike">
                <a:solidFill>
                  <a:srgbClr val="ffcc66"/>
                </a:solidFill>
                <a:latin typeface="Verdana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Verdana"/>
              </a:rPr>
              <a:t>              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Verdana"/>
              </a:rPr>
              <a:t>                             </a:t>
            </a:r>
            <a:r>
              <a:rPr b="1" lang="en-US" sz="1200" spc="-1" strike="noStrike">
                <a:solidFill>
                  <a:srgbClr val="ffcc66"/>
                </a:solidFill>
                <a:latin typeface="Verdana"/>
              </a:rPr>
              <a:t>(астроном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3331" t="15927" r="50004" b="10000"/>
          <a:stretch/>
        </p:blipFill>
        <p:spPr>
          <a:xfrm>
            <a:off x="4203720" y="380880"/>
            <a:ext cx="4721040" cy="6477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886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43200" y="228600"/>
            <a:ext cx="4114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Black"/>
              </a:rPr>
              <a:t>Современные телеско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-1705" t="10089" r="0" b="0"/>
          <a:stretch/>
        </p:blipFill>
        <p:spPr>
          <a:xfrm>
            <a:off x="990720" y="1447920"/>
            <a:ext cx="731520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Одежда космонавта - скафанд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648320" cy="32986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809880" y="3124080"/>
            <a:ext cx="51562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Также в космосе до первого человека побывали такие животные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666880" cy="2624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276720" y="1065240"/>
            <a:ext cx="541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Arial"/>
              </a:rPr>
              <a:t>РЫБЫ </a:t>
            </a:r>
            <a:br>
              <a:rPr sz="2000"/>
            </a:br>
            <a:r>
              <a:rPr b="1" lang="en-US" sz="2000" spc="-1" strike="noStrike">
                <a:solidFill>
                  <a:srgbClr val="cc66ff"/>
                </a:solidFill>
                <a:latin typeface="Arial"/>
              </a:rPr>
              <a:t>Эксперименты с этими позвоночными проводили в СССР еще в 60-е годы, используя меченосцев, рыб-ежей и прочих жителей морей. Широкую известность приобрел американский полет с рыбами-жабами, на которых проверяли воздействие невесомости на нервную систему. Этот вид выбрали потому, что структура его слухового аппарата аналогична человеческому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2286000" cy="21398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971800" y="4724280"/>
            <a:ext cx="5791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ff"/>
                </a:solidFill>
                <a:latin typeface="Arial"/>
              </a:rPr>
              <a:t>ГРЫЗУНЫ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cc66ff"/>
                </a:solidFill>
                <a:latin typeface="Arial"/>
              </a:rPr>
              <a:t>Мало кто знает, что вместе с Белкой и Стрелкой в полет отправились две крысы и 40 мышей. В Космосе побывали тысячи грызунов, но история их имена не сохранила. В 1960 г. в СССР стартовала морская свинка в компании собаки Чернушк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й</cp:lastModifiedBy>
  <dcterms:modified xsi:type="dcterms:W3CDTF">2011-11-12T17:07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