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3.png" ContentType="image/png"/>
  <Override PartName="/ppt/media/image37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DBEB-8E72-4E5A-81B6-43F074961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 учебника А.А.Данилова и Л.Г. Косули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EFDB-B0CB-4799-A21C-6D0B8137C8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 как верхов так и простонародья оставался сословно-традицио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F1C-ED94-4F6F-842F-6BF80C721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а крепостного права и положительные сдвиги в экономике, а также присоединение ряда территорий способствовали росту населения России.  Население проживало в основном в сельской местности (87 %), но уже наблюдается и бурный рост городского населения, которое пополнялось за счет внутренней миграции крестьян, усилившейся после реформы 186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527-F2F6-40BE-9C9A-8D32C83AB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рбанизации набирают силу. Меняется облик городов. Теперь они застраиваются в основном многоэтажными зд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F08-B7D7-4678-B65C-4B55C096BB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60-е годы водопроводом пользовались жители почти всех губернских городов России. Города оснащались и канализацией. На улицах появились электрические фонари. Электричество пришло и в дома зажиточных горожан. Телеграфной сетью были охвачены не только губернские, но и некоторые уездные города. Общественный транспорт тоже менялся. Омнибусы и конки наряду с извозчиками  стали привычным явлением городской жизни. В 90-е годы на улицах некоторых городов появились трамваи. В Петербурге трамвайные рельсы прокладывали зимой на льду Невы. Маршрут связывал центр города с Петроградской сторо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963-08FD-4FCE-9781-295A9CC1A3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м явлением для всех городов стало появление больших городских окраин, где возводились промышленные предприятия и селились рабочие со своими семьями. Многие из них сохраняли связь с деревней. Жителями окраин были мелкие торговцы, студенты, извозчики, огородники, бедные чиновники. Сохранялся старинный жизненный у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A48-A407-4A83-A076-5721105663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носили длинные волосы, широкополые шляпы, шерстяной плед поверх осеннего пальто. Курсистки непривычно коротко стригли волосы, укорачивали юбки, темную одежду освежал белый воротничок. Гимназисты и гимназистки носили форменную одежду – платья, тужурки, сюртуки, фуражки с околышами. Волосы у девушек были гладко зачесаны и заплетены, у мальчиков – коротко подстриж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DAFF-68BC-4576-8492-E8CC1D9333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м явлением в жизни российских городов стали рабочие околицы, первые стачки, маевки стали формами осознания и отстаивания своих прав при отсутствии аналогичных европейским профессиональных союзов. Рабочее законодательство было несовершенным, но оно уже появилось. С 1882 года запрещался труд детей до 12-летнего возраста, а дети 12-15 лет работали не более 8 часов. Вводилась специальная надзорная организация – фабрично-заводская инспекция. В 1885 году власти запретили ночной труд женщин и подростков. В 1886 году вышел заков о взаимоотношениях предпринимателей с рабочими, по которому ограничивали размер штрафов, формировали кассу взаимопомощи, запрещали выдавать зарплату продуктами из фабричных лавок, вводили специальные расчетные книжки, запрещали устраивать ста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BD7-1878-4D0F-8E1F-9961386201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ботам ходили в баню. В воскресенье ходили к обедне в  церковь всей семьей. По праздникам пекли пироги с разнообразной нач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356-DD6C-4EBD-B52B-485E62AB74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любимыми были празднования Масленицы и Пасхи. На площадях размещались торговые палатки, балаганы, сооружались карусели, играли оркестры, ходили шарманщики. Игры, кулачные бои, петушиные бои, катанья на санях, частушки, хороводы, перепляс и прочие увеселения. Зажиточные горожане посещали рестораны и трактиры, менее зажиточные шли в кабак. Богатые щедро подавали милостыню бедным, накрывали ст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215C-86B3-44E8-8AC1-CEB67B4F6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E31-D3A9-4AE8-B404-019D40CC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ACD-6159-4BDF-9EC8-4B7A6CED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A983-4C2A-49CB-812E-2E112D73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BBF-418F-44C8-96A0-D9C649DB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4631-7A39-4E1B-8898-8FE3E727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FB58-131C-4313-90F4-6C541535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A95D-59EA-4E66-8DA3-3C102529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EF7-BF35-4CBC-AB4C-B613665C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1A2B-98D2-492A-B68D-E9E9563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2E14-E5B4-44E5-8B75-819AF86B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F8B5-70E0-494E-B029-BC81E6FD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7D2-48D5-407F-91B2-F273F9EB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CF1-8067-45B9-86E2-B7B1303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DF4-B524-403A-B6C1-D0195C0E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3BCA-40EE-4914-ADB0-1FB1AE5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DFE-6AE3-4A92-A201-274E53D4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BE63-3484-42CE-9C71-7DF1D56B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0B45B-9488-4A23-A24C-E4E0D233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883F-3338-4EDA-9A9C-664B8982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14AD-5ED1-448D-AFCB-477AB40C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ADAB-2660-4532-84F9-20BA7E8E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446C-5522-4408-A7FC-BF0471D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C82-6A1A-4530-BE7F-5A308B6B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D340-16AE-4FA1-B342-3B960D68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EF7F1-59A9-45A0-8730-6435267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5D72-8628-4E59-B25A-B6FAE78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D72E-9F66-4BC9-A04A-87DA7093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93E9-57B5-4208-8E39-E35F928F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0813-34DB-4AE4-8E90-BF9525DD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8DD21-58E1-40AB-AF96-00285E6B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D9BF-19F9-4A01-99EF-78B5434F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E669-854D-4C1F-8860-14A8C378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BA04-B4B7-4916-8C10-368D999D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4C5-9105-4A96-82F9-24BB8B0F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7405-74E1-453B-AF6A-FA236271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387C-B423-4DDC-BB38-F1EFDA0B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6E0A-112B-433F-BAA4-7C10E9E4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3CE8-7609-4C1F-BB8D-EFCD7F5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E6B43-50D5-461B-A2D8-F0D1E4B5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8988-2C8D-4BBF-8529-1F7C9D00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E02BA-1BE6-41BC-8302-798F6AC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EB37-1400-4E87-9473-C2C2471B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C356C-64E1-4DF3-9BE9-4528D625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F3E7-2D2D-4DCC-8DC2-3046EBB1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9B2-8D6B-4950-8068-E3517FE7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E251-AC73-4A94-A67B-944D3D8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69712-341F-4150-98AB-3BAF986F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1A53-9886-4EAD-8185-71866094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AF3C-9732-4D37-8CB7-72CFAFCB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C93B-7267-469F-B042-3F10F06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5742-204A-401A-B462-9853591F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E992-990B-47FC-AE47-7D5C4FDD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3551-C4C5-4ABE-AC11-015A68A3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C03C-AE85-4F0E-A7DF-E5723EA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41D5-585E-4CF7-8B47-6B3A4440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5D8-ADC9-45B0-AB9B-84BC16D2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D12BC-608D-4BD7-8C71-49C02F09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3930-639B-4FD2-A06E-40D314CD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9290-95AB-4A71-B06A-E7CF00E6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6A79-0CDE-409F-91E0-C63A024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31B4A-0364-4F3C-9FFF-BA8973C7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F4626-E6BF-4BFF-8E37-EC08A344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A4999-3BA9-4CB8-A407-35E9189B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BBC74-CDBB-4D72-9362-905E484B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86C9-8AEF-4207-86D3-E5CE64F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C7312-DAC9-42C8-8434-0069C23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3CE-7566-4D96-8FAA-413746D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9EF52-488F-4169-BA46-31BDEA79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589F3-DC4F-4C7F-A083-DB4841B2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5EE7A-450C-462D-877A-E7DA10EA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0FA7-B52A-4CEF-BCDF-548FAA9C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4A34-3FF5-43E3-A2B8-7B34488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00DE-CCBD-4BA1-BFB3-6B143DBD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A9E4B-CB62-4D0B-8118-3C132854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454A-8098-4080-8B19-2ECC9764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77146-8841-42C1-81D3-396A698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8EA5-08B6-46B1-BC92-A8CBBF1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A23-AC1E-4553-8DA2-A006F87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EA10-74AE-4250-8FD2-FE5EEEE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00B5E-46B1-447E-8A19-AFB3E71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84B12-103D-489C-B37D-24745778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30C10-37A4-4411-80F7-E2E316E6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891B-987C-4B53-B62B-18BA9885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3AF-DC9D-4716-ABB4-68CCF700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151-98DF-4CB6-963A-618C05FE2A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9704-A76D-4271-AEB7-182FBA52E7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5D0-99CC-43F4-9ACF-32E9BD959FE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7302-3670-42DC-B46D-975575467C9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15F-D102-4D32-8AA3-BAC70F79FCC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0C7C-89F6-4CD2-9F41-625DAF79054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80B6-F4A0-4EF8-9015-8F7FB2D683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оссия 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XIX 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ека: новые черты в жизни города и деревни</a:t>
            </a:r>
            <a:br>
              <a:rPr sz="3900"/>
            </a:br>
            <a:br>
              <a:rPr sz="3900"/>
            </a:b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(История России, 8 класс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285800" y="4143240"/>
            <a:ext cx="4550040" cy="2214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Бриченко Лариса Витальевна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учитель истории ГБОУ СОШ №262 Красносельского район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Санкт-Петербур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71840" y="5357520"/>
            <a:ext cx="292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радиционное пита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Постный сто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Скоромный стол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Щи, блюда из грибов, гороха и кисел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аши, картофел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ареная реп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ельмени с капусто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ареник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всяные блин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Квашеная капуста, огурцы, грибы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ыб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ай с изюмом и медом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бит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Холодец (студен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тица и мясо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ыба, икр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ясные супы, солянки, борщ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севозможная выпечка (калачи, пряники, печенье, баранки, расстегаи, кулебяки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ленья, варенья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питки (узвары, компоты, квас, наливки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4" name="Picture 2" descr="C:\Users\1\Desktop\Solen2.jpg"/>
          <p:cNvPicPr/>
          <p:nvPr/>
        </p:nvPicPr>
        <p:blipFill>
          <a:blip r:embed="rId1"/>
          <a:stretch/>
        </p:blipFill>
        <p:spPr>
          <a:xfrm>
            <a:off x="214200" y="5214960"/>
            <a:ext cx="2357640" cy="1457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"/>
          <p:cNvPicPr/>
          <p:nvPr/>
        </p:nvPicPr>
        <p:blipFill>
          <a:blip r:embed="rId2"/>
          <a:stretch/>
        </p:blipFill>
        <p:spPr>
          <a:xfrm>
            <a:off x="5500800" y="5214960"/>
            <a:ext cx="34192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7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емографические процесс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28840" y="6429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ст насел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рбанизац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Содержимое 4" descr=""/>
          <p:cNvPicPr/>
          <p:nvPr/>
        </p:nvPicPr>
        <p:blipFill>
          <a:blip r:embed="rId1"/>
          <a:stretch/>
        </p:blipFill>
        <p:spPr>
          <a:xfrm>
            <a:off x="5143680" y="571680"/>
            <a:ext cx="3657600" cy="46638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Users\1\Desktop\index_1238518996.jpg"/>
          <p:cNvPicPr/>
          <p:nvPr/>
        </p:nvPicPr>
        <p:blipFill>
          <a:blip r:embed="rId2"/>
          <a:stretch/>
        </p:blipFill>
        <p:spPr>
          <a:xfrm>
            <a:off x="1214280" y="1428840"/>
            <a:ext cx="3786480" cy="3263760"/>
          </a:xfrm>
          <a:prstGeom prst="rect">
            <a:avLst/>
          </a:prstGeom>
          <a:ln w="9360">
            <a:solidFill>
              <a:srgbClr val="f88631"/>
            </a:solidFill>
            <a:miter/>
          </a:ln>
        </p:spPr>
      </p:pic>
      <p:sp>
        <p:nvSpPr>
          <p:cNvPr id="331" name="TextBox 9"/>
          <p:cNvSpPr/>
          <p:nvPr/>
        </p:nvSpPr>
        <p:spPr>
          <a:xfrm>
            <a:off x="955800" y="478620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ипичная сельска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оссийские город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143680" y="71424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Более 1 млн. чел. -Москва, Петербург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выше 100 тыс. чел. – 14 городо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C:\Users\1\Desktop\bugrov_dom1.jpg"/>
          <p:cNvPicPr/>
          <p:nvPr/>
        </p:nvPicPr>
        <p:blipFill>
          <a:blip r:embed="rId1"/>
          <a:stretch/>
        </p:blipFill>
        <p:spPr>
          <a:xfrm>
            <a:off x="1071720" y="714240"/>
            <a:ext cx="3657600" cy="2592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Users\1\Desktop\0_270b2_13997222_XL.jpg"/>
          <p:cNvPicPr/>
          <p:nvPr/>
        </p:nvPicPr>
        <p:blipFill>
          <a:blip r:embed="rId2"/>
          <a:stretch/>
        </p:blipFill>
        <p:spPr>
          <a:xfrm>
            <a:off x="5000760" y="3500280"/>
            <a:ext cx="402912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2912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Коммунальное хозяйство и транспор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3" descr="C:\Users\1\Desktop\f_18910307.jpg"/>
          <p:cNvPicPr/>
          <p:nvPr/>
        </p:nvPicPr>
        <p:blipFill>
          <a:blip r:embed="rId1"/>
          <a:stretch/>
        </p:blipFill>
        <p:spPr>
          <a:xfrm>
            <a:off x="0" y="1143000"/>
            <a:ext cx="3571920" cy="2933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C:\Users\1\Desktop\800_fd5d642f3ae0c59dc34d8790c7f9e211.jpg"/>
          <p:cNvPicPr/>
          <p:nvPr/>
        </p:nvPicPr>
        <p:blipFill>
          <a:blip r:embed="rId2"/>
          <a:stretch/>
        </p:blipFill>
        <p:spPr>
          <a:xfrm>
            <a:off x="4898880" y="0"/>
            <a:ext cx="4245120" cy="27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Users\1\Desktop\Omnibus_picture_bolster.jpg"/>
          <p:cNvPicPr/>
          <p:nvPr/>
        </p:nvPicPr>
        <p:blipFill>
          <a:blip r:embed="rId3"/>
          <a:stretch/>
        </p:blipFill>
        <p:spPr>
          <a:xfrm>
            <a:off x="0" y="4214880"/>
            <a:ext cx="3635280" cy="2428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C:\Users\1\Desktop\1313583212_ist2.jpg"/>
          <p:cNvPicPr/>
          <p:nvPr/>
        </p:nvPicPr>
        <p:blipFill>
          <a:blip r:embed="rId4"/>
          <a:stretch/>
        </p:blipFill>
        <p:spPr>
          <a:xfrm>
            <a:off x="4857840" y="3000240"/>
            <a:ext cx="4286160" cy="2908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3571920" y="1143000"/>
            <a:ext cx="1328760" cy="45007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8"/>
          <p:cNvSpPr/>
          <p:nvPr/>
        </p:nvSpPr>
        <p:spPr>
          <a:xfrm>
            <a:off x="4857840" y="2643120"/>
            <a:ext cx="428616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нка – прообраз городского  трам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4857840" y="5857920"/>
            <a:ext cx="42861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лефонная 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0" y="3857760"/>
            <a:ext cx="357192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донапорная ст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>
            <a:off x="0" y="648828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 омниб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3571920" y="5643720"/>
            <a:ext cx="1285920" cy="14655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электр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ческий фон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718160" y="0"/>
            <a:ext cx="44258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окраин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C:\Users\1\Desktop\3.jpg"/>
          <p:cNvPicPr/>
          <p:nvPr/>
        </p:nvPicPr>
        <p:blipFill>
          <a:blip r:embed="rId1"/>
          <a:stretch/>
        </p:blipFill>
        <p:spPr>
          <a:xfrm>
            <a:off x="0" y="0"/>
            <a:ext cx="3024360" cy="2143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C:\Users\1\Desktop\2.jpg"/>
          <p:cNvPicPr/>
          <p:nvPr/>
        </p:nvPicPr>
        <p:blipFill>
          <a:blip r:embed="rId2"/>
          <a:stretch/>
        </p:blipFill>
        <p:spPr>
          <a:xfrm>
            <a:off x="0" y="2214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C:\Users\1\Desktop\pictureview7-pid-28d63-et-934ec6d.jpg"/>
          <p:cNvPicPr/>
          <p:nvPr/>
        </p:nvPicPr>
        <p:blipFill>
          <a:blip r:embed="rId3"/>
          <a:stretch/>
        </p:blipFill>
        <p:spPr>
          <a:xfrm>
            <a:off x="3214800" y="571680"/>
            <a:ext cx="3643200" cy="38098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8"/>
          <p:cNvSpPr/>
          <p:nvPr/>
        </p:nvSpPr>
        <p:spPr>
          <a:xfrm>
            <a:off x="214200" y="4786200"/>
            <a:ext cx="2928960" cy="17398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абрики и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ры-коло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ходные 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м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рущ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ар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C:\Users\1\Desktop\1191311708_dmitriev_10.jpg"/>
          <p:cNvPicPr/>
          <p:nvPr/>
        </p:nvPicPr>
        <p:blipFill>
          <a:blip r:embed="rId4"/>
          <a:stretch/>
        </p:blipFill>
        <p:spPr>
          <a:xfrm>
            <a:off x="3286080" y="4714920"/>
            <a:ext cx="2643120" cy="1915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5"/>
          <a:stretch/>
        </p:blipFill>
        <p:spPr>
          <a:xfrm>
            <a:off x="6321600" y="4714920"/>
            <a:ext cx="23922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42720" y="0"/>
            <a:ext cx="5429160" cy="9288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чащиеся в Росс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184480" cy="4356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4184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:\Users\1\Desktop\4-1.jpg"/>
          <p:cNvPicPr/>
          <p:nvPr/>
        </p:nvPicPr>
        <p:blipFill>
          <a:blip r:embed="rId3"/>
          <a:stretch/>
        </p:blipFill>
        <p:spPr>
          <a:xfrm>
            <a:off x="2500200" y="928800"/>
            <a:ext cx="4572000" cy="2251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4"/>
          <a:stretch/>
        </p:blipFill>
        <p:spPr>
          <a:xfrm>
            <a:off x="2214720" y="3500280"/>
            <a:ext cx="5221080" cy="3000600"/>
          </a:xfrm>
          <a:prstGeom prst="rect">
            <a:avLst/>
          </a:prstGeom>
          <a:ln w="0">
            <a:noFill/>
          </a:ln>
        </p:spPr>
      </p:pic>
      <p:sp>
        <p:nvSpPr>
          <p:cNvPr id="359" name="TextBox 9"/>
          <p:cNvSpPr/>
          <p:nvPr/>
        </p:nvSpPr>
        <p:spPr>
          <a:xfrm>
            <a:off x="0" y="4286160"/>
            <a:ext cx="214308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7429680" y="4143240"/>
            <a:ext cx="171432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урси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2500200" y="3143160"/>
            <a:ext cx="45720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мназис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214720" y="6488280"/>
            <a:ext cx="52149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мнази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4320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России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(будни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2" descr="C:\Users\1\Desktop\life400.jpg"/>
          <p:cNvPicPr/>
          <p:nvPr/>
        </p:nvPicPr>
        <p:blipFill>
          <a:blip r:embed="rId1"/>
          <a:stretch/>
        </p:blipFill>
        <p:spPr>
          <a:xfrm>
            <a:off x="3643200" y="0"/>
            <a:ext cx="1897200" cy="2357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0" y="4214880"/>
            <a:ext cx="3878280" cy="2643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1\Desktop\i_057.jpg"/>
          <p:cNvPicPr/>
          <p:nvPr/>
        </p:nvPicPr>
        <p:blipFill>
          <a:blip r:embed="rId3"/>
          <a:stretch/>
        </p:blipFill>
        <p:spPr>
          <a:xfrm>
            <a:off x="0" y="1143000"/>
            <a:ext cx="3624120" cy="2500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Users\1\Desktop\77_11_workers.jpg"/>
          <p:cNvPicPr/>
          <p:nvPr/>
        </p:nvPicPr>
        <p:blipFill>
          <a:blip r:embed="rId4"/>
          <a:stretch/>
        </p:blipFill>
        <p:spPr>
          <a:xfrm>
            <a:off x="4000680" y="3143160"/>
            <a:ext cx="4560840" cy="3571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5"/>
          <a:stretch/>
        </p:blipFill>
        <p:spPr>
          <a:xfrm>
            <a:off x="5715000" y="0"/>
            <a:ext cx="3182760" cy="2357280"/>
          </a:xfrm>
          <a:prstGeom prst="rect">
            <a:avLst/>
          </a:prstGeom>
          <a:ln w="0">
            <a:noFill/>
          </a:ln>
        </p:spPr>
      </p:pic>
      <p:sp>
        <p:nvSpPr>
          <p:cNvPr id="369" name="TextBox 9"/>
          <p:cNvSpPr/>
          <p:nvPr/>
        </p:nvSpPr>
        <p:spPr>
          <a:xfrm>
            <a:off x="0" y="3714840"/>
            <a:ext cx="34290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орозовская стачка 188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3643200" y="2357280"/>
            <a:ext cx="18576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емья рабо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5715000" y="2357280"/>
            <a:ext cx="32148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очлежка для рабочих и бед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4000680" y="3143160"/>
            <a:ext cx="4572000" cy="6426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евки – нелегальные собрания рабоч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428800" y="-360"/>
            <a:ext cx="3714840" cy="1143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Рабочие России (праздники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4" name="Picture 2" descr="C:\Users\1\Desktop\0837c7044578f6c43662c2b0e1c.jpg"/>
          <p:cNvPicPr/>
          <p:nvPr/>
        </p:nvPicPr>
        <p:blipFill>
          <a:blip r:embed="rId1"/>
          <a:stretch/>
        </p:blipFill>
        <p:spPr>
          <a:xfrm>
            <a:off x="0" y="0"/>
            <a:ext cx="3643200" cy="251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1\Desktop\12264577.jpg"/>
          <p:cNvPicPr/>
          <p:nvPr/>
        </p:nvPicPr>
        <p:blipFill>
          <a:blip r:embed="rId2"/>
          <a:stretch/>
        </p:blipFill>
        <p:spPr>
          <a:xfrm>
            <a:off x="0" y="2857680"/>
            <a:ext cx="3645000" cy="26431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C:\Users\1\Desktop\82488374_1413.jpg"/>
          <p:cNvPicPr/>
          <p:nvPr/>
        </p:nvPicPr>
        <p:blipFill>
          <a:blip r:embed="rId3"/>
          <a:stretch/>
        </p:blipFill>
        <p:spPr>
          <a:xfrm>
            <a:off x="4929120" y="1214280"/>
            <a:ext cx="2500560" cy="2652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C:\Users\1\Desktop\b9fd3f43938b.jpg"/>
          <p:cNvPicPr/>
          <p:nvPr/>
        </p:nvPicPr>
        <p:blipFill>
          <a:blip r:embed="rId4"/>
          <a:stretch/>
        </p:blipFill>
        <p:spPr>
          <a:xfrm>
            <a:off x="3786120" y="4214880"/>
            <a:ext cx="4881600" cy="26431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9"/>
          <p:cNvSpPr/>
          <p:nvPr/>
        </p:nvSpPr>
        <p:spPr>
          <a:xfrm>
            <a:off x="1000080" y="6488280"/>
            <a:ext cx="278604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естный 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0" y="550080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ой к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0" y="2500200"/>
            <a:ext cx="364320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родские б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4929120" y="3643200"/>
            <a:ext cx="2500560" cy="3682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р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трелка вправо 14"/>
          <p:cNvSpPr/>
          <p:nvPr/>
        </p:nvSpPr>
        <p:spPr>
          <a:xfrm>
            <a:off x="2786040" y="5929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5715000" cy="50004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асленица и Пасх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2" descr="C:\Users\1\Desktop\529c1194ef839039e1c4cb4a264_prev.jpg"/>
          <p:cNvPicPr/>
          <p:nvPr/>
        </p:nvPicPr>
        <p:blipFill>
          <a:blip r:embed="rId1"/>
          <a:stretch/>
        </p:blipFill>
        <p:spPr>
          <a:xfrm>
            <a:off x="0" y="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1\Desktop\rus-masl-23.jpg"/>
          <p:cNvPicPr/>
          <p:nvPr/>
        </p:nvPicPr>
        <p:blipFill>
          <a:blip r:embed="rId2"/>
          <a:stretch/>
        </p:blipFill>
        <p:spPr>
          <a:xfrm>
            <a:off x="0" y="3429000"/>
            <a:ext cx="4422600" cy="322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1\Desktop\ee87e45c1c75_resize.jpg"/>
          <p:cNvPicPr/>
          <p:nvPr/>
        </p:nvPicPr>
        <p:blipFill>
          <a:blip r:embed="rId3"/>
          <a:stretch/>
        </p:blipFill>
        <p:spPr>
          <a:xfrm>
            <a:off x="4545000" y="3500280"/>
            <a:ext cx="4599000" cy="31766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4"/>
          <a:stretch/>
        </p:blipFill>
        <p:spPr>
          <a:xfrm>
            <a:off x="4643280" y="500040"/>
            <a:ext cx="4500720" cy="28576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8"/>
          <p:cNvSpPr/>
          <p:nvPr/>
        </p:nvSpPr>
        <p:spPr>
          <a:xfrm>
            <a:off x="0" y="2928960"/>
            <a:ext cx="3357720" cy="94716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родные гуля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6:01:29Z</dcterms:created>
  <dc:creator>1</dc:creator>
  <dc:description/>
  <dc:language>en-US</dc:language>
  <cp:lastModifiedBy>1</cp:lastModifiedBy>
  <dcterms:modified xsi:type="dcterms:W3CDTF">2012-06-28T09:00:34Z</dcterms:modified>
  <cp:revision>43</cp:revision>
  <dc:subject/>
  <dc:title>Россия XIX века: новые черты в жизни города и деревни</dc:title>
</cp:coreProperties>
</file>