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3.png" ContentType="image/png"/>
  <Override PartName="/ppt/media/image37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0B83-A19B-4938-BA6F-26D34883C8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к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9 учебника А.А.Данилова и Л.Г. Косули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FE8A-427A-4DB0-843E-3E71214DBB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т как верхов так и простонародья оставался сословно-традицион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279B-9A69-4421-B0D7-D6F1256920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мена крепостного права и положительные сдвиги в экономике, а также присоединение ряда территорий способствовали росту населения России.  Население проживало в основном в сельской местности (87 %), но уже наблюдается и бурный рост городского населения, которое пополнялось за счет внутренней миграции крестьян, усилившейся после реформы 1861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1BEC-21BB-4D26-9918-194B921BE3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ы урбанизации набирают силу. Меняется облик городов. Теперь они застраиваются в основном многоэтажными зда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AD25-B088-48FE-AFD2-A0B9313ED1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60-е годы водопроводом пользовались жители почти всех губернских городов России. Города оснащались и канализацией. На улицах появились электрические фонари. Электричество пришло и в дома зажиточных горожан. Телеграфной сетью были охвачены не только губернские, но и некоторые уездные города. Общественный транспорт тоже менялся. Омнибусы и конки наряду с извозчиками  стали привычным явлением городской жизни. В 90-е годы на улицах некоторых городов появились трамваи. В Петербурге трамвайные рельсы прокладывали зимой на льду Невы. Маршрут связывал центр города с Петроградской сторо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0618-7B34-4CF9-B033-3BF3DBA5C0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м явлением для всех городов стало появление больших городских окраин, где возводились промышленные предприятия и селились рабочие со своими семьями. Многие из них сохраняли связь с деревней. Жителями окраин были мелкие торговцы, студенты, извозчики, огородники, бедные чиновники. Сохранялся старинный жизненный укл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16E9-E203-459B-AE2D-E1DFDC7190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уденты носили длинные волосы, широкополые шляпы, шерстяной плед поверх осеннего пальто. Курсистки непривычно коротко стригли волосы, укорачивали юбки, темную одежду освежал белый воротничок. Гимназисты и гимназистки носили форменную одежду – платья, тужурки, сюртуки, фуражки с околышами. Волосы у девушек были гладко зачесаны и заплетены, у мальчиков – коротко подстриж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E830-79C4-4AFA-8B5A-474E22ECC3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м явлением в жизни российских городов стали рабочие околицы, первые стачки, маевки стали формами осознания и отстаивания своих прав при отсутствии аналогичных европейским профессиональных союзов. Рабочее законодательство было несовершенным, но оно уже появилось. С 1882 года запрещался труд детей до 12-летнего возраста, а дети 12-15 лет работали не более 8 часов. Вводилась специальная надзорная организация – фабрично-заводская инспекция. В 1885 году власти запретили ночной труд женщин и подростков. В 1886 году вышел заков о взаимоотношениях предпринимателей с рабочими, по которому ограничивали размер штрафов, формировали кассу взаимопомощи, запрещали выдавать зарплату продуктами из фабричных лавок, вводили специальные расчетные книжки, запрещали устраивать ста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DD5B-0A44-479A-BCA6-BC7FD524B9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убботам ходили в баню. В воскресенье ходили к обедне в  церковь всей семьей. По праздникам пекли пироги с разнообразной начин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C2C1-78DD-402B-8501-D6FEA37D77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 любимыми были празднования Масленицы и Пасхи. На площадях размещались торговые палатки, балаганы, сооружались карусели, играли оркестры, ходили шарманщики. Игры, кулачные бои, петушиные бои, катанья на санях, частушки, хороводы, перепляс и прочие увеселения. Зажиточные горожане посещали рестораны и трактиры, менее зажиточные шли в кабак. Богатые щедро подавали милостыню бедным, накрывали ст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31D4-205D-4CCF-9A8D-89E9F20581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D4D3-2522-44AD-9C64-15F63D7A0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EB21-4AE1-4819-A4F1-979ABED5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F079-9341-4F4E-9E50-464441499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E685-C7CC-4F5A-981C-B6CF83E3F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5AB1-3035-4C2F-9F63-FCF82956C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32A6-FFA5-401B-BF99-B97C705B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11B3-0069-4880-88C4-A9662F3F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833F-45FA-4324-80A7-C23D5765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F66A-4AAF-48DD-9F00-DF19ACDC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D008-BA10-48A1-BD53-9352B052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0571-C98E-4407-B7DE-CB4E6D85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51C2-7426-4CB8-A8D6-EFC33E8B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931E-633A-401C-9DD9-0BCA9FEC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8E7A-6977-42B4-A092-8575D574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F356-8B83-4B50-8D43-12E31C42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585F-3C04-4C1C-84D6-978A56883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F766-226A-4A30-A49A-15D8389C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EA35D-8F2E-4615-934D-B70A31322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2DAB3-3AFC-4943-9815-0F9BD972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A304B-7F07-4D99-B09A-2A087743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50A99-C726-4F61-B5FE-F8B26A0B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D8D7B-9E68-4C4A-9C63-D0B78DFF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6BA8-73C8-4AA1-9239-5C9DC27F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656E0-5272-4D97-B399-D2DD2328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AA136-9599-49C8-9C4C-2277EEF7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19225-7F09-4D83-A62C-E907223D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1AB75-E3EA-40CB-B798-08F73875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2A99E-1B85-4BA2-B388-52FF7693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98F20-39EB-4489-96D7-ACCCC0B7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3971D-0160-4A9C-BB39-C53D4D533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C900D-815F-47C9-8DC5-94A6AFE4F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50A1F-DB29-48D2-ABD4-964E6551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99688-5322-4F13-B0FB-74B3A7A1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C48E-CFBB-40FA-BBEF-DEB213CE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CF05F-5874-45D5-85C1-81394CC2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3EEB8-3DAD-4307-8531-1F2ECB90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6BCC0-3D26-4ECE-A3AB-79209ACD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B7EDC-0151-47A3-8000-7A5682A4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DB608-7238-4EFA-8857-A8E374C3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F4EA8-5E1F-4D3C-B963-A3020346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97D49-F1D7-43D2-8B83-51308750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EB1BE-B044-4592-B550-985BA424F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1BD7F-8140-41A5-A0DC-F72A5F88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D5305-B250-41A9-A6ED-CF6A98943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F25B-41CC-421F-A2A6-BDF8F4D4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AA1D6-0883-4707-85A9-B6B1968A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9D2CA-3A3F-40FD-8A09-8B46D1BE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EB845-D131-4DD5-AAEF-F61E3764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77EA2-FF60-4A93-B324-382EA0B2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CD477-DC1F-45B4-851C-6C282FA8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1283A-80F9-4050-8E5A-AF4A0823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CFA52-26FD-4B51-9435-35D1E4C8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598B4-789C-4DA3-AB8A-EF870CF7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502D1-EDF7-40EB-86F4-6AF7FA73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3860B-2C76-414F-881D-15B08F406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105E-8E4B-4A29-A718-C4DFB5B3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92D03-8F43-44C0-86A7-9DE138F57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2927A-3F3A-47F7-B558-21330AC4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F2EA5-2D08-4330-BF03-038C0A37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3B621-C95E-43B7-99B4-177E9B8F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C83D6-A307-4FE2-987B-02E7E122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FC5CE-CA8A-466C-9568-9A22E744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49372-E242-45FF-A76D-156A5F40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6FC50-F586-449F-8879-677DE08C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7BF37-3C22-4CFB-AB5B-00CD4B28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B2DB2-BFB4-4E81-B6C2-11DD1F98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DC0C-A532-4D9E-8971-5B3495A9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2DC19-E14A-4673-B7C4-5D4C513D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17AA1-574B-48EC-B4F0-B2DDAE1A9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130A3-DF40-4689-A1A7-776C8D4DC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6611B-003E-4A64-BA9A-A19E39E21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F0D7F-1D22-4990-91E2-6686D7CA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49D03-233E-46BC-8DE1-4832DC2D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DDB22-E93D-487F-9FF1-ED0A8417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4BE28-1FFF-4FBF-8EC1-2BFB4559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1608E-DFA3-4F76-9FFE-C8F76848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C2DBF-E2C7-4B17-BAB2-7AAF2E45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B384-97E9-414B-87BF-FD04EA20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EAA61-1C7E-42DF-8775-4C208821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852B6-F65E-4007-B5D7-DCD27879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11377-84D1-4050-9695-11ECDF1B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AD946-3140-4FAA-9C8F-04E82BE5D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490A2-54F7-4C92-BFE4-C5B020386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4186-00FA-47A5-8276-3A053F93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3727-4217-495F-BE14-9946D0B3D39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BA29-817C-4BFB-A6EE-59B3AA3816E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0AE0-E100-4F7F-B354-DF1ED75A922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5F2A-2016-4AFF-B58A-E75E39C0C49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03E2-A046-4890-9054-D6E75C4D716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B00E-846B-421C-AAEC-972543D2474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5BA6-E3EA-4812-8A0E-FAAD6DB48AD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Россия 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XIX 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века: новые черты в жизни города и деревни</a:t>
            </a:r>
            <a:br>
              <a:rPr sz="3900"/>
            </a:br>
            <a:br>
              <a:rPr sz="3900"/>
            </a:br>
            <a:r>
              <a:rPr b="0" lang="ru-RU" sz="1800" spc="-1" strike="noStrike">
                <a:solidFill>
                  <a:srgbClr val="572314"/>
                </a:solidFill>
                <a:latin typeface="Corbel"/>
              </a:rPr>
              <a:t>(История России, 8 класс)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285800" y="4143240"/>
            <a:ext cx="4550040" cy="2214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Автор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Бриченко Лариса Витальевна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учитель истории ГБОУ СОШ №262 Красносельского район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Санкт-Петербург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571840" y="5357520"/>
            <a:ext cx="292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Традиционное питание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Постный стол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Скоромный стол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Щи, блюда из грибов, гороха и кисел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аши, картофель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ареная репа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ельмени с капустой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ареник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всяные блины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вашеная капуста, огурцы, грибы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Рыба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Чай с изюмом и медом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битень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66416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Холодец (студень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тица и мясо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Рыба, икра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Мясные супы, солянки, борщ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севозможная выпечка (калачи, пряники, печенье, баранки, расстегаи, кулебяки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оленья, варенья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Напитки (узвары, компоты, квас, наливки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4" name="Picture 2" descr="C:\Users\1\Desktop\Solen2.jpg"/>
          <p:cNvPicPr/>
          <p:nvPr/>
        </p:nvPicPr>
        <p:blipFill>
          <a:blip r:embed="rId1"/>
          <a:stretch/>
        </p:blipFill>
        <p:spPr>
          <a:xfrm>
            <a:off x="214200" y="5214960"/>
            <a:ext cx="2357640" cy="14572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"/>
          <p:cNvPicPr/>
          <p:nvPr/>
        </p:nvPicPr>
        <p:blipFill>
          <a:blip r:embed="rId2"/>
          <a:stretch/>
        </p:blipFill>
        <p:spPr>
          <a:xfrm>
            <a:off x="5500800" y="5214960"/>
            <a:ext cx="341928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4977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Демографические процесс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28840" y="64296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Рост населе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рбанизац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Содержимое 4" descr=""/>
          <p:cNvPicPr/>
          <p:nvPr/>
        </p:nvPicPr>
        <p:blipFill>
          <a:blip r:embed="rId1"/>
          <a:stretch/>
        </p:blipFill>
        <p:spPr>
          <a:xfrm>
            <a:off x="5143680" y="571680"/>
            <a:ext cx="3657600" cy="46638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C:\Users\1\Desktop\index_1238518996.jpg"/>
          <p:cNvPicPr/>
          <p:nvPr/>
        </p:nvPicPr>
        <p:blipFill>
          <a:blip r:embed="rId2"/>
          <a:stretch/>
        </p:blipFill>
        <p:spPr>
          <a:xfrm>
            <a:off x="1214280" y="1428840"/>
            <a:ext cx="3786480" cy="3263760"/>
          </a:xfrm>
          <a:prstGeom prst="rect">
            <a:avLst/>
          </a:prstGeom>
          <a:ln w="9360">
            <a:solidFill>
              <a:srgbClr val="f88631"/>
            </a:solidFill>
            <a:miter/>
          </a:ln>
        </p:spPr>
      </p:pic>
      <p:sp>
        <p:nvSpPr>
          <p:cNvPr id="331" name="TextBox 9"/>
          <p:cNvSpPr/>
          <p:nvPr/>
        </p:nvSpPr>
        <p:spPr>
          <a:xfrm>
            <a:off x="955800" y="478620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ипичная сельская сем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-360"/>
            <a:ext cx="749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оссийские город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5143680" y="71424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Более 1 млн. чел. -Москва, Петербург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выше 100 тыс. чел. – 14 городо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Picture 2" descr="C:\Users\1\Desktop\bugrov_dom1.jpg"/>
          <p:cNvPicPr/>
          <p:nvPr/>
        </p:nvPicPr>
        <p:blipFill>
          <a:blip r:embed="rId1"/>
          <a:stretch/>
        </p:blipFill>
        <p:spPr>
          <a:xfrm>
            <a:off x="1071720" y="714240"/>
            <a:ext cx="3657600" cy="25923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C:\Users\1\Desktop\0_270b2_13997222_XL.jpg"/>
          <p:cNvPicPr/>
          <p:nvPr/>
        </p:nvPicPr>
        <p:blipFill>
          <a:blip r:embed="rId2"/>
          <a:stretch/>
        </p:blipFill>
        <p:spPr>
          <a:xfrm>
            <a:off x="5000760" y="3500280"/>
            <a:ext cx="402912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929120" cy="114300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Коммунальное хозяйство и транспорт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7" name="Picture 3" descr="C:\Users\1\Desktop\f_18910307.jpg"/>
          <p:cNvPicPr/>
          <p:nvPr/>
        </p:nvPicPr>
        <p:blipFill>
          <a:blip r:embed="rId1"/>
          <a:stretch/>
        </p:blipFill>
        <p:spPr>
          <a:xfrm>
            <a:off x="0" y="1143000"/>
            <a:ext cx="3571920" cy="29336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C:\Users\1\Desktop\800_fd5d642f3ae0c59dc34d8790c7f9e211.jpg"/>
          <p:cNvPicPr/>
          <p:nvPr/>
        </p:nvPicPr>
        <p:blipFill>
          <a:blip r:embed="rId2"/>
          <a:stretch/>
        </p:blipFill>
        <p:spPr>
          <a:xfrm>
            <a:off x="4898880" y="0"/>
            <a:ext cx="4245120" cy="27907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C:\Users\1\Desktop\Omnibus_picture_bolster.jpg"/>
          <p:cNvPicPr/>
          <p:nvPr/>
        </p:nvPicPr>
        <p:blipFill>
          <a:blip r:embed="rId3"/>
          <a:stretch/>
        </p:blipFill>
        <p:spPr>
          <a:xfrm>
            <a:off x="0" y="4214880"/>
            <a:ext cx="3635280" cy="24289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C:\Users\1\Desktop\1313583212_ist2.jpg"/>
          <p:cNvPicPr/>
          <p:nvPr/>
        </p:nvPicPr>
        <p:blipFill>
          <a:blip r:embed="rId4"/>
          <a:stretch/>
        </p:blipFill>
        <p:spPr>
          <a:xfrm>
            <a:off x="4857840" y="3000240"/>
            <a:ext cx="4286160" cy="29084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7" descr=""/>
          <p:cNvPicPr/>
          <p:nvPr/>
        </p:nvPicPr>
        <p:blipFill>
          <a:blip r:embed="rId5"/>
          <a:stretch/>
        </p:blipFill>
        <p:spPr>
          <a:xfrm>
            <a:off x="3571920" y="1143000"/>
            <a:ext cx="1328760" cy="4500720"/>
          </a:xfrm>
          <a:prstGeom prst="rect">
            <a:avLst/>
          </a:prstGeom>
          <a:ln w="0">
            <a:noFill/>
          </a:ln>
        </p:spPr>
      </p:pic>
      <p:sp>
        <p:nvSpPr>
          <p:cNvPr id="342" name="TextBox 8"/>
          <p:cNvSpPr/>
          <p:nvPr/>
        </p:nvSpPr>
        <p:spPr>
          <a:xfrm>
            <a:off x="4857840" y="2643120"/>
            <a:ext cx="4286160" cy="64260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онка – прообраз городского  трам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9"/>
          <p:cNvSpPr/>
          <p:nvPr/>
        </p:nvSpPr>
        <p:spPr>
          <a:xfrm>
            <a:off x="4857840" y="5857920"/>
            <a:ext cx="4286160" cy="36828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елефонная ста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0"/>
          <p:cNvSpPr/>
          <p:nvPr/>
        </p:nvSpPr>
        <p:spPr>
          <a:xfrm>
            <a:off x="0" y="3857760"/>
            <a:ext cx="3571920" cy="36828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одонапорная ста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1"/>
          <p:cNvSpPr/>
          <p:nvPr/>
        </p:nvSpPr>
        <p:spPr>
          <a:xfrm>
            <a:off x="0" y="6488280"/>
            <a:ext cx="3643200" cy="36828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ородской омниб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2"/>
          <p:cNvSpPr/>
          <p:nvPr/>
        </p:nvSpPr>
        <p:spPr>
          <a:xfrm>
            <a:off x="3571920" y="5643720"/>
            <a:ext cx="1285920" cy="146556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ородскойэлектр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ческий фон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718160" y="0"/>
            <a:ext cx="44258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Рабочие окраин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8" name="Picture 2" descr="C:\Users\1\Desktop\3.jpg"/>
          <p:cNvPicPr/>
          <p:nvPr/>
        </p:nvPicPr>
        <p:blipFill>
          <a:blip r:embed="rId1"/>
          <a:stretch/>
        </p:blipFill>
        <p:spPr>
          <a:xfrm>
            <a:off x="0" y="0"/>
            <a:ext cx="3024360" cy="21430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C:\Users\1\Desktop\2.jpg"/>
          <p:cNvPicPr/>
          <p:nvPr/>
        </p:nvPicPr>
        <p:blipFill>
          <a:blip r:embed="rId2"/>
          <a:stretch/>
        </p:blipFill>
        <p:spPr>
          <a:xfrm>
            <a:off x="0" y="22147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C:\Users\1\Desktop\pictureview7-pid-28d63-et-934ec6d.jpg"/>
          <p:cNvPicPr/>
          <p:nvPr/>
        </p:nvPicPr>
        <p:blipFill>
          <a:blip r:embed="rId3"/>
          <a:stretch/>
        </p:blipFill>
        <p:spPr>
          <a:xfrm>
            <a:off x="3214800" y="571680"/>
            <a:ext cx="3643200" cy="3809880"/>
          </a:xfrm>
          <a:prstGeom prst="rect">
            <a:avLst/>
          </a:prstGeom>
          <a:ln w="0">
            <a:noFill/>
          </a:ln>
        </p:spPr>
      </p:pic>
      <p:sp>
        <p:nvSpPr>
          <p:cNvPr id="351" name="TextBox 8"/>
          <p:cNvSpPr/>
          <p:nvPr/>
        </p:nvSpPr>
        <p:spPr>
          <a:xfrm>
            <a:off x="214200" y="4786200"/>
            <a:ext cx="2928960" cy="173988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Фабрики и за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воры-колод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оходные д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амор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рущ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ар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8" descr="C:\Users\1\Desktop\1191311708_dmitriev_10.jpg"/>
          <p:cNvPicPr/>
          <p:nvPr/>
        </p:nvPicPr>
        <p:blipFill>
          <a:blip r:embed="rId4"/>
          <a:stretch/>
        </p:blipFill>
        <p:spPr>
          <a:xfrm>
            <a:off x="3286080" y="4714920"/>
            <a:ext cx="2643120" cy="19159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" descr=""/>
          <p:cNvPicPr/>
          <p:nvPr/>
        </p:nvPicPr>
        <p:blipFill>
          <a:blip r:embed="rId5"/>
          <a:stretch/>
        </p:blipFill>
        <p:spPr>
          <a:xfrm>
            <a:off x="6321600" y="4714920"/>
            <a:ext cx="23922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142720" y="0"/>
            <a:ext cx="5429160" cy="92880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Учащиеся в Росс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184480" cy="43560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"/>
          <p:cNvPicPr/>
          <p:nvPr/>
        </p:nvPicPr>
        <p:blipFill>
          <a:blip r:embed="rId2"/>
          <a:stretch/>
        </p:blipFill>
        <p:spPr>
          <a:xfrm>
            <a:off x="7429680" y="0"/>
            <a:ext cx="1714320" cy="41846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C:\Users\1\Desktop\4-1.jpg"/>
          <p:cNvPicPr/>
          <p:nvPr/>
        </p:nvPicPr>
        <p:blipFill>
          <a:blip r:embed="rId3"/>
          <a:stretch/>
        </p:blipFill>
        <p:spPr>
          <a:xfrm>
            <a:off x="2500200" y="928800"/>
            <a:ext cx="4572000" cy="2251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"/>
          <p:cNvPicPr/>
          <p:nvPr/>
        </p:nvPicPr>
        <p:blipFill>
          <a:blip r:embed="rId4"/>
          <a:stretch/>
        </p:blipFill>
        <p:spPr>
          <a:xfrm>
            <a:off x="2214720" y="3500280"/>
            <a:ext cx="5221080" cy="3000600"/>
          </a:xfrm>
          <a:prstGeom prst="rect">
            <a:avLst/>
          </a:prstGeom>
          <a:ln w="0">
            <a:noFill/>
          </a:ln>
        </p:spPr>
      </p:pic>
      <p:sp>
        <p:nvSpPr>
          <p:cNvPr id="359" name="TextBox 9"/>
          <p:cNvSpPr/>
          <p:nvPr/>
        </p:nvSpPr>
        <p:spPr>
          <a:xfrm>
            <a:off x="0" y="4286160"/>
            <a:ext cx="2143080" cy="36828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туд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10"/>
          <p:cNvSpPr/>
          <p:nvPr/>
        </p:nvSpPr>
        <p:spPr>
          <a:xfrm>
            <a:off x="7429680" y="4143240"/>
            <a:ext cx="1714320" cy="36828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урсис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1"/>
          <p:cNvSpPr/>
          <p:nvPr/>
        </p:nvSpPr>
        <p:spPr>
          <a:xfrm>
            <a:off x="2500200" y="3143160"/>
            <a:ext cx="4572000" cy="36828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имназис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2"/>
          <p:cNvSpPr/>
          <p:nvPr/>
        </p:nvSpPr>
        <p:spPr>
          <a:xfrm>
            <a:off x="2214720" y="6488280"/>
            <a:ext cx="5214960" cy="36828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имнази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643200" cy="114300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Рабочие России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(будни)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4" name="Picture 2" descr="C:\Users\1\Desktop\life400.jpg"/>
          <p:cNvPicPr/>
          <p:nvPr/>
        </p:nvPicPr>
        <p:blipFill>
          <a:blip r:embed="rId1"/>
          <a:stretch/>
        </p:blipFill>
        <p:spPr>
          <a:xfrm>
            <a:off x="3643200" y="0"/>
            <a:ext cx="1897200" cy="23572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"/>
          <p:cNvPicPr/>
          <p:nvPr/>
        </p:nvPicPr>
        <p:blipFill>
          <a:blip r:embed="rId2"/>
          <a:stretch/>
        </p:blipFill>
        <p:spPr>
          <a:xfrm>
            <a:off x="0" y="4214880"/>
            <a:ext cx="3878280" cy="26431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C:\Users\1\Desktop\i_057.jpg"/>
          <p:cNvPicPr/>
          <p:nvPr/>
        </p:nvPicPr>
        <p:blipFill>
          <a:blip r:embed="rId3"/>
          <a:stretch/>
        </p:blipFill>
        <p:spPr>
          <a:xfrm>
            <a:off x="0" y="1143000"/>
            <a:ext cx="3624120" cy="25002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C:\Users\1\Desktop\77_11_workers.jpg"/>
          <p:cNvPicPr/>
          <p:nvPr/>
        </p:nvPicPr>
        <p:blipFill>
          <a:blip r:embed="rId4"/>
          <a:stretch/>
        </p:blipFill>
        <p:spPr>
          <a:xfrm>
            <a:off x="4000680" y="3143160"/>
            <a:ext cx="4560840" cy="35719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8" descr=""/>
          <p:cNvPicPr/>
          <p:nvPr/>
        </p:nvPicPr>
        <p:blipFill>
          <a:blip r:embed="rId5"/>
          <a:stretch/>
        </p:blipFill>
        <p:spPr>
          <a:xfrm>
            <a:off x="5715000" y="0"/>
            <a:ext cx="3182760" cy="2357280"/>
          </a:xfrm>
          <a:prstGeom prst="rect">
            <a:avLst/>
          </a:prstGeom>
          <a:ln w="0">
            <a:noFill/>
          </a:ln>
        </p:spPr>
      </p:pic>
      <p:sp>
        <p:nvSpPr>
          <p:cNvPr id="369" name="TextBox 9"/>
          <p:cNvSpPr/>
          <p:nvPr/>
        </p:nvSpPr>
        <p:spPr>
          <a:xfrm>
            <a:off x="0" y="3714840"/>
            <a:ext cx="3429000" cy="64260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Морозовская стачка 1885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10"/>
          <p:cNvSpPr/>
          <p:nvPr/>
        </p:nvSpPr>
        <p:spPr>
          <a:xfrm>
            <a:off x="3643200" y="2357280"/>
            <a:ext cx="1857600" cy="64260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емья рабоч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1"/>
          <p:cNvSpPr/>
          <p:nvPr/>
        </p:nvSpPr>
        <p:spPr>
          <a:xfrm>
            <a:off x="5715000" y="2357280"/>
            <a:ext cx="3214800" cy="64260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очлежка для рабочих и бедн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2"/>
          <p:cNvSpPr/>
          <p:nvPr/>
        </p:nvSpPr>
        <p:spPr>
          <a:xfrm>
            <a:off x="4000680" y="3143160"/>
            <a:ext cx="4572000" cy="64260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Маевки – нелегальные собрания рабоч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428800" y="-360"/>
            <a:ext cx="3714840" cy="114300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Рабочие России (праздники)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4" name="Picture 2" descr="C:\Users\1\Desktop\0837c7044578f6c43662c2b0e1c.jpg"/>
          <p:cNvPicPr/>
          <p:nvPr/>
        </p:nvPicPr>
        <p:blipFill>
          <a:blip r:embed="rId1"/>
          <a:stretch/>
        </p:blipFill>
        <p:spPr>
          <a:xfrm>
            <a:off x="0" y="0"/>
            <a:ext cx="3643200" cy="2519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C:\Users\1\Desktop\12264577.jpg"/>
          <p:cNvPicPr/>
          <p:nvPr/>
        </p:nvPicPr>
        <p:blipFill>
          <a:blip r:embed="rId2"/>
          <a:stretch/>
        </p:blipFill>
        <p:spPr>
          <a:xfrm>
            <a:off x="0" y="2857680"/>
            <a:ext cx="3645000" cy="26431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C:\Users\1\Desktop\82488374_1413.jpg"/>
          <p:cNvPicPr/>
          <p:nvPr/>
        </p:nvPicPr>
        <p:blipFill>
          <a:blip r:embed="rId3"/>
          <a:stretch/>
        </p:blipFill>
        <p:spPr>
          <a:xfrm>
            <a:off x="4929120" y="1214280"/>
            <a:ext cx="2500560" cy="26528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C:\Users\1\Desktop\b9fd3f43938b.jpg"/>
          <p:cNvPicPr/>
          <p:nvPr/>
        </p:nvPicPr>
        <p:blipFill>
          <a:blip r:embed="rId4"/>
          <a:stretch/>
        </p:blipFill>
        <p:spPr>
          <a:xfrm>
            <a:off x="3786120" y="4214880"/>
            <a:ext cx="4881600" cy="2643120"/>
          </a:xfrm>
          <a:prstGeom prst="rect">
            <a:avLst/>
          </a:prstGeom>
          <a:ln w="0">
            <a:noFill/>
          </a:ln>
        </p:spPr>
      </p:pic>
      <p:sp>
        <p:nvSpPr>
          <p:cNvPr id="378" name="TextBox 9"/>
          <p:cNvSpPr/>
          <p:nvPr/>
        </p:nvSpPr>
        <p:spPr>
          <a:xfrm>
            <a:off x="1000080" y="6488280"/>
            <a:ext cx="2786040" cy="36828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рестный 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10"/>
          <p:cNvSpPr/>
          <p:nvPr/>
        </p:nvSpPr>
        <p:spPr>
          <a:xfrm>
            <a:off x="0" y="5500800"/>
            <a:ext cx="3643200" cy="36828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ородской ка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1"/>
          <p:cNvSpPr/>
          <p:nvPr/>
        </p:nvSpPr>
        <p:spPr>
          <a:xfrm>
            <a:off x="0" y="2500200"/>
            <a:ext cx="3643200" cy="36828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ородские б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2"/>
          <p:cNvSpPr/>
          <p:nvPr/>
        </p:nvSpPr>
        <p:spPr>
          <a:xfrm>
            <a:off x="4929120" y="3643200"/>
            <a:ext cx="2500560" cy="36828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ре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Стрелка вправо 14"/>
          <p:cNvSpPr/>
          <p:nvPr/>
        </p:nvSpPr>
        <p:spPr>
          <a:xfrm>
            <a:off x="2786040" y="592920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5715000" cy="50004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Масленица и Пасх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4" name="Picture 2" descr="C:\Users\1\Desktop\529c1194ef839039e1c4cb4a264_prev.jpg"/>
          <p:cNvPicPr/>
          <p:nvPr/>
        </p:nvPicPr>
        <p:blipFill>
          <a:blip r:embed="rId1"/>
          <a:stretch/>
        </p:blipFill>
        <p:spPr>
          <a:xfrm>
            <a:off x="0" y="0"/>
            <a:ext cx="3429000" cy="29289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C:\Users\1\Desktop\rus-masl-23.jpg"/>
          <p:cNvPicPr/>
          <p:nvPr/>
        </p:nvPicPr>
        <p:blipFill>
          <a:blip r:embed="rId2"/>
          <a:stretch/>
        </p:blipFill>
        <p:spPr>
          <a:xfrm>
            <a:off x="0" y="3429000"/>
            <a:ext cx="4422600" cy="32288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C:\Users\1\Desktop\ee87e45c1c75_resize.jpg"/>
          <p:cNvPicPr/>
          <p:nvPr/>
        </p:nvPicPr>
        <p:blipFill>
          <a:blip r:embed="rId3"/>
          <a:stretch/>
        </p:blipFill>
        <p:spPr>
          <a:xfrm>
            <a:off x="4545000" y="3500280"/>
            <a:ext cx="4599000" cy="31766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6" descr=""/>
          <p:cNvPicPr/>
          <p:nvPr/>
        </p:nvPicPr>
        <p:blipFill>
          <a:blip r:embed="rId4"/>
          <a:stretch/>
        </p:blipFill>
        <p:spPr>
          <a:xfrm>
            <a:off x="4643280" y="500040"/>
            <a:ext cx="4500720" cy="2857680"/>
          </a:xfrm>
          <a:prstGeom prst="rect">
            <a:avLst/>
          </a:prstGeom>
          <a:ln w="0">
            <a:noFill/>
          </a:ln>
        </p:spPr>
      </p:pic>
      <p:sp>
        <p:nvSpPr>
          <p:cNvPr id="388" name="TextBox 8"/>
          <p:cNvSpPr/>
          <p:nvPr/>
        </p:nvSpPr>
        <p:spPr>
          <a:xfrm>
            <a:off x="0" y="2928960"/>
            <a:ext cx="3357720" cy="94716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ародные гулян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2T06:01:29Z</dcterms:created>
  <dc:creator>1</dc:creator>
  <dc:description/>
  <dc:language>en-US</dc:language>
  <cp:lastModifiedBy>1</cp:lastModifiedBy>
  <dcterms:modified xsi:type="dcterms:W3CDTF">2012-06-28T09:00:34Z</dcterms:modified>
  <cp:revision>43</cp:revision>
  <dc:subject/>
  <dc:title>Россия XIX века: новые черты в жизни города и деревни</dc:title>
</cp:coreProperties>
</file>